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88920" indent="-88920" algn="r">
              <a:buClr>
                <a:srgbClr val="2b2922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88920" indent="-88920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marL="88920" indent="-88920" algn="r">
              <a:buClr>
                <a:srgbClr val="2b2922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marL="88920" indent="-88920" algn="r">
              <a:buClr>
                <a:srgbClr val="2b292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marL="88920" indent="-88920" algn="r">
              <a:buClr>
                <a:srgbClr val="2b292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marL="88920" indent="-88920" algn="r">
              <a:buClr>
                <a:srgbClr val="2b292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4654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835200" indent="-46512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25316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67112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242200" y="2145960"/>
            <a:ext cx="412776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3660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6040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9064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2088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34680" y="888480"/>
            <a:ext cx="1173492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7076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347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9940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64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64080" indent="-406080">
              <a:spcBef>
                <a:spcPts val="95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64080" indent="-406080">
              <a:spcBef>
                <a:spcPts val="95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5040" y="2463480"/>
            <a:ext cx="6006960" cy="271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65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35040" y="5206680"/>
            <a:ext cx="60069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88920" indent="-88920">
              <a:buClr>
                <a:srgbClr val="2b2922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88920" indent="-88920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marL="88920" indent="-88920">
              <a:buClr>
                <a:srgbClr val="2b2922"/>
              </a:buClr>
              <a:buFont typeface="Copperplat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marL="88920" indent="-88920">
              <a:buClr>
                <a:srgbClr val="2b292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marL="88920" indent="-88920">
              <a:buClr>
                <a:srgbClr val="2b292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marL="88920" indent="-88920">
              <a:buClr>
                <a:srgbClr val="2b2922"/>
              </a:buClr>
              <a:buFont typeface="Copperplat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4680" y="7721640"/>
            <a:ext cx="1173492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28520" y="2945880"/>
            <a:ext cx="1094724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etterhealthsf@yahoo.com" TargetMode="External"/><Relationship Id="rId2" Type="http://schemas.openxmlformats.org/officeDocument/2006/relationships/hyperlink" Target="http://www.usa.gov/Contact/Elected.shtml" TargetMode="External"/><Relationship Id="rId3" Type="http://schemas.openxmlformats.org/officeDocument/2006/relationships/hyperlink" Target="http://www.crashcartproduction.com/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Meet Me in the</a:t>
            </a:r>
            <a:br>
              <a:rPr sz="8600"/>
            </a:b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end zone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2922"/>
                </a:solidFill>
                <a:latin typeface="Copperplate"/>
              </a:rPr>
              <a:t>How to be a player in the health care game</a:t>
            </a:r>
            <a:endParaRPr b="0" lang="en-US" sz="36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608040" y="7550280"/>
            <a:ext cx="3429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922"/>
                </a:solidFill>
                <a:latin typeface="Copperplate"/>
                <a:ea typeface="Copperplate"/>
              </a:rPr>
              <a:t>Samantha malm, m.d.</a:t>
            </a:r>
            <a:endParaRPr b="0" lang="en-US" sz="2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" descr=""/>
          <p:cNvPicPr/>
          <p:nvPr/>
        </p:nvPicPr>
        <p:blipFill>
          <a:blip r:embed="rId1"/>
          <a:stretch/>
        </p:blipFill>
        <p:spPr>
          <a:xfrm>
            <a:off x="1095480" y="825480"/>
            <a:ext cx="10804320" cy="81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 Light"/>
              </a:rPr>
              <a:t>what happens if we aren’t in the game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physician burnou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e 15 minute visi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me requiremen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mandate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"/>
          <p:cNvPicPr/>
          <p:nvPr/>
        </p:nvPicPr>
        <p:blipFill>
          <a:blip r:embed="rId1"/>
          <a:stretch/>
        </p:blipFill>
        <p:spPr>
          <a:xfrm>
            <a:off x="1879560" y="1409760"/>
            <a:ext cx="9232920" cy="69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1755720" y="1320840"/>
            <a:ext cx="9483840" cy="71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 Light"/>
              </a:rPr>
              <a:t>Current Legislative Issues</a:t>
            </a:r>
            <a:endParaRPr b="0" lang="en-US" sz="64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ummary of federal and state heath care policie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AFP sponsored bill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legislative action committe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3505320" y="876240"/>
            <a:ext cx="5994360" cy="79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3492360" y="863640"/>
            <a:ext cx="6007320" cy="800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117345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start being an advocate today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34680" y="1854360"/>
            <a:ext cx="1173492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351360" indent="-351360"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“</a:t>
            </a: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Get involved”* (advocacy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-351360"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ontact your legislators- use the “positions on legislation”* (advocacy) and “talking points”* (advocacy-state budget resource center) as a guid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-351360"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“</a:t>
            </a: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rom resident to leader”* (about us-leadership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-351360"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ontact the CAFP media representativ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-351360"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alk to your patien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-351360"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alk to your patien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351360" indent="-351360">
              <a:spcBef>
                <a:spcPts val="50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join me on a visit to the state capito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Tara-medium-1.mov" descr="Martinez.ppt_media/Tara-medium-1.mov"/>
          <p:cNvPicPr/>
          <p:nvPr/>
        </p:nvPicPr>
        <p:blipFill>
          <a:blip r:embed="rId1"/>
          <a:stretch/>
        </p:blipFill>
        <p:spPr>
          <a:xfrm>
            <a:off x="2438280" y="259092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173492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"/>
                <a:ea typeface="Copperplate"/>
              </a:rPr>
              <a:t>Contact Info</a:t>
            </a:r>
            <a:endParaRPr b="0" lang="en-US" sz="64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2923920" y="1829880"/>
            <a:ext cx="7140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Samantha Malm, M.D.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1"/>
              </a:rPr>
              <a:t>betterhealthsf@yahoo.com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923040" y="5225760"/>
            <a:ext cx="11142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2"/>
              </a:rPr>
              <a:t>http://www.usa.gov/Contact/Elected.shtm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419040" y="4057560"/>
            <a:ext cx="92329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"/>
                <a:ea typeface="Copperplate"/>
              </a:rPr>
              <a:t>find your legislators</a:t>
            </a:r>
            <a:endParaRPr b="0" lang="en-US" sz="6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92040" y="6629400"/>
            <a:ext cx="825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"/>
                <a:ea typeface="Copperplate"/>
              </a:rPr>
              <a:t>The Vanishing Oath</a:t>
            </a:r>
            <a:endParaRPr b="0" lang="en-US" sz="6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2447640" y="7638840"/>
            <a:ext cx="8091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3"/>
              </a:rPr>
              <a:t>www.crashcartproduction.com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 Light"/>
              </a:rPr>
              <a:t>Why be an advocate?</a:t>
            </a: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 jjjhelpyyou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</a:rPr>
              <a:t>it’s not just about your patients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</a:rPr>
              <a:t>What motivated me to get involved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1"/>
          <a:stretch/>
        </p:blipFill>
        <p:spPr>
          <a:xfrm>
            <a:off x="1227240" y="927000"/>
            <a:ext cx="10532880" cy="78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1"/>
          <a:stretch/>
        </p:blipFill>
        <p:spPr>
          <a:xfrm>
            <a:off x="1353960" y="1015920"/>
            <a:ext cx="10279080" cy="770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 Light"/>
              </a:rPr>
              <a:t>how the cafp can support you and your practice*</a:t>
            </a:r>
            <a:endParaRPr b="0" lang="en-US" sz="64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2922"/>
                </a:solidFill>
                <a:latin typeface="Copperplate"/>
              </a:rPr>
              <a:t>Free cme (professional development)</a:t>
            </a:r>
            <a:endParaRPr b="0" lang="en-US" sz="36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Employment contract review (practice resources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Billing and coding resources (practice resources) (CME credit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amily physician toolkits (news and media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resources to develop a pcmh (practice resources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1447920" y="1092240"/>
            <a:ext cx="10096560" cy="75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" descr=""/>
          <p:cNvPicPr/>
          <p:nvPr/>
        </p:nvPicPr>
        <p:blipFill>
          <a:blip r:embed="rId1"/>
          <a:stretch/>
        </p:blipFill>
        <p:spPr>
          <a:xfrm>
            <a:off x="888840" y="660240"/>
            <a:ext cx="11226960" cy="84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34680" y="40644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 Light"/>
              </a:rPr>
              <a:t>what you can do to support the cafp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be a delegate to the congress of delegate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Join a committe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Represent the CAFP in outside organization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Get CME credi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" descr=""/>
          <p:cNvPicPr/>
          <p:nvPr/>
        </p:nvPicPr>
        <p:blipFill>
          <a:blip r:embed="rId1"/>
          <a:stretch/>
        </p:blipFill>
        <p:spPr>
          <a:xfrm>
            <a:off x="1349280" y="1015920"/>
            <a:ext cx="10296720" cy="772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HCMARTINEZ</cp:lastModifiedBy>
  <dcterms:modified xsi:type="dcterms:W3CDTF">2010-06-29T19:19:02Z</dcterms:modified>
  <cp:revision>2</cp:revision>
  <dc:subject/>
  <dc:title>Meet Me in the end zone</dc:title>
</cp:coreProperties>
</file>