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1ACB-60E2-4DD7-A178-F806C6D87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1A4C-399F-45E1-95D2-5831D427A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DEBA-6461-47C4-B1CF-BC4707FA3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D46F-3470-4D13-BF54-CC1873A60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FC88-0F36-4466-91CB-D0CB52422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A673-E865-494E-BDE8-98A033DF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E202-3DC3-4E38-88E3-6A6CC1994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CDAB-03A4-45A2-831C-D5AEB2172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P  is a way of looking at life not as disconnected stages, but as an integrated continuum. It is a conceptual framework, some people might even call it a paradigm shift, which recognizes that each stage of life is influenced by the stages that precede it, and it in turn influences the life stages that fo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ED78-6775-4ACA-B0B8-B05FAA127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D262-BFDF-4737-8B4B-954D957A5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DA91-A59B-4BCA-81A3-B7C2F0C36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AC9D-858C-4CBD-9BCD-ED54B2816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3AFD-FF02-4DEA-B0D9-BCB0F3810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640" y="4412880"/>
            <a:ext cx="560088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7EC-2AA0-4A63-B4A3-14EC1D9C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C8B-953B-4C78-92B1-9CA005BD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0E3-D882-4C92-B86F-87D8D29D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E6D-DCCC-4D6D-8D5B-AD9EAB2C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8317-39B4-4212-A517-131938F6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13C2-A318-4A65-85D7-2219A4BD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10AB-B019-4D0D-B73B-8E06B4AF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90DB-FB70-4122-94EC-03E90B44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3186-E200-45F1-BEEC-3B514924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8F6C-3E77-4B97-BB88-60B402BD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7E3E-F4AF-4A3A-BBD6-A9E3D508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A44-DEF4-4CD1-9805-B0A65599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459B-B177-48D8-8047-C88A56DE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191C-BCF9-4B77-8D32-B652FA0A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2DCE-D612-4353-B7A8-18D5728A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8BEC-3142-4D60-A8EF-64D36F83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AAF6-D40F-4352-945A-44CACE10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8F9-4F05-4A84-BAF5-3D169C44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B4A-41DF-4ACD-9C15-5D04BEA5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0C5-D02F-4ADD-BBE7-3106AEEB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676-02F9-4F2C-A1CF-571D4E95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C0F-CA40-45BB-B212-D116A09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C25-6036-4459-86B1-9ADDF86C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019-EB64-4CB2-A360-AE3DF386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20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51560" indent="-210240">
              <a:spcBef>
                <a:spcPts val="2001"/>
              </a:spcBef>
              <a:buClr>
                <a:srgbClr val="00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7204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0537-0E75-48B9-8310-4355CEA5449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Picture 24" descr=""/>
          <p:cNvPicPr/>
          <p:nvPr/>
        </p:nvPicPr>
        <p:blipFill>
          <a:blip r:embed="rId4"/>
          <a:stretch/>
        </p:blipFill>
        <p:spPr>
          <a:xfrm>
            <a:off x="7848720" y="6246720"/>
            <a:ext cx="923760" cy="4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1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5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8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7" name="Picture 25" descr=""/>
          <p:cNvPicPr/>
          <p:nvPr/>
        </p:nvPicPr>
        <p:blipFill>
          <a:blip r:embed="rId3"/>
          <a:stretch/>
        </p:blipFill>
        <p:spPr>
          <a:xfrm>
            <a:off x="7848720" y="6246720"/>
            <a:ext cx="923760" cy="449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20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51560" indent="-210240">
              <a:spcBef>
                <a:spcPts val="2001"/>
              </a:spcBef>
              <a:buClr>
                <a:srgbClr val="00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47204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892520" indent="-210240">
              <a:spcBef>
                <a:spcPts val="20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CAB0-2CE4-4D8B-9F07-9BCF11766DC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98720" y="3885840"/>
            <a:ext cx="4444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heri Pies, MSW, DrP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admini Parthasarathy, MPH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amily, Maternal and Child Health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grams, Contra Costa Health Servi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CRMC Noon Confere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ptember 10, 2009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Rectangle 1027"/>
          <p:cNvSpPr/>
          <p:nvPr/>
        </p:nvSpPr>
        <p:spPr>
          <a:xfrm>
            <a:off x="1828800" y="2254320"/>
            <a:ext cx="7238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Applying the Life Course Perspective in a Local MCAH Progra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29" descr=""/>
          <p:cNvPicPr/>
          <p:nvPr/>
        </p:nvPicPr>
        <p:blipFill>
          <a:blip r:embed="rId1"/>
          <a:stretch/>
        </p:blipFill>
        <p:spPr>
          <a:xfrm>
            <a:off x="2160720" y="4191120"/>
            <a:ext cx="210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uilding Economic Security Today (BEST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duce disparities and inequities in health outcomes by improving financial security and stabil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me visiting and WI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5022720" y="1981080"/>
            <a:ext cx="3435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stress cartoon"/>
          <p:cNvPicPr/>
          <p:nvPr/>
        </p:nvPicPr>
        <p:blipFill>
          <a:blip r:embed="rId1"/>
          <a:stretch/>
        </p:blipFill>
        <p:spPr>
          <a:xfrm>
            <a:off x="2895480" y="533520"/>
            <a:ext cx="4534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y Financial Stability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2-Point Plan to Close the Black-White Gap in Birth Outcomes (Lu et al.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ealth = Health/Social Gradient of Heal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Unnatural Cau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easibil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roject Activiti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ff training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veloping interven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Picture 10" descr=""/>
          <p:cNvPicPr/>
          <p:nvPr/>
        </p:nvPicPr>
        <p:blipFill>
          <a:blip r:embed="rId5"/>
          <a:stretch/>
        </p:blipFill>
        <p:spPr>
          <a:xfrm>
            <a:off x="1066680" y="4572000"/>
            <a:ext cx="70106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ong-Term Outcom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amily income for daily living maximized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Preservation of and increase in financial asset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creased financial security and stability, and improved financial statu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Increased access to care, improved housing, better neighborhoods, increased food security, decreased violence, etc.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00"/>
                </a:solidFill>
                <a:latin typeface="Arial Narrow"/>
                <a:ea typeface="Arial"/>
              </a:rPr>
              <a:t>Improved health outcomes and financial statu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00"/>
                </a:solidFill>
                <a:latin typeface="Arial Narrow"/>
                <a:ea typeface="Arial"/>
              </a:rPr>
              <a:t>for future generation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4876920" y="22399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4876920" y="300204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876920" y="4068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876920" y="5211720"/>
            <a:ext cx="0" cy="5335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or More Informa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Padmini Parthasarathy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925-313-6178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pparthas@hsd.cccounty.us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 Narrow"/>
              </a:rPr>
              <a:t>www.cchealth.org/groups/lifecourse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Gam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ctr"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rap-up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Perspectiv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way of looking at life not as disconnected stages, but as an integrated continuu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ggests that a </a:t>
            </a:r>
            <a:r>
              <a:rPr b="1" i="1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complex interplay of</a:t>
            </a:r>
            <a:r>
              <a:rPr b="0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biological, behavioral, psychological, and social protective and risk factor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tributes to health outcomes across the span of a perso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 lif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Key Concep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76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-647640"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arly Programmin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-647640"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umulative Pathway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4764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The Life Course Initiativ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aunched in 2005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15-year initia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sed on the Life Course Perspec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Picture 5" descr="C:\Documents and Settings\pparthas\Application Data\Microsoft\Media Catalog\Downloaded Clips\claf\j0439314.jpg"/>
          <p:cNvPicPr/>
          <p:nvPr/>
        </p:nvPicPr>
        <p:blipFill>
          <a:blip r:embed="rId4"/>
          <a:stretch/>
        </p:blipFill>
        <p:spPr>
          <a:xfrm>
            <a:off x="4572000" y="2577960"/>
            <a:ext cx="41148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Initiative Goa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duce health disparities and health inequ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timize reproductive potenti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reate </a:t>
            </a: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a paradigm shift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MCH 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621160" y="6353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455640" y="4735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fe Course Initiative Goa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change the health of a gener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4" name="Picture 1028" descr="j0407131"/>
          <p:cNvPicPr/>
          <p:nvPr/>
        </p:nvPicPr>
        <p:blipFill>
          <a:blip r:embed="rId2"/>
          <a:stretch/>
        </p:blipFill>
        <p:spPr>
          <a:xfrm>
            <a:off x="2209680" y="3049560"/>
            <a:ext cx="5029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05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051" descr=""/>
          <p:cNvPicPr/>
          <p:nvPr/>
        </p:nvPicPr>
        <p:blipFill>
          <a:blip r:embed="rId1"/>
          <a:stretch/>
        </p:blipFill>
        <p:spPr>
          <a:xfrm>
            <a:off x="1981080" y="76320"/>
            <a:ext cx="51818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e Life Course Gam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Picture 3" descr="S:\fmch\Everyone\Life Course Initiative\game photo.jpg"/>
          <p:cNvPicPr/>
          <p:nvPr/>
        </p:nvPicPr>
        <p:blipFill>
          <a:blip r:embed="rId1"/>
          <a:stretch/>
        </p:blipFill>
        <p:spPr>
          <a:xfrm>
            <a:off x="1447920" y="1905120"/>
            <a:ext cx="6095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21:13:04Z</dcterms:created>
  <dc:creator>pparthas</dc:creator>
  <dc:description/>
  <dc:language>en-US</dc:language>
  <cp:lastModifiedBy>HCMARTINEZ</cp:lastModifiedBy>
  <dcterms:modified xsi:type="dcterms:W3CDTF">2009-09-29T18:56:04Z</dcterms:modified>
  <cp:revision>319</cp:revision>
  <dc:subject/>
  <dc:title>Title</dc:title>
</cp:coreProperties>
</file>