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0688-A3D5-4E4B-86E2-BF8FDAABF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AC1A-B0A4-408D-ADDF-96CD0C17E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3B9-66BB-421A-B31B-373F72C66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54D-45C2-4148-9093-CEB070F6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DAC-8BC5-4DC8-BAD3-9F2CD5E5C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A90-E3C2-4080-9CA2-FAE3A53A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4A3-4AAC-44FB-95F2-5806D979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8EB-07CD-47EE-8E07-02625D64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P  is a way of looking at life not as disconnected stages, but as an integrated continuum. It is a conceptual framework, some people might even call it a paradigm shift, which recognizes that each stage of life is influenced by the stages that precede it, and it in turn influences the life stages that fo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314F-3A07-4690-B33E-049268E3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9F21-8CEA-4259-A33C-1CF2C276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57C5-AEA7-44AC-96CD-CC642D40F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715-4012-477F-A999-11B29595C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636-50A3-490A-A110-4A376D79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057-D0F9-42B0-8AED-7BC658CA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D9E-C87C-458E-AC10-16C443F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5E5-FCF6-4B65-ACCD-F6C7D48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860-C027-45A6-B46A-995455ED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8771-2F95-4CCD-90A4-0C0B1E9E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7F38-1242-417B-8FC5-127F9C9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F2A1-C7EC-4EF4-9CC7-AD1F325D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258D-87B2-40A8-BF8B-8A97446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281-43FC-4865-A3FF-1889E959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803E-2B82-4E79-8397-00265B51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B2D9-AACF-47AD-99F7-8EE736A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7C2-52C1-484C-BBB5-0A6062E3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A100-BF06-49A2-A065-EC0D6F1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3A40-F5E6-45D2-8A80-7AFD3F2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862-8C80-4B80-A6C1-50FF15A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B5E4-F29A-4A08-AE9D-6F0966B2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C840-8C7F-474B-9B8C-03DBB626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370-1841-4647-963C-9E883C22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599-D361-4390-A95E-5638792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FA9-AC06-45D3-9563-ADF73A0B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1DA-54FA-4B2C-9081-123C236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5C4-B727-469D-AE24-D53C1B5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55D-F3E4-4ABF-BD25-E0795DD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C32-8411-40FC-AC32-77F776BE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4F3C-BB1D-41E6-87BE-46F71D332B7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"/>
          <p:cNvPicPr/>
          <p:nvPr/>
        </p:nvPicPr>
        <p:blipFill>
          <a:blip r:embed="rId4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Picture 25" descr=""/>
          <p:cNvPicPr/>
          <p:nvPr/>
        </p:nvPicPr>
        <p:blipFill>
          <a:blip r:embed="rId3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FBD-4167-4049-B7C6-1E58020B35D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98720" y="3885840"/>
            <a:ext cx="4444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heri Pies, MSW, Dr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dmini Parthasarathy, M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amily, Maternal and Child Heal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grams, Contra Costa Health Servi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CRMC Noon Confere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ptember 10, 200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027"/>
          <p:cNvSpPr/>
          <p:nvPr/>
        </p:nvSpPr>
        <p:spPr>
          <a:xfrm>
            <a:off x="1828800" y="2254320"/>
            <a:ext cx="7238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Applying the Life Course Perspective in a Local MCAH Progra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29" descr=""/>
          <p:cNvPicPr/>
          <p:nvPr/>
        </p:nvPicPr>
        <p:blipFill>
          <a:blip r:embed="rId1"/>
          <a:stretch/>
        </p:blipFill>
        <p:spPr>
          <a:xfrm>
            <a:off x="2160720" y="4191120"/>
            <a:ext cx="21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uilding Economic Security Today (BEST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disparities and inequities in health outcomes by improving financial security and sta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me visiting and W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5022720" y="1981080"/>
            <a:ext cx="3435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tress cartoon"/>
          <p:cNvPicPr/>
          <p:nvPr/>
        </p:nvPicPr>
        <p:blipFill>
          <a:blip r:embed="rId1"/>
          <a:stretch/>
        </p:blipFill>
        <p:spPr>
          <a:xfrm>
            <a:off x="2895480" y="533520"/>
            <a:ext cx="4534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Financial Stability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-Point Plan to Close the Black-White Gap in Birth Outcomes (Lu et al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alth = Health/Social Gradient of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Unnatural Cau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oject Activit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ff train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ing interven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1066680" y="4572000"/>
            <a:ext cx="7010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ong-Term Outco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mily income for daily living maximiz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Preservation of and increase in financial asse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reased financial security and stability, and improve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ncreased access to care, improved housing, better neighborhoods, increased food security, decreased violence, etc.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Improved health outcomes an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for future generat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876920" y="223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876920" y="3002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876920" y="4068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876920" y="5211720"/>
            <a:ext cx="0" cy="5335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More Inform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admini Parthasarathy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925-313-6178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parthas@hsd.cccounty.us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www.cchealth.org/groups/lifecours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Perspectiv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ay of looking at life not as disconnected stages, but as an integrated continuu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ggests that a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complex interplay of</a:t>
            </a:r>
            <a:r>
              <a:rPr b="0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biological, behavioral, psychological, and social protective and risk factor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tributes to health outcomes across the span of a pers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 lif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Key Concep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rly Programm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umulative Pathway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he Life Course Initiativ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unched in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15-year initia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ed on the Life Course Persp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5" descr="C:\Documents and Settings\pparthas\Application Data\Microsoft\Media Catalog\Downloaded Clips\claf\j0439314.jpg"/>
          <p:cNvPicPr/>
          <p:nvPr/>
        </p:nvPicPr>
        <p:blipFill>
          <a:blip r:embed="rId4"/>
          <a:stretch/>
        </p:blipFill>
        <p:spPr>
          <a:xfrm>
            <a:off x="4572000" y="2577960"/>
            <a:ext cx="4114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health disparities and health inequ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reproductive potent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e </a:t>
            </a: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a paradigm shif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MCH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621160" y="6353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455640" y="4735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hange the health of a gen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1028" descr="j0407131"/>
          <p:cNvPicPr/>
          <p:nvPr/>
        </p:nvPicPr>
        <p:blipFill>
          <a:blip r:embed="rId2"/>
          <a:stretch/>
        </p:blipFill>
        <p:spPr>
          <a:xfrm>
            <a:off x="2209680" y="3049560"/>
            <a:ext cx="5029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051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81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Life Course Ga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Picture 3" descr="S:\fmch\Everyone\Life Course Initiative\game photo.jpg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13:04Z</dcterms:created>
  <dc:creator>pparthas</dc:creator>
  <dc:description/>
  <dc:language>en-US</dc:language>
  <cp:lastModifiedBy>HCMARTINEZ</cp:lastModifiedBy>
  <dcterms:modified xsi:type="dcterms:W3CDTF">2009-09-29T18:56:04Z</dcterms:modified>
  <cp:revision>319</cp:revision>
  <dc:subject/>
  <dc:title>Title</dc:title>
</cp:coreProperties>
</file>