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0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7351-4282-42EC-90AE-F2DBCE7B7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551F-B34C-4118-85FE-B164873AE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3711-DBEE-4258-94FA-E8C26C76C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0AB8-1AC2-410D-A545-EA93A1983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12A6-E0A6-4384-9802-101E76784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4B6F-6381-4734-A11C-FAE03C707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698D-50EC-457E-80C0-D7E9A203D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BD59-AD3F-41A0-B791-43A4FFF38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CP  is a way of looking at life not as disconnected stages, but as an integrated continuum. It is a conceptual framework, some people might even call it a paradigm shift, which recognizes that each stage of life is influenced by the stages that precede it, and it in turn influences the life stages that follow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37A7-A12B-4E15-828B-465AC4AD4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BC54-466C-41EF-AAE1-B37176275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F451-7B85-4E19-B49D-7DCC7B20C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3E16-2885-452B-AB71-FA0A2E5DE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9623-1BDE-4EF1-901A-20E84412E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56B0-DFD9-4CE3-92AC-9DEDE077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8AD-2222-4BDE-B6F0-4E2F6E59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E629-4011-4D59-AE2B-E4805D79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820-8B0C-48BD-897F-A7688040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A2B7-69AD-4F2D-B343-2DBAE03C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39B7-34AE-4A9F-ACA3-B3D4EA15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750E-7CEA-4CE2-9192-3E242864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C0C2-081F-40BD-ABEE-02B82EDC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0076-728C-4269-A11C-12C0E6CE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ED15-D4DD-40D2-A4D7-6B2F4DA7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A5BE-EE66-422B-A647-33AC4B8A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FFF-7890-4A58-AFBD-21CB9ED2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F187-3909-4508-837F-DC63A1CC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589D-1C2A-451D-A5DE-7A530188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B70E-7F9A-43CB-9144-040F103E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8484-3930-423A-AFC5-F0576772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57B2-C203-480E-A380-F60B95E4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96C-EB3D-4B5A-9377-DC429751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1BB5-4FD5-40BC-B2C6-D4F0DA21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D5C2-D29F-48FD-9044-26D08D73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2CB-3F85-4D8D-8BBE-9A81354F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1884-3F48-47A4-946C-9BA8EFA6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4E1F-096B-4386-8556-61C8B1FB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890-9D06-4A99-9E06-671A7A0D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>
                  <a:gd name="textAreaLeft" fmla="*/ 0 w 1680840"/>
                  <a:gd name="textAreaRight" fmla="*/ 1681200 w 16808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>
                  <a:gd name="textAreaLeft" fmla="*/ 0 w 6543360"/>
                  <a:gd name="textAreaRight" fmla="*/ 6543720 w 65433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spcBef>
                <a:spcPts val="20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51560" indent="-210240">
              <a:spcBef>
                <a:spcPts val="2001"/>
              </a:spcBef>
              <a:buClr>
                <a:srgbClr val="00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7204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40C9-715F-4DB9-A61D-7B09C41F80F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Picture 24" descr=""/>
          <p:cNvPicPr/>
          <p:nvPr/>
        </p:nvPicPr>
        <p:blipFill>
          <a:blip r:embed="rId4"/>
          <a:stretch/>
        </p:blipFill>
        <p:spPr>
          <a:xfrm>
            <a:off x="7848720" y="6246720"/>
            <a:ext cx="923760" cy="4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0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1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5" name="Freeform 8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9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>
                <a:gd name="textAreaLeft" fmla="*/ 0 w 6543360"/>
                <a:gd name="textAreaRight" fmla="*/ 6543720 w 654336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8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7" name="Picture 25" descr=""/>
          <p:cNvPicPr/>
          <p:nvPr/>
        </p:nvPicPr>
        <p:blipFill>
          <a:blip r:embed="rId3"/>
          <a:stretch/>
        </p:blipFill>
        <p:spPr>
          <a:xfrm>
            <a:off x="7848720" y="6246720"/>
            <a:ext cx="923760" cy="449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spcBef>
                <a:spcPts val="20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51560" indent="-210240">
              <a:spcBef>
                <a:spcPts val="2001"/>
              </a:spcBef>
              <a:buClr>
                <a:srgbClr val="00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7204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9170-2F30-4C0B-A801-96633DA7EB5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698720" y="3885840"/>
            <a:ext cx="4444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Cheri Pies, MSW, DrPH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admini Parthasarathy, MPH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amily, Maternal and Child Health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grams, Contra Costa Health Servic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CRMC Noon Conferen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ptember 10, 2009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Rectangle 1027"/>
          <p:cNvSpPr/>
          <p:nvPr/>
        </p:nvSpPr>
        <p:spPr>
          <a:xfrm>
            <a:off x="1828800" y="2254320"/>
            <a:ext cx="7238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Applying the Life Course Perspective in a Local MCAH Progra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029" descr=""/>
          <p:cNvPicPr/>
          <p:nvPr/>
        </p:nvPicPr>
        <p:blipFill>
          <a:blip r:embed="rId1"/>
          <a:stretch/>
        </p:blipFill>
        <p:spPr>
          <a:xfrm>
            <a:off x="2160720" y="4191120"/>
            <a:ext cx="2106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Building Economic Security Today (BEST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duce disparities and inequities in health outcomes by improving financial security and stabili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me visiting and WIC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5022720" y="1981080"/>
            <a:ext cx="3435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stress cartoon"/>
          <p:cNvPicPr/>
          <p:nvPr/>
        </p:nvPicPr>
        <p:blipFill>
          <a:blip r:embed="rId1"/>
          <a:stretch/>
        </p:blipFill>
        <p:spPr>
          <a:xfrm>
            <a:off x="2895480" y="533520"/>
            <a:ext cx="4534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Why Financial Stability?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12-Point Plan to Close the Black-White Gap in Birth Outcomes (Lu et al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ealth = Health/Social Gradient of Healt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Unnatural Caus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easibili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Project Activiti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aff training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rtnership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veloping interven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" name="Picture 10" descr=""/>
          <p:cNvPicPr/>
          <p:nvPr/>
        </p:nvPicPr>
        <p:blipFill>
          <a:blip r:embed="rId5"/>
          <a:stretch/>
        </p:blipFill>
        <p:spPr>
          <a:xfrm>
            <a:off x="1066680" y="4572000"/>
            <a:ext cx="701064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Long-Term Outcom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amily income for daily living maximized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Arial"/>
              </a:rPr>
              <a:t>Preservation of and increase in financial asset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creased financial security and stability, and improved financial statu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Arial"/>
              </a:rPr>
              <a:t>Increased access to care, improved housing, better neighborhoods, increased food security, decreased violence, etc.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00"/>
                </a:solidFill>
                <a:latin typeface="Arial Narrow"/>
                <a:ea typeface="Arial"/>
              </a:rPr>
              <a:t>Improved health outcomes and financial statu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00"/>
                </a:solidFill>
                <a:latin typeface="Arial Narrow"/>
                <a:ea typeface="Arial"/>
              </a:rPr>
              <a:t>for future generation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4876920" y="22399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4876920" y="30020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4876920" y="40687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4876920" y="5211720"/>
            <a:ext cx="0" cy="5335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or More Informati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Padmini Parthasarathy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925-313-6178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pparthas@hsd.cccounty.us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www.cchealth.org/groups/lifecourse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verview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Talk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Gam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Wrap-up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Life Course Perspectiv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way of looking at life not as disconnected stages, but as an integrated continuu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ggests that a </a:t>
            </a:r>
            <a:r>
              <a:rPr b="1" i="1" lang="en-US" sz="3200" spc="-1" strike="noStrike">
                <a:solidFill>
                  <a:srgbClr val="006600"/>
                </a:solidFill>
                <a:latin typeface="Arial Narrow"/>
                <a:ea typeface="Times New Roman"/>
              </a:rPr>
              <a:t>complex interplay of</a:t>
            </a:r>
            <a:r>
              <a:rPr b="0" lang="en-US" sz="3200" spc="-1" strike="noStrike">
                <a:solidFill>
                  <a:srgbClr val="006600"/>
                </a:solidFill>
                <a:latin typeface="Arial Narrow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6600"/>
                </a:solidFill>
                <a:latin typeface="Arial Narrow"/>
                <a:ea typeface="Times New Roman"/>
              </a:rPr>
              <a:t>biological, behavioral, psychological, and social protective and risk factor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ontributes to health outcomes across the span of a perso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 lif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Key Concept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47640" indent="-647640"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arly Programming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4764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47640" indent="-647640"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umulative Pathway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4764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The Life Course Initiative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339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aunched in 2005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15-year initia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ased on the Life Course Perspec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7" name="Picture 5" descr="C:\Documents and Settings\pparthas\Application Data\Microsoft\Media Catalog\Downloaded Clips\claf\j0439314.jpg"/>
          <p:cNvPicPr/>
          <p:nvPr/>
        </p:nvPicPr>
        <p:blipFill>
          <a:blip r:embed="rId4"/>
          <a:stretch/>
        </p:blipFill>
        <p:spPr>
          <a:xfrm>
            <a:off x="4572000" y="2577960"/>
            <a:ext cx="41148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Life Course Initiative Goal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duce health disparities and health inequit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timize reproductive potentia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reate </a:t>
            </a:r>
            <a:r>
              <a:rPr b="1" lang="en-US" sz="3200" spc="-1" strike="noStrike">
                <a:solidFill>
                  <a:srgbClr val="006600"/>
                </a:solidFill>
                <a:latin typeface="Arial Narrow"/>
              </a:rPr>
              <a:t>a paradigm shift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 MCH wor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621160" y="6353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455640" y="4735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Life Course Initiative Goal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 change the health of a gener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4" name="Picture 1028" descr="j0407131"/>
          <p:cNvPicPr/>
          <p:nvPr/>
        </p:nvPicPr>
        <p:blipFill>
          <a:blip r:embed="rId2"/>
          <a:stretch/>
        </p:blipFill>
        <p:spPr>
          <a:xfrm>
            <a:off x="2209680" y="3049560"/>
            <a:ext cx="50292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05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051" descr=""/>
          <p:cNvPicPr/>
          <p:nvPr/>
        </p:nvPicPr>
        <p:blipFill>
          <a:blip r:embed="rId1"/>
          <a:stretch/>
        </p:blipFill>
        <p:spPr>
          <a:xfrm>
            <a:off x="1981080" y="76320"/>
            <a:ext cx="51818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he Life Course Gam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8" name="Picture 3" descr="S:\fmch\Everyone\Life Course Initiative\game photo.jpg"/>
          <p:cNvPicPr/>
          <p:nvPr/>
        </p:nvPicPr>
        <p:blipFill>
          <a:blip r:embed="rId1"/>
          <a:stretch/>
        </p:blipFill>
        <p:spPr>
          <a:xfrm>
            <a:off x="1447920" y="1905120"/>
            <a:ext cx="6095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21:13:04Z</dcterms:created>
  <dc:creator>pparthas</dc:creator>
  <dc:description/>
  <dc:language>en-US</dc:language>
  <cp:lastModifiedBy>HCMARTINEZ</cp:lastModifiedBy>
  <dcterms:modified xsi:type="dcterms:W3CDTF">2009-09-29T18:56:04Z</dcterms:modified>
  <cp:revision>319</cp:revision>
  <dc:subject/>
  <dc:title>Title</dc:title>
</cp:coreProperties>
</file>