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D8F-0C56-426C-B8AE-58800F075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C5E0-54FC-4DA0-B574-C01BD43E6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A0FB-C56B-4E35-BEE8-E56942FC5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986D-1CA9-4517-8B88-BCDE3F9A3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397F-086C-4D9C-AA8F-89DF00AA2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904D-1E5B-446F-817D-BA2BD9E05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F4CE-DACE-44CC-9B28-2AFC3ACEB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4E1A-FE29-45A4-8643-2C857BEA8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P  is a way of looking at life not as disconnected stages, but as an integrated continuum. It is a conceptual framework, some people might even call it a paradigm shift, which recognizes that each stage of life is influenced by the stages that precede it, and it in turn influences the life stages that fo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E0B7-493D-46FE-A69C-07DAB47CD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7F86-21BA-4AE4-A1AD-2F70F5078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369A-AB24-40B0-AAC7-FB3344FB8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3952-C6B2-4428-9138-456F3C156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6F2C-978A-4955-B641-8ED7C1DD7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911-BFE7-4515-A32D-9E05028D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70C-2515-4818-B7D1-96669288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0AB-B966-4458-81F7-AE255D4E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86D-A83F-44DC-B39F-4292A1EE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96D4-0D79-4819-92A1-369CDDC1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7E88-B9ED-4B10-8739-C864AC43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BFBF-7614-44E4-9F57-D1C94457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64FA-AF72-4451-86E8-6CB2D941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5478-7603-4BA7-BD0D-C80C3C74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4718-BB25-4544-8E29-75BDFAB8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C8C7-1170-4ED5-85A0-CF0987D3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836-1447-4C11-B9D3-807434DB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2CA6-C121-47BF-AEA9-EFD160A9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AFA4-0CFE-455D-BAF0-7FCF2BE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07D5-1440-49E7-8DDE-CE698AEE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D1A9-D64C-42A9-B427-11CFB85D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9191-6B5F-40B2-8BD0-D5DBD51D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836-B3C9-4C23-B1E7-6E294D2B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04D-F5A8-41A9-BA89-A06B066A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6E6-E472-4946-A7EF-205ED48D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6E2-C6EB-496D-91F4-9C17AABE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AF8-800B-497E-BEAD-D5FBF329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980-D6CA-4F9D-8CEB-69FCBE0D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549-9713-4340-AAD4-A004A475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20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51560" indent="-210240">
              <a:spcBef>
                <a:spcPts val="2001"/>
              </a:spcBef>
              <a:buClr>
                <a:srgbClr val="00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7204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6908-A736-4428-8407-B88ADC0A7B6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Picture 24" descr=""/>
          <p:cNvPicPr/>
          <p:nvPr/>
        </p:nvPicPr>
        <p:blipFill>
          <a:blip r:embed="rId4"/>
          <a:stretch/>
        </p:blipFill>
        <p:spPr>
          <a:xfrm>
            <a:off x="7848720" y="6246720"/>
            <a:ext cx="92376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1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5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8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7" name="Picture 25" descr=""/>
          <p:cNvPicPr/>
          <p:nvPr/>
        </p:nvPicPr>
        <p:blipFill>
          <a:blip r:embed="rId3"/>
          <a:stretch/>
        </p:blipFill>
        <p:spPr>
          <a:xfrm>
            <a:off x="7848720" y="6246720"/>
            <a:ext cx="923760" cy="449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20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51560" indent="-210240">
              <a:spcBef>
                <a:spcPts val="2001"/>
              </a:spcBef>
              <a:buClr>
                <a:srgbClr val="00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7204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972B-54B5-46D1-84AC-0D09A0BBBCE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98720" y="3885840"/>
            <a:ext cx="4444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heri Pies, MSW, DrP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admini Parthasarathy, MP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amily, Maternal and Child Health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grams, Contra Costa Health Servi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CRMC Noon Confere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ptember 10, 2009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Rectangle 1027"/>
          <p:cNvSpPr/>
          <p:nvPr/>
        </p:nvSpPr>
        <p:spPr>
          <a:xfrm>
            <a:off x="1828800" y="2254320"/>
            <a:ext cx="7238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Applying the Life Course Perspective in a Local MCAH Progra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29" descr=""/>
          <p:cNvPicPr/>
          <p:nvPr/>
        </p:nvPicPr>
        <p:blipFill>
          <a:blip r:embed="rId1"/>
          <a:stretch/>
        </p:blipFill>
        <p:spPr>
          <a:xfrm>
            <a:off x="2160720" y="4191120"/>
            <a:ext cx="210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uilding Economic Security Today (BEST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duce disparities and inequities in health outcomes by improving financial security and stabil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me visiting and WI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5022720" y="1981080"/>
            <a:ext cx="3435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stress cartoon"/>
          <p:cNvPicPr/>
          <p:nvPr/>
        </p:nvPicPr>
        <p:blipFill>
          <a:blip r:embed="rId1"/>
          <a:stretch/>
        </p:blipFill>
        <p:spPr>
          <a:xfrm>
            <a:off x="2895480" y="533520"/>
            <a:ext cx="4534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y Financial Stability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2-Point Plan to Close the Black-White Gap in Birth Outcomes (Lu et al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ealth = Health/Social Gradient of Heal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Unnatural Cau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easibil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roject Activiti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ff training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veloping interven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Picture 10" descr=""/>
          <p:cNvPicPr/>
          <p:nvPr/>
        </p:nvPicPr>
        <p:blipFill>
          <a:blip r:embed="rId5"/>
          <a:stretch/>
        </p:blipFill>
        <p:spPr>
          <a:xfrm>
            <a:off x="1066680" y="4572000"/>
            <a:ext cx="70106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ong-Term Outcom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amily income for daily living maximized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Preservation of and increase in financial asse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creased financial security and stability, and improved financial statu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Increased access to care, improved housing, better neighborhoods, increased food security, decreased violence, etc.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00"/>
                </a:solidFill>
                <a:latin typeface="Arial Narrow"/>
                <a:ea typeface="Arial"/>
              </a:rPr>
              <a:t>Improved health outcomes and financial statu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00"/>
                </a:solidFill>
                <a:latin typeface="Arial Narrow"/>
                <a:ea typeface="Arial"/>
              </a:rPr>
              <a:t>for future generation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4876920" y="22399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4876920" y="30020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876920" y="4068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876920" y="5211720"/>
            <a:ext cx="0" cy="5335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or More Informa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Padmini Parthasarathy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925-313-6178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pparthas@hsd.cccounty.us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www.cchealth.org/groups/lifecourse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Gam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rap-up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Perspectiv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way of looking at life not as disconnected stages, but as an integrated continuu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ggests that a </a:t>
            </a:r>
            <a:r>
              <a:rPr b="1" i="1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complex interplay of</a:t>
            </a:r>
            <a:r>
              <a:rPr b="0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biological, behavioral, psychological, and social protective and risk factor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tributes to health outcomes across the span of a perso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 lif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Key Concep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-647640"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rly Programmin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-647640"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umulative Pathway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The Life Course Initiativ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aunched in 200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15-year initia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sed on the Life Course Perspec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Picture 5" descr="C:\Documents and Settings\pparthas\Application Data\Microsoft\Media Catalog\Downloaded Clips\claf\j0439314.jpg"/>
          <p:cNvPicPr/>
          <p:nvPr/>
        </p:nvPicPr>
        <p:blipFill>
          <a:blip r:embed="rId4"/>
          <a:stretch/>
        </p:blipFill>
        <p:spPr>
          <a:xfrm>
            <a:off x="4572000" y="2577960"/>
            <a:ext cx="41148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Initiative Goa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duce health disparities and health inequ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timize reproductive potenti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reate </a:t>
            </a: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a paradigm shift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MCH 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621160" y="6353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455640" y="4735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Initiative Goa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change the health of a gene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4" name="Picture 1028" descr="j0407131"/>
          <p:cNvPicPr/>
          <p:nvPr/>
        </p:nvPicPr>
        <p:blipFill>
          <a:blip r:embed="rId2"/>
          <a:stretch/>
        </p:blipFill>
        <p:spPr>
          <a:xfrm>
            <a:off x="2209680" y="3049560"/>
            <a:ext cx="5029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05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051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51818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e Life Course Gam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Picture 3" descr="S:\fmch\Everyone\Life Course Initiative\game photo.jpg"/>
          <p:cNvPicPr/>
          <p:nvPr/>
        </p:nvPicPr>
        <p:blipFill>
          <a:blip r:embed="rId1"/>
          <a:stretch/>
        </p:blipFill>
        <p:spPr>
          <a:xfrm>
            <a:off x="1447920" y="1905120"/>
            <a:ext cx="6095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1:13:04Z</dcterms:created>
  <dc:creator>pparthas</dc:creator>
  <dc:description/>
  <dc:language>en-US</dc:language>
  <cp:lastModifiedBy>HCMARTINEZ</cp:lastModifiedBy>
  <dcterms:modified xsi:type="dcterms:W3CDTF">2009-09-29T18:56:04Z</dcterms:modified>
  <cp:revision>319</cp:revision>
  <dc:subject/>
  <dc:title>Title</dc:title>
</cp:coreProperties>
</file>