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move the slide</a:t>
            </a:r>
            <a:endParaRPr b="0" lang="en-US" sz="5000" spc="-1" strike="noStrike">
              <a:solidFill>
                <a:srgbClr val="ffffff"/>
              </a:solidFill>
              <a:latin typeface="Garamond"/>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0812-1A81-490C-B0A4-DC4A8B191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0358-B2FD-4BEF-B3A9-C21870981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22480" y="533520"/>
            <a:ext cx="4554360" cy="3414600"/>
          </a:xfrm>
          <a:prstGeom prst="rect">
            <a:avLst/>
          </a:prstGeom>
          <a:ln w="0">
            <a:noFill/>
          </a:ln>
        </p:spPr>
      </p:sp>
      <p:sp>
        <p:nvSpPr>
          <p:cNvPr id="399" name="PlaceHolder 2"/>
          <p:cNvSpPr>
            <a:spLocks noGrp="1"/>
          </p:cNvSpPr>
          <p:nvPr>
            <p:ph type="body"/>
          </p:nvPr>
        </p:nvSpPr>
        <p:spPr>
          <a:xfrm>
            <a:off x="914400" y="4343400"/>
            <a:ext cx="5027760" cy="4108320"/>
          </a:xfrm>
          <a:prstGeom prst="rect">
            <a:avLst/>
          </a:prstGeom>
          <a:noFill/>
          <a:ln w="0">
            <a:noFill/>
          </a:ln>
        </p:spPr>
        <p:txBody>
          <a:bodyPr lIns="90360" rIns="9036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DA Advisory Committee’s Recommendation on Delay of Pelvic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easons adolescents delay contraceptive services is because of the perception that a pelvic exam is needed.  In fact, a physical examination is not a requirement for the prescription of an OC.  As recommended by an advisory committee of the US Food and Drug Administration (FDA), the “physical examination may be deferred until after initiation of oral contraceptives if requested by the woman and judged appropriate by the clinician.”  A pelvic examination should, however, be considered if the patient reports irregular bleeding, which may signal a sexually transmitted disease, or is sexually active and has not had a recent pelvic ex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and Drug Administration.  Fertility and Maternal Health Drugs Advisory Committee [meeting transcript]. Washington, DC: US Department of Health and Human Services; May 20,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ED: August 29, 200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VIEWED: August 29, 200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applies to young teenagers who may be embarrassed or afraid, and is particularly helpful in new patient visi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hen BP is unavailable, and pregnancy morbidity &amp; mortality risks are often high; would not deny method us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otected sex since L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ga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x of S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strual h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you offe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D, quick start, low dose OC, diaphragm, cervical ca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most 50 percent of pregnancies in the United States are unintended and about half of these end in elective abortion.</a:t>
            </a:r>
            <a:r>
              <a:rPr b="0" lang="en-US" sz="1000" spc="-1" strike="noStrike" baseline="30000">
                <a:solidFill>
                  <a:srgbClr val="000000"/>
                </a:solidFill>
                <a:latin typeface="Tahoma"/>
              </a:rPr>
              <a:t>1</a:t>
            </a:r>
            <a:r>
              <a:rPr b="0" lang="en-US" sz="1000" spc="-1" strike="noStrike">
                <a:solidFill>
                  <a:srgbClr val="000000"/>
                </a:solidFill>
                <a:latin typeface="Tahoma"/>
              </a:rPr>
              <a:t> The proportion of unintended pregnancies is high not only among adolescents but also among older women—over 40 percent in those aged 35 to 39.1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vailability of as many safe and effective contraceptive methods as possible.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early there is an unmet need for highly effective contraceptive methods that are “forgettable,” for which the default option is pregnancy prevention. Examples of such methods include intrauterine contraception, hormonal implants, and surgical and transcervical sterilization. With these methods, action is required to discontinue or reverse protection but not to continue i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a4327"/>
                </a:solidFill>
                <a:latin typeface="Tahoma"/>
              </a:rPr>
              <a:t>Referenc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Henshaw SK. Unintended pregnancy in the United States. </a:t>
            </a:r>
            <a:r>
              <a:rPr b="0" i="1" lang="en-US" sz="1000" spc="-1" strike="noStrike">
                <a:solidFill>
                  <a:srgbClr val="000000"/>
                </a:solidFill>
                <a:latin typeface="Tahoma"/>
              </a:rPr>
              <a:t>Fam Plann Perspect</a:t>
            </a:r>
            <a:r>
              <a:rPr b="0" lang="en-US" sz="1000" spc="-1" strike="noStrike">
                <a:solidFill>
                  <a:srgbClr val="000000"/>
                </a:solidFill>
                <a:latin typeface="Tahoma"/>
              </a:rPr>
              <a:t>. 1998;30(1):24-9, 46.</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Rosenberg MJ, Waugh MS, Long S. Unintended pregnancies and use, misuse and discontinuation of oral contraceptives. </a:t>
            </a:r>
            <a:r>
              <a:rPr b="0" i="1" lang="en-US" sz="1000" spc="-1" strike="noStrike">
                <a:solidFill>
                  <a:srgbClr val="000000"/>
                </a:solidFill>
                <a:latin typeface="Tahoma"/>
              </a:rPr>
              <a:t>J Reprod Med</a:t>
            </a:r>
            <a:r>
              <a:rPr b="0" lang="en-US" sz="1000" spc="-1" strike="noStrike">
                <a:solidFill>
                  <a:srgbClr val="000000"/>
                </a:solidFill>
                <a:latin typeface="Tahoma"/>
              </a:rPr>
              <a:t>. 1995;40(5):355-6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Potter L, Oakley D, de Leon-Wong E, Canamar R. Measuring compliance among oral contraceptive users. </a:t>
            </a:r>
            <a:r>
              <a:rPr b="0" i="1" lang="en-US" sz="1000" spc="-1" strike="noStrike">
                <a:solidFill>
                  <a:srgbClr val="000000"/>
                </a:solidFill>
                <a:latin typeface="Tahoma"/>
              </a:rPr>
              <a:t>Fam Plann Perspect</a:t>
            </a:r>
            <a:r>
              <a:rPr b="0" lang="en-US" sz="1000" spc="-1" strike="noStrike">
                <a:solidFill>
                  <a:srgbClr val="000000"/>
                </a:solidFill>
                <a:latin typeface="Tahoma"/>
              </a:rPr>
              <a:t>. 1996;28(4):15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her options for birth control if she had an aspiration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ould she start birth control if she had a medication abor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rimes D, Schulz K, Stanwood N. Immediate postabortal insertion of intrauterine devices (Cochrane Review). In: </a:t>
            </a:r>
            <a:r>
              <a:rPr b="0" i="1" lang="en-US" sz="1200" spc="-1" strike="noStrike">
                <a:solidFill>
                  <a:srgbClr val="000000"/>
                </a:solidFill>
                <a:latin typeface="Arial"/>
                <a:ea typeface="Times New Roman"/>
              </a:rPr>
              <a:t>The Cochrane Library, </a:t>
            </a:r>
            <a:r>
              <a:rPr b="0" lang="en-US" sz="1200" spc="-1" strike="noStrike">
                <a:solidFill>
                  <a:srgbClr val="000000"/>
                </a:solidFill>
                <a:latin typeface="Arial"/>
                <a:ea typeface="Times New Roman"/>
              </a:rPr>
              <a:t>Issue 4, 2004. Chichester, UK: John Wiley &amp; Son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1E34-587A-4292-9EE4-1BBEB371D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onogestrel:  120 microgm/day  ~1500 pg/ml  the biologically active metabolite of desogestrel; Eng is also used in implanon &amp; pills in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nyl estradiol:  15 </a:t>
            </a:r>
            <a:r>
              <a:rPr b="0" lang="en-US" sz="1200" spc="-1" strike="noStrike">
                <a:solidFill>
                  <a:srgbClr val="000000"/>
                </a:solidFill>
                <a:latin typeface="Arial"/>
              </a:rPr>
              <a:t>microgm</a:t>
            </a:r>
            <a:r>
              <a:rPr b="0" lang="en-US" sz="1200" spc="-1" strike="noStrike">
                <a:solidFill>
                  <a:srgbClr val="000000"/>
                </a:solidFill>
                <a:latin typeface="Arial"/>
              </a:rPr>
              <a:t>/day  ~20 pg/ml</a:t>
            </a:r>
            <a:endParaRPr b="0" lang="en-US" sz="12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V. Organon has developed a combined contraceptive vaginal ring, NuvaRing</a:t>
            </a:r>
            <a:r>
              <a:rPr b="0" lang="en-US" sz="1100" spc="-1" strike="noStrike" baseline="30000">
                <a:solidFill>
                  <a:srgbClr val="000000"/>
                </a:solidFill>
                <a:latin typeface="Arial"/>
              </a:rPr>
              <a:t>®</a:t>
            </a:r>
            <a:r>
              <a:rPr b="0" lang="en-US" sz="1100" spc="-1" strike="noStrike">
                <a:solidFill>
                  <a:srgbClr val="000000"/>
                </a:solidFill>
                <a:latin typeface="Arial"/>
              </a:rPr>
              <a:t>. It contains the progestagen etonogestrel and the estrogen ethinylestradiol.</a:t>
            </a:r>
            <a:endParaRPr b="0" lang="en-US" sz="11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uvaRing is a flexible, soft, transparent ring made of evatane, with an outer diameter of 54 mm and a cross-sectional diameter of 4 mm. One ring is to be used for one cycle which consists of a 3–week period of continuous ring use followed by a ring-free period of one wee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ring releases 15 </a:t>
            </a:r>
            <a:r>
              <a:rPr b="0" lang="en-US" sz="1100" spc="-1" strike="noStrike">
                <a:solidFill>
                  <a:srgbClr val="000000"/>
                </a:solidFill>
                <a:latin typeface="Symbol"/>
                <a:ea typeface="Symbol"/>
              </a:rPr>
              <a:t></a:t>
            </a:r>
            <a:r>
              <a:rPr b="0" lang="en-US" sz="1100" spc="-1" strike="noStrike">
                <a:solidFill>
                  <a:srgbClr val="000000"/>
                </a:solidFill>
                <a:latin typeface="Arial"/>
              </a:rPr>
              <a:t>g ethinylestradiol and 120 </a:t>
            </a:r>
            <a:r>
              <a:rPr b="0" lang="en-US" sz="1100" spc="-1" strike="noStrike">
                <a:solidFill>
                  <a:srgbClr val="000000"/>
                </a:solidFill>
                <a:latin typeface="Symbol"/>
                <a:ea typeface="Symbol"/>
              </a:rPr>
              <a:t></a:t>
            </a:r>
            <a:r>
              <a:rPr b="0" lang="en-US" sz="1100" spc="-1" strike="noStrike">
                <a:solidFill>
                  <a:srgbClr val="000000"/>
                </a:solidFill>
                <a:latin typeface="Arial"/>
              </a:rPr>
              <a:t>g etonogestrel per day over the 3 week period of use. </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372A-D0B1-4304-9A16-04382803A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4440" y="685800"/>
            <a:ext cx="4572000" cy="3429000"/>
          </a:xfrm>
          <a:prstGeom prst="rect">
            <a:avLst/>
          </a:prstGeom>
          <a:ln w="0">
            <a:noFill/>
          </a:ln>
        </p:spPr>
      </p:sp>
      <p:sp>
        <p:nvSpPr>
          <p:cNvPr id="421" name="PlaceHolder 2"/>
          <p:cNvSpPr>
            <a:spLocks noGrp="1"/>
          </p:cNvSpPr>
          <p:nvPr>
            <p:ph type="body"/>
          </p:nvPr>
        </p:nvSpPr>
        <p:spPr>
          <a:xfrm>
            <a:off x="914400" y="4344840"/>
            <a:ext cx="5029200" cy="4113360"/>
          </a:xfrm>
          <a:prstGeom prst="rect">
            <a:avLst/>
          </a:prstGeom>
          <a:noFill/>
          <a:ln w="0">
            <a:noFill/>
          </a:ln>
        </p:spPr>
        <p:txBody>
          <a:bodyPr lIns="89640" rIns="89640" tIns="44640" bIns="446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study, 4.4% of women reported device-related adverse events.  These events were specifically related to the NuvaRing</a:t>
            </a:r>
            <a:r>
              <a:rPr b="0" lang="en-US" sz="1200" spc="-1" strike="noStrike" baseline="30000">
                <a:solidFill>
                  <a:srgbClr val="000000"/>
                </a:solidFill>
                <a:latin typeface="Arial"/>
                <a:ea typeface="Arial"/>
              </a:rPr>
              <a:t>®</a:t>
            </a:r>
            <a:r>
              <a:rPr b="0" lang="en-US" sz="1200" spc="-1" strike="noStrike">
                <a:solidFill>
                  <a:srgbClr val="000000"/>
                </a:solidFill>
                <a:latin typeface="Arial"/>
              </a:rPr>
              <a:t> method and included foreign body sensation, coital problems and expulsi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expulsion, however, occurred infrequently with only 2.6% of women reporting ring expulsion during the large efficacy study.  In almost all cases, this occurred only once.  If expulsion does occur, the woman should wash the ring in warm water and reinser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NuvaRing</a:t>
            </a:r>
            <a:r>
              <a:rPr b="0" lang="en-US" sz="1200" spc="-1" strike="noStrike" baseline="30000">
                <a:solidFill>
                  <a:srgbClr val="000000"/>
                </a:solidFill>
                <a:latin typeface="Arial"/>
                <a:ea typeface="Arial"/>
              </a:rPr>
              <a:t>®</a:t>
            </a:r>
            <a:r>
              <a:rPr b="0" lang="en-US" sz="1200" spc="-1" strike="noStrike">
                <a:solidFill>
                  <a:srgbClr val="000000"/>
                </a:solidFill>
                <a:latin typeface="Arial"/>
              </a:rPr>
              <a:t> expulsion reports with that for the LNG IUS where expulsion rates of 2-12% have been reported according to the manufacturer.</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egnancies: Unintended vs.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tended pregnancy continues to be a major public health issue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oes without saying that effective, accessible contraception is imperative to the health of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method, however, works  for all women and many factors affect a woman’s choice of contra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shaw SK. Unintended pregnancy in the United States. Fam Plann Perspect. 1998 Jan-Feb;30(1):24-9,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F280-F0CE-4283-A1D8-A0E6BF759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of all ages, not just teenagers, sometimes miss p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two pills in a row can lead to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frequently miss pills should consider alternativ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hormonal methods that do not require daily action will soon be availab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8E99-6EB5-4BD0-BEBC-7EC037F0D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many women, oral contraceptives are an excellent choice for pregnancy prevention. But the misuse or discontinuation of oral contraceptives—a method for which effectiveness is dependent on the degree to which it is used correctly and consistently—leads to over 1 million unwanted or mistimed pregnancies each year in the United States.</a:t>
            </a:r>
            <a:r>
              <a:rPr b="0" lang="en-US" sz="1200" spc="-1" strike="noStrike" baseline="30000">
                <a:solidFill>
                  <a:srgbClr val="000000"/>
                </a:solidFill>
                <a:latin typeface="Tahoma"/>
              </a:rPr>
              <a:t>2</a:t>
            </a:r>
            <a:r>
              <a:rPr b="0" lang="en-US" sz="1200" spc="-1" strike="noStrike">
                <a:solidFill>
                  <a:srgbClr val="000000"/>
                </a:solidFill>
                <a:latin typeface="Tahoma"/>
              </a:rPr>
              <a:t> One study found that 30 percent to 51 percent of women missed taking their oral contraceptives at least three days per mon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700" spc="-1" strike="noStrike">
                <a:solidFill>
                  <a:srgbClr val="000000"/>
                </a:solidFill>
                <a:latin typeface="Arial"/>
              </a:rPr>
              <a:t>Potter et al.,</a:t>
            </a:r>
            <a:r>
              <a:rPr b="0" i="1" lang="en-US" sz="700" spc="-1" strike="noStrike">
                <a:solidFill>
                  <a:srgbClr val="000000"/>
                </a:solidFill>
                <a:latin typeface="Arial"/>
              </a:rPr>
              <a:t> Fam Plann Perspect 1996; </a:t>
            </a:r>
            <a:r>
              <a:rPr b="0" lang="en-US" sz="700" spc="-1" strike="noStrike">
                <a:solidFill>
                  <a:srgbClr val="000000"/>
                </a:solidFill>
                <a:latin typeface="Arial"/>
              </a:rPr>
              <a:t>28:154-15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3 women in a 2/3 university health setting and 1/3 public health setting. 93% &gt;high school edu, 74% white and 93% unmarried</a:t>
            </a:r>
            <a:endParaRPr b="0" lang="en-US" sz="7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ED88-853C-4C7C-8AAB-1F57E8BAD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39760" y="704880"/>
            <a:ext cx="4583160" cy="3436920"/>
          </a:xfrm>
          <a:prstGeom prst="rect">
            <a:avLst/>
          </a:prstGeom>
          <a:ln w="0">
            <a:noFill/>
          </a:ln>
        </p:spPr>
      </p:sp>
      <p:sp>
        <p:nvSpPr>
          <p:cNvPr id="439" name="PlaceHolder 2"/>
          <p:cNvSpPr>
            <a:spLocks noGrp="1"/>
          </p:cNvSpPr>
          <p:nvPr>
            <p:ph type="body"/>
          </p:nvPr>
        </p:nvSpPr>
        <p:spPr>
          <a:xfrm>
            <a:off x="914400" y="4376880"/>
            <a:ext cx="5029200" cy="4063680"/>
          </a:xfrm>
          <a:prstGeom prst="rect">
            <a:avLst/>
          </a:prstGeom>
          <a:noFill/>
          <a:ln w="0">
            <a:noFill/>
          </a:ln>
        </p:spPr>
        <p:txBody>
          <a:bodyPr lIns="90360" rIns="90360" tIns="45000" bIns="45000" anchor="t">
            <a:noAutofit/>
          </a:bodyPr>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man who wishes to switch from an OC to the contraceptive patch should begin treatment by applying her first patch on her first day of withdrawal bleeding</a:t>
            </a:r>
            <a:endParaRPr b="0" lang="en-US" sz="1200" spc="-1" strike="noStrike">
              <a:solidFill>
                <a:srgbClr val="000000"/>
              </a:solidFill>
              <a:latin typeface="Arial"/>
            </a:endParaRPr>
          </a:p>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 withdrawal bleed within 5 days of the last active, hormone-containing pill, pregnancy must be ruled out</a:t>
            </a:r>
            <a:endParaRPr b="0" lang="en-US" sz="1200" spc="-1" strike="noStrike">
              <a:solidFill>
                <a:srgbClr val="000000"/>
              </a:solidFill>
              <a:latin typeface="Arial"/>
            </a:endParaRPr>
          </a:p>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tch therapy starts later than the first day of withdrawal bleeding, a non-hormonal method of contraception should be used simultaneously for 7 days </a:t>
            </a:r>
            <a:endParaRPr b="0" lang="en-US" sz="1200" spc="-1" strike="noStrike">
              <a:solidFill>
                <a:srgbClr val="000000"/>
              </a:solidFill>
              <a:latin typeface="Arial"/>
            </a:endParaRPr>
          </a:p>
        </p:txBody>
      </p:sp>
      <p:sp>
        <p:nvSpPr>
          <p:cNvPr id="440" name=""/>
          <p:cNvSpPr/>
          <p:nvPr/>
        </p:nvSpPr>
        <p:spPr>
          <a:xfrm>
            <a:off x="112680" y="8526600"/>
            <a:ext cx="2971800" cy="469800"/>
          </a:xfrm>
          <a:prstGeom prst="rect">
            <a:avLst/>
          </a:prstGeom>
          <a:noFill/>
          <a:ln w="0">
            <a:noFill/>
          </a:ln>
        </p:spPr>
        <p:style>
          <a:lnRef idx="0"/>
          <a:fillRef idx="0"/>
          <a:effectRef idx="0"/>
          <a:fontRef idx="minor"/>
        </p:style>
        <p:txBody>
          <a:bodyPr lIns="93600" rIns="93600" tIns="46800" bIns="4680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lt;footer&gt;</a:t>
            </a:r>
            <a:r>
              <a:rPr b="1" lang="en-US" sz="1200" spc="-1" strike="noStrike">
                <a:solidFill>
                  <a:srgbClr val="ffffff"/>
                </a:solidFill>
                <a:latin typeface="Arial"/>
              </a:rPr>
              <a:t>Suggested Core Slide</a:t>
            </a: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has been used as an alternative to endometrial ablation or hysterectomy in the treatment of menorrhagia. One clinical trial found that the LNG IUS was as effective as endometrial ablation at reducing blood loss when assessed one year after inser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five-year study found that the hysterectomy cancellation rate was much higher for users of the LNG IUS than for other patients (80 percent versus 9 percent).</a:t>
            </a:r>
            <a:r>
              <a:rPr b="0" lang="en-US" sz="1000" spc="-1" strike="noStrike" baseline="30000">
                <a:solidFill>
                  <a:srgbClr val="000000"/>
                </a:solidFill>
                <a:latin typeface="Tahoma"/>
              </a:rPr>
              <a:t>44</a:t>
            </a:r>
            <a:r>
              <a:rPr b="0" lang="en-US" sz="1000" spc="-1" strike="noStrike">
                <a:solidFill>
                  <a:srgbClr val="000000"/>
                </a:solidFill>
                <a:latin typeface="Tahoma"/>
              </a:rPr>
              <a:t> The LNG IUS is approved for the treatment of menorrhagia in many countries and may be approved in the United States for this indication in the near future. The LNG IUS also has been investigated for use as a substitute for oral progestin in hormone therapy for postmenopausal women and is approved for this indication in many countries. One study followed postmenopausal women who used oral or transdermal estrogen with the LNG IUS continuously for five years.</a:t>
            </a:r>
            <a:r>
              <a:rPr b="0" lang="en-US" sz="1000" spc="-1" strike="noStrike" baseline="30000">
                <a:solidFill>
                  <a:srgbClr val="000000"/>
                </a:solidFill>
                <a:latin typeface="Tahoma"/>
              </a:rPr>
              <a:t>45</a:t>
            </a:r>
            <a:r>
              <a:rPr b="0" lang="en-US" sz="1000" spc="-1" strike="noStrike">
                <a:solidFill>
                  <a:srgbClr val="000000"/>
                </a:solidFill>
                <a:latin typeface="Tahoma"/>
              </a:rPr>
              <a:t> Histological examination demonstrated that the LNG IUS protected the women against endometrial hyperplasi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 Hubacher D, Grimes DA. Noncontraceptive health benefits of intrauterine devices: a systematic review. </a:t>
            </a:r>
            <a:r>
              <a:rPr b="0" i="1" lang="en-US" sz="1000" spc="-1" strike="noStrike">
                <a:solidFill>
                  <a:srgbClr val="000000"/>
                </a:solidFill>
                <a:latin typeface="Tahoma"/>
              </a:rPr>
              <a:t>Obstet Gynecol Surv</a:t>
            </a:r>
            <a:r>
              <a:rPr b="0" lang="en-US" sz="1000" spc="-1" strike="noStrike">
                <a:solidFill>
                  <a:srgbClr val="000000"/>
                </a:solidFill>
                <a:latin typeface="Tahoma"/>
              </a:rPr>
              <a:t>. 2002;57(2):120-8.</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3. Crosignani PG, Vercellini P, Mosconi P, Oldani S, Cortesi I, De Giorgi O. Levonorgestrel-releasing intrauterine device versus hysteroscopic endometrial resection in the treatment of dysfunctional uterine bleeding. </a:t>
            </a:r>
            <a:r>
              <a:rPr b="0" i="1" lang="en-US" sz="1000" spc="-1" strike="noStrike">
                <a:solidFill>
                  <a:srgbClr val="000000"/>
                </a:solidFill>
                <a:latin typeface="Tahoma"/>
              </a:rPr>
              <a:t>Obstet Gynecol</a:t>
            </a:r>
            <a:r>
              <a:rPr b="0" lang="en-US" sz="1000" spc="-1" strike="noStrike">
                <a:solidFill>
                  <a:srgbClr val="000000"/>
                </a:solidFill>
                <a:latin typeface="Tahoma"/>
              </a:rPr>
              <a:t>. 1997;90(2):257-6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4. Hurskainen R, Teperi J, Rissanen P, Aalto AM, Grenman S, Kivela A, Kujansuu E, Vuorma S, Yliskoski M, Paavonen J. Quality of life and cost-effectiveness of levonorgestrel-releasing intrauterine system versus hysterectomy for treatment of menorrhagia: a randomised trial. </a:t>
            </a:r>
            <a:r>
              <a:rPr b="0" i="1" lang="en-US" sz="1000" spc="-1" strike="noStrike">
                <a:solidFill>
                  <a:srgbClr val="000000"/>
                </a:solidFill>
                <a:latin typeface="Tahoma"/>
              </a:rPr>
              <a:t>Lancet</a:t>
            </a:r>
            <a:r>
              <a:rPr b="0" lang="en-US" sz="1000" spc="-1" strike="noStrike">
                <a:solidFill>
                  <a:srgbClr val="000000"/>
                </a:solidFill>
                <a:latin typeface="Tahoma"/>
              </a:rPr>
              <a:t>. 2001;357:273-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5. Varila E, Wahlstrom T, Rauramo I. 5-year follow-up study on the use of a levonorgestrel intrauterine system in women receiving hormone replacement therapy. </a:t>
            </a:r>
            <a:r>
              <a:rPr b="0" i="1" lang="en-US" sz="1000" spc="-1" strike="noStrike">
                <a:solidFill>
                  <a:srgbClr val="000000"/>
                </a:solidFill>
                <a:latin typeface="Tahoma"/>
              </a:rPr>
              <a:t>Fertil Steril</a:t>
            </a:r>
            <a:r>
              <a:rPr b="0" lang="en-US" sz="1000" spc="-1" strike="noStrike">
                <a:solidFill>
                  <a:srgbClr val="000000"/>
                </a:solidFill>
                <a:latin typeface="Tahoma"/>
              </a:rPr>
              <a:t>. 2001;76(5):969-7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6. Chiou CF, Trussell J, Reyes E, Knight K, Wallace J, Udani J, Oda K, Borenstein J. Economic analysis of contraceptives for women. </a:t>
            </a:r>
            <a:r>
              <a:rPr b="0" i="1" lang="en-US" sz="1000" spc="-1" strike="noStrike">
                <a:solidFill>
                  <a:srgbClr val="000000"/>
                </a:solidFill>
                <a:latin typeface="Tahoma"/>
              </a:rPr>
              <a:t>Contraception</a:t>
            </a:r>
            <a:r>
              <a:rPr b="0" lang="en-US" sz="1000" spc="-1" strike="noStrike">
                <a:solidFill>
                  <a:srgbClr val="000000"/>
                </a:solidFill>
                <a:latin typeface="Tahoma"/>
              </a:rPr>
              <a:t>. 2003;68(1):3-1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r cumulative failure rate is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r cumulative failure rate is 1.1% (Sivin -199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552A-4A70-405E-8646-D1181DDD8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evolution of civilization, women today have a higher number of total natural menstrual cycles during their reproductive years than their ancestors.</a:t>
            </a:r>
            <a:r>
              <a:rPr b="0" lang="en-US" sz="1200" spc="-1" strike="noStrike" baseline="30000">
                <a:solidFill>
                  <a:srgbClr val="000000"/>
                </a:solidFill>
                <a:latin typeface="Arial"/>
              </a:rPr>
              <a:t>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with a typical contemporary woman who may experience about 450 natural menstrual cycles over her reproductive life, hunter/gatherer women had many more pregnancies and breast-fed each of their children for up to 3 years. Consequently, they would have experienced about 160 menstrual cycles over their lifetime.</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aging women experienced later menarche, earlier childbearing, higher parity, more prolonged breastfeeding and earlier death compared with contemporary women—all of which contribute to a higher lifetime number of menstrual cycles.</a:t>
            </a:r>
            <a:r>
              <a:rPr b="0" lang="en-US" sz="1200" spc="-1" strike="noStrike" baseline="30000">
                <a:solidFill>
                  <a:srgbClr val="000000"/>
                </a:solidFill>
                <a:latin typeface="Arial"/>
              </a:rPr>
              <a:t>1,2</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000" spc="-1" strike="noStrike">
                <a:solidFill>
                  <a:srgbClr val="000000"/>
                </a:solidFill>
                <a:latin typeface="Arial"/>
              </a:rPr>
              <a:t>1. Eaton SB, Pike MC, Short RV, et al. Women’s reproductive cancers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volutionary context. </a:t>
            </a:r>
            <a:r>
              <a:rPr b="0" i="1" lang="en-US" sz="1000" spc="-1" strike="noStrike">
                <a:solidFill>
                  <a:srgbClr val="000000"/>
                </a:solidFill>
                <a:latin typeface="Arial"/>
              </a:rPr>
              <a:t>Quart Rev Biol</a:t>
            </a:r>
            <a:r>
              <a:rPr b="0" lang="en-US" sz="1000" spc="-1" strike="noStrike">
                <a:solidFill>
                  <a:srgbClr val="000000"/>
                </a:solidFill>
                <a:latin typeface="Arial"/>
              </a:rPr>
              <a:t>. 1994;69:353-363.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Coutinho EM. </a:t>
            </a:r>
            <a:r>
              <a:rPr b="0" i="1" lang="en-US" sz="1000" spc="-1" strike="noStrike">
                <a:solidFill>
                  <a:srgbClr val="000000"/>
                </a:solidFill>
                <a:latin typeface="Arial"/>
              </a:rPr>
              <a:t>Is Menstruation Obsolete</a:t>
            </a:r>
            <a:r>
              <a:rPr b="0" lang="en-US" sz="1000" spc="-1" strike="noStrike">
                <a:solidFill>
                  <a:srgbClr val="000000"/>
                </a:solidFill>
                <a:latin typeface="Arial"/>
              </a:rPr>
              <a:t>? New York. Oxford University Press, In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EACA-F534-4DE7-97A6-321C90718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women prefer to cycle monthly since it feels more natural, there’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ing periods actually improves efficacy and decreases blood loss (anem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04D7-553A-473F-8A1E-311E68022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mid-1980s, US abortion rates were similar across economic sub-groups, but after 1987 the rates started to diverge; by 2000, poor women’s abortion rates were nearly double those of wealthy women. Much (but not all) of the ethnic differences in abortion rates disappear when one controls for incom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iner LB, Henshaw SK. Abortion incidence and services in the United States in 2000. Perspect Sex Reprod Health. 2003; 35(1):6-15.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9485-AC6B-484B-997B-4272A1552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women prefer to cycle monthly since it feels more natural, there’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ing periods actually improves efficacy and decreases blood loss (anem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 control choi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96C5-33FC-4704-9187-6A5F8846D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4440" y="685800"/>
            <a:ext cx="4570560" cy="342756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164C9-B3A0-4267-A843-BFB74D58B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3E43B-6F2B-4AC8-9CDD-8FE013C9B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ACFFA-2A12-47CF-B0B3-3E003C81E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93BB3-E821-4C0A-9B7D-C51E50B18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EE6A6-876A-49D7-B7A2-0E92C6093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7AF19-0AE6-45DB-8EC5-40A4A331A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534C4-817B-4E1B-BD42-03FB8EDA4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C5918-D7D0-4C46-82A7-E4A1D8924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5543B-E096-47C9-AF0C-3BBEB6CC0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04547-7066-4FE1-AC27-0D5E71FA2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8119B-323B-433A-9148-37E41F19A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EE2F8-573A-441B-9DA7-82D1583FC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90E86-B695-41F2-AE29-FC3EBAF45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80DDF-7DCF-4737-95D5-AA2C91DBE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B4026-778D-45F7-8B8A-03FBB31BE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68D34-07C5-4A21-A37F-79C6A3492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48E2B-91D4-4A51-B42E-C834FE925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F9D2-08D3-469F-85B0-964F7A6E3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B02BD-E5C6-4F0B-A4C4-3C0099212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B8528-314A-4B7B-B7D0-5CFB35ED3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2C565-0269-4FBF-8010-273E657E6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32E1D-BD22-4B47-80A5-F7109E1B3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711D3-FFF5-417B-ACBD-DF7B6D587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3082-97DB-40EF-8B66-E80BFD370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6C6C-A160-4B5D-BB6A-DAB366D8D2A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4798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edit the title text format</a:t>
            </a:r>
            <a:endParaRPr b="0" lang="en-US" sz="5000" spc="-1" strike="noStrike">
              <a:solidFill>
                <a:srgbClr val="ffffff"/>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9DB9-AB82-4B96-A8B7-BC524FA71AF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023840" algn="ctr">
              <a:spcBef>
                <a:spcPts val="499"/>
              </a:spcBef>
              <a:buClr>
                <a:srgbClr val="ff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C:/Documents%20and%20Settings/Sharone/Local%20Settings/Temporary%20Internet%20Files/Content.IE5/TVK1HFV5/PPGGContraceptivepresentation2%5B1%5D.pp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anagingcontraception.org/" TargetMode="External"/><Relationship Id="rId2" Type="http://schemas.openxmlformats.org/officeDocument/2006/relationships/hyperlink" Target="http://www.arhp.org/" TargetMode="External"/><Relationship Id="rId3" Type="http://schemas.openxmlformats.org/officeDocument/2006/relationships/hyperlink" Target="http://www.agi-usa.org/" TargetMode="External"/><Relationship Id="rId4" Type="http://schemas.openxmlformats.org/officeDocument/2006/relationships/hyperlink" Target="http://www.not-2-late.com/"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143000"/>
            <a:ext cx="7848720" cy="245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ontraception</a:t>
            </a:r>
            <a:br>
              <a:rPr sz="3200"/>
            </a:br>
            <a:br>
              <a:rPr sz="3600"/>
            </a:br>
            <a:r>
              <a:rPr b="0" lang="en-US" sz="3600" spc="-1" strike="noStrike">
                <a:solidFill>
                  <a:srgbClr val="ffffff"/>
                </a:solidFill>
                <a:latin typeface="Garamond"/>
              </a:rPr>
              <a:t>Update</a:t>
            </a:r>
            <a:endParaRPr b="0" lang="en-US" sz="36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 “</a:t>
            </a:r>
            <a:r>
              <a:rPr b="1" lang="en-US" sz="4400" spc="-1" strike="noStrike">
                <a:solidFill>
                  <a:srgbClr val="ffffff"/>
                </a:solidFill>
                <a:latin typeface="Garamond"/>
              </a:rPr>
              <a:t>Quick Start”</a:t>
            </a:r>
            <a:r>
              <a:rPr b="0" lang="en-US" sz="4000" spc="-1" strike="noStrike">
                <a:solidFill>
                  <a:srgbClr val="ffffff"/>
                </a:solidFill>
                <a:latin typeface="Garamond"/>
              </a:rPr>
              <a:t> </a:t>
            </a:r>
            <a:r>
              <a:rPr b="0" lang="en-US" sz="4000" spc="-1" strike="noStrike" baseline="30000">
                <a:solidFill>
                  <a:srgbClr val="ffffff"/>
                </a:solidFill>
                <a:latin typeface="Garamond"/>
              </a:rPr>
              <a:t>1</a:t>
            </a:r>
            <a:endParaRPr b="0" lang="en-US" sz="4000" spc="-1" strike="noStrike">
              <a:solidFill>
                <a:srgbClr val="ffffff"/>
              </a:solidFill>
              <a:latin typeface="Garamond"/>
            </a:endParaRPr>
          </a:p>
        </p:txBody>
      </p:sp>
      <p:sp>
        <p:nvSpPr>
          <p:cNvPr id="122" name="PlaceHolder 2"/>
          <p:cNvSpPr>
            <a:spLocks noGrp="1"/>
          </p:cNvSpPr>
          <p:nvPr>
            <p:ph/>
          </p:nvPr>
        </p:nvSpPr>
        <p:spPr>
          <a:xfrm>
            <a:off x="457200" y="914040"/>
            <a:ext cx="8686800" cy="53341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many as 25% of women do not start prescribed OCPs with Sunday or 1</a:t>
            </a:r>
            <a:r>
              <a:rPr b="0" lang="en-US" sz="3000" spc="-1" strike="noStrike" baseline="30000">
                <a:solidFill>
                  <a:srgbClr val="ffffff"/>
                </a:solidFill>
                <a:latin typeface="Arial"/>
              </a:rPr>
              <a:t>st</a:t>
            </a:r>
            <a:r>
              <a:rPr b="0" lang="en-US" sz="3000" spc="-1" strike="noStrike">
                <a:solidFill>
                  <a:srgbClr val="ffffff"/>
                </a:solidFill>
                <a:latin typeface="Arial"/>
              </a:rPr>
              <a:t> day start</a:t>
            </a:r>
            <a:endParaRPr b="0" lang="en-US" sz="30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Quick Start”</a:t>
            </a:r>
            <a:r>
              <a:rPr b="0" lang="en-US" sz="3000" spc="-1" strike="noStrike" baseline="30000">
                <a:solidFill>
                  <a:srgbClr val="ffffff"/>
                </a:solidFill>
                <a:latin typeface="Arial"/>
              </a:rPr>
              <a:t>1</a:t>
            </a:r>
            <a:r>
              <a:rPr b="0" lang="en-US" sz="3000" spc="-1" strike="noStrike">
                <a:solidFill>
                  <a:srgbClr val="ffffff"/>
                </a:solidFill>
                <a:latin typeface="Arial"/>
              </a:rPr>
              <a:t> – first pill on day of visit at any time of the month. Confirm HCG neg.  If she needs EC, start contraception w/in 24 hrs of EC. </a:t>
            </a:r>
            <a:endParaRPr b="0" lang="en-US" sz="3000" spc="-1" strike="noStrike">
              <a:solidFill>
                <a:srgbClr val="ffffff"/>
              </a:solidFill>
              <a:latin typeface="Arial"/>
            </a:endParaRPr>
          </a:p>
          <a:p>
            <a:pPr lvl="1" marL="743040" indent="-2858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re women using pill in 3</a:t>
            </a:r>
            <a:r>
              <a:rPr b="0" lang="en-US" sz="2600" spc="-1" strike="noStrike" baseline="30000">
                <a:solidFill>
                  <a:srgbClr val="ffffff"/>
                </a:solidFill>
                <a:latin typeface="Arial"/>
              </a:rPr>
              <a:t>rd</a:t>
            </a:r>
            <a:r>
              <a:rPr b="0" lang="en-US" sz="2600" spc="-1" strike="noStrike">
                <a:solidFill>
                  <a:srgbClr val="ffffff"/>
                </a:solidFill>
                <a:latin typeface="Arial"/>
              </a:rPr>
              <a:t> cycle</a:t>
            </a:r>
            <a:endParaRPr b="0" lang="en-US" sz="2600" spc="-1" strike="noStrike">
              <a:solidFill>
                <a:srgbClr val="ffffff"/>
              </a:solidFill>
              <a:latin typeface="Arial"/>
            </a:endParaRPr>
          </a:p>
          <a:p>
            <a:pPr lvl="1" marL="743040" indent="-2858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increased spotting or bleeding</a:t>
            </a:r>
            <a:r>
              <a:rPr b="0" lang="en-US" sz="2600" spc="-1" strike="noStrike" baseline="30000">
                <a:solidFill>
                  <a:srgbClr val="ffffff"/>
                </a:solidFill>
                <a:latin typeface="Arial"/>
              </a:rPr>
              <a:t>2</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
          <p:cNvSpPr/>
          <p:nvPr/>
        </p:nvSpPr>
        <p:spPr>
          <a:xfrm>
            <a:off x="203040" y="6335640"/>
            <a:ext cx="820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Westhoff et al </a:t>
            </a:r>
            <a:r>
              <a:rPr b="0" i="1" lang="en-US" sz="2000" spc="-1" strike="noStrike">
                <a:solidFill>
                  <a:srgbClr val="ffffff"/>
                </a:solidFill>
                <a:latin typeface="Arial"/>
              </a:rPr>
              <a:t>Contraception </a:t>
            </a:r>
            <a:r>
              <a:rPr b="0" lang="en-US" sz="2000" spc="-1" strike="noStrike">
                <a:solidFill>
                  <a:srgbClr val="ffffff"/>
                </a:solidFill>
                <a:latin typeface="Arial"/>
              </a:rPr>
              <a:t>2002  2. Westhoff et al </a:t>
            </a:r>
            <a:r>
              <a:rPr b="0" i="1" lang="en-US" sz="2000" spc="-1" strike="noStrike">
                <a:solidFill>
                  <a:srgbClr val="ffffff"/>
                </a:solidFill>
                <a:latin typeface="Arial"/>
              </a:rPr>
              <a:t>Fertil Steril </a:t>
            </a:r>
            <a:r>
              <a:rPr b="0" lang="en-US" sz="2000" spc="-1" strike="noStrike">
                <a:solidFill>
                  <a:srgbClr val="ffffff"/>
                </a:solidFill>
                <a:latin typeface="Arial"/>
              </a:rPr>
              <a:t>2003</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Mandy, later</a:t>
            </a:r>
            <a:endParaRPr b="0" lang="en-US" sz="4200" spc="-1" strike="noStrike">
              <a:solidFill>
                <a:srgbClr val="ffffff"/>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dy gets a 4-month supply of birth control pill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calls 4 months later requesting a 1-year renewal prescriptio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has never had a Pap smear.</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126" name=""/>
          <p:cNvGrpSpPr/>
          <p:nvPr/>
        </p:nvGrpSpPr>
        <p:grpSpPr>
          <a:xfrm>
            <a:off x="914400" y="1469880"/>
            <a:ext cx="7687080" cy="4885560"/>
            <a:chOff x="914400" y="1469880"/>
            <a:chExt cx="7687080" cy="4885560"/>
          </a:xfrm>
        </p:grpSpPr>
        <p:sp>
          <p:nvSpPr>
            <p:cNvPr id="127" name=""/>
            <p:cNvSpPr/>
            <p:nvPr/>
          </p:nvSpPr>
          <p:spPr>
            <a:xfrm>
              <a:off x="1071000" y="2149200"/>
              <a:ext cx="6572520" cy="3832200"/>
            </a:xfrm>
            <a:custGeom>
              <a:avLst/>
              <a:gdLst/>
              <a:ahLst/>
              <a:rect l="l" t="t" r="r" b="b"/>
              <a:pathLst>
                <a:path w="3529" h="1977">
                  <a:moveTo>
                    <a:pt x="0" y="0"/>
                  </a:moveTo>
                  <a:lnTo>
                    <a:pt x="3528" y="0"/>
                  </a:lnTo>
                  <a:lnTo>
                    <a:pt x="3528" y="1290"/>
                  </a:lnTo>
                  <a:lnTo>
                    <a:pt x="3352" y="1452"/>
                  </a:lnTo>
                  <a:lnTo>
                    <a:pt x="3234" y="1331"/>
                  </a:lnTo>
                  <a:lnTo>
                    <a:pt x="3116" y="1532"/>
                  </a:lnTo>
                  <a:lnTo>
                    <a:pt x="2999" y="1452"/>
                  </a:lnTo>
                  <a:lnTo>
                    <a:pt x="2881" y="1613"/>
                  </a:lnTo>
                  <a:lnTo>
                    <a:pt x="2764" y="1532"/>
                  </a:lnTo>
                  <a:lnTo>
                    <a:pt x="2646" y="1653"/>
                  </a:lnTo>
                  <a:lnTo>
                    <a:pt x="2528" y="1573"/>
                  </a:lnTo>
                  <a:lnTo>
                    <a:pt x="2352" y="1774"/>
                  </a:lnTo>
                  <a:lnTo>
                    <a:pt x="2234" y="1694"/>
                  </a:lnTo>
                  <a:lnTo>
                    <a:pt x="2058" y="1855"/>
                  </a:lnTo>
                  <a:lnTo>
                    <a:pt x="1882" y="1734"/>
                  </a:lnTo>
                  <a:lnTo>
                    <a:pt x="1764" y="1815"/>
                  </a:lnTo>
                  <a:lnTo>
                    <a:pt x="1588" y="1694"/>
                  </a:lnTo>
                  <a:lnTo>
                    <a:pt x="1352" y="1855"/>
                  </a:lnTo>
                  <a:lnTo>
                    <a:pt x="1235" y="1774"/>
                  </a:lnTo>
                  <a:lnTo>
                    <a:pt x="1058" y="1855"/>
                  </a:lnTo>
                  <a:lnTo>
                    <a:pt x="823" y="1734"/>
                  </a:lnTo>
                  <a:lnTo>
                    <a:pt x="647" y="1855"/>
                  </a:lnTo>
                  <a:lnTo>
                    <a:pt x="588" y="1815"/>
                  </a:lnTo>
                  <a:lnTo>
                    <a:pt x="353" y="1936"/>
                  </a:lnTo>
                  <a:lnTo>
                    <a:pt x="294" y="1855"/>
                  </a:lnTo>
                  <a:lnTo>
                    <a:pt x="59" y="1976"/>
                  </a:lnTo>
                  <a:lnTo>
                    <a:pt x="59" y="0"/>
                  </a:lnTo>
                  <a:lnTo>
                    <a:pt x="118" y="0"/>
                  </a:lnTo>
                  <a:lnTo>
                    <a:pt x="176" y="0"/>
                  </a:lnTo>
                  <a:lnTo>
                    <a:pt x="412" y="0"/>
                  </a:lnTo>
                </a:path>
              </a:pathLst>
            </a:custGeom>
            <a:solidFill>
              <a:srgbClr val="ffffff"/>
            </a:solidFill>
            <a:ln cap="rnd" w="12600">
              <a:solidFill>
                <a:srgbClr val="ffffff"/>
              </a:solidFill>
              <a:round/>
            </a:ln>
            <a:effectLst>
              <a:outerShdw dist="107932" dir="2700000" blurRad="0" rotWithShape="0">
                <a:srgbClr val="946c7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 name=""/>
            <p:cNvGrpSpPr/>
            <p:nvPr/>
          </p:nvGrpSpPr>
          <p:grpSpPr>
            <a:xfrm>
              <a:off x="1657800" y="2641320"/>
              <a:ext cx="5503320" cy="1066680"/>
              <a:chOff x="1657800" y="2641320"/>
              <a:chExt cx="5503320" cy="1066680"/>
            </a:xfrm>
          </p:grpSpPr>
          <p:grpSp>
            <p:nvGrpSpPr>
              <p:cNvPr id="129" name=""/>
              <p:cNvGrpSpPr/>
              <p:nvPr/>
            </p:nvGrpSpPr>
            <p:grpSpPr>
              <a:xfrm>
                <a:off x="1657800" y="2641320"/>
                <a:ext cx="5503320" cy="495000"/>
                <a:chOff x="1657800" y="2641320"/>
                <a:chExt cx="5503320" cy="495000"/>
              </a:xfrm>
            </p:grpSpPr>
            <p:grpSp>
              <p:nvGrpSpPr>
                <p:cNvPr id="130" name=""/>
                <p:cNvGrpSpPr/>
                <p:nvPr/>
              </p:nvGrpSpPr>
              <p:grpSpPr>
                <a:xfrm>
                  <a:off x="1657800" y="2641320"/>
                  <a:ext cx="5503320" cy="201240"/>
                  <a:chOff x="1657800" y="2641320"/>
                  <a:chExt cx="5503320" cy="201240"/>
                </a:xfrm>
              </p:grpSpPr>
              <p:sp>
                <p:nvSpPr>
                  <p:cNvPr id="131" name=""/>
                  <p:cNvSpPr/>
                  <p:nvPr/>
                </p:nvSpPr>
                <p:spPr>
                  <a:xfrm>
                    <a:off x="1657800" y="2641320"/>
                    <a:ext cx="5503320" cy="5832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32" name=""/>
                  <p:cNvSpPr/>
                  <p:nvPr/>
                </p:nvSpPr>
                <p:spPr>
                  <a:xfrm>
                    <a:off x="1657800" y="2782440"/>
                    <a:ext cx="550332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grpSp>
            <p:grpSp>
              <p:nvGrpSpPr>
                <p:cNvPr id="133" name=""/>
                <p:cNvGrpSpPr/>
                <p:nvPr/>
              </p:nvGrpSpPr>
              <p:grpSpPr>
                <a:xfrm>
                  <a:off x="1657800" y="2931840"/>
                  <a:ext cx="5503320" cy="204480"/>
                  <a:chOff x="1657800" y="2931840"/>
                  <a:chExt cx="5503320" cy="204480"/>
                </a:xfrm>
              </p:grpSpPr>
              <p:sp>
                <p:nvSpPr>
                  <p:cNvPr id="134" name=""/>
                  <p:cNvSpPr/>
                  <p:nvPr/>
                </p:nvSpPr>
                <p:spPr>
                  <a:xfrm>
                    <a:off x="1657800" y="293184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5" name=""/>
                  <p:cNvSpPr/>
                  <p:nvPr/>
                </p:nvSpPr>
                <p:spPr>
                  <a:xfrm>
                    <a:off x="1657800" y="3078720"/>
                    <a:ext cx="5503320" cy="5760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grpSp>
          </p:grpSp>
          <p:grpSp>
            <p:nvGrpSpPr>
              <p:cNvPr id="136" name=""/>
              <p:cNvGrpSpPr/>
              <p:nvPr/>
            </p:nvGrpSpPr>
            <p:grpSpPr>
              <a:xfrm>
                <a:off x="1657800" y="3211560"/>
                <a:ext cx="5503320" cy="496440"/>
                <a:chOff x="1657800" y="3211560"/>
                <a:chExt cx="5503320" cy="496440"/>
              </a:xfrm>
            </p:grpSpPr>
            <p:grpSp>
              <p:nvGrpSpPr>
                <p:cNvPr id="137" name=""/>
                <p:cNvGrpSpPr/>
                <p:nvPr/>
              </p:nvGrpSpPr>
              <p:grpSpPr>
                <a:xfrm>
                  <a:off x="1657800" y="3211560"/>
                  <a:ext cx="5503320" cy="200520"/>
                  <a:chOff x="1657800" y="3211560"/>
                  <a:chExt cx="5503320" cy="200520"/>
                </a:xfrm>
              </p:grpSpPr>
              <p:sp>
                <p:nvSpPr>
                  <p:cNvPr id="138" name=""/>
                  <p:cNvSpPr/>
                  <p:nvPr/>
                </p:nvSpPr>
                <p:spPr>
                  <a:xfrm>
                    <a:off x="1657800" y="321156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9" name=""/>
                  <p:cNvSpPr/>
                  <p:nvPr/>
                </p:nvSpPr>
                <p:spPr>
                  <a:xfrm>
                    <a:off x="1657800" y="3356640"/>
                    <a:ext cx="5503320" cy="55440"/>
                  </a:xfrm>
                  <a:custGeom>
                    <a:avLst/>
                    <a:gdLst/>
                    <a:ahLst/>
                    <a:rect l="l" t="t" r="r" b="b"/>
                    <a:pathLst>
                      <a:path w="2956" h="29">
                        <a:moveTo>
                          <a:pt x="0" y="19"/>
                        </a:moveTo>
                        <a:lnTo>
                          <a:pt x="31" y="25"/>
                        </a:lnTo>
                        <a:lnTo>
                          <a:pt x="42" y="28"/>
                        </a:lnTo>
                        <a:lnTo>
                          <a:pt x="52" y="28"/>
                        </a:lnTo>
                        <a:lnTo>
                          <a:pt x="63" y="25"/>
                        </a:lnTo>
                        <a:lnTo>
                          <a:pt x="73" y="25"/>
                        </a:lnTo>
                        <a:lnTo>
                          <a:pt x="104" y="22"/>
                        </a:lnTo>
                        <a:lnTo>
                          <a:pt x="115" y="22"/>
                        </a:lnTo>
                        <a:lnTo>
                          <a:pt x="125" y="22"/>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5"/>
                        </a:lnTo>
                        <a:lnTo>
                          <a:pt x="391" y="25"/>
                        </a:lnTo>
                        <a:lnTo>
                          <a:pt x="401" y="25"/>
                        </a:lnTo>
                        <a:lnTo>
                          <a:pt x="412" y="25"/>
                        </a:lnTo>
                        <a:lnTo>
                          <a:pt x="427" y="25"/>
                        </a:lnTo>
                        <a:lnTo>
                          <a:pt x="438" y="25"/>
                        </a:lnTo>
                        <a:lnTo>
                          <a:pt x="448" y="25"/>
                        </a:lnTo>
                        <a:lnTo>
                          <a:pt x="459" y="25"/>
                        </a:lnTo>
                        <a:lnTo>
                          <a:pt x="469" y="22"/>
                        </a:lnTo>
                        <a:lnTo>
                          <a:pt x="479" y="22"/>
                        </a:lnTo>
                        <a:lnTo>
                          <a:pt x="511" y="22"/>
                        </a:lnTo>
                        <a:lnTo>
                          <a:pt x="521" y="22"/>
                        </a:lnTo>
                        <a:lnTo>
                          <a:pt x="532" y="22"/>
                        </a:lnTo>
                        <a:lnTo>
                          <a:pt x="542" y="22"/>
                        </a:lnTo>
                        <a:lnTo>
                          <a:pt x="558" y="22"/>
                        </a:lnTo>
                        <a:lnTo>
                          <a:pt x="568" y="19"/>
                        </a:lnTo>
                        <a:lnTo>
                          <a:pt x="605" y="16"/>
                        </a:lnTo>
                        <a:lnTo>
                          <a:pt x="620" y="16"/>
                        </a:lnTo>
                        <a:lnTo>
                          <a:pt x="631" y="12"/>
                        </a:lnTo>
                        <a:lnTo>
                          <a:pt x="646" y="12"/>
                        </a:lnTo>
                        <a:lnTo>
                          <a:pt x="662" y="12"/>
                        </a:lnTo>
                        <a:lnTo>
                          <a:pt x="678" y="12"/>
                        </a:lnTo>
                        <a:lnTo>
                          <a:pt x="688" y="12"/>
                        </a:lnTo>
                        <a:lnTo>
                          <a:pt x="698" y="12"/>
                        </a:lnTo>
                        <a:lnTo>
                          <a:pt x="709" y="12"/>
                        </a:lnTo>
                        <a:lnTo>
                          <a:pt x="724" y="12"/>
                        </a:lnTo>
                        <a:lnTo>
                          <a:pt x="735" y="16"/>
                        </a:lnTo>
                        <a:lnTo>
                          <a:pt x="750" y="16"/>
                        </a:lnTo>
                        <a:lnTo>
                          <a:pt x="771" y="16"/>
                        </a:lnTo>
                        <a:lnTo>
                          <a:pt x="792" y="16"/>
                        </a:lnTo>
                        <a:lnTo>
                          <a:pt x="813" y="22"/>
                        </a:lnTo>
                        <a:lnTo>
                          <a:pt x="829" y="22"/>
                        </a:lnTo>
                        <a:lnTo>
                          <a:pt x="839" y="22"/>
                        </a:lnTo>
                        <a:lnTo>
                          <a:pt x="849" y="22"/>
                        </a:lnTo>
                        <a:lnTo>
                          <a:pt x="860" y="22"/>
                        </a:lnTo>
                        <a:lnTo>
                          <a:pt x="870" y="22"/>
                        </a:lnTo>
                        <a:lnTo>
                          <a:pt x="881" y="25"/>
                        </a:lnTo>
                        <a:lnTo>
                          <a:pt x="938" y="28"/>
                        </a:lnTo>
                        <a:lnTo>
                          <a:pt x="964" y="28"/>
                        </a:lnTo>
                        <a:lnTo>
                          <a:pt x="985" y="28"/>
                        </a:lnTo>
                        <a:lnTo>
                          <a:pt x="1006" y="28"/>
                        </a:lnTo>
                        <a:lnTo>
                          <a:pt x="1016" y="28"/>
                        </a:lnTo>
                        <a:lnTo>
                          <a:pt x="1027" y="28"/>
                        </a:lnTo>
                        <a:lnTo>
                          <a:pt x="1042" y="28"/>
                        </a:lnTo>
                        <a:lnTo>
                          <a:pt x="1053" y="28"/>
                        </a:lnTo>
                        <a:lnTo>
                          <a:pt x="1063" y="28"/>
                        </a:lnTo>
                        <a:lnTo>
                          <a:pt x="1074" y="25"/>
                        </a:lnTo>
                        <a:lnTo>
                          <a:pt x="1141" y="22"/>
                        </a:lnTo>
                        <a:lnTo>
                          <a:pt x="1152" y="22"/>
                        </a:lnTo>
                        <a:lnTo>
                          <a:pt x="1167" y="22"/>
                        </a:lnTo>
                        <a:lnTo>
                          <a:pt x="1178" y="22"/>
                        </a:lnTo>
                        <a:lnTo>
                          <a:pt x="1193" y="22"/>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5"/>
                        </a:lnTo>
                        <a:lnTo>
                          <a:pt x="1537" y="25"/>
                        </a:lnTo>
                        <a:lnTo>
                          <a:pt x="1569" y="25"/>
                        </a:lnTo>
                        <a:lnTo>
                          <a:pt x="1584" y="25"/>
                        </a:lnTo>
                        <a:lnTo>
                          <a:pt x="1595" y="25"/>
                        </a:lnTo>
                        <a:lnTo>
                          <a:pt x="1605" y="25"/>
                        </a:lnTo>
                        <a:lnTo>
                          <a:pt x="1616" y="25"/>
                        </a:lnTo>
                        <a:lnTo>
                          <a:pt x="1626" y="25"/>
                        </a:lnTo>
                        <a:lnTo>
                          <a:pt x="1642" y="25"/>
                        </a:lnTo>
                        <a:lnTo>
                          <a:pt x="1652" y="25"/>
                        </a:lnTo>
                        <a:lnTo>
                          <a:pt x="1668" y="25"/>
                        </a:lnTo>
                        <a:lnTo>
                          <a:pt x="1678" y="25"/>
                        </a:lnTo>
                        <a:lnTo>
                          <a:pt x="1746" y="16"/>
                        </a:lnTo>
                        <a:lnTo>
                          <a:pt x="1756" y="16"/>
                        </a:lnTo>
                        <a:lnTo>
                          <a:pt x="1767" y="12"/>
                        </a:lnTo>
                        <a:lnTo>
                          <a:pt x="1782" y="12"/>
                        </a:lnTo>
                        <a:lnTo>
                          <a:pt x="1793" y="12"/>
                        </a:lnTo>
                        <a:lnTo>
                          <a:pt x="1803" y="12"/>
                        </a:lnTo>
                        <a:lnTo>
                          <a:pt x="1819" y="9"/>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9"/>
                        </a:lnTo>
                        <a:lnTo>
                          <a:pt x="2033" y="9"/>
                        </a:lnTo>
                        <a:lnTo>
                          <a:pt x="2048" y="9"/>
                        </a:lnTo>
                        <a:lnTo>
                          <a:pt x="2059" y="9"/>
                        </a:lnTo>
                        <a:lnTo>
                          <a:pt x="2074" y="9"/>
                        </a:lnTo>
                        <a:lnTo>
                          <a:pt x="2095" y="9"/>
                        </a:lnTo>
                        <a:lnTo>
                          <a:pt x="2111" y="9"/>
                        </a:lnTo>
                        <a:lnTo>
                          <a:pt x="2121" y="12"/>
                        </a:lnTo>
                        <a:lnTo>
                          <a:pt x="2142" y="12"/>
                        </a:lnTo>
                        <a:lnTo>
                          <a:pt x="2152" y="16"/>
                        </a:lnTo>
                        <a:lnTo>
                          <a:pt x="2163" y="19"/>
                        </a:lnTo>
                        <a:lnTo>
                          <a:pt x="2173" y="19"/>
                        </a:lnTo>
                        <a:lnTo>
                          <a:pt x="2189" y="19"/>
                        </a:lnTo>
                        <a:lnTo>
                          <a:pt x="2205" y="19"/>
                        </a:lnTo>
                        <a:lnTo>
                          <a:pt x="2215" y="19"/>
                        </a:lnTo>
                        <a:lnTo>
                          <a:pt x="2231" y="19"/>
                        </a:lnTo>
                        <a:lnTo>
                          <a:pt x="2241" y="16"/>
                        </a:lnTo>
                        <a:lnTo>
                          <a:pt x="2251" y="16"/>
                        </a:lnTo>
                        <a:lnTo>
                          <a:pt x="2262" y="12"/>
                        </a:lnTo>
                        <a:lnTo>
                          <a:pt x="2283" y="12"/>
                        </a:lnTo>
                        <a:lnTo>
                          <a:pt x="2298" y="12"/>
                        </a:lnTo>
                        <a:lnTo>
                          <a:pt x="2309" y="12"/>
                        </a:lnTo>
                        <a:lnTo>
                          <a:pt x="2319" y="12"/>
                        </a:lnTo>
                        <a:lnTo>
                          <a:pt x="2330" y="12"/>
                        </a:lnTo>
                        <a:lnTo>
                          <a:pt x="2345" y="12"/>
                        </a:lnTo>
                        <a:lnTo>
                          <a:pt x="2356" y="12"/>
                        </a:lnTo>
                        <a:lnTo>
                          <a:pt x="2371" y="12"/>
                        </a:lnTo>
                        <a:lnTo>
                          <a:pt x="2382" y="16"/>
                        </a:lnTo>
                        <a:lnTo>
                          <a:pt x="2408" y="19"/>
                        </a:lnTo>
                        <a:lnTo>
                          <a:pt x="2423" y="19"/>
                        </a:lnTo>
                        <a:lnTo>
                          <a:pt x="2439" y="22"/>
                        </a:lnTo>
                        <a:lnTo>
                          <a:pt x="2502" y="28"/>
                        </a:lnTo>
                        <a:lnTo>
                          <a:pt x="2512" y="28"/>
                        </a:lnTo>
                        <a:lnTo>
                          <a:pt x="2522" y="28"/>
                        </a:lnTo>
                        <a:lnTo>
                          <a:pt x="2554" y="28"/>
                        </a:lnTo>
                        <a:lnTo>
                          <a:pt x="2564" y="28"/>
                        </a:lnTo>
                        <a:lnTo>
                          <a:pt x="2575" y="28"/>
                        </a:lnTo>
                        <a:lnTo>
                          <a:pt x="2585" y="28"/>
                        </a:lnTo>
                        <a:lnTo>
                          <a:pt x="2595" y="25"/>
                        </a:lnTo>
                        <a:lnTo>
                          <a:pt x="2606" y="25"/>
                        </a:lnTo>
                        <a:lnTo>
                          <a:pt x="2616" y="22"/>
                        </a:lnTo>
                        <a:lnTo>
                          <a:pt x="2627" y="22"/>
                        </a:lnTo>
                        <a:lnTo>
                          <a:pt x="2637" y="22"/>
                        </a:lnTo>
                        <a:lnTo>
                          <a:pt x="2648" y="22"/>
                        </a:lnTo>
                        <a:lnTo>
                          <a:pt x="2658" y="22"/>
                        </a:lnTo>
                        <a:lnTo>
                          <a:pt x="2668" y="19"/>
                        </a:lnTo>
                        <a:lnTo>
                          <a:pt x="2684" y="19"/>
                        </a:lnTo>
                        <a:lnTo>
                          <a:pt x="2694" y="19"/>
                        </a:lnTo>
                        <a:lnTo>
                          <a:pt x="2715" y="16"/>
                        </a:lnTo>
                        <a:lnTo>
                          <a:pt x="2726" y="12"/>
                        </a:lnTo>
                        <a:lnTo>
                          <a:pt x="2736" y="12"/>
                        </a:lnTo>
                        <a:lnTo>
                          <a:pt x="2747" y="12"/>
                        </a:lnTo>
                        <a:lnTo>
                          <a:pt x="2788" y="9"/>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grpSp>
            <p:grpSp>
              <p:nvGrpSpPr>
                <p:cNvPr id="140" name=""/>
                <p:cNvGrpSpPr/>
                <p:nvPr/>
              </p:nvGrpSpPr>
              <p:grpSpPr>
                <a:xfrm>
                  <a:off x="1657800" y="3503880"/>
                  <a:ext cx="5503320" cy="204120"/>
                  <a:chOff x="1657800" y="3503880"/>
                  <a:chExt cx="5503320" cy="204120"/>
                </a:xfrm>
              </p:grpSpPr>
              <p:sp>
                <p:nvSpPr>
                  <p:cNvPr id="141" name=""/>
                  <p:cNvSpPr/>
                  <p:nvPr/>
                </p:nvSpPr>
                <p:spPr>
                  <a:xfrm>
                    <a:off x="1657800" y="3503880"/>
                    <a:ext cx="5503320" cy="61560"/>
                  </a:xfrm>
                  <a:custGeom>
                    <a:avLst/>
                    <a:gdLst/>
                    <a:ahLst/>
                    <a:rect l="l" t="t" r="r" b="b"/>
                    <a:pathLst>
                      <a:path w="2956" h="32">
                        <a:moveTo>
                          <a:pt x="0" y="21"/>
                        </a:moveTo>
                        <a:lnTo>
                          <a:pt x="31" y="28"/>
                        </a:lnTo>
                        <a:lnTo>
                          <a:pt x="42" y="31"/>
                        </a:lnTo>
                        <a:lnTo>
                          <a:pt x="52" y="31"/>
                        </a:lnTo>
                        <a:lnTo>
                          <a:pt x="63" y="28"/>
                        </a:lnTo>
                        <a:lnTo>
                          <a:pt x="73" y="28"/>
                        </a:lnTo>
                        <a:lnTo>
                          <a:pt x="104" y="24"/>
                        </a:lnTo>
                        <a:lnTo>
                          <a:pt x="115" y="24"/>
                        </a:lnTo>
                        <a:lnTo>
                          <a:pt x="125" y="24"/>
                        </a:lnTo>
                        <a:lnTo>
                          <a:pt x="136" y="21"/>
                        </a:lnTo>
                        <a:lnTo>
                          <a:pt x="146" y="21"/>
                        </a:lnTo>
                        <a:lnTo>
                          <a:pt x="156" y="21"/>
                        </a:lnTo>
                        <a:lnTo>
                          <a:pt x="167" y="21"/>
                        </a:lnTo>
                        <a:lnTo>
                          <a:pt x="177" y="21"/>
                        </a:lnTo>
                        <a:lnTo>
                          <a:pt x="188" y="21"/>
                        </a:lnTo>
                        <a:lnTo>
                          <a:pt x="198" y="21"/>
                        </a:lnTo>
                        <a:lnTo>
                          <a:pt x="208" y="21"/>
                        </a:lnTo>
                        <a:lnTo>
                          <a:pt x="219" y="21"/>
                        </a:lnTo>
                        <a:lnTo>
                          <a:pt x="229" y="21"/>
                        </a:lnTo>
                        <a:lnTo>
                          <a:pt x="240" y="21"/>
                        </a:lnTo>
                        <a:lnTo>
                          <a:pt x="250" y="21"/>
                        </a:lnTo>
                        <a:lnTo>
                          <a:pt x="261" y="21"/>
                        </a:lnTo>
                        <a:lnTo>
                          <a:pt x="297" y="21"/>
                        </a:lnTo>
                        <a:lnTo>
                          <a:pt x="307" y="21"/>
                        </a:lnTo>
                        <a:lnTo>
                          <a:pt x="323" y="21"/>
                        </a:lnTo>
                        <a:lnTo>
                          <a:pt x="380" y="28"/>
                        </a:lnTo>
                        <a:lnTo>
                          <a:pt x="391" y="28"/>
                        </a:lnTo>
                        <a:lnTo>
                          <a:pt x="401" y="28"/>
                        </a:lnTo>
                        <a:lnTo>
                          <a:pt x="412" y="28"/>
                        </a:lnTo>
                        <a:lnTo>
                          <a:pt x="427" y="28"/>
                        </a:lnTo>
                        <a:lnTo>
                          <a:pt x="438" y="28"/>
                        </a:lnTo>
                        <a:lnTo>
                          <a:pt x="448" y="28"/>
                        </a:lnTo>
                        <a:lnTo>
                          <a:pt x="459" y="28"/>
                        </a:lnTo>
                        <a:lnTo>
                          <a:pt x="469" y="24"/>
                        </a:lnTo>
                        <a:lnTo>
                          <a:pt x="479" y="24"/>
                        </a:lnTo>
                        <a:lnTo>
                          <a:pt x="511" y="24"/>
                        </a:lnTo>
                        <a:lnTo>
                          <a:pt x="521" y="24"/>
                        </a:lnTo>
                        <a:lnTo>
                          <a:pt x="532" y="24"/>
                        </a:lnTo>
                        <a:lnTo>
                          <a:pt x="542" y="24"/>
                        </a:lnTo>
                        <a:lnTo>
                          <a:pt x="558" y="24"/>
                        </a:lnTo>
                        <a:lnTo>
                          <a:pt x="568" y="21"/>
                        </a:lnTo>
                        <a:lnTo>
                          <a:pt x="605" y="17"/>
                        </a:lnTo>
                        <a:lnTo>
                          <a:pt x="620" y="17"/>
                        </a:lnTo>
                        <a:lnTo>
                          <a:pt x="631" y="14"/>
                        </a:lnTo>
                        <a:lnTo>
                          <a:pt x="646" y="14"/>
                        </a:lnTo>
                        <a:lnTo>
                          <a:pt x="662" y="14"/>
                        </a:lnTo>
                        <a:lnTo>
                          <a:pt x="678" y="14"/>
                        </a:lnTo>
                        <a:lnTo>
                          <a:pt x="688" y="14"/>
                        </a:lnTo>
                        <a:lnTo>
                          <a:pt x="698" y="14"/>
                        </a:lnTo>
                        <a:lnTo>
                          <a:pt x="709" y="14"/>
                        </a:lnTo>
                        <a:lnTo>
                          <a:pt x="724" y="14"/>
                        </a:lnTo>
                        <a:lnTo>
                          <a:pt x="735" y="17"/>
                        </a:lnTo>
                        <a:lnTo>
                          <a:pt x="750" y="17"/>
                        </a:lnTo>
                        <a:lnTo>
                          <a:pt x="771" y="17"/>
                        </a:lnTo>
                        <a:lnTo>
                          <a:pt x="792" y="17"/>
                        </a:lnTo>
                        <a:lnTo>
                          <a:pt x="813" y="24"/>
                        </a:lnTo>
                        <a:lnTo>
                          <a:pt x="829" y="24"/>
                        </a:lnTo>
                        <a:lnTo>
                          <a:pt x="839" y="24"/>
                        </a:lnTo>
                        <a:lnTo>
                          <a:pt x="849" y="24"/>
                        </a:lnTo>
                        <a:lnTo>
                          <a:pt x="860" y="24"/>
                        </a:lnTo>
                        <a:lnTo>
                          <a:pt x="870" y="24"/>
                        </a:lnTo>
                        <a:lnTo>
                          <a:pt x="881" y="28"/>
                        </a:lnTo>
                        <a:lnTo>
                          <a:pt x="938" y="31"/>
                        </a:lnTo>
                        <a:lnTo>
                          <a:pt x="964" y="31"/>
                        </a:lnTo>
                        <a:lnTo>
                          <a:pt x="985" y="31"/>
                        </a:lnTo>
                        <a:lnTo>
                          <a:pt x="1006" y="31"/>
                        </a:lnTo>
                        <a:lnTo>
                          <a:pt x="1016" y="31"/>
                        </a:lnTo>
                        <a:lnTo>
                          <a:pt x="1027" y="31"/>
                        </a:lnTo>
                        <a:lnTo>
                          <a:pt x="1042" y="31"/>
                        </a:lnTo>
                        <a:lnTo>
                          <a:pt x="1053" y="31"/>
                        </a:lnTo>
                        <a:lnTo>
                          <a:pt x="1063" y="31"/>
                        </a:lnTo>
                        <a:lnTo>
                          <a:pt x="1074" y="28"/>
                        </a:lnTo>
                        <a:lnTo>
                          <a:pt x="1141" y="24"/>
                        </a:lnTo>
                        <a:lnTo>
                          <a:pt x="1152" y="24"/>
                        </a:lnTo>
                        <a:lnTo>
                          <a:pt x="1167" y="24"/>
                        </a:lnTo>
                        <a:lnTo>
                          <a:pt x="1178" y="24"/>
                        </a:lnTo>
                        <a:lnTo>
                          <a:pt x="1193" y="24"/>
                        </a:lnTo>
                        <a:lnTo>
                          <a:pt x="1272" y="17"/>
                        </a:lnTo>
                        <a:lnTo>
                          <a:pt x="1282" y="17"/>
                        </a:lnTo>
                        <a:lnTo>
                          <a:pt x="1292" y="17"/>
                        </a:lnTo>
                        <a:lnTo>
                          <a:pt x="1303" y="17"/>
                        </a:lnTo>
                        <a:lnTo>
                          <a:pt x="1319" y="17"/>
                        </a:lnTo>
                        <a:lnTo>
                          <a:pt x="1334" y="17"/>
                        </a:lnTo>
                        <a:lnTo>
                          <a:pt x="1397" y="17"/>
                        </a:lnTo>
                        <a:lnTo>
                          <a:pt x="1412" y="17"/>
                        </a:lnTo>
                        <a:lnTo>
                          <a:pt x="1428" y="21"/>
                        </a:lnTo>
                        <a:lnTo>
                          <a:pt x="1444" y="21"/>
                        </a:lnTo>
                        <a:lnTo>
                          <a:pt x="1470" y="21"/>
                        </a:lnTo>
                        <a:lnTo>
                          <a:pt x="1501" y="21"/>
                        </a:lnTo>
                        <a:lnTo>
                          <a:pt x="1522" y="28"/>
                        </a:lnTo>
                        <a:lnTo>
                          <a:pt x="1537" y="28"/>
                        </a:lnTo>
                        <a:lnTo>
                          <a:pt x="1569" y="28"/>
                        </a:lnTo>
                        <a:lnTo>
                          <a:pt x="1584" y="28"/>
                        </a:lnTo>
                        <a:lnTo>
                          <a:pt x="1595" y="28"/>
                        </a:lnTo>
                        <a:lnTo>
                          <a:pt x="1605" y="28"/>
                        </a:lnTo>
                        <a:lnTo>
                          <a:pt x="1616" y="28"/>
                        </a:lnTo>
                        <a:lnTo>
                          <a:pt x="1626" y="28"/>
                        </a:lnTo>
                        <a:lnTo>
                          <a:pt x="1642" y="28"/>
                        </a:lnTo>
                        <a:lnTo>
                          <a:pt x="1652" y="28"/>
                        </a:lnTo>
                        <a:lnTo>
                          <a:pt x="1668" y="28"/>
                        </a:lnTo>
                        <a:lnTo>
                          <a:pt x="1678" y="28"/>
                        </a:lnTo>
                        <a:lnTo>
                          <a:pt x="1746" y="17"/>
                        </a:lnTo>
                        <a:lnTo>
                          <a:pt x="1756" y="17"/>
                        </a:lnTo>
                        <a:lnTo>
                          <a:pt x="1767" y="14"/>
                        </a:lnTo>
                        <a:lnTo>
                          <a:pt x="1782" y="14"/>
                        </a:lnTo>
                        <a:lnTo>
                          <a:pt x="1793" y="14"/>
                        </a:lnTo>
                        <a:lnTo>
                          <a:pt x="1803" y="14"/>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4"/>
                        </a:lnTo>
                        <a:lnTo>
                          <a:pt x="2142" y="14"/>
                        </a:lnTo>
                        <a:lnTo>
                          <a:pt x="2152" y="17"/>
                        </a:lnTo>
                        <a:lnTo>
                          <a:pt x="2163" y="21"/>
                        </a:lnTo>
                        <a:lnTo>
                          <a:pt x="2173" y="21"/>
                        </a:lnTo>
                        <a:lnTo>
                          <a:pt x="2189" y="21"/>
                        </a:lnTo>
                        <a:lnTo>
                          <a:pt x="2205" y="21"/>
                        </a:lnTo>
                        <a:lnTo>
                          <a:pt x="2215" y="21"/>
                        </a:lnTo>
                        <a:lnTo>
                          <a:pt x="2231" y="21"/>
                        </a:lnTo>
                        <a:lnTo>
                          <a:pt x="2241" y="17"/>
                        </a:lnTo>
                        <a:lnTo>
                          <a:pt x="2251" y="17"/>
                        </a:lnTo>
                        <a:lnTo>
                          <a:pt x="2262" y="14"/>
                        </a:lnTo>
                        <a:lnTo>
                          <a:pt x="2283" y="14"/>
                        </a:lnTo>
                        <a:lnTo>
                          <a:pt x="2298" y="14"/>
                        </a:lnTo>
                        <a:lnTo>
                          <a:pt x="2309" y="14"/>
                        </a:lnTo>
                        <a:lnTo>
                          <a:pt x="2319" y="14"/>
                        </a:lnTo>
                        <a:lnTo>
                          <a:pt x="2330" y="14"/>
                        </a:lnTo>
                        <a:lnTo>
                          <a:pt x="2345" y="14"/>
                        </a:lnTo>
                        <a:lnTo>
                          <a:pt x="2356" y="14"/>
                        </a:lnTo>
                        <a:lnTo>
                          <a:pt x="2371" y="14"/>
                        </a:lnTo>
                        <a:lnTo>
                          <a:pt x="2382" y="17"/>
                        </a:lnTo>
                        <a:lnTo>
                          <a:pt x="2408" y="21"/>
                        </a:lnTo>
                        <a:lnTo>
                          <a:pt x="2423" y="21"/>
                        </a:lnTo>
                        <a:lnTo>
                          <a:pt x="2439" y="24"/>
                        </a:lnTo>
                        <a:lnTo>
                          <a:pt x="2502" y="31"/>
                        </a:lnTo>
                        <a:lnTo>
                          <a:pt x="2512" y="31"/>
                        </a:lnTo>
                        <a:lnTo>
                          <a:pt x="2522" y="31"/>
                        </a:lnTo>
                        <a:lnTo>
                          <a:pt x="2554" y="31"/>
                        </a:lnTo>
                        <a:lnTo>
                          <a:pt x="2564" y="31"/>
                        </a:lnTo>
                        <a:lnTo>
                          <a:pt x="2575" y="31"/>
                        </a:lnTo>
                        <a:lnTo>
                          <a:pt x="2585" y="31"/>
                        </a:lnTo>
                        <a:lnTo>
                          <a:pt x="2595" y="28"/>
                        </a:lnTo>
                        <a:lnTo>
                          <a:pt x="2606" y="28"/>
                        </a:lnTo>
                        <a:lnTo>
                          <a:pt x="2616" y="24"/>
                        </a:lnTo>
                        <a:lnTo>
                          <a:pt x="2627" y="24"/>
                        </a:lnTo>
                        <a:lnTo>
                          <a:pt x="2637" y="24"/>
                        </a:lnTo>
                        <a:lnTo>
                          <a:pt x="2648" y="24"/>
                        </a:lnTo>
                        <a:lnTo>
                          <a:pt x="2658" y="24"/>
                        </a:lnTo>
                        <a:lnTo>
                          <a:pt x="2668" y="21"/>
                        </a:lnTo>
                        <a:lnTo>
                          <a:pt x="2684" y="21"/>
                        </a:lnTo>
                        <a:lnTo>
                          <a:pt x="2694" y="21"/>
                        </a:lnTo>
                        <a:lnTo>
                          <a:pt x="2715" y="17"/>
                        </a:lnTo>
                        <a:lnTo>
                          <a:pt x="2726" y="14"/>
                        </a:lnTo>
                        <a:lnTo>
                          <a:pt x="2736" y="14"/>
                        </a:lnTo>
                        <a:lnTo>
                          <a:pt x="2747" y="14"/>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42" name=""/>
                  <p:cNvSpPr/>
                  <p:nvPr/>
                </p:nvSpPr>
                <p:spPr>
                  <a:xfrm>
                    <a:off x="1657800" y="364824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grpSp>
        </p:grpSp>
        <p:sp>
          <p:nvSpPr>
            <p:cNvPr id="143" name=""/>
            <p:cNvSpPr/>
            <p:nvPr/>
          </p:nvSpPr>
          <p:spPr>
            <a:xfrm>
              <a:off x="1657800" y="3813120"/>
              <a:ext cx="5504400" cy="5688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44" name=""/>
            <p:cNvSpPr/>
            <p:nvPr/>
          </p:nvSpPr>
          <p:spPr>
            <a:xfrm>
              <a:off x="1657800" y="395748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5" name=""/>
            <p:cNvSpPr/>
            <p:nvPr/>
          </p:nvSpPr>
          <p:spPr>
            <a:xfrm>
              <a:off x="1657800" y="410832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6" name=""/>
            <p:cNvSpPr/>
            <p:nvPr/>
          </p:nvSpPr>
          <p:spPr>
            <a:xfrm>
              <a:off x="1657800" y="4254120"/>
              <a:ext cx="5504400" cy="5904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47" name=""/>
            <p:cNvSpPr/>
            <p:nvPr/>
          </p:nvSpPr>
          <p:spPr>
            <a:xfrm>
              <a:off x="1657800" y="4385880"/>
              <a:ext cx="5504400" cy="5904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48" name=""/>
            <p:cNvSpPr/>
            <p:nvPr/>
          </p:nvSpPr>
          <p:spPr>
            <a:xfrm>
              <a:off x="1657800" y="452736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9" name=""/>
            <p:cNvSpPr/>
            <p:nvPr/>
          </p:nvSpPr>
          <p:spPr>
            <a:xfrm>
              <a:off x="1657800" y="4681440"/>
              <a:ext cx="5504400" cy="5688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0" name=""/>
            <p:cNvSpPr/>
            <p:nvPr/>
          </p:nvSpPr>
          <p:spPr>
            <a:xfrm>
              <a:off x="1657800" y="4822560"/>
              <a:ext cx="5374800" cy="60480"/>
            </a:xfrm>
            <a:custGeom>
              <a:avLst/>
              <a:gdLst/>
              <a:ahLst/>
              <a:rect l="l" t="t" r="r" b="b"/>
              <a:pathLst>
                <a:path w="2886" h="31">
                  <a:moveTo>
                    <a:pt x="0" y="20"/>
                  </a:moveTo>
                  <a:lnTo>
                    <a:pt x="31" y="27"/>
                  </a:lnTo>
                  <a:lnTo>
                    <a:pt x="41" y="30"/>
                  </a:lnTo>
                  <a:lnTo>
                    <a:pt x="51" y="30"/>
                  </a:lnTo>
                  <a:lnTo>
                    <a:pt x="61" y="27"/>
                  </a:lnTo>
                  <a:lnTo>
                    <a:pt x="71" y="27"/>
                  </a:lnTo>
                  <a:lnTo>
                    <a:pt x="102" y="23"/>
                  </a:lnTo>
                  <a:lnTo>
                    <a:pt x="112" y="23"/>
                  </a:lnTo>
                  <a:lnTo>
                    <a:pt x="122" y="23"/>
                  </a:lnTo>
                  <a:lnTo>
                    <a:pt x="132" y="20"/>
                  </a:lnTo>
                  <a:lnTo>
                    <a:pt x="142" y="20"/>
                  </a:lnTo>
                  <a:lnTo>
                    <a:pt x="153" y="20"/>
                  </a:lnTo>
                  <a:lnTo>
                    <a:pt x="163" y="20"/>
                  </a:lnTo>
                  <a:lnTo>
                    <a:pt x="173" y="20"/>
                  </a:lnTo>
                  <a:lnTo>
                    <a:pt x="183" y="20"/>
                  </a:lnTo>
                  <a:lnTo>
                    <a:pt x="193" y="20"/>
                  </a:lnTo>
                  <a:lnTo>
                    <a:pt x="204" y="20"/>
                  </a:lnTo>
                  <a:lnTo>
                    <a:pt x="214" y="20"/>
                  </a:lnTo>
                  <a:lnTo>
                    <a:pt x="224" y="20"/>
                  </a:lnTo>
                  <a:lnTo>
                    <a:pt x="234" y="20"/>
                  </a:lnTo>
                  <a:lnTo>
                    <a:pt x="244" y="20"/>
                  </a:lnTo>
                  <a:lnTo>
                    <a:pt x="254" y="20"/>
                  </a:lnTo>
                  <a:lnTo>
                    <a:pt x="290" y="20"/>
                  </a:lnTo>
                  <a:lnTo>
                    <a:pt x="300" y="20"/>
                  </a:lnTo>
                  <a:lnTo>
                    <a:pt x="315" y="20"/>
                  </a:lnTo>
                  <a:lnTo>
                    <a:pt x="371" y="27"/>
                  </a:lnTo>
                  <a:lnTo>
                    <a:pt x="382" y="27"/>
                  </a:lnTo>
                  <a:lnTo>
                    <a:pt x="392" y="27"/>
                  </a:lnTo>
                  <a:lnTo>
                    <a:pt x="402" y="27"/>
                  </a:lnTo>
                  <a:lnTo>
                    <a:pt x="417" y="27"/>
                  </a:lnTo>
                  <a:lnTo>
                    <a:pt x="427" y="27"/>
                  </a:lnTo>
                  <a:lnTo>
                    <a:pt x="438" y="27"/>
                  </a:lnTo>
                  <a:lnTo>
                    <a:pt x="448" y="27"/>
                  </a:lnTo>
                  <a:lnTo>
                    <a:pt x="458" y="23"/>
                  </a:lnTo>
                  <a:lnTo>
                    <a:pt x="468" y="23"/>
                  </a:lnTo>
                  <a:lnTo>
                    <a:pt x="499" y="23"/>
                  </a:lnTo>
                  <a:lnTo>
                    <a:pt x="509" y="23"/>
                  </a:lnTo>
                  <a:lnTo>
                    <a:pt x="519" y="23"/>
                  </a:lnTo>
                  <a:lnTo>
                    <a:pt x="529" y="23"/>
                  </a:lnTo>
                  <a:lnTo>
                    <a:pt x="544" y="23"/>
                  </a:lnTo>
                  <a:lnTo>
                    <a:pt x="555" y="20"/>
                  </a:lnTo>
                  <a:lnTo>
                    <a:pt x="590" y="17"/>
                  </a:lnTo>
                  <a:lnTo>
                    <a:pt x="605" y="17"/>
                  </a:lnTo>
                  <a:lnTo>
                    <a:pt x="616" y="13"/>
                  </a:lnTo>
                  <a:lnTo>
                    <a:pt x="631" y="13"/>
                  </a:lnTo>
                  <a:lnTo>
                    <a:pt x="646" y="13"/>
                  </a:lnTo>
                  <a:lnTo>
                    <a:pt x="661" y="13"/>
                  </a:lnTo>
                  <a:lnTo>
                    <a:pt x="672" y="13"/>
                  </a:lnTo>
                  <a:lnTo>
                    <a:pt x="682" y="13"/>
                  </a:lnTo>
                  <a:lnTo>
                    <a:pt x="692" y="13"/>
                  </a:lnTo>
                  <a:lnTo>
                    <a:pt x="707" y="13"/>
                  </a:lnTo>
                  <a:lnTo>
                    <a:pt x="717" y="17"/>
                  </a:lnTo>
                  <a:lnTo>
                    <a:pt x="733" y="17"/>
                  </a:lnTo>
                  <a:lnTo>
                    <a:pt x="753" y="17"/>
                  </a:lnTo>
                  <a:lnTo>
                    <a:pt x="773" y="17"/>
                  </a:lnTo>
                  <a:lnTo>
                    <a:pt x="794" y="23"/>
                  </a:lnTo>
                  <a:lnTo>
                    <a:pt x="809" y="23"/>
                  </a:lnTo>
                  <a:lnTo>
                    <a:pt x="819" y="23"/>
                  </a:lnTo>
                  <a:lnTo>
                    <a:pt x="829" y="23"/>
                  </a:lnTo>
                  <a:lnTo>
                    <a:pt x="840" y="23"/>
                  </a:lnTo>
                  <a:lnTo>
                    <a:pt x="850" y="23"/>
                  </a:lnTo>
                  <a:lnTo>
                    <a:pt x="860" y="27"/>
                  </a:lnTo>
                  <a:lnTo>
                    <a:pt x="916" y="30"/>
                  </a:lnTo>
                  <a:lnTo>
                    <a:pt x="941" y="30"/>
                  </a:lnTo>
                  <a:lnTo>
                    <a:pt x="962" y="30"/>
                  </a:lnTo>
                  <a:lnTo>
                    <a:pt x="982" y="30"/>
                  </a:lnTo>
                  <a:lnTo>
                    <a:pt x="992" y="30"/>
                  </a:lnTo>
                  <a:lnTo>
                    <a:pt x="1002" y="30"/>
                  </a:lnTo>
                  <a:lnTo>
                    <a:pt x="1018" y="30"/>
                  </a:lnTo>
                  <a:lnTo>
                    <a:pt x="1028" y="30"/>
                  </a:lnTo>
                  <a:lnTo>
                    <a:pt x="1038" y="30"/>
                  </a:lnTo>
                  <a:lnTo>
                    <a:pt x="1048" y="27"/>
                  </a:lnTo>
                  <a:lnTo>
                    <a:pt x="1114" y="23"/>
                  </a:lnTo>
                  <a:lnTo>
                    <a:pt x="1124" y="23"/>
                  </a:lnTo>
                  <a:lnTo>
                    <a:pt x="1140" y="23"/>
                  </a:lnTo>
                  <a:lnTo>
                    <a:pt x="1150" y="23"/>
                  </a:lnTo>
                  <a:lnTo>
                    <a:pt x="1165" y="23"/>
                  </a:lnTo>
                  <a:lnTo>
                    <a:pt x="1242" y="17"/>
                  </a:lnTo>
                  <a:lnTo>
                    <a:pt x="1252" y="17"/>
                  </a:lnTo>
                  <a:lnTo>
                    <a:pt x="1262" y="17"/>
                  </a:lnTo>
                  <a:lnTo>
                    <a:pt x="1272" y="17"/>
                  </a:lnTo>
                  <a:lnTo>
                    <a:pt x="1287" y="17"/>
                  </a:lnTo>
                  <a:lnTo>
                    <a:pt x="1303" y="17"/>
                  </a:lnTo>
                  <a:lnTo>
                    <a:pt x="1364" y="17"/>
                  </a:lnTo>
                  <a:lnTo>
                    <a:pt x="1379" y="17"/>
                  </a:lnTo>
                  <a:lnTo>
                    <a:pt x="1394" y="20"/>
                  </a:lnTo>
                  <a:lnTo>
                    <a:pt x="1409" y="20"/>
                  </a:lnTo>
                  <a:lnTo>
                    <a:pt x="1435" y="20"/>
                  </a:lnTo>
                  <a:lnTo>
                    <a:pt x="1465" y="20"/>
                  </a:lnTo>
                  <a:lnTo>
                    <a:pt x="1486" y="27"/>
                  </a:lnTo>
                  <a:lnTo>
                    <a:pt x="1501" y="27"/>
                  </a:lnTo>
                  <a:lnTo>
                    <a:pt x="1532" y="27"/>
                  </a:lnTo>
                  <a:lnTo>
                    <a:pt x="1547" y="27"/>
                  </a:lnTo>
                  <a:lnTo>
                    <a:pt x="1557" y="27"/>
                  </a:lnTo>
                  <a:lnTo>
                    <a:pt x="1567" y="27"/>
                  </a:lnTo>
                  <a:lnTo>
                    <a:pt x="1577" y="27"/>
                  </a:lnTo>
                  <a:lnTo>
                    <a:pt x="1588" y="27"/>
                  </a:lnTo>
                  <a:lnTo>
                    <a:pt x="1603" y="27"/>
                  </a:lnTo>
                  <a:lnTo>
                    <a:pt x="1613" y="27"/>
                  </a:lnTo>
                  <a:lnTo>
                    <a:pt x="1628" y="27"/>
                  </a:lnTo>
                  <a:lnTo>
                    <a:pt x="1638" y="27"/>
                  </a:lnTo>
                  <a:lnTo>
                    <a:pt x="1705" y="17"/>
                  </a:lnTo>
                  <a:lnTo>
                    <a:pt x="1715" y="17"/>
                  </a:lnTo>
                  <a:lnTo>
                    <a:pt x="1725" y="13"/>
                  </a:lnTo>
                  <a:lnTo>
                    <a:pt x="1740" y="13"/>
                  </a:lnTo>
                  <a:lnTo>
                    <a:pt x="1750" y="13"/>
                  </a:lnTo>
                  <a:lnTo>
                    <a:pt x="1761" y="13"/>
                  </a:lnTo>
                  <a:lnTo>
                    <a:pt x="1776" y="10"/>
                  </a:lnTo>
                  <a:lnTo>
                    <a:pt x="1806" y="7"/>
                  </a:lnTo>
                  <a:lnTo>
                    <a:pt x="1822" y="7"/>
                  </a:lnTo>
                  <a:lnTo>
                    <a:pt x="1832" y="7"/>
                  </a:lnTo>
                  <a:lnTo>
                    <a:pt x="1842" y="7"/>
                  </a:lnTo>
                  <a:lnTo>
                    <a:pt x="1852" y="7"/>
                  </a:lnTo>
                  <a:lnTo>
                    <a:pt x="1862" y="7"/>
                  </a:lnTo>
                  <a:lnTo>
                    <a:pt x="1872" y="7"/>
                  </a:lnTo>
                  <a:lnTo>
                    <a:pt x="1883" y="7"/>
                  </a:lnTo>
                  <a:lnTo>
                    <a:pt x="1898" y="7"/>
                  </a:lnTo>
                  <a:lnTo>
                    <a:pt x="1913" y="7"/>
                  </a:lnTo>
                  <a:lnTo>
                    <a:pt x="1923" y="7"/>
                  </a:lnTo>
                  <a:lnTo>
                    <a:pt x="1974" y="10"/>
                  </a:lnTo>
                  <a:lnTo>
                    <a:pt x="1984" y="10"/>
                  </a:lnTo>
                  <a:lnTo>
                    <a:pt x="2000" y="10"/>
                  </a:lnTo>
                  <a:lnTo>
                    <a:pt x="2010" y="10"/>
                  </a:lnTo>
                  <a:lnTo>
                    <a:pt x="2025" y="10"/>
                  </a:lnTo>
                  <a:lnTo>
                    <a:pt x="2045" y="10"/>
                  </a:lnTo>
                  <a:lnTo>
                    <a:pt x="2061" y="10"/>
                  </a:lnTo>
                  <a:lnTo>
                    <a:pt x="2071" y="13"/>
                  </a:lnTo>
                  <a:lnTo>
                    <a:pt x="2091" y="13"/>
                  </a:lnTo>
                  <a:lnTo>
                    <a:pt x="2101" y="17"/>
                  </a:lnTo>
                  <a:lnTo>
                    <a:pt x="2112" y="20"/>
                  </a:lnTo>
                  <a:lnTo>
                    <a:pt x="2122" y="20"/>
                  </a:lnTo>
                  <a:lnTo>
                    <a:pt x="2137" y="20"/>
                  </a:lnTo>
                  <a:lnTo>
                    <a:pt x="2152" y="20"/>
                  </a:lnTo>
                  <a:lnTo>
                    <a:pt x="2162" y="20"/>
                  </a:lnTo>
                  <a:lnTo>
                    <a:pt x="2178" y="20"/>
                  </a:lnTo>
                  <a:lnTo>
                    <a:pt x="2188" y="17"/>
                  </a:lnTo>
                  <a:lnTo>
                    <a:pt x="2198" y="17"/>
                  </a:lnTo>
                  <a:lnTo>
                    <a:pt x="2208" y="13"/>
                  </a:lnTo>
                  <a:lnTo>
                    <a:pt x="2229" y="13"/>
                  </a:lnTo>
                  <a:lnTo>
                    <a:pt x="2244" y="13"/>
                  </a:lnTo>
                  <a:lnTo>
                    <a:pt x="2254" y="13"/>
                  </a:lnTo>
                  <a:lnTo>
                    <a:pt x="2264" y="13"/>
                  </a:lnTo>
                  <a:lnTo>
                    <a:pt x="2274" y="13"/>
                  </a:lnTo>
                  <a:lnTo>
                    <a:pt x="2290" y="13"/>
                  </a:lnTo>
                  <a:lnTo>
                    <a:pt x="2300" y="13"/>
                  </a:lnTo>
                  <a:lnTo>
                    <a:pt x="2315" y="13"/>
                  </a:lnTo>
                  <a:lnTo>
                    <a:pt x="2325" y="17"/>
                  </a:lnTo>
                  <a:lnTo>
                    <a:pt x="2351" y="20"/>
                  </a:lnTo>
                  <a:lnTo>
                    <a:pt x="2366" y="20"/>
                  </a:lnTo>
                  <a:lnTo>
                    <a:pt x="2381" y="23"/>
                  </a:lnTo>
                  <a:lnTo>
                    <a:pt x="2442" y="30"/>
                  </a:lnTo>
                  <a:lnTo>
                    <a:pt x="2453" y="30"/>
                  </a:lnTo>
                  <a:lnTo>
                    <a:pt x="2463" y="30"/>
                  </a:lnTo>
                  <a:lnTo>
                    <a:pt x="2493" y="30"/>
                  </a:lnTo>
                  <a:lnTo>
                    <a:pt x="2503" y="30"/>
                  </a:lnTo>
                  <a:lnTo>
                    <a:pt x="2514" y="30"/>
                  </a:lnTo>
                  <a:lnTo>
                    <a:pt x="2524" y="30"/>
                  </a:lnTo>
                  <a:lnTo>
                    <a:pt x="2534" y="27"/>
                  </a:lnTo>
                  <a:lnTo>
                    <a:pt x="2544" y="27"/>
                  </a:lnTo>
                  <a:lnTo>
                    <a:pt x="2554" y="23"/>
                  </a:lnTo>
                  <a:lnTo>
                    <a:pt x="2564" y="23"/>
                  </a:lnTo>
                  <a:lnTo>
                    <a:pt x="2575" y="23"/>
                  </a:lnTo>
                  <a:lnTo>
                    <a:pt x="2585" y="23"/>
                  </a:lnTo>
                  <a:lnTo>
                    <a:pt x="2595" y="23"/>
                  </a:lnTo>
                  <a:lnTo>
                    <a:pt x="2605" y="20"/>
                  </a:lnTo>
                  <a:lnTo>
                    <a:pt x="2620" y="20"/>
                  </a:lnTo>
                  <a:lnTo>
                    <a:pt x="2631" y="20"/>
                  </a:lnTo>
                  <a:lnTo>
                    <a:pt x="2651" y="17"/>
                  </a:lnTo>
                  <a:lnTo>
                    <a:pt x="2661" y="13"/>
                  </a:lnTo>
                  <a:lnTo>
                    <a:pt x="2671" y="13"/>
                  </a:lnTo>
                  <a:lnTo>
                    <a:pt x="2681" y="13"/>
                  </a:lnTo>
                  <a:lnTo>
                    <a:pt x="2722" y="10"/>
                  </a:lnTo>
                  <a:lnTo>
                    <a:pt x="2732" y="7"/>
                  </a:lnTo>
                  <a:lnTo>
                    <a:pt x="2743" y="7"/>
                  </a:lnTo>
                  <a:lnTo>
                    <a:pt x="2753" y="7"/>
                  </a:lnTo>
                  <a:lnTo>
                    <a:pt x="2763" y="7"/>
                  </a:lnTo>
                  <a:lnTo>
                    <a:pt x="2773" y="7"/>
                  </a:lnTo>
                  <a:lnTo>
                    <a:pt x="2804" y="7"/>
                  </a:lnTo>
                  <a:lnTo>
                    <a:pt x="2814" y="3"/>
                  </a:lnTo>
                  <a:lnTo>
                    <a:pt x="2824" y="3"/>
                  </a:lnTo>
                  <a:lnTo>
                    <a:pt x="2844" y="0"/>
                  </a:lnTo>
                  <a:lnTo>
                    <a:pt x="2854" y="0"/>
                  </a:lnTo>
                  <a:lnTo>
                    <a:pt x="2865" y="0"/>
                  </a:lnTo>
                  <a:lnTo>
                    <a:pt x="2875" y="3"/>
                  </a:lnTo>
                  <a:lnTo>
                    <a:pt x="288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1" name=""/>
            <p:cNvSpPr/>
            <p:nvPr/>
          </p:nvSpPr>
          <p:spPr>
            <a:xfrm>
              <a:off x="1657800" y="5589360"/>
              <a:ext cx="774360" cy="27000"/>
            </a:xfrm>
            <a:custGeom>
              <a:avLst/>
              <a:gdLst/>
              <a:ahLst/>
              <a:rect l="l" t="t" r="r" b="b"/>
              <a:pathLst>
                <a:path w="416" h="14">
                  <a:moveTo>
                    <a:pt x="0" y="13"/>
                  </a:moveTo>
                  <a:lnTo>
                    <a:pt x="0" y="0"/>
                  </a:lnTo>
                  <a:lnTo>
                    <a:pt x="31" y="0"/>
                  </a:lnTo>
                  <a:lnTo>
                    <a:pt x="52" y="0"/>
                  </a:lnTo>
                  <a:lnTo>
                    <a:pt x="73" y="0"/>
                  </a:lnTo>
                  <a:lnTo>
                    <a:pt x="93" y="0"/>
                  </a:lnTo>
                  <a:lnTo>
                    <a:pt x="114" y="7"/>
                  </a:lnTo>
                  <a:lnTo>
                    <a:pt x="135" y="13"/>
                  </a:lnTo>
                  <a:lnTo>
                    <a:pt x="156" y="13"/>
                  </a:lnTo>
                  <a:lnTo>
                    <a:pt x="176" y="13"/>
                  </a:lnTo>
                  <a:lnTo>
                    <a:pt x="249" y="13"/>
                  </a:lnTo>
                  <a:lnTo>
                    <a:pt x="270" y="13"/>
                  </a:lnTo>
                  <a:lnTo>
                    <a:pt x="291" y="13"/>
                  </a:lnTo>
                  <a:lnTo>
                    <a:pt x="311" y="13"/>
                  </a:lnTo>
                  <a:lnTo>
                    <a:pt x="332" y="13"/>
                  </a:lnTo>
                  <a:lnTo>
                    <a:pt x="353" y="7"/>
                  </a:lnTo>
                  <a:lnTo>
                    <a:pt x="374" y="7"/>
                  </a:lnTo>
                  <a:lnTo>
                    <a:pt x="394" y="7"/>
                  </a:lnTo>
                  <a:lnTo>
                    <a:pt x="415" y="1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2" name=""/>
            <p:cNvSpPr/>
            <p:nvPr/>
          </p:nvSpPr>
          <p:spPr>
            <a:xfrm>
              <a:off x="1657800" y="5716440"/>
              <a:ext cx="385200" cy="39600"/>
            </a:xfrm>
            <a:custGeom>
              <a:avLst/>
              <a:gdLst/>
              <a:ahLst/>
              <a:rect l="l" t="t" r="r" b="b"/>
              <a:pathLst>
                <a:path w="207" h="21">
                  <a:moveTo>
                    <a:pt x="0" y="20"/>
                  </a:moveTo>
                  <a:lnTo>
                    <a:pt x="21" y="0"/>
                  </a:lnTo>
                  <a:lnTo>
                    <a:pt x="62" y="0"/>
                  </a:lnTo>
                  <a:lnTo>
                    <a:pt x="82" y="0"/>
                  </a:lnTo>
                  <a:lnTo>
                    <a:pt x="103" y="0"/>
                  </a:lnTo>
                  <a:lnTo>
                    <a:pt x="124" y="0"/>
                  </a:lnTo>
                  <a:lnTo>
                    <a:pt x="144" y="0"/>
                  </a:lnTo>
                  <a:lnTo>
                    <a:pt x="165" y="0"/>
                  </a:lnTo>
                  <a:lnTo>
                    <a:pt x="185" y="0"/>
                  </a:lnTo>
                  <a:lnTo>
                    <a:pt x="206"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3" name=""/>
            <p:cNvSpPr/>
            <p:nvPr/>
          </p:nvSpPr>
          <p:spPr>
            <a:xfrm>
              <a:off x="1688760" y="5813280"/>
              <a:ext cx="172080" cy="28440"/>
            </a:xfrm>
            <a:custGeom>
              <a:avLst/>
              <a:gdLst/>
              <a:ahLst/>
              <a:rect l="l" t="t" r="r" b="b"/>
              <a:pathLst>
                <a:path w="92" h="15">
                  <a:moveTo>
                    <a:pt x="0" y="14"/>
                  </a:moveTo>
                  <a:lnTo>
                    <a:pt x="14" y="0"/>
                  </a:lnTo>
                  <a:lnTo>
                    <a:pt x="23" y="0"/>
                  </a:lnTo>
                  <a:lnTo>
                    <a:pt x="32" y="0"/>
                  </a:lnTo>
                  <a:lnTo>
                    <a:pt x="41" y="3"/>
                  </a:lnTo>
                  <a:lnTo>
                    <a:pt x="50" y="3"/>
                  </a:lnTo>
                  <a:lnTo>
                    <a:pt x="55" y="8"/>
                  </a:lnTo>
                  <a:lnTo>
                    <a:pt x="64" y="11"/>
                  </a:lnTo>
                  <a:lnTo>
                    <a:pt x="73" y="11"/>
                  </a:lnTo>
                  <a:lnTo>
                    <a:pt x="82" y="11"/>
                  </a:lnTo>
                  <a:lnTo>
                    <a:pt x="91" y="11"/>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4" name=""/>
            <p:cNvSpPr/>
            <p:nvPr/>
          </p:nvSpPr>
          <p:spPr>
            <a:xfrm>
              <a:off x="2817720" y="5614920"/>
              <a:ext cx="428760" cy="39600"/>
            </a:xfrm>
            <a:custGeom>
              <a:avLst/>
              <a:gdLst/>
              <a:ahLst/>
              <a:rect l="l" t="t" r="r" b="b"/>
              <a:pathLst>
                <a:path w="230" h="20">
                  <a:moveTo>
                    <a:pt x="0" y="0"/>
                  </a:moveTo>
                  <a:lnTo>
                    <a:pt x="21" y="0"/>
                  </a:lnTo>
                  <a:lnTo>
                    <a:pt x="42" y="0"/>
                  </a:lnTo>
                  <a:lnTo>
                    <a:pt x="104" y="0"/>
                  </a:lnTo>
                  <a:lnTo>
                    <a:pt x="125" y="0"/>
                  </a:lnTo>
                  <a:lnTo>
                    <a:pt x="146" y="0"/>
                  </a:lnTo>
                  <a:lnTo>
                    <a:pt x="167" y="13"/>
                  </a:lnTo>
                  <a:lnTo>
                    <a:pt x="187" y="19"/>
                  </a:lnTo>
                  <a:lnTo>
                    <a:pt x="208" y="19"/>
                  </a:lnTo>
                  <a:lnTo>
                    <a:pt x="229" y="19"/>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5" name=""/>
            <p:cNvSpPr/>
            <p:nvPr/>
          </p:nvSpPr>
          <p:spPr>
            <a:xfrm>
              <a:off x="3493800" y="5651280"/>
              <a:ext cx="166320" cy="41400"/>
            </a:xfrm>
            <a:custGeom>
              <a:avLst/>
              <a:gdLst/>
              <a:ahLst/>
              <a:rect l="l" t="t" r="r" b="b"/>
              <a:pathLst>
                <a:path w="89" h="21">
                  <a:moveTo>
                    <a:pt x="11" y="20"/>
                  </a:moveTo>
                  <a:lnTo>
                    <a:pt x="0" y="0"/>
                  </a:lnTo>
                  <a:lnTo>
                    <a:pt x="33" y="0"/>
                  </a:lnTo>
                  <a:lnTo>
                    <a:pt x="55" y="0"/>
                  </a:lnTo>
                  <a:lnTo>
                    <a:pt x="77" y="0"/>
                  </a:lnTo>
                  <a:lnTo>
                    <a:pt x="88" y="1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6" name=""/>
            <p:cNvSpPr/>
            <p:nvPr/>
          </p:nvSpPr>
          <p:spPr>
            <a:xfrm>
              <a:off x="3546000" y="5462280"/>
              <a:ext cx="372240" cy="42840"/>
            </a:xfrm>
            <a:custGeom>
              <a:avLst/>
              <a:gdLst/>
              <a:ahLst/>
              <a:rect l="l" t="t" r="r" b="b"/>
              <a:pathLst>
                <a:path w="200" h="22">
                  <a:moveTo>
                    <a:pt x="199" y="21"/>
                  </a:moveTo>
                  <a:lnTo>
                    <a:pt x="178" y="0"/>
                  </a:lnTo>
                  <a:lnTo>
                    <a:pt x="147" y="0"/>
                  </a:lnTo>
                  <a:lnTo>
                    <a:pt x="126" y="7"/>
                  </a:lnTo>
                  <a:lnTo>
                    <a:pt x="105" y="7"/>
                  </a:lnTo>
                  <a:lnTo>
                    <a:pt x="84" y="14"/>
                  </a:lnTo>
                  <a:lnTo>
                    <a:pt x="63" y="14"/>
                  </a:lnTo>
                  <a:lnTo>
                    <a:pt x="42" y="14"/>
                  </a:lnTo>
                  <a:lnTo>
                    <a:pt x="21" y="14"/>
                  </a:lnTo>
                  <a:lnTo>
                    <a:pt x="0" y="14"/>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7" name=""/>
            <p:cNvSpPr/>
            <p:nvPr/>
          </p:nvSpPr>
          <p:spPr>
            <a:xfrm>
              <a:off x="4162320" y="5489280"/>
              <a:ext cx="371160" cy="42840"/>
            </a:xfrm>
            <a:custGeom>
              <a:avLst/>
              <a:gdLst/>
              <a:ahLst/>
              <a:rect l="l" t="t" r="r" b="b"/>
              <a:pathLst>
                <a:path w="199" h="22">
                  <a:moveTo>
                    <a:pt x="0" y="21"/>
                  </a:moveTo>
                  <a:lnTo>
                    <a:pt x="21" y="0"/>
                  </a:lnTo>
                  <a:lnTo>
                    <a:pt x="52" y="0"/>
                  </a:lnTo>
                  <a:lnTo>
                    <a:pt x="73" y="7"/>
                  </a:lnTo>
                  <a:lnTo>
                    <a:pt x="94" y="7"/>
                  </a:lnTo>
                  <a:lnTo>
                    <a:pt x="115" y="14"/>
                  </a:lnTo>
                  <a:lnTo>
                    <a:pt x="135" y="14"/>
                  </a:lnTo>
                  <a:lnTo>
                    <a:pt x="156" y="14"/>
                  </a:lnTo>
                  <a:lnTo>
                    <a:pt x="177" y="14"/>
                  </a:lnTo>
                  <a:lnTo>
                    <a:pt x="198" y="14"/>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8" name=""/>
            <p:cNvSpPr/>
            <p:nvPr/>
          </p:nvSpPr>
          <p:spPr>
            <a:xfrm>
              <a:off x="4626720" y="5495760"/>
              <a:ext cx="497880" cy="36360"/>
            </a:xfrm>
            <a:custGeom>
              <a:avLst/>
              <a:gdLst/>
              <a:ahLst/>
              <a:rect l="l" t="t" r="r" b="b"/>
              <a:pathLst>
                <a:path w="268" h="19">
                  <a:moveTo>
                    <a:pt x="267" y="18"/>
                  </a:moveTo>
                  <a:lnTo>
                    <a:pt x="239" y="0"/>
                  </a:lnTo>
                  <a:lnTo>
                    <a:pt x="197" y="0"/>
                  </a:lnTo>
                  <a:lnTo>
                    <a:pt x="169" y="6"/>
                  </a:lnTo>
                  <a:lnTo>
                    <a:pt x="141" y="6"/>
                  </a:lnTo>
                  <a:lnTo>
                    <a:pt x="112" y="12"/>
                  </a:lnTo>
                  <a:lnTo>
                    <a:pt x="84" y="12"/>
                  </a:lnTo>
                  <a:lnTo>
                    <a:pt x="56" y="12"/>
                  </a:lnTo>
                  <a:lnTo>
                    <a:pt x="28" y="12"/>
                  </a:lnTo>
                  <a:lnTo>
                    <a:pt x="0" y="12"/>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 name=""/>
            <p:cNvSpPr/>
            <p:nvPr/>
          </p:nvSpPr>
          <p:spPr>
            <a:xfrm>
              <a:off x="1657800" y="5314680"/>
              <a:ext cx="3940920" cy="65160"/>
            </a:xfrm>
            <a:custGeom>
              <a:avLst/>
              <a:gdLst/>
              <a:ahLst/>
              <a:rect l="l" t="t" r="r" b="b"/>
              <a:pathLst>
                <a:path w="2116" h="34">
                  <a:moveTo>
                    <a:pt x="0" y="0"/>
                  </a:moveTo>
                  <a:lnTo>
                    <a:pt x="0" y="17"/>
                  </a:lnTo>
                  <a:lnTo>
                    <a:pt x="10" y="20"/>
                  </a:lnTo>
                  <a:lnTo>
                    <a:pt x="26" y="20"/>
                  </a:lnTo>
                  <a:lnTo>
                    <a:pt x="37" y="23"/>
                  </a:lnTo>
                  <a:lnTo>
                    <a:pt x="47" y="23"/>
                  </a:lnTo>
                  <a:lnTo>
                    <a:pt x="63" y="23"/>
                  </a:lnTo>
                  <a:lnTo>
                    <a:pt x="89" y="23"/>
                  </a:lnTo>
                  <a:lnTo>
                    <a:pt x="99" y="23"/>
                  </a:lnTo>
                  <a:lnTo>
                    <a:pt x="110" y="23"/>
                  </a:lnTo>
                  <a:lnTo>
                    <a:pt x="125" y="23"/>
                  </a:lnTo>
                  <a:lnTo>
                    <a:pt x="136" y="20"/>
                  </a:lnTo>
                  <a:lnTo>
                    <a:pt x="151" y="20"/>
                  </a:lnTo>
                  <a:lnTo>
                    <a:pt x="162" y="17"/>
                  </a:lnTo>
                  <a:lnTo>
                    <a:pt x="172" y="13"/>
                  </a:lnTo>
                  <a:lnTo>
                    <a:pt x="183" y="13"/>
                  </a:lnTo>
                  <a:lnTo>
                    <a:pt x="193" y="10"/>
                  </a:lnTo>
                  <a:lnTo>
                    <a:pt x="204" y="10"/>
                  </a:lnTo>
                  <a:lnTo>
                    <a:pt x="214" y="10"/>
                  </a:lnTo>
                  <a:lnTo>
                    <a:pt x="251" y="10"/>
                  </a:lnTo>
                  <a:lnTo>
                    <a:pt x="261" y="10"/>
                  </a:lnTo>
                  <a:lnTo>
                    <a:pt x="277" y="10"/>
                  </a:lnTo>
                  <a:lnTo>
                    <a:pt x="287" y="10"/>
                  </a:lnTo>
                  <a:lnTo>
                    <a:pt x="339" y="10"/>
                  </a:lnTo>
                  <a:lnTo>
                    <a:pt x="350" y="10"/>
                  </a:lnTo>
                  <a:lnTo>
                    <a:pt x="360" y="10"/>
                  </a:lnTo>
                  <a:lnTo>
                    <a:pt x="371" y="10"/>
                  </a:lnTo>
                  <a:lnTo>
                    <a:pt x="386" y="10"/>
                  </a:lnTo>
                  <a:lnTo>
                    <a:pt x="397" y="10"/>
                  </a:lnTo>
                  <a:lnTo>
                    <a:pt x="407" y="10"/>
                  </a:lnTo>
                  <a:lnTo>
                    <a:pt x="423" y="10"/>
                  </a:lnTo>
                  <a:lnTo>
                    <a:pt x="433" y="10"/>
                  </a:lnTo>
                  <a:lnTo>
                    <a:pt x="444" y="10"/>
                  </a:lnTo>
                  <a:lnTo>
                    <a:pt x="460" y="13"/>
                  </a:lnTo>
                  <a:lnTo>
                    <a:pt x="470" y="13"/>
                  </a:lnTo>
                  <a:lnTo>
                    <a:pt x="486" y="17"/>
                  </a:lnTo>
                  <a:lnTo>
                    <a:pt x="569" y="20"/>
                  </a:lnTo>
                  <a:lnTo>
                    <a:pt x="580" y="23"/>
                  </a:lnTo>
                  <a:lnTo>
                    <a:pt x="590" y="23"/>
                  </a:lnTo>
                  <a:lnTo>
                    <a:pt x="601" y="23"/>
                  </a:lnTo>
                  <a:lnTo>
                    <a:pt x="621" y="23"/>
                  </a:lnTo>
                  <a:lnTo>
                    <a:pt x="642" y="26"/>
                  </a:lnTo>
                  <a:lnTo>
                    <a:pt x="658" y="26"/>
                  </a:lnTo>
                  <a:lnTo>
                    <a:pt x="668" y="26"/>
                  </a:lnTo>
                  <a:lnTo>
                    <a:pt x="684" y="26"/>
                  </a:lnTo>
                  <a:lnTo>
                    <a:pt x="700" y="30"/>
                  </a:lnTo>
                  <a:lnTo>
                    <a:pt x="731" y="30"/>
                  </a:lnTo>
                  <a:lnTo>
                    <a:pt x="742" y="30"/>
                  </a:lnTo>
                  <a:lnTo>
                    <a:pt x="752" y="30"/>
                  </a:lnTo>
                  <a:lnTo>
                    <a:pt x="762" y="30"/>
                  </a:lnTo>
                  <a:lnTo>
                    <a:pt x="778" y="30"/>
                  </a:lnTo>
                  <a:lnTo>
                    <a:pt x="789" y="30"/>
                  </a:lnTo>
                  <a:lnTo>
                    <a:pt x="799" y="30"/>
                  </a:lnTo>
                  <a:lnTo>
                    <a:pt x="815" y="30"/>
                  </a:lnTo>
                  <a:lnTo>
                    <a:pt x="825" y="30"/>
                  </a:lnTo>
                  <a:lnTo>
                    <a:pt x="877" y="30"/>
                  </a:lnTo>
                  <a:lnTo>
                    <a:pt x="888" y="30"/>
                  </a:lnTo>
                  <a:lnTo>
                    <a:pt x="898" y="30"/>
                  </a:lnTo>
                  <a:lnTo>
                    <a:pt x="909" y="30"/>
                  </a:lnTo>
                  <a:lnTo>
                    <a:pt x="919" y="30"/>
                  </a:lnTo>
                  <a:lnTo>
                    <a:pt x="1034" y="30"/>
                  </a:lnTo>
                  <a:lnTo>
                    <a:pt x="1055" y="30"/>
                  </a:lnTo>
                  <a:lnTo>
                    <a:pt x="1076" y="30"/>
                  </a:lnTo>
                  <a:lnTo>
                    <a:pt x="1086" y="30"/>
                  </a:lnTo>
                  <a:lnTo>
                    <a:pt x="1102" y="30"/>
                  </a:lnTo>
                  <a:lnTo>
                    <a:pt x="1112" y="30"/>
                  </a:lnTo>
                  <a:lnTo>
                    <a:pt x="1123" y="30"/>
                  </a:lnTo>
                  <a:lnTo>
                    <a:pt x="1138" y="30"/>
                  </a:lnTo>
                  <a:lnTo>
                    <a:pt x="1149" y="30"/>
                  </a:lnTo>
                  <a:lnTo>
                    <a:pt x="1159" y="30"/>
                  </a:lnTo>
                  <a:lnTo>
                    <a:pt x="1175" y="30"/>
                  </a:lnTo>
                  <a:lnTo>
                    <a:pt x="1185" y="30"/>
                  </a:lnTo>
                  <a:lnTo>
                    <a:pt x="1196" y="30"/>
                  </a:lnTo>
                  <a:lnTo>
                    <a:pt x="1212" y="30"/>
                  </a:lnTo>
                  <a:lnTo>
                    <a:pt x="1222" y="30"/>
                  </a:lnTo>
                  <a:lnTo>
                    <a:pt x="1243" y="30"/>
                  </a:lnTo>
                  <a:lnTo>
                    <a:pt x="1253" y="30"/>
                  </a:lnTo>
                  <a:lnTo>
                    <a:pt x="1269" y="30"/>
                  </a:lnTo>
                  <a:lnTo>
                    <a:pt x="1279" y="30"/>
                  </a:lnTo>
                  <a:lnTo>
                    <a:pt x="1290" y="30"/>
                  </a:lnTo>
                  <a:lnTo>
                    <a:pt x="1300" y="30"/>
                  </a:lnTo>
                  <a:lnTo>
                    <a:pt x="1311" y="30"/>
                  </a:lnTo>
                  <a:lnTo>
                    <a:pt x="1321" y="30"/>
                  </a:lnTo>
                  <a:lnTo>
                    <a:pt x="1332" y="30"/>
                  </a:lnTo>
                  <a:lnTo>
                    <a:pt x="1342" y="30"/>
                  </a:lnTo>
                  <a:lnTo>
                    <a:pt x="1358" y="30"/>
                  </a:lnTo>
                  <a:lnTo>
                    <a:pt x="1405" y="30"/>
                  </a:lnTo>
                  <a:lnTo>
                    <a:pt x="1415" y="30"/>
                  </a:lnTo>
                  <a:lnTo>
                    <a:pt x="1426" y="30"/>
                  </a:lnTo>
                  <a:lnTo>
                    <a:pt x="1436" y="30"/>
                  </a:lnTo>
                  <a:lnTo>
                    <a:pt x="1478" y="30"/>
                  </a:lnTo>
                  <a:lnTo>
                    <a:pt x="1488" y="30"/>
                  </a:lnTo>
                  <a:lnTo>
                    <a:pt x="1499" y="30"/>
                  </a:lnTo>
                  <a:lnTo>
                    <a:pt x="1509" y="30"/>
                  </a:lnTo>
                  <a:lnTo>
                    <a:pt x="1525" y="30"/>
                  </a:lnTo>
                  <a:lnTo>
                    <a:pt x="1541" y="30"/>
                  </a:lnTo>
                  <a:lnTo>
                    <a:pt x="1577" y="30"/>
                  </a:lnTo>
                  <a:lnTo>
                    <a:pt x="1588" y="30"/>
                  </a:lnTo>
                  <a:lnTo>
                    <a:pt x="1598" y="30"/>
                  </a:lnTo>
                  <a:lnTo>
                    <a:pt x="1608" y="30"/>
                  </a:lnTo>
                  <a:lnTo>
                    <a:pt x="1619" y="26"/>
                  </a:lnTo>
                  <a:lnTo>
                    <a:pt x="1635" y="26"/>
                  </a:lnTo>
                  <a:lnTo>
                    <a:pt x="1645" y="26"/>
                  </a:lnTo>
                  <a:lnTo>
                    <a:pt x="1655" y="26"/>
                  </a:lnTo>
                  <a:lnTo>
                    <a:pt x="1666" y="23"/>
                  </a:lnTo>
                  <a:lnTo>
                    <a:pt x="1676" y="23"/>
                  </a:lnTo>
                  <a:lnTo>
                    <a:pt x="1687" y="23"/>
                  </a:lnTo>
                  <a:lnTo>
                    <a:pt x="1702" y="23"/>
                  </a:lnTo>
                  <a:lnTo>
                    <a:pt x="1713" y="23"/>
                  </a:lnTo>
                  <a:lnTo>
                    <a:pt x="1739" y="20"/>
                  </a:lnTo>
                  <a:lnTo>
                    <a:pt x="1749" y="20"/>
                  </a:lnTo>
                  <a:lnTo>
                    <a:pt x="1760" y="20"/>
                  </a:lnTo>
                  <a:lnTo>
                    <a:pt x="1776" y="20"/>
                  </a:lnTo>
                  <a:lnTo>
                    <a:pt x="1786" y="20"/>
                  </a:lnTo>
                  <a:lnTo>
                    <a:pt x="1833" y="20"/>
                  </a:lnTo>
                  <a:lnTo>
                    <a:pt x="1849" y="20"/>
                  </a:lnTo>
                  <a:lnTo>
                    <a:pt x="1859" y="20"/>
                  </a:lnTo>
                  <a:lnTo>
                    <a:pt x="1875" y="20"/>
                  </a:lnTo>
                  <a:lnTo>
                    <a:pt x="1885" y="20"/>
                  </a:lnTo>
                  <a:lnTo>
                    <a:pt x="1896" y="20"/>
                  </a:lnTo>
                  <a:lnTo>
                    <a:pt x="1937" y="20"/>
                  </a:lnTo>
                  <a:lnTo>
                    <a:pt x="1948" y="23"/>
                  </a:lnTo>
                  <a:lnTo>
                    <a:pt x="1990" y="30"/>
                  </a:lnTo>
                  <a:lnTo>
                    <a:pt x="2000" y="30"/>
                  </a:lnTo>
                  <a:lnTo>
                    <a:pt x="2011" y="33"/>
                  </a:lnTo>
                  <a:lnTo>
                    <a:pt x="2021" y="33"/>
                  </a:lnTo>
                  <a:lnTo>
                    <a:pt x="2037" y="33"/>
                  </a:lnTo>
                  <a:lnTo>
                    <a:pt x="2078" y="33"/>
                  </a:lnTo>
                  <a:lnTo>
                    <a:pt x="2089" y="33"/>
                  </a:lnTo>
                  <a:lnTo>
                    <a:pt x="2099" y="33"/>
                  </a:lnTo>
                  <a:lnTo>
                    <a:pt x="2115" y="3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0" name=""/>
            <p:cNvSpPr/>
            <p:nvPr/>
          </p:nvSpPr>
          <p:spPr>
            <a:xfrm>
              <a:off x="1657800" y="5165640"/>
              <a:ext cx="4083480" cy="75960"/>
            </a:xfrm>
            <a:custGeom>
              <a:avLst/>
              <a:gdLst/>
              <a:ahLst/>
              <a:rect l="l" t="t" r="r" b="b"/>
              <a:pathLst>
                <a:path w="2193" h="39">
                  <a:moveTo>
                    <a:pt x="0" y="0"/>
                  </a:moveTo>
                  <a:lnTo>
                    <a:pt x="0" y="19"/>
                  </a:lnTo>
                  <a:lnTo>
                    <a:pt x="11" y="23"/>
                  </a:lnTo>
                  <a:lnTo>
                    <a:pt x="27" y="23"/>
                  </a:lnTo>
                  <a:lnTo>
                    <a:pt x="38" y="27"/>
                  </a:lnTo>
                  <a:lnTo>
                    <a:pt x="49" y="27"/>
                  </a:lnTo>
                  <a:lnTo>
                    <a:pt x="65" y="27"/>
                  </a:lnTo>
                  <a:lnTo>
                    <a:pt x="92" y="27"/>
                  </a:lnTo>
                  <a:lnTo>
                    <a:pt x="103" y="27"/>
                  </a:lnTo>
                  <a:lnTo>
                    <a:pt x="114" y="27"/>
                  </a:lnTo>
                  <a:lnTo>
                    <a:pt x="130" y="27"/>
                  </a:lnTo>
                  <a:lnTo>
                    <a:pt x="141" y="23"/>
                  </a:lnTo>
                  <a:lnTo>
                    <a:pt x="157" y="23"/>
                  </a:lnTo>
                  <a:lnTo>
                    <a:pt x="168" y="19"/>
                  </a:lnTo>
                  <a:lnTo>
                    <a:pt x="179" y="15"/>
                  </a:lnTo>
                  <a:lnTo>
                    <a:pt x="189" y="15"/>
                  </a:lnTo>
                  <a:lnTo>
                    <a:pt x="200" y="11"/>
                  </a:lnTo>
                  <a:lnTo>
                    <a:pt x="211" y="11"/>
                  </a:lnTo>
                  <a:lnTo>
                    <a:pt x="222" y="11"/>
                  </a:lnTo>
                  <a:lnTo>
                    <a:pt x="260" y="11"/>
                  </a:lnTo>
                  <a:lnTo>
                    <a:pt x="271" y="11"/>
                  </a:lnTo>
                  <a:lnTo>
                    <a:pt x="287" y="11"/>
                  </a:lnTo>
                  <a:lnTo>
                    <a:pt x="298" y="11"/>
                  </a:lnTo>
                  <a:lnTo>
                    <a:pt x="352" y="11"/>
                  </a:lnTo>
                  <a:lnTo>
                    <a:pt x="363" y="11"/>
                  </a:lnTo>
                  <a:lnTo>
                    <a:pt x="373" y="11"/>
                  </a:lnTo>
                  <a:lnTo>
                    <a:pt x="384" y="11"/>
                  </a:lnTo>
                  <a:lnTo>
                    <a:pt x="401" y="11"/>
                  </a:lnTo>
                  <a:lnTo>
                    <a:pt x="411" y="11"/>
                  </a:lnTo>
                  <a:lnTo>
                    <a:pt x="422" y="11"/>
                  </a:lnTo>
                  <a:lnTo>
                    <a:pt x="438" y="11"/>
                  </a:lnTo>
                  <a:lnTo>
                    <a:pt x="449" y="11"/>
                  </a:lnTo>
                  <a:lnTo>
                    <a:pt x="460" y="11"/>
                  </a:lnTo>
                  <a:lnTo>
                    <a:pt x="476" y="15"/>
                  </a:lnTo>
                  <a:lnTo>
                    <a:pt x="487" y="15"/>
                  </a:lnTo>
                  <a:lnTo>
                    <a:pt x="503" y="19"/>
                  </a:lnTo>
                  <a:lnTo>
                    <a:pt x="590" y="23"/>
                  </a:lnTo>
                  <a:lnTo>
                    <a:pt x="601" y="27"/>
                  </a:lnTo>
                  <a:lnTo>
                    <a:pt x="612" y="27"/>
                  </a:lnTo>
                  <a:lnTo>
                    <a:pt x="622" y="27"/>
                  </a:lnTo>
                  <a:lnTo>
                    <a:pt x="644" y="27"/>
                  </a:lnTo>
                  <a:lnTo>
                    <a:pt x="666" y="30"/>
                  </a:lnTo>
                  <a:lnTo>
                    <a:pt x="682" y="30"/>
                  </a:lnTo>
                  <a:lnTo>
                    <a:pt x="693" y="30"/>
                  </a:lnTo>
                  <a:lnTo>
                    <a:pt x="709" y="30"/>
                  </a:lnTo>
                  <a:lnTo>
                    <a:pt x="725" y="34"/>
                  </a:lnTo>
                  <a:lnTo>
                    <a:pt x="758" y="34"/>
                  </a:lnTo>
                  <a:lnTo>
                    <a:pt x="769" y="34"/>
                  </a:lnTo>
                  <a:lnTo>
                    <a:pt x="779" y="34"/>
                  </a:lnTo>
                  <a:lnTo>
                    <a:pt x="790" y="34"/>
                  </a:lnTo>
                  <a:lnTo>
                    <a:pt x="806" y="34"/>
                  </a:lnTo>
                  <a:lnTo>
                    <a:pt x="817" y="34"/>
                  </a:lnTo>
                  <a:lnTo>
                    <a:pt x="828" y="34"/>
                  </a:lnTo>
                  <a:lnTo>
                    <a:pt x="844" y="34"/>
                  </a:lnTo>
                  <a:lnTo>
                    <a:pt x="855" y="34"/>
                  </a:lnTo>
                  <a:lnTo>
                    <a:pt x="909" y="34"/>
                  </a:lnTo>
                  <a:lnTo>
                    <a:pt x="920" y="34"/>
                  </a:lnTo>
                  <a:lnTo>
                    <a:pt x="931" y="34"/>
                  </a:lnTo>
                  <a:lnTo>
                    <a:pt x="942" y="34"/>
                  </a:lnTo>
                  <a:lnTo>
                    <a:pt x="953" y="34"/>
                  </a:lnTo>
                  <a:lnTo>
                    <a:pt x="1072" y="34"/>
                  </a:lnTo>
                  <a:lnTo>
                    <a:pt x="1093" y="34"/>
                  </a:lnTo>
                  <a:lnTo>
                    <a:pt x="1115" y="34"/>
                  </a:lnTo>
                  <a:lnTo>
                    <a:pt x="1126" y="34"/>
                  </a:lnTo>
                  <a:lnTo>
                    <a:pt x="1142" y="34"/>
                  </a:lnTo>
                  <a:lnTo>
                    <a:pt x="1153" y="34"/>
                  </a:lnTo>
                  <a:lnTo>
                    <a:pt x="1164" y="34"/>
                  </a:lnTo>
                  <a:lnTo>
                    <a:pt x="1180" y="34"/>
                  </a:lnTo>
                  <a:lnTo>
                    <a:pt x="1191" y="34"/>
                  </a:lnTo>
                  <a:lnTo>
                    <a:pt x="1202" y="34"/>
                  </a:lnTo>
                  <a:lnTo>
                    <a:pt x="1218" y="34"/>
                  </a:lnTo>
                  <a:lnTo>
                    <a:pt x="1229" y="34"/>
                  </a:lnTo>
                  <a:lnTo>
                    <a:pt x="1239" y="34"/>
                  </a:lnTo>
                  <a:lnTo>
                    <a:pt x="1256" y="34"/>
                  </a:lnTo>
                  <a:lnTo>
                    <a:pt x="1266" y="34"/>
                  </a:lnTo>
                  <a:lnTo>
                    <a:pt x="1288" y="34"/>
                  </a:lnTo>
                  <a:lnTo>
                    <a:pt x="1299" y="34"/>
                  </a:lnTo>
                  <a:lnTo>
                    <a:pt x="1315" y="34"/>
                  </a:lnTo>
                  <a:lnTo>
                    <a:pt x="1326" y="34"/>
                  </a:lnTo>
                  <a:lnTo>
                    <a:pt x="1337" y="34"/>
                  </a:lnTo>
                  <a:lnTo>
                    <a:pt x="1348" y="34"/>
                  </a:lnTo>
                  <a:lnTo>
                    <a:pt x="1358" y="34"/>
                  </a:lnTo>
                  <a:lnTo>
                    <a:pt x="1369" y="34"/>
                  </a:lnTo>
                  <a:lnTo>
                    <a:pt x="1380" y="34"/>
                  </a:lnTo>
                  <a:lnTo>
                    <a:pt x="1391" y="34"/>
                  </a:lnTo>
                  <a:lnTo>
                    <a:pt x="1407" y="34"/>
                  </a:lnTo>
                  <a:lnTo>
                    <a:pt x="1456" y="34"/>
                  </a:lnTo>
                  <a:lnTo>
                    <a:pt x="1467" y="34"/>
                  </a:lnTo>
                  <a:lnTo>
                    <a:pt x="1478" y="34"/>
                  </a:lnTo>
                  <a:lnTo>
                    <a:pt x="1488" y="34"/>
                  </a:lnTo>
                  <a:lnTo>
                    <a:pt x="1532" y="34"/>
                  </a:lnTo>
                  <a:lnTo>
                    <a:pt x="1543" y="34"/>
                  </a:lnTo>
                  <a:lnTo>
                    <a:pt x="1553" y="34"/>
                  </a:lnTo>
                  <a:lnTo>
                    <a:pt x="1564" y="34"/>
                  </a:lnTo>
                  <a:lnTo>
                    <a:pt x="1580" y="34"/>
                  </a:lnTo>
                  <a:lnTo>
                    <a:pt x="1597" y="34"/>
                  </a:lnTo>
                  <a:lnTo>
                    <a:pt x="1635" y="34"/>
                  </a:lnTo>
                  <a:lnTo>
                    <a:pt x="1645" y="34"/>
                  </a:lnTo>
                  <a:lnTo>
                    <a:pt x="1656" y="34"/>
                  </a:lnTo>
                  <a:lnTo>
                    <a:pt x="1667" y="34"/>
                  </a:lnTo>
                  <a:lnTo>
                    <a:pt x="1678" y="30"/>
                  </a:lnTo>
                  <a:lnTo>
                    <a:pt x="1694" y="30"/>
                  </a:lnTo>
                  <a:lnTo>
                    <a:pt x="1705" y="30"/>
                  </a:lnTo>
                  <a:lnTo>
                    <a:pt x="1716" y="30"/>
                  </a:lnTo>
                  <a:lnTo>
                    <a:pt x="1727" y="27"/>
                  </a:lnTo>
                  <a:lnTo>
                    <a:pt x="1737" y="27"/>
                  </a:lnTo>
                  <a:lnTo>
                    <a:pt x="1748" y="27"/>
                  </a:lnTo>
                  <a:lnTo>
                    <a:pt x="1764" y="27"/>
                  </a:lnTo>
                  <a:lnTo>
                    <a:pt x="1775" y="27"/>
                  </a:lnTo>
                  <a:lnTo>
                    <a:pt x="1802" y="23"/>
                  </a:lnTo>
                  <a:lnTo>
                    <a:pt x="1813" y="23"/>
                  </a:lnTo>
                  <a:lnTo>
                    <a:pt x="1824" y="23"/>
                  </a:lnTo>
                  <a:lnTo>
                    <a:pt x="1840" y="23"/>
                  </a:lnTo>
                  <a:lnTo>
                    <a:pt x="1851" y="23"/>
                  </a:lnTo>
                  <a:lnTo>
                    <a:pt x="1900" y="23"/>
                  </a:lnTo>
                  <a:lnTo>
                    <a:pt x="1916" y="23"/>
                  </a:lnTo>
                  <a:lnTo>
                    <a:pt x="1927" y="23"/>
                  </a:lnTo>
                  <a:lnTo>
                    <a:pt x="1943" y="23"/>
                  </a:lnTo>
                  <a:lnTo>
                    <a:pt x="1954" y="23"/>
                  </a:lnTo>
                  <a:lnTo>
                    <a:pt x="1965" y="23"/>
                  </a:lnTo>
                  <a:lnTo>
                    <a:pt x="2008" y="23"/>
                  </a:lnTo>
                  <a:lnTo>
                    <a:pt x="2019" y="27"/>
                  </a:lnTo>
                  <a:lnTo>
                    <a:pt x="2062" y="34"/>
                  </a:lnTo>
                  <a:lnTo>
                    <a:pt x="2073" y="34"/>
                  </a:lnTo>
                  <a:lnTo>
                    <a:pt x="2084" y="38"/>
                  </a:lnTo>
                  <a:lnTo>
                    <a:pt x="2095" y="38"/>
                  </a:lnTo>
                  <a:lnTo>
                    <a:pt x="2111" y="38"/>
                  </a:lnTo>
                  <a:lnTo>
                    <a:pt x="2154" y="38"/>
                  </a:lnTo>
                  <a:lnTo>
                    <a:pt x="2165" y="38"/>
                  </a:lnTo>
                  <a:lnTo>
                    <a:pt x="2176" y="38"/>
                  </a:lnTo>
                  <a:lnTo>
                    <a:pt x="2192" y="38"/>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1" name=""/>
            <p:cNvSpPr/>
            <p:nvPr/>
          </p:nvSpPr>
          <p:spPr>
            <a:xfrm>
              <a:off x="5850000" y="5230440"/>
              <a:ext cx="236880" cy="14400"/>
            </a:xfrm>
            <a:custGeom>
              <a:avLst/>
              <a:gdLst/>
              <a:ahLst/>
              <a:rect l="l" t="t" r="r" b="b"/>
              <a:pathLst>
                <a:path w="127" h="7">
                  <a:moveTo>
                    <a:pt x="0" y="3"/>
                  </a:moveTo>
                  <a:lnTo>
                    <a:pt x="11" y="0"/>
                  </a:lnTo>
                  <a:lnTo>
                    <a:pt x="16" y="6"/>
                  </a:lnTo>
                  <a:lnTo>
                    <a:pt x="26" y="6"/>
                  </a:lnTo>
                  <a:lnTo>
                    <a:pt x="42" y="0"/>
                  </a:lnTo>
                  <a:lnTo>
                    <a:pt x="63" y="0"/>
                  </a:lnTo>
                  <a:lnTo>
                    <a:pt x="74" y="0"/>
                  </a:lnTo>
                  <a:lnTo>
                    <a:pt x="89" y="3"/>
                  </a:lnTo>
                  <a:lnTo>
                    <a:pt x="105" y="6"/>
                  </a:lnTo>
                  <a:lnTo>
                    <a:pt x="116" y="6"/>
                  </a:lnTo>
                  <a:lnTo>
                    <a:pt x="126"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2" name=""/>
            <p:cNvSpPr/>
            <p:nvPr/>
          </p:nvSpPr>
          <p:spPr>
            <a:xfrm rot="18780000">
              <a:off x="2779200" y="2257920"/>
              <a:ext cx="3378240" cy="3160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3" name=""/>
            <p:cNvGrpSpPr/>
            <p:nvPr/>
          </p:nvGrpSpPr>
          <p:grpSpPr>
            <a:xfrm>
              <a:off x="2085480" y="1469880"/>
              <a:ext cx="6516000" cy="4885560"/>
              <a:chOff x="2085480" y="1469880"/>
              <a:chExt cx="6516000" cy="4885560"/>
            </a:xfrm>
          </p:grpSpPr>
          <p:grpSp>
            <p:nvGrpSpPr>
              <p:cNvPr id="164" name=""/>
              <p:cNvGrpSpPr/>
              <p:nvPr/>
            </p:nvGrpSpPr>
            <p:grpSpPr>
              <a:xfrm>
                <a:off x="2085480" y="1469880"/>
                <a:ext cx="4847760" cy="4739760"/>
                <a:chOff x="2085480" y="1469880"/>
                <a:chExt cx="4847760" cy="4739760"/>
              </a:xfrm>
            </p:grpSpPr>
            <p:grpSp>
              <p:nvGrpSpPr>
                <p:cNvPr id="165" name=""/>
                <p:cNvGrpSpPr/>
                <p:nvPr/>
              </p:nvGrpSpPr>
              <p:grpSpPr>
                <a:xfrm>
                  <a:off x="2769480" y="2140200"/>
                  <a:ext cx="3535920" cy="3452040"/>
                  <a:chOff x="2769480" y="2140200"/>
                  <a:chExt cx="3535920" cy="3452040"/>
                </a:xfrm>
              </p:grpSpPr>
              <p:grpSp>
                <p:nvGrpSpPr>
                  <p:cNvPr id="166" name=""/>
                  <p:cNvGrpSpPr/>
                  <p:nvPr/>
                </p:nvGrpSpPr>
                <p:grpSpPr>
                  <a:xfrm>
                    <a:off x="2769480" y="2140200"/>
                    <a:ext cx="3530880" cy="3448800"/>
                    <a:chOff x="2769480" y="2140200"/>
                    <a:chExt cx="3530880" cy="3448800"/>
                  </a:xfrm>
                </p:grpSpPr>
                <p:sp>
                  <p:nvSpPr>
                    <p:cNvPr id="167" name=""/>
                    <p:cNvSpPr/>
                    <p:nvPr/>
                  </p:nvSpPr>
                  <p:spPr>
                    <a:xfrm>
                      <a:off x="2769480" y="2140200"/>
                      <a:ext cx="2275200" cy="2823480"/>
                    </a:xfrm>
                    <a:custGeom>
                      <a:avLst/>
                      <a:gdLst/>
                      <a:ahLst/>
                      <a:rect l="l" t="t" r="r" b="b"/>
                      <a:pathLst>
                        <a:path w="1344" h="1670">
                          <a:moveTo>
                            <a:pt x="300" y="1669"/>
                          </a:moveTo>
                          <a:lnTo>
                            <a:pt x="203" y="1561"/>
                          </a:lnTo>
                          <a:lnTo>
                            <a:pt x="120" y="1448"/>
                          </a:lnTo>
                          <a:lnTo>
                            <a:pt x="84" y="1355"/>
                          </a:lnTo>
                          <a:lnTo>
                            <a:pt x="53" y="1274"/>
                          </a:lnTo>
                          <a:lnTo>
                            <a:pt x="27" y="1175"/>
                          </a:lnTo>
                          <a:lnTo>
                            <a:pt x="15" y="1068"/>
                          </a:lnTo>
                          <a:lnTo>
                            <a:pt x="0" y="961"/>
                          </a:lnTo>
                          <a:lnTo>
                            <a:pt x="12" y="871"/>
                          </a:lnTo>
                          <a:lnTo>
                            <a:pt x="19" y="769"/>
                          </a:lnTo>
                          <a:lnTo>
                            <a:pt x="53" y="666"/>
                          </a:lnTo>
                          <a:lnTo>
                            <a:pt x="85" y="580"/>
                          </a:lnTo>
                          <a:lnTo>
                            <a:pt x="122" y="508"/>
                          </a:lnTo>
                          <a:lnTo>
                            <a:pt x="183" y="419"/>
                          </a:lnTo>
                          <a:lnTo>
                            <a:pt x="260" y="324"/>
                          </a:lnTo>
                          <a:lnTo>
                            <a:pt x="326" y="248"/>
                          </a:lnTo>
                          <a:lnTo>
                            <a:pt x="415" y="176"/>
                          </a:lnTo>
                          <a:lnTo>
                            <a:pt x="545" y="96"/>
                          </a:lnTo>
                          <a:lnTo>
                            <a:pt x="642" y="68"/>
                          </a:lnTo>
                          <a:lnTo>
                            <a:pt x="776" y="20"/>
                          </a:lnTo>
                          <a:lnTo>
                            <a:pt x="910" y="0"/>
                          </a:lnTo>
                          <a:lnTo>
                            <a:pt x="1041" y="3"/>
                          </a:lnTo>
                          <a:lnTo>
                            <a:pt x="1146" y="20"/>
                          </a:lnTo>
                          <a:lnTo>
                            <a:pt x="1241" y="44"/>
                          </a:lnTo>
                          <a:lnTo>
                            <a:pt x="1343" y="79"/>
                          </a:lnTo>
                          <a:lnTo>
                            <a:pt x="1138" y="58"/>
                          </a:lnTo>
                          <a:lnTo>
                            <a:pt x="1037" y="55"/>
                          </a:lnTo>
                          <a:lnTo>
                            <a:pt x="941" y="81"/>
                          </a:lnTo>
                          <a:lnTo>
                            <a:pt x="813" y="112"/>
                          </a:lnTo>
                          <a:lnTo>
                            <a:pt x="711" y="158"/>
                          </a:lnTo>
                          <a:lnTo>
                            <a:pt x="599" y="213"/>
                          </a:lnTo>
                          <a:lnTo>
                            <a:pt x="521" y="276"/>
                          </a:lnTo>
                          <a:lnTo>
                            <a:pt x="445" y="341"/>
                          </a:lnTo>
                          <a:lnTo>
                            <a:pt x="377" y="416"/>
                          </a:lnTo>
                          <a:lnTo>
                            <a:pt x="320" y="484"/>
                          </a:lnTo>
                          <a:lnTo>
                            <a:pt x="253" y="590"/>
                          </a:lnTo>
                          <a:lnTo>
                            <a:pt x="202" y="671"/>
                          </a:lnTo>
                          <a:lnTo>
                            <a:pt x="183" y="749"/>
                          </a:lnTo>
                          <a:lnTo>
                            <a:pt x="148" y="853"/>
                          </a:lnTo>
                          <a:lnTo>
                            <a:pt x="124" y="952"/>
                          </a:lnTo>
                          <a:lnTo>
                            <a:pt x="118" y="1053"/>
                          </a:lnTo>
                          <a:lnTo>
                            <a:pt x="128" y="1179"/>
                          </a:lnTo>
                          <a:lnTo>
                            <a:pt x="135" y="1274"/>
                          </a:lnTo>
                          <a:lnTo>
                            <a:pt x="167" y="1385"/>
                          </a:lnTo>
                          <a:lnTo>
                            <a:pt x="227" y="1514"/>
                          </a:lnTo>
                          <a:lnTo>
                            <a:pt x="300" y="166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636000" y="2408760"/>
                      <a:ext cx="2664360" cy="3180240"/>
                    </a:xfrm>
                    <a:custGeom>
                      <a:avLst/>
                      <a:gdLst/>
                      <a:ahLst/>
                      <a:rect l="l" t="t" r="r" b="b"/>
                      <a:pathLst>
                        <a:path w="1574" h="1881">
                          <a:moveTo>
                            <a:pt x="0" y="1709"/>
                          </a:moveTo>
                          <a:lnTo>
                            <a:pt x="160" y="1759"/>
                          </a:lnTo>
                          <a:lnTo>
                            <a:pt x="323" y="1790"/>
                          </a:lnTo>
                          <a:lnTo>
                            <a:pt x="454" y="1792"/>
                          </a:lnTo>
                          <a:lnTo>
                            <a:pt x="614" y="1759"/>
                          </a:lnTo>
                          <a:lnTo>
                            <a:pt x="742" y="1730"/>
                          </a:lnTo>
                          <a:lnTo>
                            <a:pt x="843" y="1683"/>
                          </a:lnTo>
                          <a:lnTo>
                            <a:pt x="963" y="1609"/>
                          </a:lnTo>
                          <a:lnTo>
                            <a:pt x="1037" y="1547"/>
                          </a:lnTo>
                          <a:lnTo>
                            <a:pt x="1138" y="1468"/>
                          </a:lnTo>
                          <a:lnTo>
                            <a:pt x="1212" y="1371"/>
                          </a:lnTo>
                          <a:lnTo>
                            <a:pt x="1275" y="1284"/>
                          </a:lnTo>
                          <a:lnTo>
                            <a:pt x="1321" y="1172"/>
                          </a:lnTo>
                          <a:lnTo>
                            <a:pt x="1364" y="1079"/>
                          </a:lnTo>
                          <a:lnTo>
                            <a:pt x="1393" y="964"/>
                          </a:lnTo>
                          <a:lnTo>
                            <a:pt x="1422" y="846"/>
                          </a:lnTo>
                          <a:lnTo>
                            <a:pt x="1431" y="723"/>
                          </a:lnTo>
                          <a:lnTo>
                            <a:pt x="1415" y="637"/>
                          </a:lnTo>
                          <a:lnTo>
                            <a:pt x="1379" y="495"/>
                          </a:lnTo>
                          <a:lnTo>
                            <a:pt x="1336" y="339"/>
                          </a:lnTo>
                          <a:lnTo>
                            <a:pt x="1273" y="229"/>
                          </a:lnTo>
                          <a:lnTo>
                            <a:pt x="1188" y="115"/>
                          </a:lnTo>
                          <a:lnTo>
                            <a:pt x="1058" y="0"/>
                          </a:lnTo>
                          <a:lnTo>
                            <a:pt x="1147" y="43"/>
                          </a:lnTo>
                          <a:lnTo>
                            <a:pt x="1247" y="129"/>
                          </a:lnTo>
                          <a:lnTo>
                            <a:pt x="1328" y="213"/>
                          </a:lnTo>
                          <a:lnTo>
                            <a:pt x="1406" y="295"/>
                          </a:lnTo>
                          <a:lnTo>
                            <a:pt x="1451" y="366"/>
                          </a:lnTo>
                          <a:lnTo>
                            <a:pt x="1501" y="484"/>
                          </a:lnTo>
                          <a:lnTo>
                            <a:pt x="1567" y="705"/>
                          </a:lnTo>
                          <a:lnTo>
                            <a:pt x="1573" y="853"/>
                          </a:lnTo>
                          <a:lnTo>
                            <a:pt x="1571" y="986"/>
                          </a:lnTo>
                          <a:lnTo>
                            <a:pt x="1547" y="1115"/>
                          </a:lnTo>
                          <a:lnTo>
                            <a:pt x="1505" y="1207"/>
                          </a:lnTo>
                          <a:lnTo>
                            <a:pt x="1440" y="1347"/>
                          </a:lnTo>
                          <a:lnTo>
                            <a:pt x="1374" y="1452"/>
                          </a:lnTo>
                          <a:lnTo>
                            <a:pt x="1292" y="1538"/>
                          </a:lnTo>
                          <a:lnTo>
                            <a:pt x="1194" y="1647"/>
                          </a:lnTo>
                          <a:lnTo>
                            <a:pt x="1111" y="1699"/>
                          </a:lnTo>
                          <a:lnTo>
                            <a:pt x="1016" y="1757"/>
                          </a:lnTo>
                          <a:lnTo>
                            <a:pt x="901" y="1812"/>
                          </a:lnTo>
                          <a:lnTo>
                            <a:pt x="792" y="1847"/>
                          </a:lnTo>
                          <a:lnTo>
                            <a:pt x="710" y="1866"/>
                          </a:lnTo>
                          <a:lnTo>
                            <a:pt x="584" y="1877"/>
                          </a:lnTo>
                          <a:lnTo>
                            <a:pt x="472" y="1880"/>
                          </a:lnTo>
                          <a:lnTo>
                            <a:pt x="364" y="1862"/>
                          </a:lnTo>
                          <a:lnTo>
                            <a:pt x="231" y="1831"/>
                          </a:lnTo>
                          <a:lnTo>
                            <a:pt x="87" y="1773"/>
                          </a:lnTo>
                          <a:lnTo>
                            <a:pt x="0" y="170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9" name=""/>
                  <p:cNvGrpSpPr/>
                  <p:nvPr/>
                </p:nvGrpSpPr>
                <p:grpSpPr>
                  <a:xfrm>
                    <a:off x="2793240" y="2167200"/>
                    <a:ext cx="3512160" cy="3425040"/>
                    <a:chOff x="2793240" y="2167200"/>
                    <a:chExt cx="3512160" cy="3425040"/>
                  </a:xfrm>
                </p:grpSpPr>
                <p:sp>
                  <p:nvSpPr>
                    <p:cNvPr id="170" name=""/>
                    <p:cNvSpPr/>
                    <p:nvPr/>
                  </p:nvSpPr>
                  <p:spPr>
                    <a:xfrm>
                      <a:off x="3642480" y="5301720"/>
                      <a:ext cx="1134360" cy="290520"/>
                    </a:xfrm>
                    <a:custGeom>
                      <a:avLst/>
                      <a:gdLst/>
                      <a:ahLst/>
                      <a:rect l="l" t="t" r="r" b="b"/>
                      <a:pathLst>
                        <a:path w="670" h="172">
                          <a:moveTo>
                            <a:pt x="0" y="0"/>
                          </a:moveTo>
                          <a:lnTo>
                            <a:pt x="95" y="57"/>
                          </a:lnTo>
                          <a:lnTo>
                            <a:pt x="186" y="100"/>
                          </a:lnTo>
                          <a:lnTo>
                            <a:pt x="255" y="138"/>
                          </a:lnTo>
                          <a:lnTo>
                            <a:pt x="360" y="153"/>
                          </a:lnTo>
                          <a:lnTo>
                            <a:pt x="448" y="167"/>
                          </a:lnTo>
                          <a:lnTo>
                            <a:pt x="546" y="171"/>
                          </a:lnTo>
                          <a:lnTo>
                            <a:pt x="669" y="161"/>
                          </a:lnTo>
                          <a:lnTo>
                            <a:pt x="470" y="70"/>
                          </a:lnTo>
                          <a:lnTo>
                            <a:pt x="379" y="79"/>
                          </a:lnTo>
                          <a:lnTo>
                            <a:pt x="330" y="75"/>
                          </a:lnTo>
                          <a:lnTo>
                            <a:pt x="231" y="70"/>
                          </a:lnTo>
                          <a:lnTo>
                            <a:pt x="156" y="52"/>
                          </a:lnTo>
                          <a:lnTo>
                            <a:pt x="101" y="38"/>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437080" y="2403720"/>
                      <a:ext cx="868320" cy="1355760"/>
                    </a:xfrm>
                    <a:custGeom>
                      <a:avLst/>
                      <a:gdLst/>
                      <a:ahLst/>
                      <a:rect l="l" t="t" r="r" b="b"/>
                      <a:pathLst>
                        <a:path w="513" h="802">
                          <a:moveTo>
                            <a:pt x="0" y="0"/>
                          </a:moveTo>
                          <a:lnTo>
                            <a:pt x="61" y="26"/>
                          </a:lnTo>
                          <a:lnTo>
                            <a:pt x="100" y="67"/>
                          </a:lnTo>
                          <a:lnTo>
                            <a:pt x="152" y="101"/>
                          </a:lnTo>
                          <a:lnTo>
                            <a:pt x="191" y="144"/>
                          </a:lnTo>
                          <a:lnTo>
                            <a:pt x="230" y="184"/>
                          </a:lnTo>
                          <a:lnTo>
                            <a:pt x="304" y="255"/>
                          </a:lnTo>
                          <a:lnTo>
                            <a:pt x="356" y="321"/>
                          </a:lnTo>
                          <a:lnTo>
                            <a:pt x="416" y="450"/>
                          </a:lnTo>
                          <a:lnTo>
                            <a:pt x="465" y="534"/>
                          </a:lnTo>
                          <a:lnTo>
                            <a:pt x="478" y="608"/>
                          </a:lnTo>
                          <a:lnTo>
                            <a:pt x="497" y="694"/>
                          </a:lnTo>
                          <a:lnTo>
                            <a:pt x="512" y="801"/>
                          </a:lnTo>
                          <a:lnTo>
                            <a:pt x="364" y="678"/>
                          </a:lnTo>
                          <a:lnTo>
                            <a:pt x="344" y="593"/>
                          </a:lnTo>
                          <a:lnTo>
                            <a:pt x="334" y="549"/>
                          </a:lnTo>
                          <a:lnTo>
                            <a:pt x="336" y="499"/>
                          </a:lnTo>
                          <a:lnTo>
                            <a:pt x="317" y="442"/>
                          </a:lnTo>
                          <a:lnTo>
                            <a:pt x="269" y="357"/>
                          </a:lnTo>
                          <a:lnTo>
                            <a:pt x="246" y="291"/>
                          </a:lnTo>
                          <a:lnTo>
                            <a:pt x="197" y="205"/>
                          </a:lnTo>
                          <a:lnTo>
                            <a:pt x="135" y="127"/>
                          </a:lnTo>
                          <a:lnTo>
                            <a:pt x="71" y="69"/>
                          </a:lnTo>
                          <a:lnTo>
                            <a:pt x="50" y="34"/>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563280" y="2167200"/>
                      <a:ext cx="1264320" cy="381600"/>
                    </a:xfrm>
                    <a:custGeom>
                      <a:avLst/>
                      <a:gdLst/>
                      <a:ahLst/>
                      <a:rect l="l" t="t" r="r" b="b"/>
                      <a:pathLst>
                        <a:path w="747" h="226">
                          <a:moveTo>
                            <a:pt x="0" y="160"/>
                          </a:moveTo>
                          <a:lnTo>
                            <a:pt x="103" y="225"/>
                          </a:lnTo>
                          <a:lnTo>
                            <a:pt x="166" y="170"/>
                          </a:lnTo>
                          <a:lnTo>
                            <a:pt x="231" y="145"/>
                          </a:lnTo>
                          <a:lnTo>
                            <a:pt x="292" y="111"/>
                          </a:lnTo>
                          <a:lnTo>
                            <a:pt x="357" y="86"/>
                          </a:lnTo>
                          <a:lnTo>
                            <a:pt x="419" y="62"/>
                          </a:lnTo>
                          <a:lnTo>
                            <a:pt x="465" y="51"/>
                          </a:lnTo>
                          <a:lnTo>
                            <a:pt x="525" y="45"/>
                          </a:lnTo>
                          <a:lnTo>
                            <a:pt x="605" y="44"/>
                          </a:lnTo>
                          <a:lnTo>
                            <a:pt x="746" y="38"/>
                          </a:lnTo>
                          <a:lnTo>
                            <a:pt x="645" y="3"/>
                          </a:lnTo>
                          <a:lnTo>
                            <a:pt x="583" y="10"/>
                          </a:lnTo>
                          <a:lnTo>
                            <a:pt x="517" y="2"/>
                          </a:lnTo>
                          <a:lnTo>
                            <a:pt x="467" y="0"/>
                          </a:lnTo>
                          <a:lnTo>
                            <a:pt x="376" y="9"/>
                          </a:lnTo>
                          <a:lnTo>
                            <a:pt x="310" y="32"/>
                          </a:lnTo>
                          <a:lnTo>
                            <a:pt x="261" y="31"/>
                          </a:lnTo>
                          <a:lnTo>
                            <a:pt x="226" y="52"/>
                          </a:lnTo>
                          <a:lnTo>
                            <a:pt x="159" y="77"/>
                          </a:lnTo>
                          <a:lnTo>
                            <a:pt x="95" y="102"/>
                          </a:lnTo>
                          <a:lnTo>
                            <a:pt x="22" y="144"/>
                          </a:lnTo>
                          <a:lnTo>
                            <a:pt x="0" y="16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93240" y="3727440"/>
                      <a:ext cx="375480" cy="1100520"/>
                    </a:xfrm>
                    <a:custGeom>
                      <a:avLst/>
                      <a:gdLst/>
                      <a:ahLst/>
                      <a:rect l="l" t="t" r="r" b="b"/>
                      <a:pathLst>
                        <a:path w="222" h="651">
                          <a:moveTo>
                            <a:pt x="132" y="524"/>
                          </a:moveTo>
                          <a:lnTo>
                            <a:pt x="103" y="476"/>
                          </a:lnTo>
                          <a:lnTo>
                            <a:pt x="89" y="420"/>
                          </a:lnTo>
                          <a:lnTo>
                            <a:pt x="57" y="342"/>
                          </a:lnTo>
                          <a:lnTo>
                            <a:pt x="26" y="263"/>
                          </a:lnTo>
                          <a:lnTo>
                            <a:pt x="22" y="200"/>
                          </a:lnTo>
                          <a:lnTo>
                            <a:pt x="10" y="125"/>
                          </a:lnTo>
                          <a:lnTo>
                            <a:pt x="3" y="62"/>
                          </a:lnTo>
                          <a:lnTo>
                            <a:pt x="0" y="0"/>
                          </a:lnTo>
                          <a:lnTo>
                            <a:pt x="98" y="36"/>
                          </a:lnTo>
                          <a:lnTo>
                            <a:pt x="92" y="106"/>
                          </a:lnTo>
                          <a:lnTo>
                            <a:pt x="91" y="158"/>
                          </a:lnTo>
                          <a:lnTo>
                            <a:pt x="108" y="213"/>
                          </a:lnTo>
                          <a:lnTo>
                            <a:pt x="99" y="281"/>
                          </a:lnTo>
                          <a:lnTo>
                            <a:pt x="118" y="336"/>
                          </a:lnTo>
                          <a:lnTo>
                            <a:pt x="134" y="391"/>
                          </a:lnTo>
                          <a:lnTo>
                            <a:pt x="145" y="435"/>
                          </a:lnTo>
                          <a:lnTo>
                            <a:pt x="161" y="489"/>
                          </a:lnTo>
                          <a:lnTo>
                            <a:pt x="196" y="551"/>
                          </a:lnTo>
                          <a:lnTo>
                            <a:pt x="219" y="618"/>
                          </a:lnTo>
                          <a:lnTo>
                            <a:pt x="221" y="650"/>
                          </a:lnTo>
                          <a:lnTo>
                            <a:pt x="132" y="524"/>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4" name=""/>
                <p:cNvSpPr/>
                <p:nvPr/>
              </p:nvSpPr>
              <p:spPr>
                <a:xfrm rot="19740000">
                  <a:off x="2957400" y="2271960"/>
                  <a:ext cx="3364200" cy="3307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5" name=""/>
                <p:cNvGrpSpPr/>
                <p:nvPr/>
              </p:nvGrpSpPr>
              <p:grpSpPr>
                <a:xfrm>
                  <a:off x="2085480" y="1469880"/>
                  <a:ext cx="4584240" cy="4565160"/>
                  <a:chOff x="2085480" y="1469880"/>
                  <a:chExt cx="4584240" cy="4565160"/>
                </a:xfrm>
              </p:grpSpPr>
              <p:sp>
                <p:nvSpPr>
                  <p:cNvPr id="176" name=""/>
                  <p:cNvSpPr/>
                  <p:nvPr/>
                </p:nvSpPr>
                <p:spPr>
                  <a:xfrm rot="19740000">
                    <a:off x="2764080" y="2158920"/>
                    <a:ext cx="3256920" cy="3198600"/>
                  </a:xfrm>
                  <a:prstGeom prst="ellipse">
                    <a:avLst/>
                  </a:prstGeom>
                  <a:noFill/>
                  <a:ln w="127080">
                    <a:solidFill>
                      <a:srgbClr val="9f9f9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rot="19740000">
                    <a:off x="2696400" y="2099520"/>
                    <a:ext cx="3362040" cy="3305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rot="19740000">
                    <a:off x="2804760" y="2201400"/>
                    <a:ext cx="3153600" cy="3119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79" name=""/>
              <p:cNvGrpSpPr/>
              <p:nvPr/>
            </p:nvGrpSpPr>
            <p:grpSpPr>
              <a:xfrm>
                <a:off x="5775480" y="4385520"/>
                <a:ext cx="2826000" cy="1969920"/>
                <a:chOff x="5775480" y="4385520"/>
                <a:chExt cx="2826000" cy="1969920"/>
              </a:xfrm>
            </p:grpSpPr>
            <p:sp>
              <p:nvSpPr>
                <p:cNvPr id="180" name=""/>
                <p:cNvSpPr/>
                <p:nvPr/>
              </p:nvSpPr>
              <p:spPr>
                <a:xfrm rot="19740000">
                  <a:off x="5859360" y="4485240"/>
                  <a:ext cx="472680" cy="438840"/>
                </a:xfrm>
                <a:custGeom>
                  <a:avLst/>
                  <a:gdLst/>
                  <a:ahLst/>
                  <a:rect l="l" t="t" r="r" b="b"/>
                  <a:pathLst>
                    <a:path stroke="0" w="21600" h="21600">
                      <a:moveTo>
                        <a:pt x="494" y="14030"/>
                      </a:moveTo>
                      <a:arcTo wR="10800" hR="10800" stAng="9755837" swAng="5404487"/>
                      <a:lnTo>
                        <a:pt x="10800" y="10800"/>
                      </a:lnTo>
                      <a:close/>
                    </a:path>
                    <a:path fill="none" w="21600" h="21600">
                      <a:moveTo>
                        <a:pt x="494" y="14030"/>
                      </a:moveTo>
                      <a:arcTo wR="10800" hR="10800" stAng="9755837" swAng="540448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932080" y="4485960"/>
                  <a:ext cx="2400480" cy="1703880"/>
                </a:xfrm>
                <a:custGeom>
                  <a:avLst/>
                  <a:gdLst/>
                  <a:ahLst/>
                  <a:rect l="l" t="t" r="r" b="b"/>
                  <a:pathLst>
                    <a:path w="1418" h="1008">
                      <a:moveTo>
                        <a:pt x="0" y="244"/>
                      </a:moveTo>
                      <a:lnTo>
                        <a:pt x="1250" y="1007"/>
                      </a:lnTo>
                      <a:lnTo>
                        <a:pt x="1417" y="738"/>
                      </a:lnTo>
                      <a:lnTo>
                        <a:pt x="182" y="0"/>
                      </a:lnTo>
                      <a:lnTo>
                        <a:pt x="0" y="244"/>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rot="19740000">
                  <a:off x="5855040" y="4476240"/>
                  <a:ext cx="471240" cy="439920"/>
                </a:xfrm>
                <a:custGeom>
                  <a:avLst/>
                  <a:gdLst/>
                  <a:ahLst/>
                  <a:rect l="l" t="t" r="r" b="b"/>
                  <a:pathLst>
                    <a:path stroke="0" w="21600" h="21600">
                      <a:moveTo>
                        <a:pt x="817" y="14920"/>
                      </a:moveTo>
                      <a:arcTo wR="10800" hR="10800" stAng="9454379" swAng="11450028"/>
                      <a:lnTo>
                        <a:pt x="10800" y="10800"/>
                      </a:lnTo>
                      <a:close/>
                    </a:path>
                    <a:path fill="none" w="21600" h="21600">
                      <a:moveTo>
                        <a:pt x="817" y="14920"/>
                      </a:moveTo>
                      <a:arcTo wR="10800" hR="10800" stAng="9454379" swAng="11450028"/>
                    </a:path>
                  </a:pathLst>
                </a:custGeom>
                <a:solidFill>
                  <a:srgbClr val="5f3f1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flipH="1">
                  <a:off x="5894280" y="4735800"/>
                  <a:ext cx="21492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6103080" y="4505760"/>
                  <a:ext cx="150480" cy="23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rot="19740000">
                  <a:off x="5888160" y="4477320"/>
                  <a:ext cx="500400" cy="516600"/>
                </a:xfrm>
                <a:custGeom>
                  <a:avLst/>
                  <a:gdLst/>
                  <a:ahLst/>
                  <a:rect l="l" t="t" r="r" b="b"/>
                  <a:pathLst>
                    <a:path stroke="0" w="21600" h="21600">
                      <a:moveTo>
                        <a:pt x="28" y="11574"/>
                      </a:moveTo>
                      <a:arcTo wR="10800" hR="10800" stAng="10553266" swAng="10067149"/>
                      <a:lnTo>
                        <a:pt x="10800" y="10800"/>
                      </a:lnTo>
                      <a:close/>
                    </a:path>
                    <a:path fill="none" w="21600" h="21600">
                      <a:moveTo>
                        <a:pt x="28" y="11574"/>
                      </a:moveTo>
                      <a:arcTo wR="10800" hR="10800" stAng="10553266" swAng="1006714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844240" y="4607280"/>
                  <a:ext cx="387720" cy="488520"/>
                </a:xfrm>
                <a:custGeom>
                  <a:avLst/>
                  <a:gdLst/>
                  <a:ahLst/>
                  <a:rect l="l" t="t" r="r" b="b"/>
                  <a:pathLst>
                    <a:path w="229" h="289">
                      <a:moveTo>
                        <a:pt x="49" y="168"/>
                      </a:moveTo>
                      <a:lnTo>
                        <a:pt x="25" y="153"/>
                      </a:lnTo>
                      <a:lnTo>
                        <a:pt x="17" y="140"/>
                      </a:lnTo>
                      <a:lnTo>
                        <a:pt x="15" y="110"/>
                      </a:lnTo>
                      <a:lnTo>
                        <a:pt x="0" y="86"/>
                      </a:lnTo>
                      <a:lnTo>
                        <a:pt x="5" y="70"/>
                      </a:lnTo>
                      <a:lnTo>
                        <a:pt x="2" y="38"/>
                      </a:lnTo>
                      <a:lnTo>
                        <a:pt x="7" y="20"/>
                      </a:lnTo>
                      <a:lnTo>
                        <a:pt x="13" y="0"/>
                      </a:lnTo>
                      <a:lnTo>
                        <a:pt x="215" y="103"/>
                      </a:lnTo>
                      <a:lnTo>
                        <a:pt x="198" y="129"/>
                      </a:lnTo>
                      <a:lnTo>
                        <a:pt x="193" y="147"/>
                      </a:lnTo>
                      <a:lnTo>
                        <a:pt x="188" y="165"/>
                      </a:lnTo>
                      <a:lnTo>
                        <a:pt x="184" y="184"/>
                      </a:lnTo>
                      <a:lnTo>
                        <a:pt x="199" y="209"/>
                      </a:lnTo>
                      <a:lnTo>
                        <a:pt x="208" y="252"/>
                      </a:lnTo>
                      <a:lnTo>
                        <a:pt x="228" y="288"/>
                      </a:lnTo>
                      <a:lnTo>
                        <a:pt x="49" y="168"/>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rot="19740000">
                  <a:off x="6189840" y="4664880"/>
                  <a:ext cx="471240" cy="463320"/>
                </a:xfrm>
                <a:custGeom>
                  <a:avLst/>
                  <a:gdLst/>
                  <a:ahLst/>
                  <a:rect l="l" t="t" r="r" b="b"/>
                  <a:pathLst>
                    <a:path stroke="0" w="21600" h="21600">
                      <a:moveTo>
                        <a:pt x="179" y="12759"/>
                      </a:moveTo>
                      <a:arcTo wR="10800" hR="10800" stAng="10172905" swAng="10349993"/>
                      <a:lnTo>
                        <a:pt x="10800" y="10800"/>
                      </a:lnTo>
                      <a:close/>
                    </a:path>
                    <a:path fill="none" w="21600" h="21600">
                      <a:moveTo>
                        <a:pt x="179" y="12759"/>
                      </a:moveTo>
                      <a:arcTo wR="10800" hR="10800" stAng="10172905" swAng="10349993"/>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H="1">
                  <a:off x="6194520" y="4947120"/>
                  <a:ext cx="2556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441840" y="4707000"/>
                  <a:ext cx="11664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0" name=""/>
                <p:cNvGrpSpPr/>
                <p:nvPr/>
              </p:nvGrpSpPr>
              <p:grpSpPr>
                <a:xfrm>
                  <a:off x="6127920" y="4597560"/>
                  <a:ext cx="709920" cy="672840"/>
                  <a:chOff x="6127920" y="4597560"/>
                  <a:chExt cx="709920" cy="672840"/>
                </a:xfrm>
              </p:grpSpPr>
              <p:grpSp>
                <p:nvGrpSpPr>
                  <p:cNvPr id="191" name=""/>
                  <p:cNvGrpSpPr/>
                  <p:nvPr/>
                </p:nvGrpSpPr>
                <p:grpSpPr>
                  <a:xfrm>
                    <a:off x="6127920" y="4597560"/>
                    <a:ext cx="675000" cy="662760"/>
                    <a:chOff x="6127920" y="4597560"/>
                    <a:chExt cx="675000" cy="662760"/>
                  </a:xfrm>
                </p:grpSpPr>
                <p:sp>
                  <p:nvSpPr>
                    <p:cNvPr id="192" name=""/>
                    <p:cNvSpPr/>
                    <p:nvPr/>
                  </p:nvSpPr>
                  <p:spPr>
                    <a:xfrm rot="19740000">
                      <a:off x="6212520" y="4695480"/>
                      <a:ext cx="504000" cy="468360"/>
                    </a:xfrm>
                    <a:custGeom>
                      <a:avLst/>
                      <a:gdLst/>
                      <a:ahLst/>
                      <a:rect l="l" t="t" r="r" b="b"/>
                      <a:pathLst>
                        <a:path stroke="0" w="21600" h="21600">
                          <a:moveTo>
                            <a:pt x="175" y="12737"/>
                          </a:moveTo>
                          <a:arcTo wR="10800" hR="10800" stAng="10180096" swAng="10333737"/>
                          <a:lnTo>
                            <a:pt x="10800" y="10800"/>
                          </a:lnTo>
                          <a:close/>
                        </a:path>
                        <a:path fill="none" w="21600" h="21600">
                          <a:moveTo>
                            <a:pt x="175" y="12737"/>
                          </a:moveTo>
                          <a:arcTo wR="10800" hR="10800" stAng="10180096" swAng="1033373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rot="19740000">
                      <a:off x="6215760" y="4693680"/>
                      <a:ext cx="502920" cy="465840"/>
                    </a:xfrm>
                    <a:custGeom>
                      <a:avLst/>
                      <a:gdLst/>
                      <a:ahLst/>
                      <a:rect l="l" t="t" r="r" b="b"/>
                      <a:pathLst>
                        <a:path stroke="0" w="21600" h="21600">
                          <a:moveTo>
                            <a:pt x="164" y="12675"/>
                          </a:moveTo>
                          <a:arcTo wR="10800" hR="10800" stAng="10200159" swAng="4373008"/>
                          <a:lnTo>
                            <a:pt x="10800" y="10800"/>
                          </a:lnTo>
                          <a:close/>
                        </a:path>
                        <a:path fill="none" w="21600" h="21600">
                          <a:moveTo>
                            <a:pt x="164" y="12675"/>
                          </a:moveTo>
                          <a:arcTo wR="10800" hR="10800" stAng="10200159" swAng="437300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rot="19740000">
                      <a:off x="6235560" y="4699440"/>
                      <a:ext cx="451440" cy="462600"/>
                    </a:xfrm>
                    <a:custGeom>
                      <a:avLst/>
                      <a:gdLst/>
                      <a:ahLst/>
                      <a:rect l="l" t="t" r="r" b="b"/>
                      <a:pathLst>
                        <a:path stroke="0" w="21600" h="21600">
                          <a:moveTo>
                            <a:pt x="179" y="12760"/>
                          </a:moveTo>
                          <a:arcTo wR="10800" hR="10800" stAng="10172605" swAng="10452094"/>
                          <a:lnTo>
                            <a:pt x="10800" y="10800"/>
                          </a:lnTo>
                          <a:close/>
                        </a:path>
                        <a:path fill="none" w="21600" h="21600">
                          <a:moveTo>
                            <a:pt x="179" y="12760"/>
                          </a:moveTo>
                          <a:arcTo wR="10800" hR="10800" stAng="10172605" swAng="1045209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5" name=""/>
                  <p:cNvSpPr/>
                  <p:nvPr/>
                </p:nvSpPr>
                <p:spPr>
                  <a:xfrm rot="19740000">
                    <a:off x="6280920" y="4719600"/>
                    <a:ext cx="471240" cy="462600"/>
                  </a:xfrm>
                  <a:custGeom>
                    <a:avLst/>
                    <a:gdLst/>
                    <a:ahLst/>
                    <a:rect l="l" t="t" r="r" b="b"/>
                    <a:pathLst>
                      <a:path stroke="0" w="21600" h="21600">
                        <a:moveTo>
                          <a:pt x="179" y="12759"/>
                        </a:moveTo>
                        <a:arcTo wR="10800" hR="10800" stAng="10172905" swAng="10509127"/>
                        <a:lnTo>
                          <a:pt x="10800" y="10800"/>
                        </a:lnTo>
                        <a:close/>
                      </a:path>
                      <a:path fill="none" w="21600" h="21600">
                        <a:moveTo>
                          <a:pt x="179" y="12759"/>
                        </a:moveTo>
                        <a:arcTo wR="10800" hR="10800" stAng="10172905" swAng="10509127"/>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H="1">
                    <a:off x="6282360" y="5004000"/>
                    <a:ext cx="2556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6527880" y="4767840"/>
                    <a:ext cx="15516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8" name=""/>
                <p:cNvGrpSpPr/>
                <p:nvPr/>
              </p:nvGrpSpPr>
              <p:grpSpPr>
                <a:xfrm>
                  <a:off x="6220440" y="4653360"/>
                  <a:ext cx="707400" cy="673560"/>
                  <a:chOff x="6220440" y="4653360"/>
                  <a:chExt cx="707400" cy="673560"/>
                </a:xfrm>
              </p:grpSpPr>
              <p:grpSp>
                <p:nvGrpSpPr>
                  <p:cNvPr id="199" name=""/>
                  <p:cNvGrpSpPr/>
                  <p:nvPr/>
                </p:nvGrpSpPr>
                <p:grpSpPr>
                  <a:xfrm>
                    <a:off x="6220440" y="4653360"/>
                    <a:ext cx="677160" cy="665280"/>
                    <a:chOff x="6220440" y="4653360"/>
                    <a:chExt cx="677160" cy="665280"/>
                  </a:xfrm>
                </p:grpSpPr>
                <p:sp>
                  <p:nvSpPr>
                    <p:cNvPr id="200" name=""/>
                    <p:cNvSpPr/>
                    <p:nvPr/>
                  </p:nvSpPr>
                  <p:spPr>
                    <a:xfrm rot="19740000">
                      <a:off x="6304320" y="4749120"/>
                      <a:ext cx="501120" cy="465480"/>
                    </a:xfrm>
                    <a:custGeom>
                      <a:avLst/>
                      <a:gdLst/>
                      <a:ahLst/>
                      <a:rect l="l" t="t" r="r" b="b"/>
                      <a:pathLst>
                        <a:path stroke="0" w="21600" h="21600">
                          <a:moveTo>
                            <a:pt x="176" y="12744"/>
                          </a:moveTo>
                          <a:arcTo wR="10800" hR="10800" stAng="10177751" swAng="10639673"/>
                          <a:lnTo>
                            <a:pt x="10800" y="10800"/>
                          </a:lnTo>
                          <a:close/>
                        </a:path>
                        <a:path fill="none" w="21600" h="21600">
                          <a:moveTo>
                            <a:pt x="176" y="12744"/>
                          </a:moveTo>
                          <a:arcTo wR="10800" hR="10800" stAng="10177751" swAng="10639673"/>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rot="19740000">
                      <a:off x="6305760" y="4750200"/>
                      <a:ext cx="506160" cy="471600"/>
                    </a:xfrm>
                    <a:custGeom>
                      <a:avLst/>
                      <a:gdLst/>
                      <a:ahLst/>
                      <a:rect l="l" t="t" r="r" b="b"/>
                      <a:pathLst>
                        <a:path stroke="0" w="21600" h="21600">
                          <a:moveTo>
                            <a:pt x="173" y="12723"/>
                          </a:moveTo>
                          <a:arcTo wR="10800" hR="10800" stAng="10184484" swAng="4359842"/>
                          <a:lnTo>
                            <a:pt x="10800" y="10800"/>
                          </a:lnTo>
                          <a:close/>
                        </a:path>
                        <a:path fill="none" w="21600" h="21600">
                          <a:moveTo>
                            <a:pt x="173" y="12723"/>
                          </a:moveTo>
                          <a:arcTo wR="10800" hR="10800" stAng="10184484" swAng="4359842"/>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rot="19740000">
                      <a:off x="6323400" y="4748040"/>
                      <a:ext cx="470880" cy="461880"/>
                    </a:xfrm>
                    <a:custGeom>
                      <a:avLst/>
                      <a:gdLst/>
                      <a:ahLst/>
                      <a:rect l="l" t="t" r="r" b="b"/>
                      <a:pathLst>
                        <a:path stroke="0" w="21600" h="21600">
                          <a:moveTo>
                            <a:pt x="180" y="12766"/>
                          </a:moveTo>
                          <a:arcTo wR="10800" hR="10800" stAng="10170643" swAng="10795476"/>
                          <a:lnTo>
                            <a:pt x="10800" y="10800"/>
                          </a:lnTo>
                          <a:close/>
                        </a:path>
                        <a:path fill="none" w="21600" h="21600">
                          <a:moveTo>
                            <a:pt x="180" y="12766"/>
                          </a:moveTo>
                          <a:arcTo wR="10800" hR="10800" stAng="10170643" swAng="1079547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3" name=""/>
                  <p:cNvSpPr/>
                  <p:nvPr/>
                </p:nvSpPr>
                <p:spPr>
                  <a:xfrm rot="19740000">
                    <a:off x="6375600" y="4797360"/>
                    <a:ext cx="473040" cy="438840"/>
                  </a:xfrm>
                  <a:custGeom>
                    <a:avLst/>
                    <a:gdLst/>
                    <a:ahLst/>
                    <a:rect l="l" t="t" r="r" b="b"/>
                    <a:pathLst>
                      <a:path stroke="0" w="21600" h="21600">
                        <a:moveTo>
                          <a:pt x="494" y="14030"/>
                        </a:moveTo>
                        <a:arcTo wR="10800" hR="10800" stAng="9755837" swAng="11151102"/>
                        <a:lnTo>
                          <a:pt x="10800" y="10800"/>
                        </a:lnTo>
                        <a:close/>
                      </a:path>
                      <a:path fill="none" w="21600" h="21600">
                        <a:moveTo>
                          <a:pt x="494" y="14030"/>
                        </a:moveTo>
                        <a:arcTo wR="10800" hR="10800" stAng="9755837" swAng="11151102"/>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6401160" y="5061240"/>
                    <a:ext cx="22824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6617520" y="4830120"/>
                    <a:ext cx="152280" cy="23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6310080" y="4714560"/>
                  <a:ext cx="672480" cy="660240"/>
                  <a:chOff x="6310080" y="4714560"/>
                  <a:chExt cx="672480" cy="660240"/>
                </a:xfrm>
              </p:grpSpPr>
              <p:sp>
                <p:nvSpPr>
                  <p:cNvPr id="207" name=""/>
                  <p:cNvSpPr/>
                  <p:nvPr/>
                </p:nvSpPr>
                <p:spPr>
                  <a:xfrm rot="19740000">
                    <a:off x="6395040" y="4810680"/>
                    <a:ext cx="503280" cy="466200"/>
                  </a:xfrm>
                  <a:custGeom>
                    <a:avLst/>
                    <a:gdLst/>
                    <a:ahLst/>
                    <a:rect l="l" t="t" r="r" b="b"/>
                    <a:pathLst>
                      <a:path stroke="0" w="21600" h="21600">
                        <a:moveTo>
                          <a:pt x="209" y="12915"/>
                        </a:moveTo>
                        <a:arcTo wR="10800" hR="10800" stAng="10122487" swAng="10800000"/>
                        <a:lnTo>
                          <a:pt x="10800" y="10800"/>
                        </a:lnTo>
                        <a:close/>
                      </a:path>
                      <a:path fill="none" w="21600" h="21600">
                        <a:moveTo>
                          <a:pt x="209" y="12915"/>
                        </a:moveTo>
                        <a:arcTo wR="10800" hR="10800" stAng="10122487" swAng="1080000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rot="19740000">
                    <a:off x="6393960" y="4812840"/>
                    <a:ext cx="503640" cy="465480"/>
                  </a:xfrm>
                  <a:custGeom>
                    <a:avLst/>
                    <a:gdLst/>
                    <a:ahLst/>
                    <a:rect l="l" t="t" r="r" b="b"/>
                    <a:pathLst>
                      <a:path stroke="0" w="21600" h="21600">
                        <a:moveTo>
                          <a:pt x="209" y="12915"/>
                        </a:moveTo>
                        <a:arcTo wR="10800" hR="10800" stAng="10122487" swAng="4450681"/>
                        <a:lnTo>
                          <a:pt x="10800" y="10800"/>
                        </a:lnTo>
                        <a:close/>
                      </a:path>
                      <a:path fill="none" w="21600" h="21600">
                        <a:moveTo>
                          <a:pt x="209" y="12915"/>
                        </a:moveTo>
                        <a:arcTo wR="10800" hR="10800" stAng="10122487" swAng="4450681"/>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
                <p:cNvGrpSpPr/>
                <p:nvPr/>
              </p:nvGrpSpPr>
              <p:grpSpPr>
                <a:xfrm>
                  <a:off x="6323760" y="4717080"/>
                  <a:ext cx="693000" cy="668520"/>
                  <a:chOff x="6323760" y="4717080"/>
                  <a:chExt cx="693000" cy="668520"/>
                </a:xfrm>
              </p:grpSpPr>
              <p:sp>
                <p:nvSpPr>
                  <p:cNvPr id="210" name=""/>
                  <p:cNvSpPr/>
                  <p:nvPr/>
                </p:nvSpPr>
                <p:spPr>
                  <a:xfrm rot="19740000">
                    <a:off x="6408720" y="4806000"/>
                    <a:ext cx="474120" cy="462240"/>
                  </a:xfrm>
                  <a:custGeom>
                    <a:avLst/>
                    <a:gdLst/>
                    <a:ahLst/>
                    <a:rect l="l" t="t" r="r" b="b"/>
                    <a:pathLst>
                      <a:path stroke="0" w="21600" h="21600">
                        <a:moveTo>
                          <a:pt x="180" y="12766"/>
                        </a:moveTo>
                        <a:arcTo wR="10800" hR="10800" stAng="10170707" swAng="10795509"/>
                        <a:lnTo>
                          <a:pt x="10800" y="10800"/>
                        </a:lnTo>
                        <a:close/>
                      </a:path>
                      <a:path fill="none" w="21600" h="21600">
                        <a:moveTo>
                          <a:pt x="180" y="12766"/>
                        </a:moveTo>
                        <a:arcTo wR="10800" hR="10800" stAng="10170707" swAng="107955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9740000">
                    <a:off x="6464160" y="4855680"/>
                    <a:ext cx="473040" cy="439200"/>
                  </a:xfrm>
                  <a:custGeom>
                    <a:avLst/>
                    <a:gdLst/>
                    <a:ahLst/>
                    <a:rect l="l" t="t" r="r" b="b"/>
                    <a:pathLst>
                      <a:path stroke="0" w="21600" h="21600">
                        <a:moveTo>
                          <a:pt x="216" y="12948"/>
                        </a:moveTo>
                        <a:arcTo wR="10800" hR="10800" stAng="10111828" swAng="10795111"/>
                        <a:lnTo>
                          <a:pt x="10800" y="10800"/>
                        </a:lnTo>
                        <a:close/>
                      </a:path>
                      <a:path fill="none" w="21600" h="21600">
                        <a:moveTo>
                          <a:pt x="216" y="12948"/>
                        </a:moveTo>
                        <a:arcTo wR="10800" hR="10800" stAng="10111828" swAng="10795111"/>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H="1">
                    <a:off x="6455160" y="5121000"/>
                    <a:ext cx="262080" cy="12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V="1">
                    <a:off x="6710760" y="4885920"/>
                    <a:ext cx="150120" cy="23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4" name=""/>
                <p:cNvGrpSpPr/>
                <p:nvPr/>
              </p:nvGrpSpPr>
              <p:grpSpPr>
                <a:xfrm>
                  <a:off x="5954400" y="4507560"/>
                  <a:ext cx="2410200" cy="1710360"/>
                  <a:chOff x="5954400" y="4507560"/>
                  <a:chExt cx="2410200" cy="1710360"/>
                </a:xfrm>
              </p:grpSpPr>
              <p:sp>
                <p:nvSpPr>
                  <p:cNvPr id="215" name=""/>
                  <p:cNvSpPr/>
                  <p:nvPr/>
                </p:nvSpPr>
                <p:spPr>
                  <a:xfrm>
                    <a:off x="6267240" y="4507560"/>
                    <a:ext cx="2097360" cy="1232280"/>
                  </a:xfrm>
                  <a:custGeom>
                    <a:avLst/>
                    <a:gdLst/>
                    <a:ahLst/>
                    <a:rect l="l" t="t" r="r" b="b"/>
                    <a:pathLst>
                      <a:path w="1239" h="729">
                        <a:moveTo>
                          <a:pt x="0" y="0"/>
                        </a:moveTo>
                        <a:lnTo>
                          <a:pt x="1238" y="72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954400" y="4901040"/>
                    <a:ext cx="2137680" cy="1316880"/>
                  </a:xfrm>
                  <a:custGeom>
                    <a:avLst/>
                    <a:gdLst/>
                    <a:ahLst/>
                    <a:rect l="l" t="t" r="r" b="b"/>
                    <a:pathLst>
                      <a:path w="1263" h="779">
                        <a:moveTo>
                          <a:pt x="0" y="0"/>
                        </a:moveTo>
                        <a:lnTo>
                          <a:pt x="1262" y="77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7" name=""/>
                <p:cNvGrpSpPr/>
                <p:nvPr/>
              </p:nvGrpSpPr>
              <p:grpSpPr>
                <a:xfrm>
                  <a:off x="6418080" y="4765680"/>
                  <a:ext cx="692280" cy="680040"/>
                  <a:chOff x="6418080" y="4765680"/>
                  <a:chExt cx="692280" cy="680040"/>
                </a:xfrm>
              </p:grpSpPr>
              <p:grpSp>
                <p:nvGrpSpPr>
                  <p:cNvPr id="218" name=""/>
                  <p:cNvGrpSpPr/>
                  <p:nvPr/>
                </p:nvGrpSpPr>
                <p:grpSpPr>
                  <a:xfrm>
                    <a:off x="6418080" y="4765680"/>
                    <a:ext cx="654480" cy="654840"/>
                    <a:chOff x="6418080" y="4765680"/>
                    <a:chExt cx="654480" cy="654840"/>
                  </a:xfrm>
                </p:grpSpPr>
                <p:sp>
                  <p:nvSpPr>
                    <p:cNvPr id="219" name=""/>
                    <p:cNvSpPr/>
                    <p:nvPr/>
                  </p:nvSpPr>
                  <p:spPr>
                    <a:xfrm rot="19740000">
                      <a:off x="6504120" y="4856400"/>
                      <a:ext cx="482040" cy="468360"/>
                    </a:xfrm>
                    <a:custGeom>
                      <a:avLst/>
                      <a:gdLst/>
                      <a:ahLst/>
                      <a:rect l="l" t="t" r="r" b="b"/>
                      <a:pathLst>
                        <a:path stroke="0" w="21600" h="21600">
                          <a:moveTo>
                            <a:pt x="174" y="12731"/>
                          </a:moveTo>
                          <a:arcTo wR="10800" hR="10800" stAng="10181872" swAng="10791300"/>
                          <a:lnTo>
                            <a:pt x="10800" y="10800"/>
                          </a:lnTo>
                          <a:close/>
                        </a:path>
                        <a:path fill="none" w="21600" h="21600">
                          <a:moveTo>
                            <a:pt x="174" y="12731"/>
                          </a:moveTo>
                          <a:arcTo wR="10800" hR="10800" stAng="10181872" swAng="1079130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9740000">
                      <a:off x="6504120" y="4864320"/>
                      <a:ext cx="479880" cy="465840"/>
                    </a:xfrm>
                    <a:custGeom>
                      <a:avLst/>
                      <a:gdLst/>
                      <a:ahLst/>
                      <a:rect l="l" t="t" r="r" b="b"/>
                      <a:pathLst>
                        <a:path stroke="0" w="21600" h="21600">
                          <a:moveTo>
                            <a:pt x="163" y="12670"/>
                          </a:moveTo>
                          <a:arcTo wR="10800" hR="10800" stAng="10201888" swAng="4319238"/>
                          <a:lnTo>
                            <a:pt x="10800" y="10800"/>
                          </a:lnTo>
                          <a:close/>
                        </a:path>
                        <a:path fill="none" w="21600" h="21600">
                          <a:moveTo>
                            <a:pt x="163" y="12670"/>
                          </a:moveTo>
                          <a:arcTo wR="10800" hR="10800" stAng="10201888" swAng="431923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1" name=""/>
                  <p:cNvSpPr/>
                  <p:nvPr/>
                </p:nvSpPr>
                <p:spPr>
                  <a:xfrm rot="19740000">
                    <a:off x="6504840" y="4863240"/>
                    <a:ext cx="472320" cy="461880"/>
                  </a:xfrm>
                  <a:custGeom>
                    <a:avLst/>
                    <a:gdLst/>
                    <a:ahLst/>
                    <a:rect l="l" t="t" r="r" b="b"/>
                    <a:pathLst>
                      <a:path stroke="0" w="21600" h="21600">
                        <a:moveTo>
                          <a:pt x="179" y="12759"/>
                        </a:moveTo>
                        <a:arcTo wR="10800" hR="10800" stAng="10172905" swAng="10790985"/>
                        <a:lnTo>
                          <a:pt x="10800" y="10800"/>
                        </a:lnTo>
                        <a:close/>
                      </a:path>
                      <a:path fill="none" w="21600" h="21600">
                        <a:moveTo>
                          <a:pt x="179" y="12759"/>
                        </a:moveTo>
                        <a:arcTo wR="10800" hR="10800" stAng="10172905" swAng="1079098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9740000">
                    <a:off x="6544080" y="4886640"/>
                    <a:ext cx="479880" cy="468720"/>
                  </a:xfrm>
                  <a:custGeom>
                    <a:avLst/>
                    <a:gdLst/>
                    <a:ahLst/>
                    <a:rect l="l" t="t" r="r" b="b"/>
                    <a:pathLst>
                      <a:path stroke="0" w="21600" h="21600">
                        <a:moveTo>
                          <a:pt x="175" y="12738"/>
                        </a:moveTo>
                        <a:arcTo wR="10800" hR="10800" stAng="10179688" swAng="10416889"/>
                        <a:lnTo>
                          <a:pt x="10800" y="10800"/>
                        </a:lnTo>
                        <a:close/>
                      </a:path>
                      <a:path fill="none" w="21600" h="21600">
                        <a:moveTo>
                          <a:pt x="175" y="12738"/>
                        </a:moveTo>
                        <a:arcTo wR="10800" hR="10800" stAng="10179688" swAng="1041688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3" name=""/>
                <p:cNvSpPr/>
                <p:nvPr/>
              </p:nvSpPr>
              <p:spPr>
                <a:xfrm>
                  <a:off x="6512760" y="4989600"/>
                  <a:ext cx="1620000" cy="1191600"/>
                </a:xfrm>
                <a:custGeom>
                  <a:avLst/>
                  <a:gdLst/>
                  <a:ahLst/>
                  <a:rect l="l" t="t" r="r" b="b"/>
                  <a:pathLst>
                    <a:path w="957" h="705">
                      <a:moveTo>
                        <a:pt x="27" y="0"/>
                      </a:moveTo>
                      <a:lnTo>
                        <a:pt x="10" y="27"/>
                      </a:lnTo>
                      <a:lnTo>
                        <a:pt x="6" y="47"/>
                      </a:lnTo>
                      <a:lnTo>
                        <a:pt x="0" y="65"/>
                      </a:lnTo>
                      <a:lnTo>
                        <a:pt x="2" y="97"/>
                      </a:lnTo>
                      <a:lnTo>
                        <a:pt x="10" y="108"/>
                      </a:lnTo>
                      <a:lnTo>
                        <a:pt x="6" y="128"/>
                      </a:lnTo>
                      <a:lnTo>
                        <a:pt x="19" y="153"/>
                      </a:lnTo>
                      <a:lnTo>
                        <a:pt x="34" y="178"/>
                      </a:lnTo>
                      <a:lnTo>
                        <a:pt x="887" y="704"/>
                      </a:lnTo>
                      <a:lnTo>
                        <a:pt x="956" y="545"/>
                      </a:lnTo>
                      <a:lnTo>
                        <a:pt x="27"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rot="19740000">
                  <a:off x="7981920" y="5742720"/>
                  <a:ext cx="524520" cy="514080"/>
                </a:xfrm>
                <a:prstGeom prst="ellipse">
                  <a:avLst/>
                </a:prstGeom>
                <a:solidFill>
                  <a:srgbClr val="7f5f3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25" name=""/>
            <p:cNvSpPr/>
            <p:nvPr/>
          </p:nvSpPr>
          <p:spPr>
            <a:xfrm>
              <a:off x="914400" y="1981080"/>
              <a:ext cx="270720" cy="3427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6" name=""/>
          <p:cNvSpPr/>
          <p:nvPr/>
        </p:nvSpPr>
        <p:spPr>
          <a:xfrm>
            <a:off x="601560" y="6397560"/>
            <a:ext cx="8531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DA Advisory Committee Recommendation.</a:t>
            </a:r>
            <a:endParaRPr b="0" lang="en-US" sz="1600" spc="-1" strike="noStrike">
              <a:solidFill>
                <a:srgbClr val="ffffff"/>
              </a:solidFill>
              <a:latin typeface="Arial"/>
            </a:endParaRPr>
          </a:p>
        </p:txBody>
      </p:sp>
      <p:sp>
        <p:nvSpPr>
          <p:cNvPr id="227" name="PlaceHolder 1"/>
          <p:cNvSpPr>
            <a:spLocks noGrp="1"/>
          </p:cNvSpPr>
          <p:nvPr>
            <p:ph type="title"/>
          </p:nvPr>
        </p:nvSpPr>
        <p:spPr>
          <a:xfrm>
            <a:off x="698400" y="304920"/>
            <a:ext cx="7182000" cy="11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DA Advisory Committee’s Recommendation on Delay of Pelvic Exam</a:t>
            </a:r>
            <a:endParaRPr b="0" lang="en-US" sz="3600" spc="-1" strike="noStrike">
              <a:solidFill>
                <a:srgbClr val="ffffff"/>
              </a:solidFill>
              <a:latin typeface="Garamond"/>
            </a:endParaRPr>
          </a:p>
        </p:txBody>
      </p:sp>
      <p:sp>
        <p:nvSpPr>
          <p:cNvPr id="228" name=""/>
          <p:cNvSpPr/>
          <p:nvPr/>
        </p:nvSpPr>
        <p:spPr>
          <a:xfrm>
            <a:off x="3251160" y="2514600"/>
            <a:ext cx="2529000" cy="2162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3333"/>
                </a:solidFill>
                <a:latin typeface="Verdana"/>
              </a:rPr>
              <a:t>“</a:t>
            </a:r>
            <a:r>
              <a:rPr b="1" i="1" lang="en-US" sz="1700" spc="-1" strike="noStrike">
                <a:solidFill>
                  <a:srgbClr val="333333"/>
                </a:solidFill>
                <a:latin typeface="Verdana"/>
              </a:rPr>
              <a:t>Physical examination may be deferred until after initiation of oral contraceptives if requested by the woman and judged appropriate by the clinician.”</a:t>
            </a:r>
            <a:endParaRPr b="0" lang="en-US" sz="1700" spc="-1" strike="noStrike">
              <a:solidFill>
                <a:srgbClr val="ffffff"/>
              </a:solidFill>
              <a:latin typeface="Arial"/>
            </a:endParaRPr>
          </a:p>
        </p:txBody>
      </p:sp>
      <p:sp>
        <p:nvSpPr>
          <p:cNvPr id="229" name=""/>
          <p:cNvSpPr/>
          <p:nvPr/>
        </p:nvSpPr>
        <p:spPr>
          <a:xfrm>
            <a:off x="7246800" y="6629400"/>
            <a:ext cx="189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0a1e2"/>
                </a:solidFill>
                <a:latin typeface="Verdana"/>
              </a:rPr>
              <a:t>www.contraceptiononline.org</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Does a woman need a pap before getting OCPs?</a:t>
            </a:r>
            <a:endParaRPr b="0" lang="en-US" sz="4200" spc="-1" strike="noStrike">
              <a:solidFill>
                <a:srgbClr val="fffff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tie PAP to birth control?  Would you ask a man to have a prostate exam before giving him condom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hat is Required Before Prescribing Hormonal Methods?</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33" name="PlaceHolder 2"/>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History:</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qui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P:</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Helpfu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exam, Pelvic exam, Pap, Hemoglobin, other lab tests, STI testing:</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 REQUI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34" name=""/>
          <p:cNvSpPr/>
          <p:nvPr/>
        </p:nvSpPr>
        <p:spPr>
          <a:xfrm>
            <a:off x="457200" y="6172200"/>
            <a:ext cx="8458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ewart F, et al. </a:t>
            </a:r>
            <a:r>
              <a:rPr b="0" i="1" lang="en-US" sz="2000" spc="-1" strike="noStrike">
                <a:solidFill>
                  <a:srgbClr val="ffffff"/>
                </a:solidFill>
                <a:latin typeface="Arial"/>
              </a:rPr>
              <a:t>JAMA.</a:t>
            </a:r>
            <a:r>
              <a:rPr b="0" lang="en-US" sz="2000" spc="-1" strike="noStrike">
                <a:solidFill>
                  <a:srgbClr val="ffffff"/>
                </a:solidFill>
                <a:latin typeface="Arial"/>
              </a:rPr>
              <a:t> 2001;285:2232-223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rgan</a:t>
            </a:r>
            <a:endParaRPr b="0" lang="en-US" sz="4800" spc="-1" strike="noStrike">
              <a:solidFill>
                <a:srgbClr val="ffffff"/>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 y/o G0P0</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like hormones, cause nausea</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like condoms either</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6 lbs, normal BP, LMP 2 wks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rmal Pap/STI tests 1 year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eds birth control before next week’s anniversary celebrat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ntrauterine Devices</a:t>
            </a:r>
            <a:endParaRPr b="0" lang="en-US" sz="4800" spc="-1" strike="noStrike">
              <a:solidFill>
                <a:srgbClr val="ffffff"/>
              </a:solidFill>
              <a:latin typeface="Garamond"/>
            </a:endParaRPr>
          </a:p>
        </p:txBody>
      </p:sp>
      <p:sp>
        <p:nvSpPr>
          <p:cNvPr id="238" name="PlaceHolder 2"/>
          <p:cNvSpPr>
            <a:spLocks noGrp="1"/>
          </p:cNvSpPr>
          <p:nvPr>
            <p:ph/>
          </p:nvPr>
        </p:nvSpPr>
        <p:spPr>
          <a:xfrm>
            <a:off x="304560" y="1218960"/>
            <a:ext cx="838188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options today: Copper T 380A (ParaGard) and Levonorgestrel releasing system (Mirena)</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nited States has lagged behind other countries in adopting the IUD: in 2002, only 2 percent of contraceptive users in the United States chose IUDs. By comparison, IUDs were used by over 50 percent of contracepting women in parts of Asia and 6 to 27 percent of female contraceptive users in Europe</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interest and surge of use in U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
          <p:cNvSpPr/>
          <p:nvPr/>
        </p:nvSpPr>
        <p:spPr>
          <a:xfrm>
            <a:off x="281520" y="6335640"/>
            <a:ext cx="51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Hubacher </a:t>
            </a:r>
            <a:r>
              <a:rPr b="0" i="1" lang="en-US" sz="2000" spc="-1" strike="noStrike">
                <a:solidFill>
                  <a:srgbClr val="ffffff"/>
                </a:solidFill>
                <a:latin typeface="Arial"/>
              </a:rPr>
              <a:t>Contraception </a:t>
            </a:r>
            <a:r>
              <a:rPr b="0" lang="en-US" sz="2000" spc="-1" strike="noStrike">
                <a:solidFill>
                  <a:srgbClr val="ffffff"/>
                </a:solidFill>
                <a:latin typeface="Arial"/>
              </a:rPr>
              <a:t>2004;69:437-446</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UD Myths </a:t>
            </a:r>
            <a:endParaRPr b="0" lang="en-US" sz="4800" spc="-1" strike="noStrike">
              <a:solidFill>
                <a:srgbClr val="ffffff"/>
              </a:solidFill>
              <a:latin typeface="Garamond"/>
            </a:endParaRPr>
          </a:p>
        </p:txBody>
      </p:sp>
      <p:sp>
        <p:nvSpPr>
          <p:cNvPr id="241" name="PlaceHolder 2"/>
          <p:cNvSpPr>
            <a:spLocks noGrp="1"/>
          </p:cNvSpPr>
          <p:nvPr>
            <p:ph/>
          </p:nvPr>
        </p:nvSpPr>
        <p:spPr>
          <a:xfrm>
            <a:off x="-360" y="1294920"/>
            <a:ext cx="883908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cause Abortion</a:t>
            </a:r>
            <a:r>
              <a:rPr b="0" lang="en-US" sz="2600" spc="-1" strike="noStrike">
                <a:solidFill>
                  <a:srgbClr val="ffffff"/>
                </a:solidFill>
                <a:latin typeface="Arial"/>
              </a:rPr>
              <a:t>: </a:t>
            </a:r>
            <a:endParaRPr b="0" lang="en-US" sz="26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UDs thicken cervical mucus, suppress endometrium; progestin IUD has some anovulatory effect </a:t>
            </a:r>
            <a:endParaRPr b="0" lang="en-US" sz="22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increase risk of PID</a:t>
            </a:r>
            <a:r>
              <a:rPr b="0" lang="en-US" sz="2600" spc="-1" strike="noStrike">
                <a:solidFill>
                  <a:srgbClr val="ffffff"/>
                </a:solidFill>
                <a:latin typeface="Arial"/>
              </a:rPr>
              <a:t>: </a:t>
            </a:r>
            <a:endParaRPr b="0" lang="en-US" sz="26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UD itself carries no risk of infection. Transient risk w/ insertion .</a:t>
            </a:r>
            <a:r>
              <a:rPr b="0" lang="en-US" sz="2200" spc="-1" strike="noStrike" baseline="30000">
                <a:solidFill>
                  <a:srgbClr val="ffffff"/>
                </a:solidFill>
                <a:latin typeface="Arial"/>
              </a:rPr>
              <a:t>1</a:t>
            </a:r>
            <a:r>
              <a:rPr b="0" lang="en-US" sz="2200" spc="-1" strike="noStrike">
                <a:solidFill>
                  <a:srgbClr val="ffffff"/>
                </a:solidFill>
                <a:latin typeface="Arial"/>
              </a:rPr>
              <a:t> Progestin IUD: may protect against PID, 5-year PID associated removal risk 0.8. </a:t>
            </a:r>
            <a:r>
              <a:rPr b="0" lang="en-US" sz="2200" spc="-1" strike="noStrike" baseline="30000">
                <a:solidFill>
                  <a:srgbClr val="ffffff"/>
                </a:solidFill>
                <a:latin typeface="Arial"/>
              </a:rPr>
              <a:t>2</a:t>
            </a:r>
            <a:endParaRPr b="0" lang="en-US" sz="22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increase risk of ectopic pregnancy</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In fact IUDs: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DO NOT cause pelvic infection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DO NOT decrease the chance of future pregnancies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AN be used for women who have not been pregnant</a:t>
            </a:r>
            <a:endParaRPr b="0" lang="en-US" sz="2600" spc="-1" strike="noStrike">
              <a:solidFill>
                <a:srgbClr val="ffffff"/>
              </a:solidFill>
              <a:latin typeface="Arial"/>
            </a:endParaRPr>
          </a:p>
        </p:txBody>
      </p:sp>
      <p:sp>
        <p:nvSpPr>
          <p:cNvPr id="242" name=""/>
          <p:cNvSpPr/>
          <p:nvPr/>
        </p:nvSpPr>
        <p:spPr>
          <a:xfrm>
            <a:off x="278640" y="6259680"/>
            <a:ext cx="657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Grimes       2.Andersson </a:t>
            </a:r>
            <a:r>
              <a:rPr b="0" i="1" lang="en-US" sz="2000" spc="-1" strike="noStrike">
                <a:solidFill>
                  <a:srgbClr val="ffffff"/>
                </a:solidFill>
                <a:latin typeface="Arial"/>
              </a:rPr>
              <a:t>Contraception </a:t>
            </a:r>
            <a:r>
              <a:rPr b="0" lang="en-US" sz="2000" spc="-1" strike="noStrike">
                <a:solidFill>
                  <a:srgbClr val="ffffff"/>
                </a:solidFill>
                <a:latin typeface="Arial"/>
              </a:rPr>
              <a:t>1994;49:56-7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re IUD Myths </a:t>
            </a:r>
            <a:endParaRPr b="0" lang="en-US" sz="4800" spc="-1" strike="noStrike">
              <a:solidFill>
                <a:srgbClr val="ffffff"/>
              </a:solidFill>
              <a:latin typeface="Garamond"/>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y insert at any point in the menstrual cycl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kay to use in nulliparous wome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need for prophylactic antibiotic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K to do STI testing at time of insertion (&amp; treat infections w/ IUD in plac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FDA Changes</a:t>
            </a:r>
            <a:endParaRPr b="0" lang="en-US" sz="4200" spc="-1" strike="noStrike">
              <a:solidFill>
                <a:srgbClr val="ffffff"/>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pper IUC revised its package label (September 2005) to remove the prior section on "recommended patient profile" that included multiparity, mutually monogamous relationship and history of PID. </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Pregnancies in the U.S. </a:t>
            </a:r>
            <a:endParaRPr b="0" lang="en-US" sz="4000" spc="-1" strike="noStrike">
              <a:solidFill>
                <a:srgbClr val="ffffff"/>
              </a:solidFill>
              <a:latin typeface="Garamond"/>
            </a:endParaRPr>
          </a:p>
        </p:txBody>
      </p:sp>
      <p:graphicFrame>
        <p:nvGraphicFramePr>
          <p:cNvPr id="96" name=""/>
          <p:cNvGraphicFramePr/>
          <p:nvPr/>
        </p:nvGraphicFramePr>
        <p:xfrm>
          <a:off x="2209680" y="1828800"/>
          <a:ext cx="3581640" cy="3533760"/>
        </p:xfrm>
        <a:graphic>
          <a:graphicData uri="http://schemas.openxmlformats.org/presentationml/2006/ole">
            <p:oleObj r:id="rId1" spid="">
              <p:embed/>
              <p:pic>
                <p:nvPicPr>
                  <p:cNvPr id="97" name="" descr=""/>
                  <p:cNvPicPr/>
                  <p:nvPr/>
                </p:nvPicPr>
                <p:blipFill>
                  <a:blip r:embed="rId2"/>
                  <a:stretch/>
                </p:blipFill>
                <p:spPr>
                  <a:xfrm>
                    <a:off x="2209680" y="1828800"/>
                    <a:ext cx="3581640" cy="3533760"/>
                  </a:xfrm>
                  <a:prstGeom prst="rect">
                    <a:avLst/>
                  </a:prstGeom>
                  <a:ln w="0">
                    <a:noFill/>
                  </a:ln>
                </p:spPr>
              </p:pic>
            </p:oleObj>
          </a:graphicData>
        </a:graphic>
      </p:graphicFrame>
      <p:sp>
        <p:nvSpPr>
          <p:cNvPr id="98" name=""/>
          <p:cNvSpPr/>
          <p:nvPr/>
        </p:nvSpPr>
        <p:spPr>
          <a:xfrm>
            <a:off x="457200" y="3276720"/>
            <a:ext cx="1981080" cy="15562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52 %  Intended</a:t>
            </a:r>
            <a:endParaRPr b="0" lang="en-US" sz="3200" spc="-1" strike="noStrike">
              <a:solidFill>
                <a:srgbClr val="ffffff"/>
              </a:solidFill>
              <a:latin typeface="Arial"/>
            </a:endParaRPr>
          </a:p>
        </p:txBody>
      </p:sp>
      <p:sp>
        <p:nvSpPr>
          <p:cNvPr id="99" name=""/>
          <p:cNvSpPr/>
          <p:nvPr/>
        </p:nvSpPr>
        <p:spPr>
          <a:xfrm>
            <a:off x="5334120" y="1514520"/>
            <a:ext cx="3200400" cy="186912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25 %  Unintended</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ed Contraception</a:t>
            </a:r>
            <a:endParaRPr b="0" lang="en-US" sz="2400" spc="-1" strike="noStrike">
              <a:solidFill>
                <a:srgbClr val="ffffff"/>
              </a:solidFill>
              <a:latin typeface="Arial"/>
            </a:endParaRPr>
          </a:p>
        </p:txBody>
      </p:sp>
      <p:sp>
        <p:nvSpPr>
          <p:cNvPr id="100" name=""/>
          <p:cNvSpPr/>
          <p:nvPr/>
        </p:nvSpPr>
        <p:spPr>
          <a:xfrm>
            <a:off x="5410080" y="4867200"/>
            <a:ext cx="3200400" cy="15033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23 %  Unintended</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Contraception</a:t>
            </a:r>
            <a:endParaRPr b="0" lang="en-US" sz="2400" spc="-1" strike="noStrike">
              <a:solidFill>
                <a:srgbClr val="ffffff"/>
              </a:solidFill>
              <a:latin typeface="Arial"/>
            </a:endParaRPr>
          </a:p>
        </p:txBody>
      </p:sp>
      <p:sp>
        <p:nvSpPr>
          <p:cNvPr id="101" name=""/>
          <p:cNvSpPr/>
          <p:nvPr/>
        </p:nvSpPr>
        <p:spPr>
          <a:xfrm>
            <a:off x="380880" y="6248520"/>
            <a:ext cx="5181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Leslie</a:t>
            </a:r>
            <a:endParaRPr b="0" lang="en-US" sz="4200" spc="-1" strike="noStrike">
              <a:solidFill>
                <a:srgbClr val="ffffff"/>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34 y/o G3P1</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ving an abortion today in your offic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d condoms in the past</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ich contraceptive methods can she start today?</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st-abortion birth control options</a:t>
            </a:r>
            <a:endParaRPr b="0" lang="en-US" sz="4200" spc="-1" strike="noStrike">
              <a:solidFill>
                <a:srgbClr val="ffffff"/>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O guidelines suggest the following methods without restriction after an early  abor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rogen/progestin pills, patch, ring;</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in-only injection, implant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UD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at is, anything go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UD issues post-abortion</a:t>
            </a:r>
            <a:endParaRPr b="0" lang="en-US" sz="4200" spc="-1" strike="noStrike">
              <a:solidFill>
                <a:srgbClr val="ffffff"/>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ulsion rate only slightly increased for IUDs inserted right after early aspiration abortion</a:t>
            </a:r>
            <a:r>
              <a:rPr b="0" lang="en-US" sz="3000" spc="-1" strike="noStrike" baseline="30000">
                <a:solidFill>
                  <a:srgbClr val="ffffff"/>
                </a:solidFill>
                <a:latin typeface="Arial"/>
              </a:rPr>
              <a:t>1</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increased risk of infectio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
          <p:cNvSpPr/>
          <p:nvPr/>
        </p:nvSpPr>
        <p:spPr>
          <a:xfrm>
            <a:off x="311040" y="6438960"/>
            <a:ext cx="741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Grimes et al, Cochrane Review 2004  2. Weibe, Communication 4/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560"/>
            <a:ext cx="8229600" cy="83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Estrogen/progestin vaginal ring </a:t>
            </a:r>
            <a:br>
              <a:rPr sz="4800"/>
            </a:br>
            <a:endParaRPr b="0" lang="en-US" sz="4800" spc="-1" strike="noStrike">
              <a:solidFill>
                <a:srgbClr val="ffffff"/>
              </a:solidFill>
              <a:latin typeface="Garamond"/>
            </a:endParaRPr>
          </a:p>
        </p:txBody>
      </p:sp>
      <p:sp>
        <p:nvSpPr>
          <p:cNvPr id="255" name="PlaceHolder 2"/>
          <p:cNvSpPr>
            <a:spLocks noGrp="1"/>
          </p:cNvSpPr>
          <p:nvPr>
            <p:ph/>
          </p:nvPr>
        </p:nvSpPr>
        <p:spPr>
          <a:xfrm>
            <a:off x="3428640" y="838080"/>
            <a:ext cx="5715000" cy="6019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estrogen dose: 15 mc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nch flexible soft ring</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wrong placemen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remove up to 3 hour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on’t notice during sex</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6" name="" descr=""/>
          <p:cNvPicPr/>
          <p:nvPr/>
        </p:nvPicPr>
        <p:blipFill>
          <a:blip r:embed="rId1"/>
          <a:stretch/>
        </p:blipFill>
        <p:spPr>
          <a:xfrm>
            <a:off x="380880" y="1219320"/>
            <a:ext cx="2895840" cy="2187360"/>
          </a:xfrm>
          <a:prstGeom prst="rect">
            <a:avLst/>
          </a:prstGeom>
          <a:ln w="0">
            <a:noFill/>
          </a:ln>
        </p:spPr>
      </p:pic>
      <p:pic>
        <p:nvPicPr>
          <p:cNvPr id="257" name="" descr=""/>
          <p:cNvPicPr/>
          <p:nvPr/>
        </p:nvPicPr>
        <p:blipFill>
          <a:blip r:embed="rId2"/>
          <a:stretch/>
        </p:blipFill>
        <p:spPr>
          <a:xfrm>
            <a:off x="533520" y="3581280"/>
            <a:ext cx="2776320" cy="2189160"/>
          </a:xfrm>
          <a:prstGeom prst="rect">
            <a:avLst/>
          </a:prstGeom>
          <a:ln w="0">
            <a:noFill/>
          </a:ln>
        </p:spPr>
      </p:pic>
      <p:sp>
        <p:nvSpPr>
          <p:cNvPr id="258" name=""/>
          <p:cNvSpPr/>
          <p:nvPr/>
        </p:nvSpPr>
        <p:spPr>
          <a:xfrm>
            <a:off x="457200" y="617220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291960" y="6284880"/>
            <a:ext cx="245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ben, </a:t>
            </a:r>
            <a:r>
              <a:rPr b="0" i="1" lang="en-US" sz="1800" spc="-1" strike="noStrike">
                <a:solidFill>
                  <a:srgbClr val="ffffff"/>
                </a:solidFill>
                <a:latin typeface="Arial"/>
              </a:rPr>
              <a:t>Ob Gyn, </a:t>
            </a:r>
            <a:r>
              <a:rPr b="0" lang="en-US" sz="1800" spc="-1" strike="noStrike">
                <a:solidFill>
                  <a:srgbClr val="ffffff"/>
                </a:solidFill>
                <a:latin typeface="Arial"/>
              </a:rPr>
              <a:t>2002</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0"/>
            <a:ext cx="7842240" cy="1447920"/>
          </a:xfrm>
          <a:prstGeom prst="rect">
            <a:avLst/>
          </a:prstGeom>
          <a:noFill/>
          <a:ln w="0">
            <a:noFill/>
          </a:ln>
          <a:effectLst>
            <a:outerShdw dist="36147" dir="2700000" blurRad="0" rotWithShape="0">
              <a:srgbClr val="333333"/>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Vaginal Ring</a:t>
            </a:r>
            <a:r>
              <a:rPr b="0" lang="en-US" sz="4400" spc="-1" strike="noStrike" baseline="50000">
                <a:solidFill>
                  <a:srgbClr val="ffffff"/>
                </a:solidFill>
                <a:latin typeface="Garamond"/>
              </a:rPr>
              <a:t> </a:t>
            </a:r>
            <a:r>
              <a:rPr b="0" lang="en-US" sz="4400" spc="-1" strike="noStrike">
                <a:solidFill>
                  <a:srgbClr val="ffffff"/>
                </a:solidFill>
                <a:latin typeface="Garamond"/>
              </a:rPr>
              <a:t>Expulsion</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61" name="PlaceHolder 2"/>
          <p:cNvSpPr>
            <a:spLocks noGrp="1"/>
          </p:cNvSpPr>
          <p:nvPr>
            <p:ph/>
          </p:nvPr>
        </p:nvSpPr>
        <p:spPr>
          <a:xfrm>
            <a:off x="455400" y="1294920"/>
            <a:ext cx="8459640" cy="4876920"/>
          </a:xfrm>
          <a:prstGeom prst="rect">
            <a:avLst/>
          </a:prstGeom>
          <a:noFill/>
          <a:ln w="0">
            <a:noFill/>
          </a:ln>
        </p:spPr>
        <p:txBody>
          <a:bodyPr lIns="92160" rIns="92160" tIns="46080" bIns="4608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expulsion infrequent- 2.6% </a:t>
            </a:r>
            <a:endParaRPr b="0" lang="en-US" sz="32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red only once in almost all cas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xpelled or removed, wash with warm water and reinsert within 3 hou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
          <p:cNvSpPr/>
          <p:nvPr/>
        </p:nvSpPr>
        <p:spPr>
          <a:xfrm>
            <a:off x="744480" y="457200"/>
            <a:ext cx="7966080" cy="11620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ea typeface="Times New Roman"/>
              </a:rPr>
              <a:t> </a:t>
            </a:r>
            <a:endParaRPr b="0" lang="en-US" sz="4200" spc="-1" strike="noStrike">
              <a:solidFill>
                <a:srgbClr val="ffffff"/>
              </a:solidFill>
              <a:latin typeface="Arial"/>
            </a:endParaRPr>
          </a:p>
        </p:txBody>
      </p:sp>
      <p:sp>
        <p:nvSpPr>
          <p:cNvPr id="263" name=""/>
          <p:cNvSpPr/>
          <p:nvPr/>
        </p:nvSpPr>
        <p:spPr>
          <a:xfrm>
            <a:off x="1150920" y="2209680"/>
            <a:ext cx="6908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5" name=""/>
          <p:cNvSpPr/>
          <p:nvPr/>
        </p:nvSpPr>
        <p:spPr>
          <a:xfrm>
            <a:off x="744480" y="457200"/>
            <a:ext cx="7966080" cy="11620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ea typeface="Times New Roman"/>
              </a:rPr>
              <a:t>Monthly: Contraceptive Vaginal Ring </a:t>
            </a:r>
            <a:endParaRPr b="0" lang="en-US" sz="4200" spc="-1" strike="noStrike">
              <a:solidFill>
                <a:srgbClr val="ffffff"/>
              </a:solidFill>
              <a:latin typeface="Arial"/>
            </a:endParaRPr>
          </a:p>
        </p:txBody>
      </p:sp>
      <p:sp>
        <p:nvSpPr>
          <p:cNvPr id="266" name=""/>
          <p:cNvSpPr/>
          <p:nvPr/>
        </p:nvSpPr>
        <p:spPr>
          <a:xfrm>
            <a:off x="1150920" y="2209680"/>
            <a:ext cx="6908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Very effective! </a:t>
            </a:r>
            <a:endParaRPr b="0" lang="en-US" sz="3000" spc="-1" strike="noStrike">
              <a:solidFill>
                <a:srgbClr val="ffffff"/>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Failure rate 1.2%</a:t>
            </a:r>
            <a:r>
              <a:rPr b="0" lang="en-US" sz="3400" spc="-1" strike="noStrike">
                <a:solidFill>
                  <a:srgbClr val="ffffff"/>
                </a:solidFill>
                <a:latin typeface="Arial"/>
                <a:ea typeface="Times New Roman"/>
              </a:rPr>
              <a:t> </a:t>
            </a:r>
            <a:endParaRPr b="0" lang="en-US" sz="34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May suppress ovulation to 35 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Ortho Evra Patch</a:t>
            </a:r>
            <a:endParaRPr b="0" lang="en-US" sz="4200" spc="-1" strike="noStrike">
              <a:solidFill>
                <a:srgbClr val="ffffff"/>
              </a:solidFill>
              <a:latin typeface="Garamond"/>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ily release:</a:t>
            </a:r>
            <a:endParaRPr b="0" lang="en-US" sz="3000" spc="-1" strike="noStrike">
              <a:solidFill>
                <a:srgbClr val="ffffff"/>
              </a:solidFill>
              <a:latin typeface="Arial"/>
            </a:endParaRPr>
          </a:p>
          <a:p>
            <a:pPr lvl="1" marL="669960" indent="-325440">
              <a:lnSpc>
                <a:spcPct val="90000"/>
              </a:lnSpc>
              <a:spcBef>
                <a:spcPts val="374"/>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 µg ethinyl estradiol Contraceptive Patch</a:t>
            </a:r>
            <a:br>
              <a:rPr sz="2600"/>
            </a:br>
            <a:r>
              <a:rPr b="0" lang="en-US" sz="2600" spc="-1" strike="noStrike">
                <a:solidFill>
                  <a:srgbClr val="ffffff"/>
                </a:solidFill>
                <a:latin typeface="Arial"/>
              </a:rPr>
              <a:t> </a:t>
            </a:r>
            <a:r>
              <a:rPr b="0" lang="en-US" sz="1500" spc="-1" strike="noStrike">
                <a:solidFill>
                  <a:srgbClr val="ffffff"/>
                </a:solidFill>
                <a:latin typeface="Arial"/>
              </a:rPr>
              <a:t>ORTHO EVRA ™</a:t>
            </a:r>
            <a:endParaRPr b="0" lang="en-US" sz="15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50 µg norelgestromin </a:t>
            </a:r>
            <a:r>
              <a:rPr b="0" lang="en-US" sz="2000" spc="-1" strike="noStrike">
                <a:solidFill>
                  <a:srgbClr val="ffffff"/>
                </a:solidFill>
                <a:latin typeface="Arial"/>
              </a:rPr>
              <a:t>(NGMN)</a:t>
            </a:r>
            <a:r>
              <a:rPr b="0" lang="en-US" sz="2200" spc="-1" strike="noStrike">
                <a:solidFill>
                  <a:srgbClr val="ffffff"/>
                </a:solidFill>
                <a:latin typeface="Arial"/>
              </a:rPr>
              <a:t> *</a:t>
            </a:r>
            <a:br>
              <a:rPr sz="2200"/>
            </a:br>
            <a:br>
              <a:rPr sz="2200"/>
            </a:br>
            <a:r>
              <a:rPr b="0" lang="en-US" sz="2200" spc="-1" strike="noStrike">
                <a:solidFill>
                  <a:srgbClr val="ffffff"/>
                </a:solidFill>
                <a:latin typeface="Arial"/>
              </a:rPr>
              <a:t>* the active metabolite of norgestimate</a:t>
            </a:r>
            <a:endParaRPr b="0" lang="en-US" sz="2200" spc="-1" strike="noStrike">
              <a:solidFill>
                <a:srgbClr val="ffffff"/>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patch each week </a:t>
            </a:r>
            <a:endParaRPr b="0" lang="en-US" sz="3000" spc="-1" strike="noStrike">
              <a:solidFill>
                <a:srgbClr val="ffffff"/>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men:</a:t>
            </a:r>
            <a:endParaRPr b="0" lang="en-US" sz="3000" spc="-1" strike="noStrike">
              <a:solidFill>
                <a:srgbClr val="ffffff"/>
              </a:solidFill>
              <a:latin typeface="Arial"/>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 weeks of use / 1 patch-free week</a:t>
            </a:r>
            <a:endParaRPr b="0" lang="en-US" sz="2600" spc="-1" strike="noStrike">
              <a:solidFill>
                <a:srgbClr val="ffffff"/>
              </a:solidFill>
              <a:latin typeface="Arial"/>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5 cm x 4.5 cm square</a:t>
            </a:r>
            <a:endParaRPr b="0" lang="en-US" sz="2600" spc="-1" strike="noStrike">
              <a:solidFill>
                <a:srgbClr val="ffffff"/>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mplanon </a:t>
            </a:r>
            <a:endParaRPr b="0" lang="en-US" sz="4200" spc="-1" strike="noStrike">
              <a:solidFill>
                <a:srgbClr val="ffffff"/>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4" name="implanon" descr=""/>
          <p:cNvPicPr/>
          <p:nvPr/>
        </p:nvPicPr>
        <p:blipFill>
          <a:blip r:embed="rId1"/>
          <a:stretch/>
        </p:blipFill>
        <p:spPr>
          <a:xfrm>
            <a:off x="533520" y="2514600"/>
            <a:ext cx="3886200" cy="2816280"/>
          </a:xfrm>
          <a:prstGeom prst="rect">
            <a:avLst/>
          </a:prstGeom>
          <a:ln w="0">
            <a:noFill/>
          </a:ln>
        </p:spPr>
      </p:pic>
      <p:pic>
        <p:nvPicPr>
          <p:cNvPr id="275" name="implanon2" descr=""/>
          <p:cNvPicPr/>
          <p:nvPr/>
        </p:nvPicPr>
        <p:blipFill>
          <a:blip r:embed="rId2"/>
          <a:stretch/>
        </p:blipFill>
        <p:spPr>
          <a:xfrm>
            <a:off x="4876920" y="2514600"/>
            <a:ext cx="3809880" cy="294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lanon subdermal implant approved by FDA 7/06.  Clinicians train 3 hours before obtain. </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 rod 4cm by 0.2 cm inserted into the arm</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sts 3 years; irregular unpredict bleeding</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erone only, etonogestrel 68 mg</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mary mechanism of action is suppression of ovulation, changes cervical mucous</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pidly reversible, no bone mineral density changes</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a:hlinkClick r:id="rId1"/>
          </p:cNvPr>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Unintended Pregnancy</a:t>
            </a:r>
            <a:r>
              <a:rPr b="0" lang="en-US" sz="3800" spc="-1" strike="noStrike">
                <a:solidFill>
                  <a:srgbClr val="ffffff"/>
                </a:solidFill>
                <a:latin typeface="Garamond"/>
              </a:rPr>
              <a:t> </a:t>
            </a:r>
            <a:br>
              <a:rPr sz="3800"/>
            </a:br>
            <a:r>
              <a:rPr b="0" lang="en-US" sz="4000" spc="-1" strike="noStrike">
                <a:solidFill>
                  <a:srgbClr val="ffffff"/>
                </a:solidFill>
                <a:latin typeface="Garamond"/>
              </a:rPr>
              <a:t>A Major Public Health Issue</a:t>
            </a: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103" name="PlaceHolder 2"/>
          <p:cNvSpPr>
            <a:spLocks noGrp="1"/>
          </p:cNvSpPr>
          <p:nvPr>
            <p:ph/>
          </p:nvPr>
        </p:nvSpPr>
        <p:spPr>
          <a:xfrm>
            <a:off x="380880" y="1143000"/>
            <a:ext cx="8763120" cy="52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002 National Survey of Family Growth reported that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of U.S. women experience at least one unintended pregnancy</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st majority of women reported using some form of birth contr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
          <p:cNvSpPr/>
          <p:nvPr/>
        </p:nvSpPr>
        <p:spPr>
          <a:xfrm>
            <a:off x="380880" y="6248520"/>
            <a:ext cx="653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2 National Survey of Family Growth</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Wanda</a:t>
            </a:r>
            <a:endParaRPr b="0" lang="en-US" sz="4800" spc="-1" strike="noStrike">
              <a:solidFill>
                <a:srgbClr val="ffffff"/>
              </a:solidFill>
              <a:latin typeface="Garamond"/>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 yo G3P2Tab1</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ently using OCP, but admits to frequently forgetting to take pill</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nts to try the patch because her friends like i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dherence with OCPs:</a:t>
            </a:r>
            <a:br>
              <a:rPr sz="4000"/>
            </a:br>
            <a:r>
              <a:rPr b="0" lang="en-US" sz="4000" spc="-1" strike="noStrike">
                <a:solidFill>
                  <a:srgbClr val="ffffff"/>
                </a:solidFill>
                <a:latin typeface="Garamond"/>
              </a:rPr>
              <a:t>What Women Say</a:t>
            </a:r>
            <a:endParaRPr b="0" lang="en-US" sz="4000" spc="-1" strike="noStrike">
              <a:solidFill>
                <a:srgbClr val="ffffff"/>
              </a:solidFill>
              <a:latin typeface="Garamond"/>
            </a:endParaRPr>
          </a:p>
        </p:txBody>
      </p:sp>
      <p:graphicFrame>
        <p:nvGraphicFramePr>
          <p:cNvPr id="284" name=""/>
          <p:cNvGraphicFramePr/>
          <p:nvPr/>
        </p:nvGraphicFramePr>
        <p:xfrm>
          <a:off x="0" y="1371600"/>
          <a:ext cx="9031320" cy="4726080"/>
        </p:xfrm>
        <a:graphic>
          <a:graphicData uri="http://schemas.openxmlformats.org/presentationml/2006/ole">
            <p:oleObj r:id="rId1" spid="">
              <p:embed/>
              <p:pic>
                <p:nvPicPr>
                  <p:cNvPr id="285" name="" descr=""/>
                  <p:cNvPicPr/>
                  <p:nvPr/>
                </p:nvPicPr>
                <p:blipFill>
                  <a:blip r:embed="rId2"/>
                  <a:stretch/>
                </p:blipFill>
                <p:spPr>
                  <a:xfrm>
                    <a:off x="0" y="1371600"/>
                    <a:ext cx="9031320" cy="4726080"/>
                  </a:xfrm>
                  <a:prstGeom prst="rect">
                    <a:avLst/>
                  </a:prstGeom>
                  <a:ln w="0">
                    <a:noFill/>
                  </a:ln>
                </p:spPr>
              </p:pic>
            </p:oleObj>
          </a:graphicData>
        </a:graphic>
      </p:graphicFrame>
      <p:sp>
        <p:nvSpPr>
          <p:cNvPr id="286" name=""/>
          <p:cNvSpPr/>
          <p:nvPr/>
        </p:nvSpPr>
        <p:spPr>
          <a:xfrm>
            <a:off x="6403320" y="6324480"/>
            <a:ext cx="26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FSG Survey, 1997</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aphicFrame>
        <p:nvGraphicFramePr>
          <p:cNvPr id="287" name=""/>
          <p:cNvGraphicFramePr/>
          <p:nvPr/>
        </p:nvGraphicFramePr>
        <p:xfrm>
          <a:off x="1257480" y="1944720"/>
          <a:ext cx="7213320" cy="4199040"/>
        </p:xfrm>
        <a:graphic>
          <a:graphicData uri="http://schemas.openxmlformats.org/presentationml/2006/ole">
            <p:oleObj r:id="rId1" spid="">
              <p:embed/>
              <p:pic>
                <p:nvPicPr>
                  <p:cNvPr id="288" name="" descr=""/>
                  <p:cNvPicPr/>
                  <p:nvPr/>
                </p:nvPicPr>
                <p:blipFill>
                  <a:blip r:embed="rId2"/>
                  <a:stretch/>
                </p:blipFill>
                <p:spPr>
                  <a:xfrm>
                    <a:off x="1257480" y="1944720"/>
                    <a:ext cx="7213320" cy="4199040"/>
                  </a:xfrm>
                  <a:prstGeom prst="rect">
                    <a:avLst/>
                  </a:prstGeom>
                  <a:ln w="0">
                    <a:noFill/>
                  </a:ln>
                </p:spPr>
              </p:pic>
            </p:oleObj>
          </a:graphicData>
        </a:graphic>
      </p:graphicFrame>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dherence with OCPs:</a:t>
            </a:r>
            <a:br>
              <a:rPr sz="4400"/>
            </a:br>
            <a:r>
              <a:rPr b="0" lang="en-US" sz="4400" spc="-1" strike="noStrike">
                <a:solidFill>
                  <a:srgbClr val="ffffff"/>
                </a:solidFill>
                <a:latin typeface="Garamond"/>
              </a:rPr>
              <a:t>What Women Do!</a:t>
            </a:r>
            <a:endParaRPr b="0" lang="en-US" sz="4400" spc="-1" strike="noStrike">
              <a:solidFill>
                <a:srgbClr val="ffffff"/>
              </a:solidFill>
              <a:latin typeface="Garamond"/>
            </a:endParaRPr>
          </a:p>
        </p:txBody>
      </p:sp>
      <p:sp>
        <p:nvSpPr>
          <p:cNvPr id="290" name=""/>
          <p:cNvSpPr/>
          <p:nvPr/>
        </p:nvSpPr>
        <p:spPr>
          <a:xfrm>
            <a:off x="933480" y="6391440"/>
            <a:ext cx="632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otter L et al,</a:t>
            </a:r>
            <a:r>
              <a:rPr b="0" i="1" lang="en-US" sz="1800" spc="-1" strike="noStrike">
                <a:solidFill>
                  <a:srgbClr val="ffffff"/>
                </a:solidFill>
                <a:latin typeface="Garamond"/>
              </a:rPr>
              <a:t> Fam Plann Perspect. </a:t>
            </a:r>
            <a:r>
              <a:rPr b="0" lang="en-US" sz="1800" spc="-1" strike="noStrike">
                <a:solidFill>
                  <a:srgbClr val="ffffff"/>
                </a:solidFill>
                <a:latin typeface="Garamond"/>
              </a:rPr>
              <a:t>1996.</a:t>
            </a:r>
            <a:endParaRPr b="0" lang="en-US" sz="1800" spc="-1" strike="noStrike">
              <a:solidFill>
                <a:srgbClr val="ffffff"/>
              </a:solidFill>
              <a:latin typeface="Arial"/>
            </a:endParaRPr>
          </a:p>
        </p:txBody>
      </p:sp>
      <p:sp>
        <p:nvSpPr>
          <p:cNvPr id="291" name=""/>
          <p:cNvSpPr/>
          <p:nvPr/>
        </p:nvSpPr>
        <p:spPr>
          <a:xfrm rot="16200000">
            <a:off x="-52200" y="3699000"/>
            <a:ext cx="276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ercent of Women (%)</a:t>
            </a:r>
            <a:endParaRPr b="0" lang="en-US" sz="1800" spc="-1" strike="noStrike">
              <a:solidFill>
                <a:srgbClr val="ffffff"/>
              </a:solidFill>
              <a:latin typeface="Arial"/>
            </a:endParaRPr>
          </a:p>
        </p:txBody>
      </p:sp>
      <p:sp>
        <p:nvSpPr>
          <p:cNvPr id="292" name=""/>
          <p:cNvSpPr/>
          <p:nvPr/>
        </p:nvSpPr>
        <p:spPr>
          <a:xfrm>
            <a:off x="3558240" y="563868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tive Pills Missed</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33160" y="277560"/>
            <a:ext cx="8001000" cy="865080"/>
          </a:xfrm>
          <a:prstGeom prst="rect">
            <a:avLst/>
          </a:prstGeom>
          <a:noFill/>
          <a:ln w="0">
            <a:noFill/>
          </a:ln>
          <a:effectLst>
            <a:outerShdw dist="56832" dir="1603641" blurRad="0" rotWithShape="0">
              <a:srgbClr val="333333">
                <a:alpha val="50000"/>
              </a:srgbClr>
            </a:outerShdw>
          </a:effectLst>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nitiation of All Hormonal Methods </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294" name="PlaceHolder 2"/>
          <p:cNvSpPr>
            <a:spLocks noGrp="1"/>
          </p:cNvSpPr>
          <p:nvPr>
            <p:ph/>
          </p:nvPr>
        </p:nvSpPr>
        <p:spPr>
          <a:xfrm>
            <a:off x="-360" y="1676160"/>
            <a:ext cx="9055080" cy="5638680"/>
          </a:xfrm>
          <a:prstGeom prst="rect">
            <a:avLst/>
          </a:prstGeom>
          <a:noFill/>
          <a:ln w="0">
            <a:noFill/>
          </a:ln>
        </p:spPr>
        <p:txBody>
          <a:bodyPr lIns="92160" rIns="92160" tIns="46080" bIns="46080" anchor="t">
            <a:normAutofit/>
          </a:bodyPr>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tarting after the 5</a:t>
            </a:r>
            <a:r>
              <a:rPr b="0" lang="en-US" sz="3000" spc="-1" strike="noStrike" baseline="30000">
                <a:solidFill>
                  <a:srgbClr val="ffffff"/>
                </a:solidFill>
                <a:latin typeface="Arial"/>
              </a:rPr>
              <a:t>th</a:t>
            </a:r>
            <a:r>
              <a:rPr b="0" lang="en-US" sz="3000" spc="-1" strike="noStrike">
                <a:solidFill>
                  <a:srgbClr val="ffffff"/>
                </a:solidFill>
                <a:latin typeface="Arial"/>
              </a:rPr>
              <a:t> day of menses, use back-up method for 7 days</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OCP, start any time in cycle: NO NEED TO COMPLETE PILL PACK</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depot progestin, start on or prior to next injection date (2 week window)</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IUD between menses, start one week prior to removal </a:t>
            </a:r>
            <a:endParaRPr b="0"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Blanca</a:t>
            </a:r>
            <a:endParaRPr b="0" lang="en-US" sz="4200" spc="-1" strike="noStrike">
              <a:solidFill>
                <a:srgbClr val="ffffff"/>
              </a:solidFill>
              <a:latin typeface="Garamond"/>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lanca is a 43yo G6P4 Tab2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vy painful mense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emia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broid on pelvic ultrasound</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380880"/>
            <a:ext cx="84582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rPr>
              <a:t>Progestin IUD’s </a:t>
            </a:r>
            <a:r>
              <a:rPr b="1" lang="en-US" sz="3600" spc="-1" strike="noStrike">
                <a:solidFill>
                  <a:srgbClr val="ffffff"/>
                </a:solidFill>
                <a:latin typeface="Garamond"/>
              </a:rPr>
              <a:t>Medical Advantages:</a:t>
            </a:r>
            <a:endParaRPr b="0" lang="en-US" sz="3600" spc="-1" strike="noStrike">
              <a:solidFill>
                <a:srgbClr val="ffffff"/>
              </a:solidFill>
              <a:latin typeface="Garamond"/>
            </a:endParaRPr>
          </a:p>
        </p:txBody>
      </p:sp>
      <p:sp>
        <p:nvSpPr>
          <p:cNvPr id="298" name="PlaceHolder 2"/>
          <p:cNvSpPr>
            <a:spLocks noGrp="1"/>
          </p:cNvSpPr>
          <p:nvPr>
            <p:ph/>
          </p:nvPr>
        </p:nvSpPr>
        <p:spPr>
          <a:xfrm>
            <a:off x="304560" y="1294920"/>
            <a:ext cx="8839080" cy="53341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mps &amp; menorrhagia improve</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decrease in overall blood loss</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number of hysterectomies &amp; other invasive treatments for DUB, fibroids </a:t>
            </a:r>
            <a:r>
              <a:rPr b="0" lang="en-US" sz="2800" spc="-1" strike="noStrike" baseline="30000">
                <a:solidFill>
                  <a:srgbClr val="ffffff"/>
                </a:solidFill>
                <a:latin typeface="Superscrit"/>
              </a:rPr>
              <a:t>1</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risk for ectopic pregnancy</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against endometrial C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9" name=""/>
          <p:cNvSpPr/>
          <p:nvPr/>
        </p:nvSpPr>
        <p:spPr>
          <a:xfrm>
            <a:off x="-96480" y="6259680"/>
            <a:ext cx="384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urskainen et al </a:t>
            </a:r>
            <a:r>
              <a:rPr b="0" i="1" lang="en-US" sz="2000" spc="-1" strike="noStrike">
                <a:solidFill>
                  <a:srgbClr val="ffffff"/>
                </a:solidFill>
                <a:latin typeface="Arial"/>
              </a:rPr>
              <a:t>Lancet.</a:t>
            </a:r>
            <a:r>
              <a:rPr b="0" lang="en-US" sz="2000" spc="-1" strike="noStrike">
                <a:solidFill>
                  <a:srgbClr val="ffffff"/>
                </a:solidFill>
                <a:latin typeface="Arial"/>
              </a:rPr>
              <a:t>2001 </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rogestin IUD - Mirena</a:t>
            </a:r>
            <a:endParaRPr b="0" lang="en-US" sz="4200" spc="-1" strike="noStrike">
              <a:solidFill>
                <a:srgbClr val="ffffff"/>
              </a:solidFill>
              <a:latin typeface="Garamond"/>
            </a:endParaRPr>
          </a:p>
        </p:txBody>
      </p:sp>
      <p:sp>
        <p:nvSpPr>
          <p:cNvPr id="301" name="PlaceHolder 2"/>
          <p:cNvSpPr>
            <a:spLocks noGrp="1"/>
          </p:cNvSpPr>
          <p:nvPr>
            <p:ph/>
          </p:nvPr>
        </p:nvSpPr>
        <p:spPr>
          <a:xfrm>
            <a:off x="3657600" y="1066680"/>
            <a:ext cx="5486400" cy="498816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Approved 12/ 2000</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Europe &gt;10 years</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systemic levels levonorgestrel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approved for 5 yrs of use,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st 5-yr costs of all contraceptive methods </a:t>
            </a:r>
            <a:r>
              <a:rPr b="0" lang="en-US" sz="2800" spc="-1" strike="noStrike" baseline="30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continuation rates- </a:t>
            </a:r>
            <a:endParaRPr b="0" lang="en-US" sz="2800" spc="-1" strike="noStrike">
              <a:solidFill>
                <a:srgbClr val="ffffff"/>
              </a:solidFill>
              <a:latin typeface="Arial"/>
            </a:endParaRPr>
          </a:p>
          <a:p>
            <a:pPr lvl="1" marL="669960" indent="-3254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93% at 1 yr (CuT 78%, CHC 68%)</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02" name="" descr=""/>
          <p:cNvPicPr/>
          <p:nvPr/>
        </p:nvPicPr>
        <p:blipFill>
          <a:blip r:embed="rId1"/>
          <a:stretch/>
        </p:blipFill>
        <p:spPr>
          <a:xfrm>
            <a:off x="380880" y="1295280"/>
            <a:ext cx="3276720" cy="1501920"/>
          </a:xfrm>
          <a:prstGeom prst="rect">
            <a:avLst/>
          </a:prstGeom>
          <a:ln w="0">
            <a:noFill/>
          </a:ln>
        </p:spPr>
      </p:pic>
      <p:pic>
        <p:nvPicPr>
          <p:cNvPr id="303" name="" descr=""/>
          <p:cNvPicPr/>
          <p:nvPr/>
        </p:nvPicPr>
        <p:blipFill>
          <a:blip r:embed="rId2"/>
          <a:stretch/>
        </p:blipFill>
        <p:spPr>
          <a:xfrm>
            <a:off x="914400" y="3124080"/>
            <a:ext cx="1679400" cy="3048120"/>
          </a:xfrm>
          <a:prstGeom prst="rect">
            <a:avLst/>
          </a:prstGeom>
          <a:ln w="0">
            <a:noFill/>
          </a:ln>
        </p:spPr>
      </p:pic>
      <p:sp>
        <p:nvSpPr>
          <p:cNvPr id="304" name=""/>
          <p:cNvSpPr/>
          <p:nvPr/>
        </p:nvSpPr>
        <p:spPr>
          <a:xfrm>
            <a:off x="277920" y="6259680"/>
            <a:ext cx="841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ivin </a:t>
            </a:r>
            <a:r>
              <a:rPr b="0" i="1" lang="en-US" sz="2000" spc="-1" strike="noStrike">
                <a:solidFill>
                  <a:srgbClr val="ffffff"/>
                </a:solidFill>
                <a:latin typeface="Arial"/>
              </a:rPr>
              <a:t>Contraception </a:t>
            </a:r>
            <a:r>
              <a:rPr b="0" lang="en-US" sz="2000" spc="-1" strike="noStrike">
                <a:solidFill>
                  <a:srgbClr val="ffffff"/>
                </a:solidFill>
                <a:latin typeface="Arial"/>
              </a:rPr>
              <a:t>1991 2. Chiou et al </a:t>
            </a:r>
            <a:r>
              <a:rPr b="0" i="1" lang="en-US" sz="2000" spc="-1" strike="noStrike">
                <a:solidFill>
                  <a:srgbClr val="ffffff"/>
                </a:solidFill>
                <a:latin typeface="Arial"/>
              </a:rPr>
              <a:t>Contraception.</a:t>
            </a:r>
            <a:r>
              <a:rPr b="0" lang="en-US" sz="2000" spc="-1" strike="noStrike">
                <a:solidFill>
                  <a:srgbClr val="ffffff"/>
                </a:solidFill>
                <a:latin typeface="Arial"/>
              </a:rPr>
              <a:t>2003;68(1):3-10</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rogestin IUD - Side Effects</a:t>
            </a:r>
            <a:endParaRPr b="0" lang="en-US" sz="4200" spc="-1" strike="noStrike">
              <a:solidFill>
                <a:srgbClr val="ffffff"/>
              </a:solidFill>
              <a:latin typeface="Garamond"/>
            </a:endParaRPr>
          </a:p>
        </p:txBody>
      </p:sp>
      <p:sp>
        <p:nvSpPr>
          <p:cNvPr id="306" name="PlaceHolder 2"/>
          <p:cNvSpPr>
            <a:spLocks noGrp="1"/>
          </p:cNvSpPr>
          <p:nvPr>
            <p:ph/>
          </p:nvPr>
        </p:nvSpPr>
        <p:spPr>
          <a:xfrm>
            <a:off x="457200" y="1600200"/>
            <a:ext cx="8686800" cy="46483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otting and bleeding: Increased in 1</a:t>
            </a:r>
            <a:r>
              <a:rPr b="0" lang="en-US" sz="3000" spc="-1" strike="noStrike" baseline="30000">
                <a:solidFill>
                  <a:srgbClr val="ffffff"/>
                </a:solidFill>
                <a:latin typeface="Arial"/>
              </a:rPr>
              <a:t>st</a:t>
            </a:r>
            <a:r>
              <a:rPr b="0" lang="en-US" sz="3000" spc="-1" strike="noStrike">
                <a:solidFill>
                  <a:srgbClr val="ffffff"/>
                </a:solidFill>
                <a:latin typeface="Arial"/>
              </a:rPr>
              <a:t> 3 months</a:t>
            </a:r>
            <a:endParaRPr b="0" lang="en-US" sz="30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norrhea: 20% of users by 1 yr, 60% by 5 yrs</a:t>
            </a:r>
            <a:endParaRPr b="0" lang="en-US" sz="32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ulsion:  2-12% in 1</a:t>
            </a:r>
            <a:r>
              <a:rPr b="0" lang="en-US" sz="3000" spc="-1" strike="noStrike" baseline="30000">
                <a:solidFill>
                  <a:srgbClr val="ffffff"/>
                </a:solidFill>
                <a:latin typeface="Arial"/>
              </a:rPr>
              <a:t>st</a:t>
            </a:r>
            <a:r>
              <a:rPr b="0" lang="en-US" sz="3000" spc="-1" strike="noStrike">
                <a:solidFill>
                  <a:srgbClr val="ffffff"/>
                </a:solidFill>
                <a:latin typeface="Arial"/>
              </a:rPr>
              <a:t> year.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rforation: &lt;.01% @ time of inser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daches, acne, mastalgia: &lt; 3% in 1</a:t>
            </a:r>
            <a:r>
              <a:rPr b="0" lang="en-US" sz="3000" spc="-1" strike="noStrike" baseline="30000">
                <a:solidFill>
                  <a:srgbClr val="ffffff"/>
                </a:solidFill>
                <a:latin typeface="Arial"/>
              </a:rPr>
              <a:t>st</a:t>
            </a:r>
            <a:r>
              <a:rPr b="0" lang="en-US" sz="3000" spc="-1" strike="noStrike">
                <a:solidFill>
                  <a:srgbClr val="ffffff"/>
                </a:solidFill>
                <a:latin typeface="Arial"/>
              </a:rPr>
              <a:t> months</a:t>
            </a:r>
            <a:endParaRPr b="0" lang="en-US" sz="3000" spc="-1" strike="noStrike">
              <a:solidFill>
                <a:srgbClr val="ffffff"/>
              </a:solidFill>
              <a:latin typeface="Arial"/>
            </a:endParaRPr>
          </a:p>
        </p:txBody>
      </p:sp>
      <p:sp>
        <p:nvSpPr>
          <p:cNvPr id="307" name=""/>
          <p:cNvSpPr/>
          <p:nvPr/>
        </p:nvSpPr>
        <p:spPr>
          <a:xfrm>
            <a:off x="312120" y="6248520"/>
            <a:ext cx="870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ing Contraception and  Hatcher et al </a:t>
            </a:r>
            <a:r>
              <a:rPr b="0" i="1" lang="en-US" sz="2000" spc="-1" strike="noStrike">
                <a:solidFill>
                  <a:srgbClr val="ffffff"/>
                </a:solidFill>
                <a:latin typeface="Arial"/>
              </a:rPr>
              <a:t>Contraceptive Technology </a:t>
            </a:r>
            <a:r>
              <a:rPr b="0" lang="en-US" sz="2000" spc="-1" strike="noStrike">
                <a:solidFill>
                  <a:srgbClr val="ffffff"/>
                </a:solidFill>
                <a:latin typeface="Arial"/>
              </a:rPr>
              <a:t>2004</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456840"/>
            <a:ext cx="8381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Lifetime Number of Menstrual Cycles</a:t>
            </a:r>
            <a:endParaRPr b="0" lang="en-US" sz="3800" spc="-1" strike="noStrike">
              <a:solidFill>
                <a:srgbClr val="ffffff"/>
              </a:solidFill>
              <a:latin typeface="Garamond"/>
            </a:endParaRPr>
          </a:p>
        </p:txBody>
      </p:sp>
      <p:sp>
        <p:nvSpPr>
          <p:cNvPr id="309" name=""/>
          <p:cNvSpPr/>
          <p:nvPr/>
        </p:nvSpPr>
        <p:spPr>
          <a:xfrm>
            <a:off x="1523880" y="4959360"/>
            <a:ext cx="6915240" cy="7776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10" name=""/>
          <p:cNvSpPr/>
          <p:nvPr/>
        </p:nvSpPr>
        <p:spPr>
          <a:xfrm>
            <a:off x="1523880" y="4535640"/>
            <a:ext cx="6915240" cy="7920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
          <p:cNvSpPr/>
          <p:nvPr/>
        </p:nvSpPr>
        <p:spPr>
          <a:xfrm>
            <a:off x="1523880" y="3689280"/>
            <a:ext cx="6915240" cy="88920"/>
          </a:xfrm>
          <a:custGeom>
            <a:avLst/>
            <a:gdLst/>
            <a:ahLst/>
            <a:rect l="l" t="t" r="r" b="b"/>
            <a:pathLst>
              <a:path w="726" h="9">
                <a:moveTo>
                  <a:pt x="0" y="9"/>
                </a:moveTo>
                <a:lnTo>
                  <a:pt x="12" y="0"/>
                </a:lnTo>
                <a:lnTo>
                  <a:pt x="726" y="0"/>
                </a:lnTo>
              </a:path>
            </a:pathLst>
          </a:custGeom>
          <a:no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2" name=""/>
          <p:cNvSpPr/>
          <p:nvPr/>
        </p:nvSpPr>
        <p:spPr>
          <a:xfrm>
            <a:off x="1523880" y="3276720"/>
            <a:ext cx="6915240" cy="7920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
          <p:cNvSpPr/>
          <p:nvPr/>
        </p:nvSpPr>
        <p:spPr>
          <a:xfrm>
            <a:off x="1523880" y="2430360"/>
            <a:ext cx="6915240" cy="7956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4" name=""/>
          <p:cNvSpPr/>
          <p:nvPr/>
        </p:nvSpPr>
        <p:spPr>
          <a:xfrm>
            <a:off x="1600200" y="2209680"/>
            <a:ext cx="6800760" cy="379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1467000" y="5883120"/>
            <a:ext cx="5688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 name=""/>
          <p:cNvSpPr/>
          <p:nvPr/>
        </p:nvSpPr>
        <p:spPr>
          <a:xfrm flipH="1">
            <a:off x="1504440" y="5110200"/>
            <a:ext cx="572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7" name=""/>
          <p:cNvSpPr/>
          <p:nvPr/>
        </p:nvSpPr>
        <p:spPr>
          <a:xfrm flipH="1">
            <a:off x="1504440" y="4264200"/>
            <a:ext cx="572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8" name=""/>
          <p:cNvSpPr/>
          <p:nvPr/>
        </p:nvSpPr>
        <p:spPr>
          <a:xfrm flipH="1">
            <a:off x="1504440" y="215892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1523880" y="556272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0" name=""/>
          <p:cNvSpPr/>
          <p:nvPr/>
        </p:nvSpPr>
        <p:spPr>
          <a:xfrm>
            <a:off x="2924280" y="5532480"/>
            <a:ext cx="144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1" name=""/>
          <p:cNvSpPr/>
          <p:nvPr/>
        </p:nvSpPr>
        <p:spPr>
          <a:xfrm>
            <a:off x="428616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2" name=""/>
          <p:cNvSpPr/>
          <p:nvPr/>
        </p:nvSpPr>
        <p:spPr>
          <a:xfrm>
            <a:off x="5648400" y="5532480"/>
            <a:ext cx="144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3" name=""/>
          <p:cNvSpPr/>
          <p:nvPr/>
        </p:nvSpPr>
        <p:spPr>
          <a:xfrm>
            <a:off x="701028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4" name=""/>
          <p:cNvSpPr/>
          <p:nvPr/>
        </p:nvSpPr>
        <p:spPr>
          <a:xfrm>
            <a:off x="836280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5" name=""/>
          <p:cNvSpPr/>
          <p:nvPr/>
        </p:nvSpPr>
        <p:spPr>
          <a:xfrm>
            <a:off x="0" y="6477120"/>
            <a:ext cx="7696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apted from Coutinho EM. </a:t>
            </a:r>
            <a:r>
              <a:rPr b="1" i="1" lang="en-US" sz="1600" spc="-1" strike="noStrike">
                <a:solidFill>
                  <a:srgbClr val="ffffff"/>
                </a:solidFill>
                <a:latin typeface="Arial"/>
              </a:rPr>
              <a:t>Is Menstruation Obsolete?</a:t>
            </a:r>
            <a:r>
              <a:rPr b="1" lang="en-US" sz="1600" spc="-1" strike="noStrike">
                <a:solidFill>
                  <a:srgbClr val="ffffff"/>
                </a:solidFill>
                <a:latin typeface="Arial"/>
              </a:rPr>
              <a:t> 1999.</a:t>
            </a:r>
            <a:endParaRPr b="0" lang="en-US" sz="1600" spc="-1" strike="noStrike">
              <a:solidFill>
                <a:srgbClr val="ffffff"/>
              </a:solidFill>
              <a:latin typeface="Arial"/>
            </a:endParaRPr>
          </a:p>
        </p:txBody>
      </p:sp>
      <p:sp>
        <p:nvSpPr>
          <p:cNvPr id="326" name=""/>
          <p:cNvSpPr/>
          <p:nvPr/>
        </p:nvSpPr>
        <p:spPr>
          <a:xfrm rot="16200000">
            <a:off x="289080" y="2681280"/>
            <a:ext cx="1095120" cy="12189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Cycles</a:t>
            </a:r>
            <a:endParaRPr b="0" lang="en-US" sz="2000" spc="-1" strike="noStrike">
              <a:solidFill>
                <a:srgbClr val="ffffff"/>
              </a:solidFill>
              <a:latin typeface="Arial"/>
            </a:endParaRPr>
          </a:p>
        </p:txBody>
      </p:sp>
      <p:grpSp>
        <p:nvGrpSpPr>
          <p:cNvPr id="327" name=""/>
          <p:cNvGrpSpPr/>
          <p:nvPr/>
        </p:nvGrpSpPr>
        <p:grpSpPr>
          <a:xfrm>
            <a:off x="1297080" y="990720"/>
            <a:ext cx="7522920" cy="5002920"/>
            <a:chOff x="1297080" y="990720"/>
            <a:chExt cx="7522920" cy="5002920"/>
          </a:xfrm>
        </p:grpSpPr>
        <p:sp>
          <p:nvSpPr>
            <p:cNvPr id="328" name=""/>
            <p:cNvSpPr/>
            <p:nvPr/>
          </p:nvSpPr>
          <p:spPr>
            <a:xfrm>
              <a:off x="2019240" y="1587960"/>
              <a:ext cx="6800760" cy="3916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flipV="1">
              <a:off x="1981080" y="990720"/>
              <a:ext cx="0" cy="455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1297080" y="1068840"/>
              <a:ext cx="6589440" cy="4924800"/>
              <a:chOff x="1297080" y="1068840"/>
              <a:chExt cx="6589440" cy="4924800"/>
            </a:xfrm>
          </p:grpSpPr>
          <p:sp>
            <p:nvSpPr>
              <p:cNvPr id="331" name=""/>
              <p:cNvSpPr/>
              <p:nvPr/>
            </p:nvSpPr>
            <p:spPr>
              <a:xfrm>
                <a:off x="1904760" y="1568160"/>
                <a:ext cx="114480" cy="3996720"/>
              </a:xfrm>
              <a:custGeom>
                <a:avLst/>
                <a:gdLst/>
                <a:ahLst/>
                <a:rect l="l" t="t" r="r" b="b"/>
                <a:pathLst>
                  <a:path w="72" h="2441">
                    <a:moveTo>
                      <a:pt x="0" y="2441"/>
                    </a:moveTo>
                    <a:lnTo>
                      <a:pt x="0" y="49"/>
                    </a:lnTo>
                    <a:lnTo>
                      <a:pt x="72" y="0"/>
                    </a:lnTo>
                    <a:lnTo>
                      <a:pt x="72" y="2392"/>
                    </a:lnTo>
                    <a:lnTo>
                      <a:pt x="0" y="244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638360" y="1273680"/>
                <a:ext cx="114120" cy="3996720"/>
              </a:xfrm>
              <a:custGeom>
                <a:avLst/>
                <a:gdLst/>
                <a:ahLst/>
                <a:rect l="l" t="t" r="r" b="b"/>
                <a:pathLst>
                  <a:path w="72" h="2441">
                    <a:moveTo>
                      <a:pt x="0" y="2441"/>
                    </a:moveTo>
                    <a:lnTo>
                      <a:pt x="0" y="49"/>
                    </a:lnTo>
                    <a:lnTo>
                      <a:pt x="72" y="0"/>
                    </a:lnTo>
                    <a:lnTo>
                      <a:pt x="72" y="2392"/>
                    </a:lnTo>
                    <a:lnTo>
                      <a:pt x="0" y="244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162160" y="5124600"/>
                <a:ext cx="914400" cy="5025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361960" y="5155920"/>
                <a:ext cx="53352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50</a:t>
                </a:r>
                <a:endParaRPr b="0" lang="en-US" sz="1900" spc="-1" strike="noStrike">
                  <a:solidFill>
                    <a:srgbClr val="ffffff"/>
                  </a:solidFill>
                  <a:latin typeface="Arial"/>
                </a:endParaRPr>
              </a:p>
            </p:txBody>
          </p:sp>
          <p:sp>
            <p:nvSpPr>
              <p:cNvPr id="335" name=""/>
              <p:cNvSpPr/>
              <p:nvPr/>
            </p:nvSpPr>
            <p:spPr>
              <a:xfrm>
                <a:off x="1685880" y="5422680"/>
                <a:ext cx="1350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ffffff"/>
                  </a:solidFill>
                  <a:latin typeface="Arial"/>
                </a:endParaRPr>
              </a:p>
            </p:txBody>
          </p:sp>
          <p:sp>
            <p:nvSpPr>
              <p:cNvPr id="336" name=""/>
              <p:cNvSpPr/>
              <p:nvPr/>
            </p:nvSpPr>
            <p:spPr>
              <a:xfrm>
                <a:off x="1561680" y="4987080"/>
                <a:ext cx="26892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0</a:t>
                </a:r>
                <a:endParaRPr b="0" lang="en-US" sz="1900" spc="-1" strike="noStrike">
                  <a:solidFill>
                    <a:srgbClr val="ffffff"/>
                  </a:solidFill>
                  <a:latin typeface="Arial"/>
                </a:endParaRPr>
              </a:p>
            </p:txBody>
          </p:sp>
          <p:sp>
            <p:nvSpPr>
              <p:cNvPr id="337" name=""/>
              <p:cNvSpPr/>
              <p:nvPr/>
            </p:nvSpPr>
            <p:spPr>
              <a:xfrm>
                <a:off x="1438200" y="45579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00</a:t>
                </a:r>
                <a:endParaRPr b="0" lang="en-US" sz="1900" spc="-1" strike="noStrike">
                  <a:solidFill>
                    <a:srgbClr val="ffffff"/>
                  </a:solidFill>
                  <a:latin typeface="Arial"/>
                </a:endParaRPr>
              </a:p>
            </p:txBody>
          </p:sp>
          <p:sp>
            <p:nvSpPr>
              <p:cNvPr id="338" name=""/>
              <p:cNvSpPr/>
              <p:nvPr/>
            </p:nvSpPr>
            <p:spPr>
              <a:xfrm>
                <a:off x="1438200" y="411408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50</a:t>
                </a:r>
                <a:endParaRPr b="0" lang="en-US" sz="1900" spc="-1" strike="noStrike">
                  <a:solidFill>
                    <a:srgbClr val="ffffff"/>
                  </a:solidFill>
                  <a:latin typeface="Arial"/>
                </a:endParaRPr>
              </a:p>
            </p:txBody>
          </p:sp>
          <p:sp>
            <p:nvSpPr>
              <p:cNvPr id="339" name=""/>
              <p:cNvSpPr/>
              <p:nvPr/>
            </p:nvSpPr>
            <p:spPr>
              <a:xfrm>
                <a:off x="1438200" y="36885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00</a:t>
                </a:r>
                <a:endParaRPr b="0" lang="en-US" sz="1900" spc="-1" strike="noStrike">
                  <a:solidFill>
                    <a:srgbClr val="ffffff"/>
                  </a:solidFill>
                  <a:latin typeface="Arial"/>
                </a:endParaRPr>
              </a:p>
            </p:txBody>
          </p:sp>
          <p:sp>
            <p:nvSpPr>
              <p:cNvPr id="340" name=""/>
              <p:cNvSpPr/>
              <p:nvPr/>
            </p:nvSpPr>
            <p:spPr>
              <a:xfrm>
                <a:off x="1438200" y="32565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50</a:t>
                </a:r>
                <a:endParaRPr b="0" lang="en-US" sz="1900" spc="-1" strike="noStrike">
                  <a:solidFill>
                    <a:srgbClr val="ffffff"/>
                  </a:solidFill>
                  <a:latin typeface="Arial"/>
                </a:endParaRPr>
              </a:p>
            </p:txBody>
          </p:sp>
          <p:sp>
            <p:nvSpPr>
              <p:cNvPr id="341" name=""/>
              <p:cNvSpPr/>
              <p:nvPr/>
            </p:nvSpPr>
            <p:spPr>
              <a:xfrm>
                <a:off x="1438200" y="281592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00</a:t>
                </a:r>
                <a:endParaRPr b="0" lang="en-US" sz="1900" spc="-1" strike="noStrike">
                  <a:solidFill>
                    <a:srgbClr val="ffffff"/>
                  </a:solidFill>
                  <a:latin typeface="Arial"/>
                </a:endParaRPr>
              </a:p>
            </p:txBody>
          </p:sp>
          <p:sp>
            <p:nvSpPr>
              <p:cNvPr id="342" name=""/>
              <p:cNvSpPr/>
              <p:nvPr/>
            </p:nvSpPr>
            <p:spPr>
              <a:xfrm>
                <a:off x="1438200" y="237852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50</a:t>
                </a:r>
                <a:endParaRPr b="0" lang="en-US" sz="1900" spc="-1" strike="noStrike">
                  <a:solidFill>
                    <a:srgbClr val="ffffff"/>
                  </a:solidFill>
                  <a:latin typeface="Arial"/>
                </a:endParaRPr>
              </a:p>
            </p:txBody>
          </p:sp>
          <p:sp>
            <p:nvSpPr>
              <p:cNvPr id="343" name=""/>
              <p:cNvSpPr/>
              <p:nvPr/>
            </p:nvSpPr>
            <p:spPr>
              <a:xfrm>
                <a:off x="1438200" y="19497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00</a:t>
                </a:r>
                <a:endParaRPr b="0" lang="en-US" sz="1900" spc="-1" strike="noStrike">
                  <a:solidFill>
                    <a:srgbClr val="ffffff"/>
                  </a:solidFill>
                  <a:latin typeface="Arial"/>
                </a:endParaRPr>
              </a:p>
            </p:txBody>
          </p:sp>
          <p:sp>
            <p:nvSpPr>
              <p:cNvPr id="344" name=""/>
              <p:cNvSpPr/>
              <p:nvPr/>
            </p:nvSpPr>
            <p:spPr>
              <a:xfrm>
                <a:off x="1438200" y="150768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50</a:t>
                </a:r>
                <a:endParaRPr b="0" lang="en-US" sz="1900" spc="-1" strike="noStrike">
                  <a:solidFill>
                    <a:srgbClr val="ffffff"/>
                  </a:solidFill>
                  <a:latin typeface="Arial"/>
                </a:endParaRPr>
              </a:p>
            </p:txBody>
          </p:sp>
          <p:sp>
            <p:nvSpPr>
              <p:cNvPr id="345" name=""/>
              <p:cNvSpPr/>
              <p:nvPr/>
            </p:nvSpPr>
            <p:spPr>
              <a:xfrm>
                <a:off x="1981080" y="5627520"/>
                <a:ext cx="590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19600" y="5675040"/>
                <a:ext cx="125964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rehistoric</a:t>
                </a:r>
                <a:endParaRPr b="0" lang="en-US" sz="1900" spc="-1" strike="noStrike">
                  <a:solidFill>
                    <a:srgbClr val="ffffff"/>
                  </a:solidFill>
                  <a:latin typeface="Arial"/>
                </a:endParaRPr>
              </a:p>
            </p:txBody>
          </p:sp>
          <p:sp>
            <p:nvSpPr>
              <p:cNvPr id="347" name=""/>
              <p:cNvSpPr/>
              <p:nvPr/>
            </p:nvSpPr>
            <p:spPr>
              <a:xfrm>
                <a:off x="4286160" y="4181400"/>
                <a:ext cx="914400" cy="14457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8" name=""/>
              <p:cNvGrpSpPr/>
              <p:nvPr/>
            </p:nvGrpSpPr>
            <p:grpSpPr>
              <a:xfrm>
                <a:off x="3809880" y="3976920"/>
                <a:ext cx="1973160" cy="2016720"/>
                <a:chOff x="3809880" y="3976920"/>
                <a:chExt cx="1973160" cy="2016720"/>
              </a:xfrm>
            </p:grpSpPr>
            <p:sp>
              <p:nvSpPr>
                <p:cNvPr id="349" name=""/>
                <p:cNvSpPr/>
                <p:nvPr/>
              </p:nvSpPr>
              <p:spPr>
                <a:xfrm>
                  <a:off x="4552560" y="3976920"/>
                  <a:ext cx="533160" cy="57924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160</a:t>
                  </a:r>
                  <a:endParaRPr b="0" lang="en-US" sz="1900" spc="-1" strike="noStrike">
                    <a:solidFill>
                      <a:srgbClr val="ffffff"/>
                    </a:solidFill>
                    <a:latin typeface="Arial"/>
                  </a:endParaRPr>
                </a:p>
              </p:txBody>
            </p:sp>
            <p:sp>
              <p:nvSpPr>
                <p:cNvPr id="350" name=""/>
                <p:cNvSpPr/>
                <p:nvPr/>
              </p:nvSpPr>
              <p:spPr>
                <a:xfrm>
                  <a:off x="3809880" y="5703840"/>
                  <a:ext cx="197316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lonial America</a:t>
                  </a:r>
                  <a:endParaRPr b="0" lang="en-US" sz="1900" spc="-1" strike="noStrike">
                    <a:solidFill>
                      <a:srgbClr val="ffffff"/>
                    </a:solidFill>
                    <a:latin typeface="Arial"/>
                  </a:endParaRPr>
                </a:p>
              </p:txBody>
            </p:sp>
          </p:grpSp>
          <p:sp>
            <p:nvSpPr>
              <p:cNvPr id="351" name=""/>
              <p:cNvSpPr/>
              <p:nvPr/>
            </p:nvSpPr>
            <p:spPr>
              <a:xfrm>
                <a:off x="6248160" y="1618920"/>
                <a:ext cx="914400" cy="40082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6276600" y="1735200"/>
                <a:ext cx="872280" cy="4204440"/>
                <a:chOff x="6276600" y="1735200"/>
                <a:chExt cx="872280" cy="4204440"/>
              </a:xfrm>
            </p:grpSpPr>
            <p:sp>
              <p:nvSpPr>
                <p:cNvPr id="353" name=""/>
                <p:cNvSpPr/>
                <p:nvPr/>
              </p:nvSpPr>
              <p:spPr>
                <a:xfrm>
                  <a:off x="6438960" y="1735200"/>
                  <a:ext cx="49536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450</a:t>
                  </a:r>
                  <a:endParaRPr b="0" lang="en-US" sz="1900" spc="-1" strike="noStrike">
                    <a:solidFill>
                      <a:srgbClr val="ffffff"/>
                    </a:solidFill>
                    <a:latin typeface="Arial"/>
                  </a:endParaRPr>
                </a:p>
              </p:txBody>
            </p:sp>
            <p:sp>
              <p:nvSpPr>
                <p:cNvPr id="354" name=""/>
                <p:cNvSpPr/>
                <p:nvPr/>
              </p:nvSpPr>
              <p:spPr>
                <a:xfrm>
                  <a:off x="6276600" y="5649840"/>
                  <a:ext cx="87228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Modern</a:t>
                  </a:r>
                  <a:endParaRPr b="0" lang="en-US" sz="1900" spc="-1" strike="noStrike">
                    <a:solidFill>
                      <a:srgbClr val="ffffff"/>
                    </a:solidFill>
                    <a:latin typeface="Arial"/>
                  </a:endParaRPr>
                </a:p>
              </p:txBody>
            </p:sp>
          </p:grpSp>
          <p:sp>
            <p:nvSpPr>
              <p:cNvPr id="355" name=""/>
              <p:cNvSpPr/>
              <p:nvPr/>
            </p:nvSpPr>
            <p:spPr>
              <a:xfrm>
                <a:off x="1297080" y="1068840"/>
                <a:ext cx="650160" cy="383400"/>
              </a:xfrm>
              <a:prstGeom prst="rect">
                <a:avLst/>
              </a:prstGeom>
              <a:noFill/>
              <a:ln w="0">
                <a:noFill/>
              </a:ln>
            </p:spPr>
            <p:style>
              <a:lnRef idx="0"/>
              <a:fillRef idx="0"/>
              <a:effectRef idx="0"/>
              <a:fontRef idx="minor"/>
            </p:style>
            <p:txBody>
              <a:bodyPr wrap="none"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500</a:t>
                </a:r>
                <a:endParaRPr b="0" lang="en-US" sz="1900" spc="-1" strike="noStrike">
                  <a:solidFill>
                    <a:srgbClr val="ffffff"/>
                  </a:solidFill>
                  <a:latin typeface="Arial"/>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357" name="PlaceHolder 2"/>
          <p:cNvSpPr>
            <a:spLocks noGrp="1"/>
          </p:cNvSpPr>
          <p:nvPr>
            <p:ph/>
          </p:nvPr>
        </p:nvSpPr>
        <p:spPr>
          <a:xfrm>
            <a:off x="456840" y="1066320"/>
            <a:ext cx="8381880" cy="5581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P’s 21 day on/ 7 day off cycle chosen to:</a:t>
            </a:r>
            <a:endParaRPr b="0" lang="en-US" sz="28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physiologic menstrual cycle</a:t>
            </a:r>
            <a:endParaRPr b="0" lang="en-US" sz="28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surance that not pregnant</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linical trial shows that monthly menses is healthier, safer, or easier to tolerate</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venience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y improve:</a:t>
            </a:r>
            <a:endParaRPr b="0" lang="en-US" sz="2800" spc="-1" strike="noStrike">
              <a:solidFill>
                <a:srgbClr val="ffffff"/>
              </a:solidFill>
              <a:latin typeface="Arial"/>
            </a:endParaRPr>
          </a:p>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endometriosis, anemia, dysmenorrhea, metorrhagia, PMS, menstrual migraines</a:t>
            </a:r>
            <a:endParaRPr b="0" lang="en-US" sz="2400" spc="-1" strike="noStrike">
              <a:solidFill>
                <a:srgbClr val="ffffff"/>
              </a:solidFill>
              <a:latin typeface="Arial"/>
            </a:endParaRPr>
          </a:p>
        </p:txBody>
      </p:sp>
      <p:sp>
        <p:nvSpPr>
          <p:cNvPr id="358" name=""/>
          <p:cNvSpPr/>
          <p:nvPr/>
        </p:nvSpPr>
        <p:spPr>
          <a:xfrm>
            <a:off x="-389520" y="352440"/>
            <a:ext cx="8101080" cy="125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xtended Cycle Regimens- Why?</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ewer menses per year</a:t>
            </a:r>
            <a:endParaRPr b="0" lang="en-US" sz="3800" spc="-1" strike="noStrike">
              <a:solidFill>
                <a:srgbClr val="ffffff"/>
              </a:solidFill>
              <a:latin typeface="Arial"/>
            </a:endParaRPr>
          </a:p>
        </p:txBody>
      </p:sp>
      <p:sp>
        <p:nvSpPr>
          <p:cNvPr id="359" name=""/>
          <p:cNvSpPr/>
          <p:nvPr/>
        </p:nvSpPr>
        <p:spPr>
          <a:xfrm>
            <a:off x="822240" y="6259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Abortion Rates diverge </a:t>
            </a:r>
            <a:endParaRPr b="0" lang="en-US" sz="4800" spc="-1" strike="noStrike">
              <a:solidFill>
                <a:srgbClr val="fffff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e 70’s, abortion rates of wealthy and poor groups of women were about the sam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2000, poor women’s abortion rate doubled that of wealthy wome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thnic/racial differences in rates diminish when income level is controlled</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conomic disparities in abortion rate parallel the widening gap between rich and poor in access to basic health car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361" name="PlaceHolder 2"/>
          <p:cNvSpPr>
            <a:spLocks noGrp="1"/>
          </p:cNvSpPr>
          <p:nvPr>
            <p:ph/>
          </p:nvPr>
        </p:nvSpPr>
        <p:spPr>
          <a:xfrm>
            <a:off x="456840" y="1676160"/>
            <a:ext cx="8381880" cy="497196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rease efficacy and adherence</a:t>
            </a:r>
            <a:endParaRPr b="0" lang="en-US" sz="32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ymptoms associated w/ OCP worse during withdrawal bleed</a:t>
            </a:r>
            <a:r>
              <a:rPr b="0" lang="en-US" sz="3200" spc="-1" strike="noStrike" baseline="30000">
                <a:solidFill>
                  <a:srgbClr val="ffffff"/>
                </a:solidFill>
                <a:latin typeface="Arial"/>
                <a:ea typeface="Times New Roman"/>
              </a:rPr>
              <a:t>1</a:t>
            </a:r>
            <a:endParaRPr b="0" lang="en-US" sz="32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 manipulation of a cyc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 month Perfect vs. Typical Failure &amp; Continuation Rates</a:t>
            </a:r>
            <a:endParaRPr b="0" lang="en-US" sz="2200" spc="-1" strike="noStrike">
              <a:solidFill>
                <a:srgbClr val="ffffff"/>
              </a:solidFill>
              <a:latin typeface="Arial"/>
            </a:endParaRPr>
          </a:p>
        </p:txBody>
      </p:sp>
      <p:sp>
        <p:nvSpPr>
          <p:cNvPr id="362" name=""/>
          <p:cNvSpPr/>
          <p:nvPr/>
        </p:nvSpPr>
        <p:spPr>
          <a:xfrm>
            <a:off x="228600" y="304920"/>
            <a:ext cx="7435800" cy="1252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xtended Cycle Regimens</a:t>
            </a:r>
            <a:endParaRPr b="0" lang="en-US" sz="3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3" name=""/>
          <p:cNvSpPr/>
          <p:nvPr/>
        </p:nvSpPr>
        <p:spPr>
          <a:xfrm>
            <a:off x="434160" y="6259680"/>
            <a:ext cx="5542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ulak et al </a:t>
            </a:r>
            <a:r>
              <a:rPr b="0" i="1" lang="en-US" sz="2000" spc="-1" strike="noStrike">
                <a:solidFill>
                  <a:srgbClr val="ffffff"/>
                </a:solidFill>
                <a:latin typeface="Arial"/>
              </a:rPr>
              <a:t>Obstet Gynecol. </a:t>
            </a:r>
            <a:r>
              <a:rPr b="0" lang="en-US" sz="2000" spc="-1" strike="noStrike">
                <a:solidFill>
                  <a:srgbClr val="ffffff"/>
                </a:solidFill>
                <a:latin typeface="Arial"/>
              </a:rPr>
              <a:t>2000;95:261-26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600200" y="3124080"/>
            <a:ext cx="7966080" cy="11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ntinuous use 3 months, then a week off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easonale ™ - FDA- approved  12 weeks on, 1 week off . Lybrel continuous use.</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hortened pill-free interval </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Well-tolerated, small amount of breakthrough bleeding</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stablished BC Methods</a:t>
            </a:r>
            <a:endParaRPr b="0" lang="en-US" sz="4200" spc="-1" strike="noStrike">
              <a:solidFill>
                <a:srgbClr val="ffffff"/>
              </a:solidFill>
              <a:latin typeface="Garamond"/>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rrier method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cta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erone only pill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MPA injection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sectomy</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bal Obstruction or Liga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ostpartum, coag, rings, clip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ssure:  Hysteroscopic Tubal Sterilization </a:t>
            </a:r>
            <a:endParaRPr b="0" lang="en-US" sz="4200" spc="-1" strike="noStrike">
              <a:solidFill>
                <a:srgbClr val="ffffff"/>
              </a:solidFill>
              <a:latin typeface="Garamond"/>
            </a:endParaRPr>
          </a:p>
        </p:txBody>
      </p:sp>
      <p:sp>
        <p:nvSpPr>
          <p:cNvPr id="369" name="PlaceHolder 2"/>
          <p:cNvSpPr>
            <a:spLocks noGrp="1"/>
          </p:cNvSpPr>
          <p:nvPr>
            <p:ph/>
          </p:nvPr>
        </p:nvSpPr>
        <p:spPr>
          <a:xfrm>
            <a:off x="4800240" y="2590560"/>
            <a:ext cx="3624120" cy="2971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s like for AB</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vered for health plan</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s hysteroscopy at 3 months</a:t>
            </a:r>
            <a:endParaRPr b="0" lang="en-US" sz="22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370" name="essure2" descr=""/>
          <p:cNvPicPr/>
          <p:nvPr/>
        </p:nvPicPr>
        <p:blipFill>
          <a:blip r:embed="rId1"/>
          <a:stretch/>
        </p:blipFill>
        <p:spPr>
          <a:xfrm>
            <a:off x="914400" y="4386240"/>
            <a:ext cx="3124080" cy="2471760"/>
          </a:xfrm>
          <a:prstGeom prst="rect">
            <a:avLst/>
          </a:prstGeom>
          <a:ln w="0">
            <a:noFill/>
          </a:ln>
        </p:spPr>
      </p:pic>
      <p:pic>
        <p:nvPicPr>
          <p:cNvPr id="371" name="essure%201" descr=""/>
          <p:cNvPicPr/>
          <p:nvPr/>
        </p:nvPicPr>
        <p:blipFill>
          <a:blip r:embed="rId2"/>
          <a:stretch/>
        </p:blipFill>
        <p:spPr>
          <a:xfrm>
            <a:off x="838080" y="2057400"/>
            <a:ext cx="3378240" cy="21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sources</a:t>
            </a:r>
            <a:endParaRPr b="0" lang="en-US" sz="4200" spc="-1" strike="noStrike">
              <a:solidFill>
                <a:srgbClr val="ffffff"/>
              </a:solidFill>
              <a:latin typeface="Garamond"/>
            </a:endParaRPr>
          </a:p>
        </p:txBody>
      </p:sp>
      <p:sp>
        <p:nvSpPr>
          <p:cNvPr id="373"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cher et al, </a:t>
            </a:r>
            <a:r>
              <a:rPr b="0" lang="en-US" sz="2800" spc="-1" strike="noStrike" u="sng">
                <a:solidFill>
                  <a:srgbClr val="ffffff"/>
                </a:solidFill>
                <a:uFillTx/>
                <a:latin typeface="Arial"/>
              </a:rPr>
              <a:t>Contraceptive Technology </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naging Contraception</a:t>
            </a:r>
            <a:r>
              <a:rPr b="0" lang="en-US" sz="2800" spc="-1" strike="noStrike">
                <a:solidFill>
                  <a:srgbClr val="ffffff"/>
                </a:solidFill>
                <a:latin typeface="Arial"/>
              </a:rPr>
              <a:t> – book onlin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a:t>
            </a:r>
            <a:r>
              <a:rPr b="0" lang="en-US" sz="2800" spc="-1" strike="noStrike" u="sng">
                <a:solidFill>
                  <a:srgbClr val="ffcc00"/>
                </a:solidFill>
                <a:uFillTx/>
                <a:latin typeface="Arial"/>
                <a:hlinkClick r:id="rId1"/>
              </a:rPr>
              <a:t>www.managingcontraception.or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Eligibility Criteria for Contraceptive Use 2004 by WHO (</a:t>
            </a:r>
            <a:r>
              <a:rPr b="0" lang="en-US" sz="2800" spc="-1" strike="noStrike" u="sng">
                <a:solidFill>
                  <a:srgbClr val="ffffff"/>
                </a:solidFill>
                <a:uFillTx/>
                <a:latin typeface="Arial"/>
              </a:rPr>
              <a:t>www.who.int/reproductive-heal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ion of Reproductive Health Professionals (ARHP)  (</a:t>
            </a:r>
            <a:r>
              <a:rPr b="0" lang="en-US" sz="2800" spc="-1" strike="noStrike" u="sng">
                <a:solidFill>
                  <a:srgbClr val="ffcc00"/>
                </a:solidFill>
                <a:uFillTx/>
                <a:latin typeface="Arial"/>
                <a:hlinkClick r:id="rId2"/>
              </a:rPr>
              <a:t>www.arhp.or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n Guttmacher Institute  (</a:t>
            </a:r>
            <a:r>
              <a:rPr b="0" lang="en-US" sz="2800" spc="-1" strike="noStrike" u="sng">
                <a:solidFill>
                  <a:srgbClr val="ffcc00"/>
                </a:solidFill>
                <a:uFillTx/>
                <a:latin typeface="Arial"/>
                <a:hlinkClick r:id="rId3"/>
              </a:rPr>
              <a:t>www.agi-usa.or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 contraceptiononline.org</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plannedparenthood.org</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4"/>
              </a:rPr>
              <a:t>www.Not-2-Late.co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andy</a:t>
            </a:r>
            <a:endParaRPr b="0" lang="en-US" sz="4800" spc="-1" strike="noStrike">
              <a:solidFill>
                <a:srgbClr val="fffff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7 y/o girl with normal sports physical 4 years ago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MP 3 weeks ago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today for pregnancy test</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had unprotected sex 4 days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 urine pregnancy test is nega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600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ency Contraception:</a:t>
            </a:r>
            <a:br>
              <a:rPr sz="4400"/>
            </a:br>
            <a:r>
              <a:rPr b="0" lang="en-US" sz="4400" spc="-1" strike="noStrike">
                <a:solidFill>
                  <a:srgbClr val="ffffff"/>
                </a:solidFill>
                <a:latin typeface="Arial"/>
              </a:rPr>
              <a:t>Levonorgestrel</a:t>
            </a:r>
            <a:r>
              <a:rPr b="0" lang="en-US" sz="3400" spc="-1" strike="noStrike">
                <a:solidFill>
                  <a:srgbClr val="ffffff"/>
                </a:solidFill>
                <a:latin typeface="Arial"/>
              </a:rPr>
              <a:t> </a:t>
            </a:r>
            <a:br>
              <a:rPr sz="3400"/>
            </a:br>
            <a:r>
              <a:rPr b="0" lang="en-US" sz="3400" spc="-1" strike="noStrike">
                <a:solidFill>
                  <a:srgbClr val="ffffff"/>
                </a:solidFill>
                <a:latin typeface="Arial"/>
              </a:rPr>
              <a:t>(Plan B)</a:t>
            </a:r>
            <a:endParaRPr b="0" lang="en-US" sz="3400" spc="-1" strike="noStrike">
              <a:solidFill>
                <a:srgbClr val="ffffff"/>
              </a:solidFill>
              <a:latin typeface="Garamond"/>
            </a:endParaRPr>
          </a:p>
        </p:txBody>
      </p:sp>
      <p:pic>
        <p:nvPicPr>
          <p:cNvPr id="110" name="" descr=""/>
          <p:cNvPicPr/>
          <p:nvPr/>
        </p:nvPicPr>
        <p:blipFill>
          <a:blip r:embed="rId1"/>
          <a:stretch/>
        </p:blipFill>
        <p:spPr>
          <a:xfrm>
            <a:off x="5105520" y="3354480"/>
            <a:ext cx="3124080" cy="1471680"/>
          </a:xfrm>
          <a:prstGeom prst="rect">
            <a:avLst/>
          </a:prstGeom>
          <a:ln w="0">
            <a:noFill/>
          </a:ln>
        </p:spPr>
      </p:pic>
      <p:pic>
        <p:nvPicPr>
          <p:cNvPr id="111" name="" descr=""/>
          <p:cNvPicPr/>
          <p:nvPr/>
        </p:nvPicPr>
        <p:blipFill>
          <a:blip r:embed="rId2"/>
          <a:stretch/>
        </p:blipFill>
        <p:spPr>
          <a:xfrm>
            <a:off x="1219320" y="2819520"/>
            <a:ext cx="2570040" cy="2747880"/>
          </a:xfrm>
          <a:prstGeom prst="rect">
            <a:avLst/>
          </a:prstGeom>
          <a:ln w="0">
            <a:noFill/>
          </a:ln>
        </p:spPr>
      </p:pic>
      <p:sp>
        <p:nvSpPr>
          <p:cNvPr id="112" name=""/>
          <p:cNvSpPr/>
          <p:nvPr/>
        </p:nvSpPr>
        <p:spPr>
          <a:xfrm>
            <a:off x="212760" y="5715000"/>
            <a:ext cx="7799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g: 2 tabs at once, up to 5 days after unprotected s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6868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ency Contraception (EC)</a:t>
            </a:r>
            <a:br>
              <a:rPr sz="4400"/>
            </a:br>
            <a:r>
              <a:rPr b="0" lang="en-US" sz="2800" spc="-1" strike="noStrike">
                <a:solidFill>
                  <a:srgbClr val="ffff66"/>
                </a:solidFill>
                <a:latin typeface="Arial"/>
              </a:rPr>
              <a:t>WILL NOT DISRUPT AN IMPLANTED PREGNANCY</a:t>
            </a:r>
            <a:endParaRPr b="0" lang="en-US" sz="2800" spc="-1" strike="noStrike">
              <a:solidFill>
                <a:srgbClr val="ffffff"/>
              </a:solidFill>
              <a:latin typeface="Garamond"/>
            </a:endParaRPr>
          </a:p>
        </p:txBody>
      </p:sp>
      <p:sp>
        <p:nvSpPr>
          <p:cNvPr id="114" name="PlaceHolder 2"/>
          <p:cNvSpPr>
            <a:spLocks noGrp="1"/>
          </p:cNvSpPr>
          <p:nvPr>
            <p:ph/>
          </p:nvPr>
        </p:nvSpPr>
        <p:spPr>
          <a:xfrm>
            <a:off x="380880" y="1599840"/>
            <a:ext cx="8229600" cy="5257800"/>
          </a:xfrm>
          <a:prstGeom prst="rect">
            <a:avLst/>
          </a:prstGeom>
          <a:noFill/>
          <a:ln w="0">
            <a:noFill/>
          </a:ln>
        </p:spPr>
        <p:txBody>
          <a:bodyPr lIns="92160" rIns="92160" tIns="46080" bIns="46080" anchor="t">
            <a:normAutofit/>
          </a:bodyPr>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a:t>
            </a:r>
            <a:r>
              <a:rPr b="0" lang="en-US" sz="2400" spc="-1" strike="noStrike">
                <a:solidFill>
                  <a:srgbClr val="ffffff"/>
                </a:solidFill>
                <a:latin typeface="Arial"/>
              </a:rPr>
              <a:t>ovulation</a:t>
            </a:r>
            <a:endParaRPr b="0" lang="en-US" sz="24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s sperm in thickened </a:t>
            </a:r>
            <a:r>
              <a:rPr b="0" lang="en-US" sz="2400" spc="-1" strike="noStrike">
                <a:solidFill>
                  <a:srgbClr val="ffffff"/>
                </a:solidFill>
                <a:latin typeface="Arial"/>
              </a:rPr>
              <a:t>cervical mucu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tubal </a:t>
            </a:r>
            <a:r>
              <a:rPr b="0" lang="en-US" sz="2400" spc="-1" strike="noStrike">
                <a:solidFill>
                  <a:srgbClr val="ffffff"/>
                </a:solidFill>
                <a:latin typeface="Arial"/>
              </a:rPr>
              <a:t>transport of egg or sperm</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s </a:t>
            </a:r>
            <a:r>
              <a:rPr b="0" lang="en-US" sz="2400" spc="-1" strike="noStrike">
                <a:solidFill>
                  <a:srgbClr val="ffffff"/>
                </a:solidFill>
                <a:latin typeface="Arial"/>
              </a:rPr>
              <a:t>implantation</a:t>
            </a:r>
            <a:endParaRPr b="0" lang="en-US" sz="24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interfere with </a:t>
            </a:r>
            <a:r>
              <a:rPr b="0" lang="en-US" sz="2400" spc="-1" strike="noStrike">
                <a:solidFill>
                  <a:srgbClr val="ffffff"/>
                </a:solidFill>
                <a:latin typeface="Arial"/>
              </a:rPr>
              <a:t>fertilization</a:t>
            </a:r>
            <a:r>
              <a:rPr b="0" lang="en-US" sz="2400" spc="-1" strike="noStrike">
                <a:solidFill>
                  <a:srgbClr val="ffffff"/>
                </a:solidFill>
                <a:latin typeface="Arial"/>
              </a:rPr>
              <a:t>, early cell division, or transport of embryo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mergency Contraception (EC)</a:t>
            </a:r>
            <a:endParaRPr b="0" lang="en-US" sz="4400" spc="-1" strike="noStrike">
              <a:solidFill>
                <a:srgbClr val="ffffff"/>
              </a:solidFill>
              <a:latin typeface="Garamond"/>
            </a:endParaRPr>
          </a:p>
        </p:txBody>
      </p:sp>
      <p:sp>
        <p:nvSpPr>
          <p:cNvPr id="116" name="PlaceHolder 2"/>
          <p:cNvSpPr>
            <a:spLocks noGrp="1"/>
          </p:cNvSpPr>
          <p:nvPr>
            <p:ph/>
          </p:nvPr>
        </p:nvSpPr>
        <p:spPr>
          <a:xfrm>
            <a:off x="0" y="1219320"/>
            <a:ext cx="8763120" cy="48355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C use doubles when provided in advance</a:t>
            </a:r>
            <a:r>
              <a:rPr b="0" lang="en-US" sz="3000" spc="-1" strike="noStrike" baseline="30000">
                <a:solidFill>
                  <a:srgbClr val="ffffff"/>
                </a:solidFill>
                <a:latin typeface="Arial"/>
              </a:rPr>
              <a:t>1</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sy access to EC does not lead to decreased use of usual contraceptive method</a:t>
            </a:r>
            <a:r>
              <a:rPr b="0" lang="en-US" sz="3000" spc="-1" strike="noStrike" baseline="30000">
                <a:solidFill>
                  <a:srgbClr val="ffffff"/>
                </a:solidFill>
                <a:latin typeface="Arial"/>
              </a:rPr>
              <a:t>2</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sy access does not increase STIs or unprotected intercourse</a:t>
            </a:r>
            <a:r>
              <a:rPr b="0" lang="en-US" sz="3000" spc="-1" strike="noStrike" baseline="30000">
                <a:solidFill>
                  <a:srgbClr val="ffffff"/>
                </a:solidFill>
                <a:latin typeface="Arial"/>
              </a:rPr>
              <a:t>2</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rect Pharmacy Access in following states:</a:t>
            </a:r>
            <a:endParaRPr b="0" lang="en-US" sz="3000" spc="-1" strike="noStrike">
              <a:solidFill>
                <a:srgbClr val="ffffff"/>
              </a:solidFill>
              <a:latin typeface="Arial"/>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shington, Maine, California, Alaska, New Mexico &amp; Hawaii </a:t>
            </a:r>
            <a:endParaRPr b="0" lang="en-US" sz="2600" spc="-1" strike="noStrike">
              <a:solidFill>
                <a:srgbClr val="ffffff"/>
              </a:solidFill>
              <a:latin typeface="Arial"/>
            </a:endParaRPr>
          </a:p>
        </p:txBody>
      </p:sp>
      <p:sp>
        <p:nvSpPr>
          <p:cNvPr id="117" name=""/>
          <p:cNvSpPr/>
          <p:nvPr/>
        </p:nvSpPr>
        <p:spPr>
          <a:xfrm>
            <a:off x="228600" y="6248520"/>
            <a:ext cx="3207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42840" y="6156360"/>
            <a:ext cx="61563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ssel et al </a:t>
            </a:r>
            <a:r>
              <a:rPr b="0" i="1" lang="en-US" sz="2000" spc="-1" strike="noStrike">
                <a:solidFill>
                  <a:srgbClr val="ffffff"/>
                </a:solidFill>
                <a:latin typeface="Arial"/>
              </a:rPr>
              <a:t>Soc Sci Med.</a:t>
            </a:r>
            <a:r>
              <a:rPr b="0" lang="en-US" sz="2000" spc="-1" strike="noStrike">
                <a:solidFill>
                  <a:srgbClr val="ffffff"/>
                </a:solidFill>
                <a:latin typeface="Arial"/>
              </a:rPr>
              <a:t>2003;57:2367-2378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aine et al </a:t>
            </a:r>
            <a:r>
              <a:rPr b="0" i="1" lang="en-US" sz="2000" spc="-1" strike="noStrike">
                <a:solidFill>
                  <a:srgbClr val="ffffff"/>
                </a:solidFill>
                <a:latin typeface="Arial"/>
              </a:rPr>
              <a:t>JAMA.</a:t>
            </a:r>
            <a:r>
              <a:rPr b="0" lang="en-US" sz="2000" spc="-1" strike="noStrike">
                <a:solidFill>
                  <a:srgbClr val="ffffff"/>
                </a:solidFill>
                <a:latin typeface="Arial"/>
              </a:rPr>
              <a:t>2005;293:54-62</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3045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C treatment</a:t>
            </a:r>
            <a:br>
              <a:rPr sz="4200"/>
            </a:br>
            <a:r>
              <a:rPr b="0" lang="en-US" sz="4200" spc="-1" strike="noStrike">
                <a:solidFill>
                  <a:srgbClr val="ffffff"/>
                </a:solidFill>
                <a:latin typeface="Garamond"/>
              </a:rPr>
              <a:t>simplified (progestin only)</a:t>
            </a:r>
            <a:endParaRPr b="0" lang="en-US" sz="4200" spc="-1" strike="noStrike">
              <a:solidFill>
                <a:srgbClr val="ffffff"/>
              </a:solidFill>
              <a:latin typeface="Garamond"/>
            </a:endParaRPr>
          </a:p>
        </p:txBody>
      </p:sp>
      <p:sp>
        <p:nvSpPr>
          <p:cNvPr id="12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OLD :  2 doses</a:t>
            </a:r>
            <a:r>
              <a:rPr b="0" lang="en-US" sz="3000" spc="-1" strike="noStrike">
                <a:solidFill>
                  <a:srgbClr val="ffffff"/>
                </a:solidFill>
                <a:latin typeface="Arial"/>
              </a:rPr>
              <a:t> of 1 Plan B pill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st dose within 72 hours after intercours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dose 12 hours later</a:t>
            </a: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NEW :  1 dose</a:t>
            </a:r>
            <a:r>
              <a:rPr b="0" lang="en-US" sz="3000" spc="-1" strike="noStrike">
                <a:solidFill>
                  <a:srgbClr val="ffffff"/>
                </a:solidFill>
                <a:latin typeface="Arial"/>
              </a:rPr>
              <a:t> of 2 Plan B pills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soon as possible – but up to 120 hours after intercour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4T07:19:10Z</dcterms:created>
  <dc:creator>Norma Jo Waxman</dc:creator>
  <dc:description/>
  <dc:language>en-US</dc:language>
  <cp:lastModifiedBy>Sharone Abramowitz</cp:lastModifiedBy>
  <dcterms:modified xsi:type="dcterms:W3CDTF">2009-02-04T20:21:05Z</dcterms:modified>
  <cp:revision>91</cp:revision>
  <dc:subject/>
  <dc:title>New Contraceptive Options  AMWA’s 2005 Annual Meeting January 29, 2005 </dc:title>
</cp:coreProperties>
</file>