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66B74-C00C-4761-B1E9-D9F953508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zing part is how RARELY I’ve had to think about insurance as a resident here…. Even in the face of such dramatic philosophical change last spring, we still work in such a strong health care system compared to the altern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et appetites, here are two experiences I had early in my intern year where a patient’s INSURANCE COVERAGE dictated (and in fact compromised) the quality of care they received…. My life/career goal is to work toward a system where this is never the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006F5-C644-4919-90E6-66EB89A51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E64-B27C-4B3B-A733-B0628420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10B-34E1-4E94-B49B-8ED9B707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CC4-CDA4-4C4E-8EA2-315C1457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36F-5740-4373-8837-A65159F8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4D1F0-B1D7-42E3-88E4-079D8103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CA48-C910-4D01-9EDD-E5C2BE6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728E-1201-4D00-AE35-CCC588F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D7BAA-5DD3-4DB0-B80A-6B10777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A8DE-7D86-40B6-BE49-DCC40284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8700F-1A9C-4348-B7DD-D5C36FD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233B7-CE1F-47C0-B360-AA627F0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709-0A5A-4345-9B38-E3A4EE42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AC0A6-643B-45A3-ACD5-D821117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53C2-585F-4AEC-B5E4-37360E0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2A529-4CD5-47D8-B37F-93CC10C4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62037-3FB3-4F86-BC47-E1A0AB10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4471-EDE6-4F77-913F-09449947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11E0-E8DD-49F6-B299-1611213E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B2EB-6CC9-48FB-ACA4-39E3B5D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6F45-CA33-4227-B72A-F0588CA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287DA-C325-43F2-BCD2-E95A53D1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17B7-FF28-4866-9D6D-BF5EA258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4FB-67EF-4785-8ECD-16C5D11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CC76-373C-4695-A621-D7661768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5C65-95D3-4140-82BB-C6738DD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F44D-21EF-46CE-B371-4FC6A17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801C-5E32-4D1E-8DC1-9D62618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26C1-0FB2-498E-AB46-7E81850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8D06-CD2C-4E02-897A-873D40DD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CA91-3F11-4E16-9F08-670AE837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0971-F8E4-41E1-A632-B4C0B381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4387-C9F9-4FF7-A2EE-D6B31839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A217-3FEE-4788-BE00-E4B390B6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A3C-A441-4CD2-B18C-621DF59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3A72-75B8-4F82-8034-4967B51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2F46-E999-4A0D-ADD9-096311F3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DEAB-B3A9-4881-B42E-23B8B61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C11B-22CC-4109-8E29-F20BD5D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77F3C-7EEB-402F-899B-673140E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CC41-70C7-4191-9A66-D622043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A51E-4D61-4AE7-9A4E-A6A51A2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EF36-C5A9-44F6-B0B3-AA15B48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D6E7-AD34-472C-86E4-98BB4736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7A0F-E281-412E-BBDF-1AEEE7EA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45B-1D86-44D6-9983-B6D76224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5679-E9E5-422C-A0F4-07281C3F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3AD3-CECB-4E5B-89C8-697E0A9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F3D9-BFD8-4BFA-AF82-272CCC43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9DDE-EFF0-4B06-A5A7-0AEA9C0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9FD3-58F3-49A6-BE06-8BAAE6F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88955-2F98-4871-88D3-05038402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E3ED-8E44-41DD-86E7-1E80730F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BAF0-15E5-41FD-B673-C74287A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FD17-ECF2-49CD-A285-39829E0E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30C0-EB8C-44B7-A432-289A1EAC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D1B-614B-4AE6-9DC1-D97ECD5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5E4E-5AB7-449C-B4B7-14321B41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63B61-7AD6-46A8-91B9-41B112AF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C600-BE84-4701-ACB0-A514593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7A88-6E65-434F-987F-6EDE07A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89C8F-20CC-404C-8FB2-8FB3FA0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8E00-C4E8-4EFF-9B44-CA5BAE6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555EA-7E77-4391-BC66-B58B2EF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D26A0-0D2C-4933-8848-49975FB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4AC1-97C6-40E9-9D6E-0B0CCEE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A7AB9-B1C0-44BB-8B74-B14429E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6AC-243B-4D25-AC28-884BB706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FB041-1774-4579-BEF2-EFC3843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7F7B9-8CB0-44BD-918A-00A1F9A0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EEFC-0777-4E0E-8D5D-E63D208D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8B75C-394C-4E52-BE38-3E17C037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D1E9E-7002-469A-8311-525ED40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5764-3FE1-4934-93E9-D8DD31E0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E053-4F2C-4FD6-AA71-122D6B3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4B23-EA00-4E18-8A2E-64573CB0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16C3D-F9D5-413F-9EA8-A6B06D6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484A7-3103-445F-9149-7379DBD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538-5A75-4B19-810C-86691D2A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973B-1E4E-4793-9802-C363036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B11F-14DF-4F18-8961-5AFA5CE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D1B6-3C39-46B0-BBE3-FA7EBAB9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3C656-AD02-4970-B3E4-058A1B4B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9B5B-6C3B-4DD1-B1C4-CFEDA0E6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D811E-E055-4513-BBDD-F9A9D9DF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73C7-9117-4321-9702-F205F6E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6BAC-7004-4CCC-B6DD-743EA3D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47C0-3103-40BB-BC1B-DB7AA02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EEBAD-D1EF-400D-945E-D9FBA3D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D21-15BD-44AA-BCF5-D4C7364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94596-C0BF-4FC2-B8DD-492D9B1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1AF7-D6C1-40E3-86BE-DB9D083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34C2D-B6AF-4059-BA02-A5A71AD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B9C4-4096-42AE-B79E-241EBE1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ED3A-1756-455D-B50A-1077C394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E858-E81D-403E-AF96-688E6374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C962D-2A75-43E3-B19C-D0FC9A86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85C37-A82B-4955-A34A-934A856A1474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539B3-7A03-40E6-805B-B51214CDD007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723C0-0BDD-4392-A28A-C380762DC34C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FC9AA-8C5B-4043-B718-D743A3B09A1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2B215-D08B-49C9-B42D-9EE6EC4F5947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E2E8C-F114-4F6B-AD3F-2A6E8704E9B8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0F780-9BB0-4136-83FA-9513E7920A61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98E9D-1AF9-4728-8347-2421B970D08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0000"/>
                </a:solidFill>
                <a:latin typeface="Calisto MT"/>
              </a:rPr>
              <a:t>Crossing the Void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7994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sto MT"/>
              </a:rPr>
              <a:t>Understanding Contra Costa’s Newly Uninsured Patient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66" name="Picture 3" descr="liberty3.jpg"/>
          <p:cNvPicPr/>
          <p:nvPr/>
        </p:nvPicPr>
        <p:blipFill>
          <a:blip r:embed="rId1"/>
          <a:stretch/>
        </p:blipFill>
        <p:spPr>
          <a:xfrm>
            <a:off x="914400" y="3124080"/>
            <a:ext cx="4637160" cy="30783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248520" y="441972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Kali Stange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PG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December 28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 happens now with undocumented pts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ounty writes off costs accrued during inpatient stay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0 day override available for specially identified pts requiring specialty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Pts requiring longer care must be approved by CEO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RN for specialty care acts as check/balanc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ew administrative costs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Kid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Clinic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Specialty Acces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Basic Health 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County Residents with limited assets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o not qualify for MediCal or MediCar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Needs to be renewed frequently (every 6 months) but can be immediately approved (as opposed to MediCal, needs 4-6 months)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O, AN, AT, AZ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Requires: proof of source of support (ie quarterly statement, pay stub); list of assets; proof of residence (PG&amp;E, water bill); ID; proof of US citizenship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Invited refugees ok (political asylum not qualified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Permanent residents ok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  <a:p>
            <a:pPr lvl="1" marL="565920" indent="-289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62626"/>
                </a:solidFill>
                <a:latin typeface="Calisto MT"/>
              </a:rPr>
              <a:t>Work authorization not qualified (work, religious, or student visas)</a:t>
            </a:r>
            <a:endParaRPr b="0" lang="en-US" sz="17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r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Open enrollment period each year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s 65 and older; renal failu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MediCal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ge under 21 or over 65 are not eligibl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ligible: adults responsible for a deprived minor child; disabled greater than 1 year; pregnant wom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4-6 months to get approved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ncial Counselors and CCRMC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Every inpatient has a financial folder – either pending, PO, or BHC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All PO or BHC patients are seen by FCs during hospitalization to attempt to qualify them for better coverag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Cs make notes in E2Search (SW/case mgrs have access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hat’s the problem with BHC?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t really insurance – doesn’t cover pts outside of the county even in emergencies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MediCal reimburses better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sto MT"/>
              </a:rPr>
              <a:t>No ambulance coverage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lvl="1" marL="560160" indent="-28620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at’s next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401" name="Content Placeholder 5" descr="Joe_Wilson_You_Lie.jpg"/>
          <p:cNvPicPr/>
          <p:nvPr/>
        </p:nvPicPr>
        <p:blipFill>
          <a:blip r:embed="rId1"/>
          <a:srcRect l="-1433" t="0" r="-1433" b="0"/>
          <a:stretch/>
        </p:blipFill>
        <p:spPr>
          <a:xfrm>
            <a:off x="1295280" y="2286000"/>
            <a:ext cx="61977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 Conclus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Give me your tired, your poor, 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Your huddled masses yearning to breathe fre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The wretched refuse of your teeming shore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Send these, the homeless, tempest-tost to me,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Calisto MT"/>
              </a:rPr>
              <a:t>I lift my lamp beside the golden door!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404" name="Content Placeholder 3" descr="liberty3.jpg"/>
          <p:cNvPicPr/>
          <p:nvPr/>
        </p:nvPicPr>
        <p:blipFill>
          <a:blip r:embed="rId1"/>
          <a:srcRect l="-3578" t="0" r="-3578" b="0"/>
          <a:stretch/>
        </p:blipFill>
        <p:spPr>
          <a:xfrm>
            <a:off x="658800" y="696960"/>
            <a:ext cx="3492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ject Objectiv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Describe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health care access for undocumented immigrant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n Contra Costa County, in light of BHC eligibility cuts enacted in Jun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Understand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current outpatient primary care resource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vailable for uninsured patients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Identify and realize strategies for connecting undocumented patients to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outpatient follow-up services upon hospital discharge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Explain basic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differences between types of insurance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 coverage in Contra Costa County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Brainstorm methods for </a:t>
            </a:r>
            <a:r>
              <a:rPr b="1" lang="en-US" sz="1900" spc="-1" strike="noStrike">
                <a:solidFill>
                  <a:srgbClr val="262626"/>
                </a:solidFill>
                <a:latin typeface="Calisto MT"/>
              </a:rPr>
              <a:t>increasing communication between financial counselors and medical providers </a:t>
            </a:r>
            <a:r>
              <a:rPr b="0" lang="en-US" sz="1900" spc="-1" strike="noStrike">
                <a:solidFill>
                  <a:srgbClr val="262626"/>
                </a:solidFill>
                <a:latin typeface="Calisto MT"/>
              </a:rPr>
              <a:t>at CCRMC</a:t>
            </a: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  <a:p>
            <a:pPr marL="276840" indent="-27684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Goals of this Present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Provide a bit of information gleaned during my 2 weeks on Community Medicin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hare experiences, corrections, arguments, thoughts, ideas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ster conversatio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1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37 yo Spanish-speaking man with shortness of breath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ase 2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27 yo woman w/AML still in hospital after being discharged by her primary team earlier in the morning…..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tate MediC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Medi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Basic Health Care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etera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Healthy Familie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Who are the uninsured in our county?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Visitors to the county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Wealthy uninsured (assets too high to qualify for MediCal or BHC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sto MT"/>
              </a:rPr>
              <a:t>Undocumented </a:t>
            </a: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(as of June 2009)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ausing for some definitions….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Immigrant:  foreign-born individua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Legal non-citizen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Naturalized citizen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Undocumented immigrants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Undocumented Immigrants in the U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58800" y="2285640"/>
            <a:ext cx="782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39 million immigrants in US make up 13% of our population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7 in 10 of these are naturalized citizens or legal non-citizen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46% of ALL immigrants are uninsured; 59% of undocumented immigrants are uninsured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make-up 20% of total US uninsured p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Undocumented immigrants are prohibited from Medicaid and CHIP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Non-citizens are also prohibited from Medicaid and CHIP for their 1</a:t>
            </a:r>
            <a:r>
              <a:rPr b="0" lang="en-US" sz="1100" spc="-1" strike="noStrike" baseline="30000">
                <a:solidFill>
                  <a:srgbClr val="262626"/>
                </a:solidFill>
                <a:latin typeface="Calisto MT"/>
              </a:rPr>
              <a:t>st</a:t>
            </a: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 5 years in the U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Pregnant women and children in this category = state dependent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In 2005, Medicaid began requiring proof of citizenship which led to a decrease in coverage, largely due to loss of coverage in </a:t>
            </a:r>
            <a:r>
              <a:rPr b="1" lang="en-US" sz="1300" spc="-1" strike="noStrike">
                <a:solidFill>
                  <a:srgbClr val="262626"/>
                </a:solidFill>
                <a:latin typeface="Calisto MT"/>
              </a:rPr>
              <a:t>US citizens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This new requirement cost $28 million in administrative cos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Calisto MT"/>
              </a:rPr>
              <a:t>6 states combined spent $8 million to identify total 8 undocumented immigrants</a:t>
            </a:r>
            <a:endParaRPr b="0" lang="en-US" sz="11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US immigrants are healthier than the general population (thought 2/2 self-selection of who is healthy enough to immigrate)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Calisto MT"/>
              </a:rPr>
              <a:t>sdf</a:t>
            </a: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0:40:29Z</dcterms:created>
  <dc:creator>Kali Stanger</dc:creator>
  <dc:description/>
  <dc:language>en-US</dc:language>
  <cp:lastModifiedBy>lthomas</cp:lastModifiedBy>
  <dcterms:modified xsi:type="dcterms:W3CDTF">2009-12-28T16:59:47Z</dcterms:modified>
  <cp:revision>6</cp:revision>
  <dc:subject/>
  <dc:title>Crossing the Void</dc:title>
</cp:coreProperties>
</file>