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D8C6C-5C80-4E4E-AA93-02E7AD298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zing part is how RARELY I’ve had to think about insurance as a resident here…. Even in the face of such dramatic philosophical change last spring, we still work in such a strong health care system compared to the altern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et appetites, here are two experiences I had early in my intern year where a patient’s INSURANCE COVERAGE dictated (and in fact compromised) the quality of care they received…. My life/career goal is to work toward a system where this is never the c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4C57C-0A9D-440B-93B3-C28B4C9E4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0C6-B1C0-4DC1-ADC4-6CD5FD33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D87-A646-42CC-BDF9-F840EA9E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E8F-E81B-4309-B070-1C8BB2E9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7BD-2643-4155-811C-6FDC852A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7AEAA-9242-4B78-82B1-30A8E5B3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91F3F-C8F5-491B-938F-5C4B2E2F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BE6EF-8BC3-4890-8EB4-BCC9E850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F4810-BB99-44D1-AD2B-CDC2D596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C9E7F-0EDD-4F2E-901C-99964326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46E5D-FBB3-40F9-8074-F84E3B19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25858-50D0-4C4D-8F12-BD248A67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EC5-D029-4FD2-85B4-C034FCE0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2A579-3648-401D-A7DF-CF154FFE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ABB56-4690-49E6-B60B-4A682E3F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8345A-9895-4592-9BC6-50C4339E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A2C3B-AF83-4034-8203-4168F5B3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C1A94-3020-468A-AE0A-FB516F9B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856F-D48E-4002-9AD5-3AD7D095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F7E73-80FE-48B6-B56F-D7AC2CBE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88922-278F-4657-B136-4B5BE76F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3625-175B-4E28-8854-85CBD611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9AB63-D2C2-4922-B2FB-CDE7C191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CB1-150E-42D4-B8E3-6EC7BDA8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8D288-42D8-4904-A8A2-A587EFD9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EF49-B413-4E53-AA7E-61BEEFD3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DDDC-5477-428A-B5E2-1DA96003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998C6-0635-402A-BD7C-0B264FF8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F21F9-A558-4D75-9167-C7F613D0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8AE6-5723-4D5D-A490-23541536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C0EA-34F8-4340-88BE-A5708D6C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42390-BF35-4BE0-A23F-503CAE9C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01E00-DD7A-4315-A1BE-35908621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6E45-BCB1-46FA-A944-2EAB0FE6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D35-76D1-4290-AFBD-F2831B6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79E1C-2D31-45C2-AE71-D3D872CD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290D-D87C-43C2-AB1A-71D556DF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E5437-C2CE-4D10-8514-1AE168ED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D0F3C-2607-4B51-B1FC-5A6AA59D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62378-9B6F-4B26-BE1E-D7F6315F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AA22B-FD8C-4611-BE82-8DD29F45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58B8-76B0-4039-B027-FB98DDF7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89DF-199B-4219-8B12-B42ABE46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E427C-7BFB-4174-AA1F-494046F2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45A1-A708-4760-A4B9-76AD9BF9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E57-A28E-4127-8CE4-B106253C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74016-3A32-41EA-9B9C-40F4812B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1754C-B57D-4471-8CBC-36CB0DCA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45B58-74B7-4919-A365-6A9EC4EC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970A-F088-405B-BC02-C1777586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414C8-2F4D-48D9-A53C-6A135508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2038F-A42E-4094-89C5-0D43AE14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E8587-16D2-4BD4-952A-6917D7BE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E7A63-9CC1-465B-AAE4-D20B08F7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C0430-17F4-4AD1-BCE6-FD3A72B4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B6D1A-CD0B-4C59-8674-81F7209B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493-4341-4CB5-A214-88FC2992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D7827-134C-404A-85BA-1CA9702E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E8B33-877D-4F10-A681-869992E3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06816-7372-43CC-9A9E-9DD3DE90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8042E-DFF3-4555-8260-62289F7F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82206-4176-407D-BC24-3BA275F2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50BCB-D706-45D7-9413-57398FEF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6EC0A-9091-47AB-BC53-6021E711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C676A-879B-49C7-A986-42F132E2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ACE07-1B6C-4497-AF22-A3C184D9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1F4EA-CC4A-4D65-888A-F38E2EE1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11B-E92E-499B-BFE5-1BB3A1C0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E883C-3BC3-46C1-A385-48F83203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9530-74E3-4D90-9C65-8B7F7460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C2026-55AB-4C50-AC65-76BE9D1B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CDC12-DBC8-4F8C-9056-F0C552CF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5D25B-758C-4877-AB87-960C546B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A98D1-B9E2-4B99-8024-DBE52E8D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D13B-95FD-483D-900F-396C925A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02172-6199-4814-87FC-9B9A061E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BC618-B456-4166-A067-A967EEE8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EE4F0-A77C-4ED9-925F-790A32A6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1ED-8817-48D4-A402-D01967EB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F4076-9E88-476B-BC8F-49E8EE8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27EC8-927B-4375-AFAF-3A537BB6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F7678-7D84-400E-A61F-85E91A73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55366-E456-462B-B28A-A2D4FEDB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30D58-9A41-44AF-A4B4-3101CAE4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69BDB-8D36-44A2-B6DB-26A1E06D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B4A7D-5B53-4C8E-B393-E5F90E3D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F4FB5-4E0D-4034-96BB-826A07A5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2A2E9-9A60-4C6E-AAA8-C68D8941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221FC-654B-4526-AF71-4BE66834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2A2-F630-4F27-8232-12E4A72E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615F0-8200-4042-B916-CD448D92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88CAD-7911-4F53-BA1E-1E16C406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C84EA-8F40-4D3A-8EDB-E2FADD79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18A02-E809-4AF8-AC9D-3CF51BB5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41DB3-414B-4156-9A12-A29781CE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84901-895C-4C61-B67C-EAD549D2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83D67-DD30-46C9-90C6-3FAA0138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E2838-C9B4-4C77-8844-0B4199A3EAC9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20459-F146-458B-B18F-D5D269613332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39CFA-89E6-4CC8-8616-179C92B3352F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18BF2-B96A-4CA6-B453-8641F25F9376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75E2F-9ADA-4B09-9BDC-B30E8AD7530D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F69D4-B52A-428E-855E-9CFF2AFE55EB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24857-61C7-4296-93F2-3C84D9A50FB0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DE60B-D8AB-45C7-9CE5-426326D83B1C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Crossing the Void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Understanding Contra Costa’s Newly Uninsured Patient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66" name="Picture 3" descr="liberty3.jpg"/>
          <p:cNvPicPr/>
          <p:nvPr/>
        </p:nvPicPr>
        <p:blipFill>
          <a:blip r:embed="rId1"/>
          <a:stretch/>
        </p:blipFill>
        <p:spPr>
          <a:xfrm>
            <a:off x="914400" y="3124080"/>
            <a:ext cx="4637160" cy="30783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6248520" y="441972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Kali Stanger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PG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December 28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 happens now with undocumented pts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ounty writes off costs accrued during inpatient stay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0 day override available for specially identified pts requiring specialty 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ts requiring longer care must be approved by CEO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N for specialty care acts as check/balanc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ew administrative costs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Kid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Clinic Acces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Specialty Acces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Basic Health Ca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County Residents with limited assets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o not qualify for MediCal or MediCar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Needs to be renewed frequently (every 6 months) but can be immediately approved (as opposed to MediCal, needs 4-6 months)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O, AN, AT, AZ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Requires: proof of source of support (ie quarterly statement, pay stub); list of assets; proof of residence (PG&amp;E, water bill); ID; proof of US citizenship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Invited refugees ok (political asylum not qualified)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Permanent residents ok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Work authorization not qualified (work, religious, or student visas)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diCa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pen enrollment period each year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ges 65 and older; renal failu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diCal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ge under 21 or over 65 are not eligibl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ligible: adults responsible for a deprived minor child; disabled greater than 1 year; pregnant wom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4-6 months to get approve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Financial Counselors and CCRMC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very inpatient has a financial folder – either pending, PO, or BHC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ll PO or BHC patients are seen by FCs during hospitalization to attempt to qualify them for better coverag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Cs make notes in E2Search (SW/case mgrs have access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hat’s the problem with BHC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t really insurance – doesn’t cover pts outside of the county even in emergencie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ediCal reimburses better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 ambulance coverag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’s next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01" name="Content Placeholder 5" descr="Joe_Wilson_You_Lie.jp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1295280" y="2286000"/>
            <a:ext cx="61977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In Conclus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Give me your tired, your poor,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Your huddled masses yearning to breathe free,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The wretched refuse of your teeming shore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Send these, the homeless, tempest-tost to me,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I lift my lamp beside the golden door!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04" name="Content Placeholder 3" descr="liberty3.jpg"/>
          <p:cNvPicPr/>
          <p:nvPr/>
        </p:nvPicPr>
        <p:blipFill>
          <a:blip r:embed="rId1"/>
          <a:srcRect l="-3578" t="0" r="-3578" b="0"/>
          <a:stretch/>
        </p:blipFill>
        <p:spPr>
          <a:xfrm>
            <a:off x="658800" y="696960"/>
            <a:ext cx="34923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roject Objective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escribe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health care access for undocumented immigrant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in Contra Costa County, in light of BHC eligibility cuts enacted in Jun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Understand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current outpatient primary care resource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vailable for uninsured patients in Contra Costa Coun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Identify and realize strategies for connecting undocumented patients to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outpatient follow-up services upon hospital discharg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Explain basic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differences between types of insurance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 coverage in Contra Costa Coun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Brainstorm methods for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increasing communication between financial counselors and medical provider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t CCRMC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Goals of this Present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ovide a bit of information gleaned during my 2 weeks on Community Medicin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hare experiences, corrections, arguments, thoughts, ideas….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ster conversa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ase 1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7 yo Spanish-speaking man with shortness of breath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ase 2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27 yo woman w/AML still in hospital after being discharged by her primary team earlier in the morning….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are the insured in our county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ate MediC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edi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Basic Health 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Vetera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ealthy Famili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are the uninsured in our county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Visitors to the county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ealthy uninsured (assets too high to qualify for MediCal or BHC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Undocumented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(as of June 2009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ausing for some definitions….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mmigrant:  foreign-born individu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egal non-citiz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aturalized citize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Undocumented immigran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Immigrants in the U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39 million immigrants in US make up 13% of our population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7 in 10 of these are naturalized citizens or legal non-citizen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46% of ALL immigrants are uninsured; 59% of undocumented immigrants are uninsured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Non-citizens make-up 20% of total US uninsured p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Undocumented immigrants are prohibited from Medicaid and CHIP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Non-citizens are also prohibited from Medicaid and CHIP for their 1</a:t>
            </a:r>
            <a:r>
              <a:rPr b="0" lang="en-US" sz="1100" spc="-1" strike="noStrike" baseline="30000">
                <a:solidFill>
                  <a:srgbClr val="262626"/>
                </a:solidFill>
                <a:latin typeface="Calisto MT"/>
              </a:rPr>
              <a:t>st</a:t>
            </a: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 5 years in the U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Pregnant women and children in this category = state dependent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In 2005, Medicaid began requiring proof of citizenship which led to a decrease in coverage, largely due to loss of coverage in </a:t>
            </a:r>
            <a:r>
              <a:rPr b="1" lang="en-US" sz="1300" spc="-1" strike="noStrike">
                <a:solidFill>
                  <a:srgbClr val="262626"/>
                </a:solidFill>
                <a:latin typeface="Calisto MT"/>
              </a:rPr>
              <a:t>US citizens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This new requirement cost $28 million in administrative cos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6 states combined spent $8 million to identify total 8 undocumented immigran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US immigrants are healthier than the general population (thought 2/2 self-selection of who is healthy enough to immigrate)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sdf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0:40:29Z</dcterms:created>
  <dc:creator>Kali Stanger</dc:creator>
  <dc:description/>
  <dc:language>en-US</dc:language>
  <cp:lastModifiedBy>lthomas</cp:lastModifiedBy>
  <dcterms:modified xsi:type="dcterms:W3CDTF">2009-12-28T16:59:47Z</dcterms:modified>
  <cp:revision>6</cp:revision>
  <dc:subject/>
  <dc:title>Crossing the Void</dc:title>
</cp:coreProperties>
</file>