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310DF-E113-48CA-93AA-9A17BEB8D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zing part is how RARELY I’ve had to think about insurance as a resident here…. Even in the face of such dramatic philosophical change last spring, we still work in such a strong health care system compared to the altern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et appetites, here are two experiences I had early in my intern year where a patient’s INSURANCE COVERAGE dictated (and in fact compromised) the quality of care they received…. My life/career goal is to work toward a system where this is never the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828A8-5762-42F3-831E-548588469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109-76D2-4F23-B617-7ED369EF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87E-7C57-4DDD-A764-6BF7348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08A-FE2F-4842-8047-C29ECAF8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567-AFC2-4285-B3FA-245BB8BD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38E98-B553-4B42-A9AB-17E7F85C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099A3-9A75-43A8-922A-3DEF25DF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2CD0-0FD0-4336-8746-091832F7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5F8DF-577A-4C9C-808B-3FCB4F50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5F0F3-FED8-4C13-9DFB-98B1B602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A93E5-6E29-47A5-9519-75D27813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21A23-832D-4239-81EE-14563C6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D3D-8DD9-4474-BA3C-D5745213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32CA-7F63-4B2C-8FCF-5676784C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1F89F-823A-4C17-BCEE-33F94BA1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7E6A7-17AB-41D4-B648-75A3B16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16004-7075-4487-8FB4-0413F883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4837F-BE41-4134-81A0-E3BC42FF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8781-2122-4220-89AD-30B91305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C2EF-87A8-4832-80CA-F30E649E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24B1-9C35-49A8-BC6D-5F3DCC17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6431-E08D-4F44-AD83-9C6D235D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4101-A66B-4D0A-9F57-47FE2BD9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934-DF34-414A-B934-06FFEC9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A3E6-34E6-4AF7-9976-4E94F540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C39E-F11A-45C0-8566-DE5C674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52FD-56B3-4F27-921C-56209006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57C1-9058-4F7B-AA41-B11717F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FA54-FD00-4EF8-98E3-AF550D03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6962-5703-4198-A41A-C321B775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881F-B233-4CD9-BFB1-1242A53D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CFBF-5ECF-40FD-AE55-AD5DC78E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FFDD-281A-4F57-966C-64AE1480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E05D-CFB0-4181-B6D7-1578BADB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849-637D-4D62-9700-9910C713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91B1-A922-4488-966A-9BB0C42B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4AB2-160E-4D29-9DC3-124FADF0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0302-CC87-42FF-B8F2-56D218A2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C319-15B0-4930-A12F-3515E9CC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F658-1C93-478F-A6BE-183E553C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70C3-2C6D-4673-BB46-29B4A14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0A70-FA69-46F2-BBC2-0ACB316B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0942-DA2E-48B1-86EA-B57A5802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01BCF-8B02-4C0E-ACA1-1D44FA55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05EAA-881C-46A6-86CA-C29C6BFA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4DC-CE2D-4986-80C5-882B783B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CEBB-5630-432E-B769-CC88675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C903A-DC48-47FA-A763-B43B6CFE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B1225-B955-4B71-850A-E2C03201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125DC-9A4A-4523-9E4B-FA704E44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57C17-C66A-4D50-9E98-0BA1C29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7D47-791E-4DCD-B36D-E2F2132C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930F-19FF-47B6-948A-0C91DFF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0CCB-490B-4BEA-8C6D-C9DF284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143B-8B2F-46C1-8BAD-DDB80BE9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A956-11D0-4595-A2A6-34686CDA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A9C-7CA7-437B-9A31-68611EC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4930-A2B1-4BEB-A252-FC505D58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E505C-164C-45B2-BDFC-21929626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4725E-443F-490E-9525-A1B286D2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BD55-000B-4166-A1A6-5D8CBF31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5B28-163A-40BE-B82D-8F7F00FE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36629-DE67-449B-9AED-4BAF414D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04BB-212C-4D5F-B377-1FAD01B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21F32-12BA-4F51-9904-307BC43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7B27-7608-42F4-A2B3-B510C2B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F9C06-9E62-414C-AE01-3942D649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771-5EC9-437D-83DB-7F214B9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761BA-39CE-4773-8C14-39A522F9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FE2B2-90CE-430F-AFA8-8E63A533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4A67A-A010-450E-B7DB-0482E448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6C1EA-CEFC-4FE4-AA09-581279F5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0DA5-2E23-4906-99EA-059DFA33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7E41-B3BA-4064-A429-44E9114E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80770-D3CE-4CF5-AB73-C31206A8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A75A-880E-418B-962E-1C77B7C1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2C1C0-FF3C-43F4-B62D-5348A11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B15B-4A98-45E2-80F9-BEAFF9F2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F2A-3867-4290-8333-A97A322C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C93A-DE0A-4A5E-B382-5D5416E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2E41-2449-4268-A010-0904F998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50CC2-2B66-440D-BC3A-715DFCD9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2D00E-EEB3-4CBC-915F-9A9CCAF8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832C-0473-4BA9-A74D-218B3D09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5076D-B620-48D1-838D-922DA13F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E087-124A-41C5-A2B7-00199A67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B535C-4F70-443C-BA9A-DF18D3C3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405DD-E68B-4584-99A5-812E8DBF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9CD3F-F057-444A-B602-E54141CC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8D4-64F9-49A3-84C0-EB3ED07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5D23-692B-4AA8-9F9C-9EC0E42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D8074-FA33-4100-8E5D-1F4A021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D7E69-E496-4508-B954-A602FFEA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DBC00-C9A1-4447-A7D1-9D0A24E0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C026-86AE-4E2D-8A28-09A22AA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7B0BE-8793-46D0-8699-C9882A83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C1F44-7BEB-45A8-9CDE-4FC37CE0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38C7A-8392-4713-9108-DD8E0245DFFD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E5EAA-34AA-45DC-9FD6-9701A5634826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DFBCE-CD15-4C25-AAD8-EE79BBB7E7D3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A942D-FE17-409D-A13C-45B7B418CF8C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A39C8-F091-4809-BA76-B0BCAF5A7EFE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1A583-0182-4623-AF60-2CE5F4E90D53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0E46F-E6FF-4DBE-ABBF-9F9AC50EBC63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FA828-8092-450B-956B-3BF4D6678175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rossing the Voi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Understanding Contra Costa’s Newly Uninsured Patien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6" name="Picture 3" descr="liberty3.jpg"/>
          <p:cNvPicPr/>
          <p:nvPr/>
        </p:nvPicPr>
        <p:blipFill>
          <a:blip r:embed="rId1"/>
          <a:stretch/>
        </p:blipFill>
        <p:spPr>
          <a:xfrm>
            <a:off x="914400" y="3124080"/>
            <a:ext cx="4637160" cy="3078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248520" y="441972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Kali Stange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PG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December 28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happens now with undocumented pts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unty writes off costs accrued during inpatient stay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0 day override available for specially identified pts requiring specialty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ts requiring longer care must be approved by CEO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N for specialty care acts as check/bala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administrative costs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Kid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Clinic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Specialty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asic Health 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County Residents with limited asset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o not qualify for MediCal or MediCar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Needs to be renewed frequently (every 6 months) but can be immediately approved (as opposed to MediCal, needs 4-6 months)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O, AN, AT, AZ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Requires: proof of source of support (ie quarterly statement, pay stub); list of assets; proof of residence (PG&amp;E, water bill); ID; proof of US citizenship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Invited refugees ok (political asylum not qualified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ermanent residents ok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Work authorization not qualified (work, religious, or student visas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pen enrollment period each yea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s 65 and older; renal fail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l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 under 21 or over 65 are not eligib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ligible: adults responsible for a deprived minor child; disabled greater than 1 year; pregnant wom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4-6 months to get approv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ncial Counselors and CCRMC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very inpatient has a financial folder – either pending, PO, or BHC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l PO or BHC patients are seen by FCs during hospitalization to attempt to qualify them for better coverag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Cs make notes in E2Search (SW/case mgrs have acces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at’s the problem with BHC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 really insurance – doesn’t cover pts outside of the county even in emergenc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diCal reimburses bett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 ambulance coverag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’s nex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1" name="Content Placeholder 5" descr="Joe_Wilson_You_Lie.jp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1295280" y="2286000"/>
            <a:ext cx="6197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Conclus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Give me your tired, your poor,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Your huddled masses yearning to breathe fre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The wretched refuse of your teeming sho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Send these, the homeless, tempest-tost to m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I lift my lamp beside the golden door!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4" name="Content Placeholder 3" descr="liberty3.jpg"/>
          <p:cNvPicPr/>
          <p:nvPr/>
        </p:nvPicPr>
        <p:blipFill>
          <a:blip r:embed="rId1"/>
          <a:srcRect l="-3578" t="0" r="-3578" b="0"/>
          <a:stretch/>
        </p:blipFill>
        <p:spPr>
          <a:xfrm>
            <a:off x="658800" y="696960"/>
            <a:ext cx="34923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ject Objectiv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scribe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health care access for undocumented immigrant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n Contra Costa County, in light of BHC eligibility cuts enacted in Jun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Understand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current outpatient primary care resource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vailable for uninsured patients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dentify and realize strategies for connecting undocumented patients to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outpatient follow-up services upon hospital discharg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Explain basic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differences between types of insurance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 coverage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Brainstorm methods for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increasing communication between financial counselors and medical provider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t CCRM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als of this Present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ovide a bit of information gleaned during my 2 weeks on Community Medicin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hare experiences, corrections, arguments, thoughts, ideas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ster convers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1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7 yo Spanish-speaking man with shortness of br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27 yo woman w/AML still in hospital after being discharged by her primary team earlier in the morning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MediC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di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sic Health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etera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ealthy Famili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un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isitors to the count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ealthy uninsured (assets too high to qualify for MediCal or BHC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Undocumented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(as of June 2009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ausing for some definitions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mmigrant:  foreign-born individu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egal non-citiz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aturalized citize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ndocumented immigr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Immigrants in the U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39 million immigrants in US make up 13% of our population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7 in 10 of these are naturalized citizens or legal non-citizen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46% of ALL immigrants are uninsured; 59% of undocumented immigrants are uninsured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make-up 20% of total US uninsured p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Undocumented immigrants are prohibited from Medicaid and CHIP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are also prohibited from Medicaid and CHIP for their 1</a:t>
            </a:r>
            <a:r>
              <a:rPr b="0" lang="en-US" sz="1100" spc="-1" strike="noStrike" baseline="30000">
                <a:solidFill>
                  <a:srgbClr val="262626"/>
                </a:solidFill>
                <a:latin typeface="Calisto MT"/>
              </a:rPr>
              <a:t>st</a:t>
            </a: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 5 years in the U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Pregnant women and children in this category = state dependent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 2005, Medicaid began requiring proof of citizenship which led to a decrease in coverage, largely due to loss of coverage in </a:t>
            </a:r>
            <a:r>
              <a:rPr b="1" lang="en-US" sz="1300" spc="-1" strike="noStrike">
                <a:solidFill>
                  <a:srgbClr val="262626"/>
                </a:solidFill>
                <a:latin typeface="Calisto MT"/>
              </a:rPr>
              <a:t>US citizens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This new requirement cost $28 million in administrative cos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6 states combined spent $8 million to identify total 8 undocumented immigran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US immigrants are healthier than the general population (thought 2/2 self-selection of who is healthy enough to immigrate)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sdf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40:29Z</dcterms:created>
  <dc:creator>Kali Stanger</dc:creator>
  <dc:description/>
  <dc:language>en-US</dc:language>
  <cp:lastModifiedBy>lthomas</cp:lastModifiedBy>
  <dcterms:modified xsi:type="dcterms:W3CDTF">2009-12-28T16:59:47Z</dcterms:modified>
  <cp:revision>6</cp:revision>
  <dc:subject/>
  <dc:title>Crossing the Void</dc:title>
</cp:coreProperties>
</file>