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8.jpeg" ContentType="image/jpeg"/>
  <Override PartName="/ppt/media/image16.wmf" ContentType="image/x-wmf"/>
  <Override PartName="/ppt/media/image4.jpeg" ContentType="image/jpeg"/>
  <Override PartName="/ppt/media/image14.png" ContentType="image/png"/>
  <Override PartName="/ppt/media/image10.png" ContentType="image/png"/>
  <Override PartName="/ppt/media/image2.wmf" ContentType="image/x-wmf"/>
  <Override PartName="/ppt/media/image3.jpeg" ContentType="image/jpeg"/>
  <Override PartName="/ppt/media/image18.wmf" ContentType="image/x-wmf"/>
  <Override PartName="/ppt/media/image5.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9.png" ContentType="image/png"/>
  <Override PartName="/ppt/media/image17.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135138-0319-4453-9F34-FDF2684D7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type of deal as the previous regimen, but using glargine instead of NPH.  This regimen probababy represents what the pancreas does most accurately, as the glargine gives us basal insulin, with regular, or better lispro giving us well timed spikes of insulin associated with meals.  This has been dubbed the “poor man’s insulin pump” but some with some motivated people this may even work better than an insulin pum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2 agents and ha1c &gt; 8, consideration should be towards starting insu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raphic explanation of the different insulins.  See lispro and aspart peaking real early, regular a bit later, NPH even later.  And glargine there doesn’t peak at all, its slow and steady, like Dr Mahar after his morning 4 shots of jager meist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is the party line of the american diabetes association as to enable your patient to live the most fruitful, disease fre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begs the question of whether everyone needs to have a nice, low hemoglobin A1c.  And the resounding answer is no.  These are some folks who may not be ideal candidates for tight glucose control.  Note that this will exclude about 90% of our clin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orking with our population can be frustrating because it seems like us doctors care much more about the diabetes than some of the patients.  As you may have seen, injecting insulin once or twice a day or taking a few pills may be the extent of their desired involvement.  For these patients, it is crucial to determine if this decision is an informed one.  If you determine that the decision is informed, then don’t make the patient feel guilty for the decision.  Remember that motivation to improve self care cannot be for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don’t give up.  If someone is relatively newly diagnosed as a diabetic, and hasn’t had bad complications yet, try to encourage them to get more involved in thei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ith the lady that I described beforehand, there are many reasons why tight blood sugar control is not really the thing for her.  Most notably, though, the cow is already out of the barn – she’s already blind and on her way to dialysis regardless of what we do with her blood sugars toda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our population, a modification of the guidelines are needed.  Clearly not everyone is well served with tight blood suga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see your next diabetic patient, you may find that they are good candidates for these types of therapy – (read the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e UKPDS and a multitude of other observational studies, the general consensus among a variety of organizations is that in the case of diabetes,  a lower target Blood pressure goal is warrant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883E8A-2B08-48C1-95BE-89C0A4B6C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9080" y="512640"/>
            <a:ext cx="5129280" cy="3846600"/>
          </a:xfrm>
          <a:prstGeom prst="rect">
            <a:avLst/>
          </a:prstGeom>
          <a:ln w="0">
            <a:noFill/>
          </a:ln>
        </p:spPr>
      </p:sp>
      <p:sp>
        <p:nvSpPr>
          <p:cNvPr id="326" name="PlaceHolder 2"/>
          <p:cNvSpPr>
            <a:spLocks noGrp="1"/>
          </p:cNvSpPr>
          <p:nvPr>
            <p:ph type="body"/>
          </p:nvPr>
        </p:nvSpPr>
        <p:spPr>
          <a:xfrm>
            <a:off x="931680" y="4511520"/>
            <a:ext cx="5222520" cy="41752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From Statin Trials for Patients With Diabet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secondary prevention of coronary heart disease (CHD) in patients with diabetes was established in three key studies: the Scandinavian Simvastatin Survival Study (4S), the Cholesterol and Recurrent Events (CARE) study, and the Long-term Intervention with Pravastatin in Ischaemic Disease (LIPID) study.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S (n=202): This study was the first to provide significant, trial-based evidence demonstrating a reduction in major coronary events (45.4% vs 22.9%, placebo vs treated) in patients with diabetes receiving lipid-lowering statin (simvastatin) therapy.</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E (n=586): Statin (pravastatin) therapy reduced the absolute risk of coronary events to a larger extent in the diabetic subgroup than in the overall study population (8.1% vs 5.2%, respectively), reflecting a higher level of risk in the diabetes subgroup. An extended primary endpoint that included revascularizations saw a reduction in the relative risk for the procedures by 32% (</a:t>
            </a:r>
            <a:r>
              <a:rPr b="0" i="1" lang="en-US" sz="700" spc="-1" strike="noStrike">
                <a:solidFill>
                  <a:srgbClr val="000000"/>
                </a:solidFill>
                <a:latin typeface="Times New Roman"/>
              </a:rPr>
              <a:t>P</a:t>
            </a:r>
            <a:r>
              <a:rPr b="0" lang="en-US" sz="700" spc="-1" strike="noStrike">
                <a:solidFill>
                  <a:srgbClr val="000000"/>
                </a:solidFill>
                <a:latin typeface="Times New Roman"/>
              </a:rPr>
              <a:t>=0.04) in the diabetic subgroup.</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IPID (n=1,077): The absolute risk of first CHD event was higher in the diabetes subgroup than in the total study population (23.4% vs 14.5%, respectively), and the estimated number-needed-to-treat with statin (pravastatin) therapy for 6 years to prevent one CHD-related event was 18 in the diabetes subgroup compared to 29 in the total study popula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primary prevention for patients with diabetes is strongly supported in two recent studies: the Heart Protection Study (HPS) and the Collaborative Atorvastatin Diabetes Study (CARD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PS (n=5,963): Statin (simvastatin) therapy reduced fatal or nonfatal vascular events from 25% to 20% and major coronary events (CHD death, nonfatal myocardial infarction [MI]) from 13% to 9% in the diabetes subgroup. In patients with diabetes but no cardiovascular disease, coronary events decreased from 6.5% to </a:t>
            </a:r>
            <a:br>
              <a:rPr sz="700"/>
            </a:br>
            <a:r>
              <a:rPr b="0" lang="en-US" sz="700" spc="-1" strike="noStrike">
                <a:solidFill>
                  <a:srgbClr val="000000"/>
                </a:solidFill>
                <a:latin typeface="Times New Roman"/>
              </a:rPr>
              <a:t>3.7% when treated with simvistatin.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DS (n=2,838): Statin (atorvastatin) therapy reduced acute CHD events, coronary revascularization, or stroke from 9% to 6% in patients with diabetes. Furthermore, major coronary events (CHD death, nonfatal MI) were reduced from 5.5% to 3.6%.</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combined results from the five studies suggest that statin use is an effective approach in the prevention of CHD in patients with diabetes. The data suggest that patients with diabetes who would have met enrollment criteria for these studies should be considered candidates for statin therapy.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houn HM and the CARDS Investigators. </a:t>
            </a:r>
            <a:r>
              <a:rPr b="0" i="1" lang="en-US" sz="600" spc="-1" strike="noStrike">
                <a:solidFill>
                  <a:srgbClr val="000000"/>
                </a:solidFill>
                <a:latin typeface="Times New Roman"/>
              </a:rPr>
              <a:t>Lancet</a:t>
            </a:r>
            <a:r>
              <a:rPr b="0" lang="en-US" sz="600" spc="-1" strike="noStrike">
                <a:solidFill>
                  <a:srgbClr val="000000"/>
                </a:solidFill>
                <a:latin typeface="Times New Roman"/>
              </a:rPr>
              <a:t>. 2004;364:685-696.</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lins R and the Heart Protection Study Collaborative Group. </a:t>
            </a:r>
            <a:r>
              <a:rPr b="0" i="1" lang="en-US" sz="600" spc="-1" strike="noStrike">
                <a:solidFill>
                  <a:srgbClr val="000000"/>
                </a:solidFill>
                <a:latin typeface="Times New Roman"/>
              </a:rPr>
              <a:t>Lancet</a:t>
            </a:r>
            <a:r>
              <a:rPr b="0" lang="en-US" sz="600" spc="-1" strike="noStrike">
                <a:solidFill>
                  <a:srgbClr val="000000"/>
                </a:solidFill>
                <a:latin typeface="Times New Roman"/>
              </a:rPr>
              <a:t>. 2003;361:2005-2016. (See also http://image.thelancet.com/extras/03art3418webfigure2.pdf. Accessed May 10, 2005.)</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Keech A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2003;26:2713-2721.</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Goldberg RB and the CARE Investigators. </a:t>
            </a:r>
            <a:r>
              <a:rPr b="0" i="1" lang="en-US" sz="600" spc="-1" strike="noStrike">
                <a:solidFill>
                  <a:srgbClr val="000000"/>
                </a:solidFill>
                <a:latin typeface="Times New Roman"/>
              </a:rPr>
              <a:t>Circulation</a:t>
            </a:r>
            <a:r>
              <a:rPr b="0" lang="en-US" sz="600" spc="-1" strike="noStrike">
                <a:solidFill>
                  <a:srgbClr val="000000"/>
                </a:solidFill>
                <a:latin typeface="Times New Roman"/>
              </a:rPr>
              <a:t>. 1998;98:2513-2519.</a:t>
            </a:r>
            <a:endParaRPr b="0" lang="en-US" sz="600" spc="-1" strike="noStrike">
              <a:solidFill>
                <a:srgbClr val="000000"/>
              </a:solidFill>
              <a:latin typeface="Times New Roman"/>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Pyörälä K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1997;20:614-620.</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23760" y="512640"/>
            <a:ext cx="5137200" cy="3853080"/>
          </a:xfrm>
          <a:prstGeom prst="rect">
            <a:avLst/>
          </a:prstGeom>
          <a:ln w="0">
            <a:noFill/>
          </a:ln>
        </p:spPr>
      </p:sp>
      <p:sp>
        <p:nvSpPr>
          <p:cNvPr id="328" name="PlaceHolder 2"/>
          <p:cNvSpPr>
            <a:spLocks noGrp="1"/>
          </p:cNvSpPr>
          <p:nvPr>
            <p:ph type="body"/>
          </p:nvPr>
        </p:nvSpPr>
        <p:spPr>
          <a:xfrm>
            <a:off x="934560" y="4519440"/>
            <a:ext cx="5140440" cy="4181760"/>
          </a:xfrm>
          <a:prstGeom prst="rect">
            <a:avLst/>
          </a:prstGeom>
          <a:solidFill>
            <a:srgbClr val="ffffff"/>
          </a:solidFill>
          <a:ln w="9360">
            <a:solidFill>
              <a:srgbClr val="000000"/>
            </a:solidFill>
            <a:miter/>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NCEP ATP III: Key Diabetes Recommenda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apeutic lifestyle changes (TLC) remain an important component of the ATP III treatment algorithm for LDL-C, with the potential to reduce cardiovascular risk via several mechanisms beyond lipid low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updated recommendations support the inclusion of patients with diabetes in the high-ris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plus cardiovascular disease (CVD), the NCEP guidelines note it is reasonable to attempt to achieve an LDL-C &lt;70 mg/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but no CVD, evidence-based data support the recommendation of lowering LDL-C to &lt;100 mg/dL. If LDL-C levels are already below 100 mg/dL, clinical judgment should be used as to whether to start lipid-lowering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high-risk or moderately high-risk patients, drug therapy should achieve at least 30% to 40% reduction in LDL-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Grundy SM et al. </a:t>
            </a:r>
            <a:r>
              <a:rPr b="0" i="1" lang="en-US" sz="1000" spc="-1" strike="noStrike">
                <a:solidFill>
                  <a:srgbClr val="000000"/>
                </a:solidFill>
                <a:latin typeface="Times New Roman"/>
                <a:ea typeface="Arial"/>
              </a:rPr>
              <a:t>Circulation</a:t>
            </a:r>
            <a:r>
              <a:rPr b="0" lang="en-US" sz="1000" spc="-1" strike="noStrike">
                <a:solidFill>
                  <a:srgbClr val="000000"/>
                </a:solidFill>
                <a:latin typeface="Times New Roman"/>
                <a:ea typeface="Arial"/>
              </a:rPr>
              <a:t>. 2004;110:227-239.</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want you to do is not concentrate so much on how to adjust the insulin, although there is some improvement to be made.  What I want you to do think about the variability of the readings, especially the ones at 10 PM.  What are some things that you would want to ask her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urns out that on day 5 the patient had a big fat pepperoni pizza, which accounts for the reading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ay 4 the patient went for a rare trip to the g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w kids on the block, and some diabetologists feel like they’ve revolutionized DM tx, expecially for intensive insuli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o remember about these guys is that they’re fast on, fast off puppies.  So unlike regular insulin, where you have to take it 30-45 minutes before a meal, with lispro and aspart you can inject it practically when the food hits the table.  As can be seen here, it works within 5 minutes, and because its half life is so much shorter, it approximates carbohydrate intake much better.  You need to use it with basal insulin during the day, because it can wear off before the next meal.  And, remember, this is not on formula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e sugars that are all over the map, especially in type I diabetics, you should suspect that the patient is not particularly consistant with his or her food intake.  Inconsistant eating habits can really lead to these types of glucose values in the form of overeating or skipping meals, having variations in carbohydrates, glycemic index or fat of your me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can see here that the 6 PM sugars are high, and he is on a BID reg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rning dose of N insulin should be increased given his high presupper meals, to N28.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a little summary of how to adjust glucoses in accordance to when they seem to be out of targe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be seen, the blood sugars seem somewhat consistant, but you’ll see that the 8 AM dose on day 5 is a little low.  And also see that 6 PM sugar on day one seems much higher than the others.  So what do we do about these outliers?.  What you need to know is that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 trying to illustrate here is a concept that may help you :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basic principles on adjusting insulin in the outpatient realm – (read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gular insulin you need to remember that ideally it should be taken 30-45 min before meals, which can make going out to dinner a difficult endeavor.  Because it is slower onset and later peaking, it tends to not match blood sugar levels as well as the previous insulins, so people can have hyperglycemia right after meals, then hypoglycemia a few hours afterwards when you food has been digested but the insulin is still wor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H is an insulin that we use quite often.  The thing to remember is that it peaks at 6-10 hours, so its good to take at night, as it will really kick in when you get the hyperglycemia of early morning, labeled the dawn phenome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s so long acting, when we take it in the morning it can cover the glycemic load during lunch, as we’ll go into in a mo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new kid on the block, which has really revolutionized diabetes management, perhaps even more than the ultrafast acting insulins described before.  The thing to remember about this is that it is a true basal insulin, with a peakless, predictable 24 hour effect.  This tends to simulate phisiologic pancreatic secretion.  To start it is pretty easy, the manufacters recommend giving 80% of total NPH dose as glargine once daily.  There is some hypothetical advantage to giving it at night, but you can probably inject it any time of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s not on formul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408A6-CFDD-482A-919B-D1A215FE0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11E22-66D5-4413-9C5A-5490BE341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67108-D32A-49E9-A0B7-B05CF433F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B1477-FC5D-4F5B-AFC3-D086755A3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E35A3-753F-48C9-B04B-E78A7052C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3C50E-7F5E-4459-8ED4-E7A423114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0B1B0-F3DC-49CD-9321-F2CC19B0F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4657B-C9BE-48AF-85B2-677AA28E2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7CCCD-C2CF-4B0F-B32F-718D18B6B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CEE94-04FB-47D1-9412-E7A061D1E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2676C-58F5-4764-B450-CFBE71D17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2A565-6ED3-441D-9F40-1484FA3AA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26E14-B157-4D1F-A729-71082886A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D6396-8044-44B6-A8CF-569EFB346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E7C60-E3A3-4EF7-B758-989A02275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CF3ED-B100-4742-9A20-C1B3F7DBC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C156B-E817-4584-BB6A-B7DDA6403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E0333-FEF5-43EF-BD51-DD8C90033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9A00F-B5DF-4B04-B69C-763B28DDF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D8A6F-488E-4B4C-A84A-6B446D71B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0B31F-FF60-400F-9FAC-B1EDC662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C466-CD61-4ED6-8606-FAEA2545B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75775-FB1D-40EF-B9AB-E062D2C39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BDBD-9B0A-454D-93E2-4F960782F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BAC0-BB4F-4198-9D66-FC5F834F11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ABF6-1E06-4899-8580-8B1D59494B2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linical.diabetesjournals.org/content/vol23/issue2/images/large/0078tab3.jpe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linical.diabetesjournals.org/content/vol23/issue2/images/large/0078Fig2.jpeg"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clinical.diabetesjournals.org/content/vol23/issue2/images/large/0078tab7.jpeg" TargetMode="Externa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hyperlink" Target="http://clinical.diabetesjournals.org/content/vol23/issue2/images/large/0078tab5.jpeg" TargetMode="External"/><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409680"/>
            <a:ext cx="77724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RACTICAL INSULIN USE</a:t>
            </a:r>
            <a:br>
              <a:rPr sz="4400"/>
            </a:br>
            <a:r>
              <a:rPr b="1" lang="en-US" sz="4400" spc="-1" strike="noStrike">
                <a:solidFill>
                  <a:srgbClr val="003366"/>
                </a:solidFill>
                <a:latin typeface="Times New Roman"/>
              </a:rPr>
              <a:t>or, </a:t>
            </a:r>
            <a:br>
              <a:rPr sz="4400"/>
            </a:br>
            <a:r>
              <a:rPr b="0" i="1" lang="en-US" sz="4400" spc="-1" strike="noStrike">
                <a:solidFill>
                  <a:srgbClr val="003366"/>
                </a:solidFill>
                <a:latin typeface="Times New Roman"/>
              </a:rPr>
              <a:t>how to think like a pancre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liver Z. Graham, MD</a:t>
            </a:r>
            <a:endParaRPr b="0" lang="en-US" sz="4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Internal Medicin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Endocrin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155"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 Injections/day (ie 70/30)</a:t>
            </a:r>
            <a:br>
              <a:rPr sz="4400"/>
            </a:br>
            <a:r>
              <a:rPr b="0" lang="en-US" sz="4400" spc="-1" strike="noStrike">
                <a:solidFill>
                  <a:srgbClr val="003366"/>
                </a:solidFill>
                <a:latin typeface="Times New Roman"/>
              </a:rPr>
              <a:t>using regular/NPH</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158"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ispro/Glargine</a:t>
            </a:r>
            <a:endParaRPr b="0" lang="en-US" sz="4400" spc="-1" strike="noStrike">
              <a:solidFill>
                <a:srgbClr val="003366"/>
              </a:solidFill>
              <a:latin typeface="Times New Roman"/>
            </a:endParaRPr>
          </a:p>
        </p:txBody>
      </p:sp>
      <p:pic>
        <p:nvPicPr>
          <p:cNvPr id="160" name="" descr=""/>
          <p:cNvPicPr/>
          <p:nvPr/>
        </p:nvPicPr>
        <p:blipFill>
          <a:blip r:embed="rId1"/>
          <a:srcRect l="55299" t="5990" r="2353" b="77015"/>
          <a:stretch/>
        </p:blipFill>
        <p:spPr>
          <a:xfrm>
            <a:off x="914400" y="175248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4 Injections/day using Lispro/Glargine</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ose basal insulin during day and overnight, with rapid/short acting insulin covering meal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meal to meal adjustments of insulin in accordance to food intake, preprandial blood glucose levels, and exerc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ispro, probably offers the tightest control of BS given its physiologic simulation of insulin secretion  (the “poor man’s insulin pump”)</a:t>
            </a:r>
            <a:endParaRPr b="0" lang="en-US" sz="20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4 injections</a:t>
            </a:r>
            <a:endParaRPr b="0" lang="en-US" sz="1600" spc="-1" strike="noStrike">
              <a:solidFill>
                <a:srgbClr val="000000"/>
              </a:solidFill>
              <a:latin typeface="Arial"/>
            </a:endParaRPr>
          </a:p>
        </p:txBody>
      </p:sp>
      <p:pic>
        <p:nvPicPr>
          <p:cNvPr id="163" name="" descr=""/>
          <p:cNvPicPr/>
          <p:nvPr/>
        </p:nvPicPr>
        <p:blipFill>
          <a:blip r:embed="rId1"/>
          <a:srcRect l="55299" t="5990" r="2353" b="77015"/>
          <a:stretch/>
        </p:blipFill>
        <p:spPr>
          <a:xfrm>
            <a:off x="4114800" y="5041800"/>
            <a:ext cx="4587840" cy="18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1</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r handout for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1:</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go about improving John’s glycemic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9064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dbfig2" descr=""/>
          <p:cNvPicPr/>
          <p:nvPr/>
        </p:nvPicPr>
        <p:blipFill>
          <a:blip r:embed="rId1"/>
          <a:stretch/>
        </p:blipFill>
        <p:spPr>
          <a:xfrm>
            <a:off x="9144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2:</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hoose insulin, should you start a long acting/short acting or bo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
            <a:hlinkClick r:id="rId1"/>
          </p:cNvPr>
          <p:cNvPicPr/>
          <p:nvPr/>
        </p:nvPicPr>
        <p:blipFill>
          <a:blip r:embed="rId2"/>
          <a:stretch/>
        </p:blipFill>
        <p:spPr>
          <a:xfrm>
            <a:off x="2246400" y="914400"/>
            <a:ext cx="4651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Times New Roman"/>
              </a:rPr>
              <a:t>Relative contribution of fasting and postprandial glucose to A1C</a:t>
            </a:r>
            <a:r>
              <a:rPr b="1" i="1" lang="en-US" sz="4400" spc="-1" strike="noStrike">
                <a:solidFill>
                  <a:srgbClr val="003366"/>
                </a:solidFill>
                <a:latin typeface="Times New Roman"/>
              </a:rPr>
              <a:t>.</a:t>
            </a:r>
            <a:br>
              <a:rPr sz="4400"/>
            </a:br>
            <a:endParaRPr b="0" lang="en-US" sz="4400" spc="-1" strike="noStrike">
              <a:solidFill>
                <a:srgbClr val="003366"/>
              </a:solidFill>
              <a:latin typeface="Times New Roman"/>
            </a:endParaRPr>
          </a:p>
        </p:txBody>
      </p:sp>
      <p:pic>
        <p:nvPicPr>
          <p:cNvPr id="174" name="" descr=" ">
            <a:hlinkClick r:id="rId1"/>
          </p:cNvPr>
          <p:cNvPicPr/>
          <p:nvPr/>
        </p:nvPicPr>
        <p:blipFill>
          <a:blip r:embed="rId2"/>
          <a:stretch/>
        </p:blipFill>
        <p:spPr>
          <a:xfrm>
            <a:off x="1981080" y="2438280"/>
            <a:ext cx="5029200" cy="37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94200" y="1676520"/>
            <a:ext cx="670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ruly understanding issues such as when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egular insulin, when it would be better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ulin lispro or aspart… simply requir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eat deal of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l Hirsch, MD, UC San Die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nical Diabetes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A1C &gt; 9, FIX FASTING FIR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monitoring on fasting glucose is easier for most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ng glucose is primarily influenced by stage of disease and med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and activity have limited influence on fasting B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postprandial BS is difficult with poorly controlled fasting sug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near target A1C (&lt;7), post prandial control gets more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asal insulin, how/which do you st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glarg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antus vs. NPH</a:t>
            </a:r>
            <a:endParaRPr b="0" lang="en-US" sz="44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ly efficacious when added to orals in achieving HA1c valu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tus associated with 41% lower risk of severe hypoglycemia (BS &lt;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start insulin gently</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oral agents at same do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c sulfonyurea</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ingle dose at 10 U or 0.15 U/k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 at bed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rgine anyti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How to start insulin gently, continued</a:t>
            </a:r>
            <a:endParaRPr b="0" lang="en-US" sz="48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patient adjust dose by fasting BG every 3-5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4 U if FBG &gt; 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2 U if FBG 120-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f FBG &lt; 12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dose by 2 U if FBG &lt; 72 or sx hypoglycemia</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n by phone in 1-2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Byetta (exanatide)?  Would that be a reasonable alternative to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Byetta (exanatide)</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occurring component of Gila Monster Saliv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s insulin release from pancreas, slows gastric emptying, inhibits glucagon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use Byetta?</a:t>
            </a: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tients gain weight with DM tx</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tx</a:t>
            </a:r>
            <a:r>
              <a:rPr b="0" lang="en-US" sz="2800" spc="-1" strike="noStrike">
                <a:solidFill>
                  <a:srgbClr val="000000"/>
                </a:solidFill>
                <a:latin typeface="Wingdings"/>
                <a:ea typeface="Wingdings"/>
              </a:rPr>
              <a:t></a:t>
            </a:r>
            <a:r>
              <a:rPr b="0" lang="en-US" sz="2800" spc="-1" strike="noStrike">
                <a:solidFill>
                  <a:srgbClr val="000000"/>
                </a:solidFill>
                <a:latin typeface="Arial"/>
              </a:rPr>
              <a:t> 4 lb increase for every 1% A1c reduction</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yetta </a:t>
            </a:r>
            <a:r>
              <a:rPr b="0" lang="en-US" sz="3200" spc="-1" strike="noStrike">
                <a:solidFill>
                  <a:srgbClr val="000000"/>
                </a:solidFill>
                <a:latin typeface="Wingdings"/>
                <a:ea typeface="Wingdings"/>
              </a:rPr>
              <a:t></a:t>
            </a:r>
            <a:r>
              <a:rPr b="0" lang="en-US" sz="3200" spc="-1" strike="noStrike">
                <a:solidFill>
                  <a:srgbClr val="000000"/>
                </a:solidFill>
                <a:latin typeface="Arial"/>
              </a:rPr>
              <a:t> WEIGHT LO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pound loss at 2 years tx</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1c reduction about 1.1%</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imal studies suggest beta cell re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not use Byetta?</a:t>
            </a:r>
            <a:endParaRPr b="0" lang="en-US" sz="44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1 year -- $270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data not available (lessons from Avandia &amp; Rezulin…)</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a:t>
            </a:r>
            <a:r>
              <a:rPr b="0" lang="en-US" sz="3200" spc="-1" strike="noStrike" u="sng">
                <a:solidFill>
                  <a:srgbClr val="000000"/>
                </a:solidFill>
                <a:uFillTx/>
                <a:latin typeface="Arial"/>
              </a:rPr>
              <a:t>very</a:t>
            </a:r>
            <a:r>
              <a:rPr b="0" lang="en-US" sz="3200" spc="-1" strike="noStrike">
                <a:solidFill>
                  <a:srgbClr val="000000"/>
                </a:solidFill>
                <a:latin typeface="Arial"/>
              </a:rPr>
              <a:t> common (50-6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slows gastric emptying CONTRAINDICATED in GASTROPARESI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jection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
          <p:cNvSpPr/>
          <p:nvPr/>
        </p:nvSpPr>
        <p:spPr>
          <a:xfrm>
            <a:off x="1283400" y="1895400"/>
            <a:ext cx="706608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tends to be more difficult to manage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on insulin if you don’t really under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you’re do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iver Z. Graham, MD, reflecting on person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 Pittsburgh Health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o might get Byetta?</a:t>
            </a: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e patients not at A1C target who are already on metformin, sulfonyurea or both or glitazone +/- metfor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DA approved for pts on 3 oral agents or on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use Byetta</a:t>
            </a:r>
            <a:endParaRPr b="0" lang="en-US" sz="4400" spc="-1" strike="noStrike">
              <a:solidFill>
                <a:srgbClr val="003366"/>
              </a:solidFill>
              <a:latin typeface="Times New Roman"/>
            </a:endParaRPr>
          </a:p>
        </p:txBody>
      </p:sp>
      <p:sp>
        <p:nvSpPr>
          <p:cNvPr id="1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5 mcg BID prior to meals, titrate up to 10 mcg BID as tolerated at one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4:</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John get Byet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as titrated up his Glargine to 40 U daily, and his A1c decreased to 7.8%.  He then missed his next appointment, and comes back 6 months la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40 U da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1c 8.5%</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now? Are “lifestyle” changes still worth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Exercise and DM</a:t>
            </a:r>
            <a:endParaRPr b="0" lang="en-US" sz="4400" spc="-1" strike="noStrike">
              <a:solidFill>
                <a:srgbClr val="003366"/>
              </a:solidFill>
              <a:latin typeface="Times New Roman"/>
            </a:endParaRPr>
          </a:p>
        </p:txBody>
      </p:sp>
      <p:sp>
        <p:nvSpPr>
          <p:cNvPr id="2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show regular exerci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A1c from 8.3 </a:t>
            </a:r>
            <a:r>
              <a:rPr b="0" lang="en-US" sz="2800" spc="-1" strike="noStrike">
                <a:solidFill>
                  <a:srgbClr val="000000"/>
                </a:solidFill>
                <a:latin typeface="Wingdings"/>
                <a:ea typeface="Wingdings"/>
              </a:rPr>
              <a:t></a:t>
            </a:r>
            <a:r>
              <a:rPr b="0" lang="en-US" sz="2800" spc="-1" strike="noStrike">
                <a:solidFill>
                  <a:srgbClr val="000000"/>
                </a:solidFill>
                <a:latin typeface="Arial"/>
              </a:rPr>
              <a:t> 7.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iet and DM</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c restriction and weight loss (even 5-10% of body weight) can lea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glucose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nsitivity to insul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lipid profiles and 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d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tus 40 U dai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formin 1000 BID </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pizide 10 mg BID</a:t>
            </a:r>
            <a:endParaRPr b="0" lang="en-US" sz="24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1c 8.5%</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knees hurt and he doesn’t want to start an exercise program.  His diet is reasonable, but he is unable to lose more weight.  How would you adjust his insulin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2" name=""/>
          <p:cNvSpPr/>
          <p:nvPr/>
        </p:nvSpPr>
        <p:spPr>
          <a:xfrm>
            <a:off x="914400" y="11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Image2" descr=""/>
          <p:cNvPicPr/>
          <p:nvPr/>
        </p:nvPicPr>
        <p:blipFill>
          <a:blip r:embed="rId1"/>
          <a:stretch/>
        </p:blipFill>
        <p:spPr>
          <a:xfrm>
            <a:off x="990720" y="533520"/>
            <a:ext cx="7924680" cy="606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initially dose prandial insulin</a:t>
            </a:r>
            <a:endParaRPr b="0" lang="en-US" sz="4400" spc="-1" strike="noStrike">
              <a:solidFill>
                <a:srgbClr val="003366"/>
              </a:solidFill>
              <a:latin typeface="Times New Roman"/>
            </a:endParaRPr>
          </a:p>
        </p:txBody>
      </p:sp>
      <p:sp>
        <p:nvSpPr>
          <p:cNvPr id="215"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for every 10 g carb (needs to learn carb counting)</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nits for a small meal</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units for a large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4 units largest meal, titrate up every three days (see algorithm)</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sulin needs (0.1 U/kg prior to each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additional correction factor for every 30-50 mg/dl above 100 mg/dl preprandial (see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rcRect l="23529" t="9412" r="11765" b="53911"/>
          <a:stretch/>
        </p:blipFill>
        <p:spPr>
          <a:xfrm>
            <a:off x="1523880" y="12952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really doesn’t want to do more than 2 injections/day.  How do you manage his insulin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sulin Regimens:</a:t>
            </a:r>
            <a:br>
              <a:rPr sz="4400"/>
            </a:br>
            <a:r>
              <a:rPr b="0" lang="en-US" sz="4400" spc="-1" strike="noStrike">
                <a:solidFill>
                  <a:srgbClr val="003366"/>
                </a:solidFill>
                <a:latin typeface="Times New Roman"/>
              </a:rPr>
              <a:t>2 Injections/ day</a:t>
            </a:r>
            <a:endParaRPr b="0" lang="en-US" sz="4400" spc="-1" strike="noStrike">
              <a:solidFill>
                <a:srgbClr val="003366"/>
              </a:solidFill>
              <a:latin typeface="Times New Roman"/>
            </a:endParaRPr>
          </a:p>
        </p:txBody>
      </p:sp>
      <p:sp>
        <p:nvSpPr>
          <p:cNvPr id="21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220"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ansition From One Regimen to Another</a:t>
            </a:r>
            <a:endParaRPr b="0" lang="en-US" sz="4400" spc="-1" strike="noStrike">
              <a:solidFill>
                <a:srgbClr val="003366"/>
              </a:solidFill>
              <a:latin typeface="Times New Roman"/>
            </a:endParaRPr>
          </a:p>
        </p:txBody>
      </p:sp>
      <p:pic>
        <p:nvPicPr>
          <p:cNvPr id="222" name="" descr=" ">
            <a:hlinkClick r:id="rId1"/>
          </p:cNvPr>
          <p:cNvPicPr/>
          <p:nvPr/>
        </p:nvPicPr>
        <p:blipFill>
          <a:blip r:embed="rId2"/>
          <a:stretch/>
        </p:blipFill>
        <p:spPr>
          <a:xfrm>
            <a:off x="2057400" y="2133720"/>
            <a:ext cx="5029200" cy="44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continued</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comes in two weeks later on the following DM m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30 20 U B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 BS – 100, 90, 120, 111, 11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 BS --  150, 144, 179, 180, 168</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ext step?</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226"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3366"/>
                </a:solidFill>
                <a:latin typeface="Times New Roman"/>
              </a:rPr>
              <a:t>Dosage Titration for Once-Daily or Twice-Daily Insulin Regimens</a:t>
            </a:r>
            <a:r>
              <a:rPr b="0" lang="en-US" sz="4000" spc="-1" strike="noStrike">
                <a:solidFill>
                  <a:srgbClr val="003366"/>
                </a:solidFill>
                <a:latin typeface="Times New Roman"/>
              </a:rPr>
              <a:t> </a:t>
            </a:r>
            <a:br>
              <a:rPr sz="4000"/>
            </a:br>
            <a:endParaRPr b="0" lang="en-US" sz="4000" spc="-1" strike="noStrike">
              <a:solidFill>
                <a:srgbClr val="003366"/>
              </a:solidFill>
              <a:latin typeface="Times New Roman"/>
            </a:endParaRPr>
          </a:p>
        </p:txBody>
      </p:sp>
      <p:pic>
        <p:nvPicPr>
          <p:cNvPr id="228" name="" descr=" ">
            <a:hlinkClick r:id="rId1"/>
          </p:cNvPr>
          <p:cNvPicPr/>
          <p:nvPr/>
        </p:nvPicPr>
        <p:blipFill>
          <a:blip r:embed="rId2"/>
          <a:stretch/>
        </p:blipFill>
        <p:spPr>
          <a:xfrm>
            <a:off x="2057400" y="2560680"/>
            <a:ext cx="5029200" cy="1736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se Study #2</a:t>
            </a:r>
            <a:endParaRPr b="0" lang="en-US" sz="3600" spc="-1" strike="noStrike">
              <a:solidFill>
                <a:srgbClr val="003366"/>
              </a:solidFill>
              <a:latin typeface="Times New Roman"/>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 is a 32 year old type I diabetic who was first diagnosed at age 12.  Her HgA1c have ranged between 10-12 over the past ten years, and she is now legally blind  from diabetic retinopathy and has a creatinine of 2.6.  Her current insulin regimen is N 22 (AM) N 18 (PM) as well as sliding scale regular prior to meals.  There have been 3 episodes of hypoglycemia in the past 2 weeks.   She now comes to your clinic for the first time in 6 months without a blood sugar log book and wants you to “fix her diabetes” as well as signing some paperwork for in home support services and giving her some vicodin for her neuropath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her target blood sugars should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a:t>
            </a:r>
            <a:br>
              <a:rPr sz="4400"/>
            </a:br>
            <a:r>
              <a:rPr b="1" lang="en-US" sz="4400" spc="-1" strike="noStrike">
                <a:solidFill>
                  <a:srgbClr val="003366"/>
                </a:solidFill>
                <a:latin typeface="Times New Roman"/>
              </a:rPr>
              <a:t>Intensive Insulin Therapy</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randial:  90-13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Hours Postprandial:  160-18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HbA1c &lt; 6.5 - 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hypoglycemia awarenes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recurrent, severe hypoglycemic episod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severe emotional disorders or psychosocial stressor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lcohol or drug abuse problem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dvanced, end stage diabetic complic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medical conditions that can be aggravated by hypoglycemia, I.e. cerebrovascular disease, angina, or cardiac arrhythmia</a:t>
            </a:r>
            <a:endParaRPr b="0" lang="en-US" sz="2400" spc="-1" strike="noStrike">
              <a:solidFill>
                <a:srgbClr val="000000"/>
              </a:solidFill>
              <a:latin typeface="Arial"/>
            </a:endParaRPr>
          </a:p>
        </p:txBody>
      </p:sp>
      <p:sp>
        <p:nvSpPr>
          <p:cNvPr id="235" name=""/>
          <p:cNvSpPr/>
          <p:nvPr/>
        </p:nvSpPr>
        <p:spPr>
          <a:xfrm>
            <a:off x="4564440" y="609588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 cont</a:t>
            </a: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unable or unwilling to commit to the personal effort and involvement required for intensive diabetes manage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concurrent illness and/or conditions that would functionally limit intensive management I.e. debilitating arthritis or severe visual impair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 relatively short life expectanc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live alone</a:t>
            </a:r>
            <a:endParaRPr b="0" lang="en-US" sz="2400" spc="-1" strike="noStrike">
              <a:solidFill>
                <a:srgbClr val="000000"/>
              </a:solidFill>
              <a:latin typeface="Arial"/>
            </a:endParaRPr>
          </a:p>
        </p:txBody>
      </p:sp>
      <p:sp>
        <p:nvSpPr>
          <p:cNvPr id="238" name=""/>
          <p:cNvSpPr/>
          <p:nvPr/>
        </p:nvSpPr>
        <p:spPr>
          <a:xfrm>
            <a:off x="4411800" y="548640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graphicFrame>
        <p:nvGraphicFramePr>
          <p:cNvPr id="144" name=""/>
          <p:cNvGraphicFramePr/>
          <p:nvPr/>
        </p:nvGraphicFramePr>
        <p:xfrm>
          <a:off x="1297080" y="1981080"/>
          <a:ext cx="7750080" cy="4133880"/>
        </p:xfrm>
        <a:graphic>
          <a:graphicData uri="http://schemas.openxmlformats.org/presentationml/2006/ole">
            <p:oleObj progId="Word.Document.12" r:id="rId1" spid="">
              <p:embed/>
              <p:pic>
                <p:nvPicPr>
                  <p:cNvPr id="145" name="" descr=""/>
                  <p:cNvPicPr/>
                  <p:nvPr/>
                </p:nvPicPr>
                <p:blipFill>
                  <a:blip r:embed="rId2"/>
                  <a:stretch/>
                </p:blipFill>
                <p:spPr>
                  <a:xfrm>
                    <a:off x="1297080" y="1981080"/>
                    <a:ext cx="775008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 not-so-Intensive Insulin Therapy</a:t>
            </a: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ood control”: HbA1c&lt;8</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ir control”: pre-meal BG&lt;20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 no harm control”:  Avoid hyper/hypoglycemic symptoms onl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lood sugar target does not fi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eel proud of </a:t>
            </a:r>
            <a:r>
              <a:rPr b="1" lang="en-US" sz="4400" spc="-1" strike="noStrike" u="sng">
                <a:solidFill>
                  <a:srgbClr val="003366"/>
                </a:solidFill>
                <a:uFillTx/>
                <a:latin typeface="Times New Roman"/>
              </a:rPr>
              <a:t>any</a:t>
            </a:r>
            <a:r>
              <a:rPr b="1" lang="en-US" sz="4400" spc="-1" strike="noStrike">
                <a:solidFill>
                  <a:srgbClr val="003366"/>
                </a:solidFill>
                <a:latin typeface="Times New Roman"/>
              </a:rPr>
              <a:t> HgA1c reduction</a:t>
            </a: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orrible control” to “poor control” – pat yourself on the back!!</a:t>
            </a:r>
            <a:endParaRPr b="0" lang="en-US" sz="2000" spc="-1" strike="noStrike">
              <a:solidFill>
                <a:srgbClr val="000000"/>
              </a:solidFill>
              <a:latin typeface="Arial"/>
            </a:endParaRPr>
          </a:p>
        </p:txBody>
      </p:sp>
      <p:pic>
        <p:nvPicPr>
          <p:cNvPr id="243" name="" descr=""/>
          <p:cNvPicPr/>
          <p:nvPr/>
        </p:nvPicPr>
        <p:blipFill>
          <a:blip r:embed="rId1"/>
          <a:srcRect l="17647" t="22248" r="23529" b="50488"/>
          <a:stretch/>
        </p:blipFill>
        <p:spPr>
          <a:xfrm>
            <a:off x="1676520" y="1585800"/>
            <a:ext cx="5867280" cy="3740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ocus on the ABC’s</a:t>
            </a: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1c</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Pressure</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0" y="0"/>
          <a:ext cx="9144000" cy="6858000"/>
        </p:xfrm>
        <a:graphic>
          <a:graphicData uri="http://schemas.openxmlformats.org/presentationml/2006/ole">
            <p:oleObj progId="PowerPoint.Show.12" r:id="rId1" spid="">
              <p:embed/>
              <p:pic>
                <p:nvPicPr>
                  <p:cNvPr id="24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0"/>
          <a:ext cx="9144000" cy="6858000"/>
        </p:xfrm>
        <a:graphic>
          <a:graphicData uri="http://schemas.openxmlformats.org/presentationml/2006/ole">
            <p:oleObj progId="PowerPoint.Show.12" r:id="rId1" spid="">
              <p:embed/>
              <p:pic>
                <p:nvPicPr>
                  <p:cNvPr id="2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rganizational Guidelines – the consensus….</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merican Diabetes Association, JNC 7, California Department of Health Services, National Kidney Foundation, Singapore Ministry of Health, Scottish Intercollegiate Guidelines Network and many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DM GOAL BP &lt; 130/80</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ults From Statin Trials for Patients With Diabetes</a:t>
            </a:r>
            <a:endParaRPr b="0" lang="en-US" sz="4400" spc="-1" strike="noStrike">
              <a:solidFill>
                <a:srgbClr val="003366"/>
              </a:solidFill>
              <a:latin typeface="Times New Roman"/>
            </a:endParaRPr>
          </a:p>
        </p:txBody>
      </p:sp>
      <p:pic>
        <p:nvPicPr>
          <p:cNvPr id="2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255" name="" descr=""/>
          <p:cNvPicPr/>
          <p:nvPr/>
        </p:nvPicPr>
        <p:blipFill>
          <a:blip r:embed="rId1"/>
          <a:stretch/>
        </p:blipFill>
        <p:spPr>
          <a:xfrm>
            <a:off x="13500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nother Case Study</a:t>
            </a:r>
            <a:endParaRPr b="0" lang="en-US" sz="28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9 year old patient has a very hectic life with two children and also works part time at a drug store.  Her time of meals, length of workday and levels of physical activity are vari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current insulin regimen i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R + 10N (8 AM), 8R + 14 N (Before dinn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1676520" y="2695680"/>
          <a:ext cx="5943600" cy="4162320"/>
        </p:xfrm>
        <a:graphic>
          <a:graphicData uri="http://schemas.openxmlformats.org/presentationml/2006/ole">
            <p:oleObj progId="Word.Document.12" r:id="rId1" spid="">
              <p:embed/>
              <p:pic>
                <p:nvPicPr>
                  <p:cNvPr id="261" name="" descr=""/>
                  <p:cNvPicPr/>
                  <p:nvPr/>
                </p:nvPicPr>
                <p:blipFill>
                  <a:blip r:embed="rId2"/>
                  <a:stretch/>
                </p:blipFill>
                <p:spPr>
                  <a:xfrm>
                    <a:off x="1676520" y="2695680"/>
                    <a:ext cx="5943600" cy="4162320"/>
                  </a:xfrm>
                  <a:prstGeom prst="rect">
                    <a:avLst/>
                  </a:prstGeom>
                  <a:ln w="0">
                    <a:noFill/>
                  </a:ln>
                </p:spPr>
              </p:pic>
            </p:oleObj>
          </a:graphicData>
        </a:graphic>
      </p:graphicFrame>
      <p:sp>
        <p:nvSpPr>
          <p:cNvPr id="262" name=""/>
          <p:cNvSpPr/>
          <p:nvPr/>
        </p:nvSpPr>
        <p:spPr>
          <a:xfrm>
            <a:off x="1036440" y="5805360"/>
            <a:ext cx="5760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account for the variability of the read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Lispro and Aspart </a:t>
            </a:r>
            <a:r>
              <a:rPr b="0" lang="en-US" sz="2800" spc="-1" strike="noStrike">
                <a:solidFill>
                  <a:srgbClr val="003366"/>
                </a:solidFill>
                <a:latin typeface="Times New Roman"/>
              </a:rPr>
              <a:t>(Humalog/Novolog)</a:t>
            </a:r>
            <a:endParaRPr b="0" lang="en-US" sz="28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cting (works within 5 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es carbohydrate intake to insulin do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ake right before me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affects Blood Sugars?</a:t>
            </a:r>
            <a:br>
              <a:rPr sz="4400"/>
            </a:br>
            <a:r>
              <a:rPr b="0" i="1" lang="en-US" sz="4400" spc="-1" strike="noStrike">
                <a:solidFill>
                  <a:srgbClr val="003366"/>
                </a:solidFill>
                <a:latin typeface="Times New Roman"/>
              </a:rPr>
              <a:t>Foods</a:t>
            </a:r>
            <a:endParaRPr b="0" lang="en-US" sz="4400" spc="-1" strike="noStrike">
              <a:solidFill>
                <a:srgbClr val="003366"/>
              </a:solidFill>
              <a:latin typeface="Times New Roman"/>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nsistent eating ha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ating or skipping m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ing timing of meals when on a fixed dose insulin sche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carbohydrate load, glycemic index or fat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and carbohydrates</a:t>
            </a: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arbohydrates directly affects post-prandial blood sugars.  To achieve good control, patients either need to lear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nsistency:  </a:t>
            </a:r>
            <a:r>
              <a:rPr b="0" lang="en-US" sz="3200" spc="-1" strike="noStrike">
                <a:solidFill>
                  <a:srgbClr val="000000"/>
                </a:solidFill>
                <a:latin typeface="Arial"/>
              </a:rPr>
              <a:t>Eat the same amount of carbs at every meal for predetermined insulin dosag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unting:  </a:t>
            </a:r>
            <a:r>
              <a:rPr b="0" lang="en-US" sz="3200" spc="-1" strike="noStrike">
                <a:solidFill>
                  <a:srgbClr val="000000"/>
                </a:solidFill>
                <a:latin typeface="Arial"/>
              </a:rPr>
              <a:t>Count up the amount of carbohydrates in the meal, and adjust insulin dosage according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Nutrition 101</a:t>
            </a:r>
            <a:endParaRPr b="0" lang="en-US" sz="4400" spc="-1" strike="noStrike">
              <a:solidFill>
                <a:srgbClr val="003366"/>
              </a:solidFill>
              <a:latin typeface="Times New Roman"/>
            </a:endParaRPr>
          </a:p>
        </p:txBody>
      </p:sp>
      <p:sp>
        <p:nvSpPr>
          <p:cNvPr id="2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ctiv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calories for weight los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ains instead of refined grains and starche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saturated and hydrogenated fat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meal consistency or carb 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1 DM for 6 years is on N25 R10 (8 AM), N15 R10 (6 PM).  His BS are:</a:t>
            </a:r>
            <a:endParaRPr b="0" lang="en-US" sz="2400" spc="-1" strike="noStrike">
              <a:solidFill>
                <a:srgbClr val="000000"/>
              </a:solidFill>
              <a:latin typeface="Arial"/>
            </a:endParaRPr>
          </a:p>
        </p:txBody>
      </p:sp>
      <p:graphicFrame>
        <p:nvGraphicFramePr>
          <p:cNvPr id="271" name=""/>
          <p:cNvGraphicFramePr/>
          <p:nvPr/>
        </p:nvGraphicFramePr>
        <p:xfrm>
          <a:off x="1238400" y="3505320"/>
          <a:ext cx="7905600" cy="3352680"/>
        </p:xfrm>
        <a:graphic>
          <a:graphicData uri="http://schemas.openxmlformats.org/presentationml/2006/ole">
            <p:oleObj progId="Word.Document.12" r:id="rId1" spid="">
              <p:embed/>
              <p:pic>
                <p:nvPicPr>
                  <p:cNvPr id="272" name="" descr=""/>
                  <p:cNvPicPr/>
                  <p:nvPr/>
                </p:nvPicPr>
                <p:blipFill>
                  <a:blip r:embed="rId2"/>
                  <a:stretch/>
                </p:blipFill>
                <p:spPr>
                  <a:xfrm>
                    <a:off x="1238400" y="3505320"/>
                    <a:ext cx="7905600" cy="3352680"/>
                  </a:xfrm>
                  <a:prstGeom prst="rect">
                    <a:avLst/>
                  </a:prstGeom>
                  <a:ln w="0">
                    <a:noFill/>
                  </a:ln>
                </p:spPr>
              </p:pic>
            </p:oleObj>
          </a:graphicData>
        </a:graphic>
      </p:graphicFrame>
      <p:sp>
        <p:nvSpPr>
          <p:cNvPr id="273" name=""/>
          <p:cNvSpPr/>
          <p:nvPr/>
        </p:nvSpPr>
        <p:spPr>
          <a:xfrm>
            <a:off x="1372320" y="5867280"/>
            <a:ext cx="54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nge his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graphicFrame>
        <p:nvGraphicFramePr>
          <p:cNvPr id="275" name=""/>
          <p:cNvGraphicFramePr/>
          <p:nvPr/>
        </p:nvGraphicFramePr>
        <p:xfrm>
          <a:off x="990720" y="1371600"/>
          <a:ext cx="7772400" cy="5149800"/>
        </p:xfrm>
        <a:graphic>
          <a:graphicData uri="http://schemas.openxmlformats.org/drawingml/2006/table">
            <a:tbl>
              <a:tblPr/>
              <a:tblGrid>
                <a:gridCol w="3886200"/>
                <a:gridCol w="3886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f glucose levels are out of target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heck coverage provided b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reakfast/prelun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reak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lunch/presupp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unch short insulin and/or AM NP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upper/bed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pper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afterno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mo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7"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I DM for 14 years has the following regimen:  N42 + R12 (8 AM), N21 + R 15 (6 PM)</a:t>
            </a:r>
            <a:endParaRPr b="0" lang="en-US" sz="2400" spc="-1" strike="noStrike">
              <a:solidFill>
                <a:srgbClr val="000000"/>
              </a:solidFill>
              <a:latin typeface="Arial"/>
            </a:endParaRPr>
          </a:p>
        </p:txBody>
      </p:sp>
      <p:graphicFrame>
        <p:nvGraphicFramePr>
          <p:cNvPr id="278" name=""/>
          <p:cNvGraphicFramePr/>
          <p:nvPr/>
        </p:nvGraphicFramePr>
        <p:xfrm>
          <a:off x="1752480" y="2895480"/>
          <a:ext cx="6083280" cy="3299040"/>
        </p:xfrm>
        <a:graphic>
          <a:graphicData uri="http://schemas.openxmlformats.org/presentationml/2006/ole">
            <p:oleObj progId="Word.Document.12" r:id="rId1" spid="">
              <p:embed/>
              <p:pic>
                <p:nvPicPr>
                  <p:cNvPr id="279" name="" descr=""/>
                  <p:cNvPicPr/>
                  <p:nvPr/>
                </p:nvPicPr>
                <p:blipFill>
                  <a:blip r:embed="rId2"/>
                  <a:stretch/>
                </p:blipFill>
                <p:spPr>
                  <a:xfrm>
                    <a:off x="1752480" y="2895480"/>
                    <a:ext cx="6083280" cy="3299040"/>
                  </a:xfrm>
                  <a:prstGeom prst="rect">
                    <a:avLst/>
                  </a:prstGeom>
                  <a:ln w="0">
                    <a:noFill/>
                  </a:ln>
                </p:spPr>
              </p:pic>
            </p:oleObj>
          </a:graphicData>
        </a:graphic>
      </p:graphicFrame>
      <p:sp>
        <p:nvSpPr>
          <p:cNvPr id="280" name=""/>
          <p:cNvSpPr/>
          <p:nvPr/>
        </p:nvSpPr>
        <p:spPr>
          <a:xfrm>
            <a:off x="1656720" y="5908680"/>
            <a:ext cx="623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you change his insulin regi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ccount for the blood sugar out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82"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regimen :N42 + R12 (8 AM), N21 + R 15 (6 PM)</a:t>
            </a:r>
            <a:endParaRPr b="0" lang="en-US" sz="2400" spc="-1" strike="noStrike">
              <a:solidFill>
                <a:srgbClr val="000000"/>
              </a:solidFill>
              <a:latin typeface="Arial"/>
            </a:endParaRPr>
          </a:p>
        </p:txBody>
      </p:sp>
      <p:graphicFrame>
        <p:nvGraphicFramePr>
          <p:cNvPr id="283" name=""/>
          <p:cNvGraphicFramePr/>
          <p:nvPr/>
        </p:nvGraphicFramePr>
        <p:xfrm>
          <a:off x="1371600" y="2133720"/>
          <a:ext cx="6083280" cy="3298680"/>
        </p:xfrm>
        <a:graphic>
          <a:graphicData uri="http://schemas.openxmlformats.org/presentationml/2006/ole">
            <p:oleObj progId="Word.Document.12" r:id="rId1" spid="">
              <p:embed/>
              <p:pic>
                <p:nvPicPr>
                  <p:cNvPr id="284" name="" descr=""/>
                  <p:cNvPicPr/>
                  <p:nvPr/>
                </p:nvPicPr>
                <p:blipFill>
                  <a:blip r:embed="rId2"/>
                  <a:stretch/>
                </p:blipFill>
                <p:spPr>
                  <a:xfrm>
                    <a:off x="1371600" y="2133720"/>
                    <a:ext cx="6083280" cy="3298680"/>
                  </a:xfrm>
                  <a:prstGeom prst="rect">
                    <a:avLst/>
                  </a:prstGeom>
                  <a:ln w="0">
                    <a:noFill/>
                  </a:ln>
                </p:spPr>
              </p:pic>
            </p:oleObj>
          </a:graphicData>
        </a:graphic>
      </p:graphicFrame>
      <p:sp>
        <p:nvSpPr>
          <p:cNvPr id="285" name=""/>
          <p:cNvSpPr/>
          <p:nvPr/>
        </p:nvSpPr>
        <p:spPr>
          <a:xfrm>
            <a:off x="1660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1371600" y="5105520"/>
            <a:ext cx="7162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AM – 172 (excluding 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lunch 17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dinner 129 (excluding 27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QHS 225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vening to N24 + R18, should improve daytime valu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adjustments should be based on average blood glucose readings, not the outlie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should be made based on numbers over several days to over 1-2 wee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severe hypo/hyperglycemia, changes should be made in 10-20% increments (about 1-5U at a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Regula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onset and later peak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ake 30-45 min before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really match blood sugar levels, especially with high carbo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ead to hyperglycemia immediately after meals with hypoglycemia several hours thereaf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NPH</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cting, with peak at 6-10 hou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for AM dosing to cover midday meals, used in PM to cover overnigh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BID as 70/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Glargine (Lantus)</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basal insulin with a 24 hour, peakless, predictable effec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s basal pancreatic insulin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7:08:00Z</dcterms:created>
  <dc:creator>Benjamin 'Buz' Graham</dc:creator>
  <dc:description/>
  <dc:language>en-US</dc:language>
  <cp:lastModifiedBy>Michelle</cp:lastModifiedBy>
  <dcterms:modified xsi:type="dcterms:W3CDTF">2010-01-23T01:59:53Z</dcterms:modified>
  <cp:revision>46</cp:revision>
  <dc:subject/>
  <dc:title>PRACTICAL INSULIN USE or,  how to think like a pancreas</dc:title>
</cp:coreProperties>
</file>