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move the slide</a:t>
            </a:r>
            <a:endParaRPr b="1" lang="en-US" sz="5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208E-6DF4-4773-9226-45B2BF7BC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A1F6B-1701-4EEF-9BD1-C4FE67E4A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46898-4043-40E2-9098-200B865D7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5E806-8C19-44BE-BA5D-6AE8537E2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89AA1-EEA7-4D40-8882-D009179DC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50DBB-5278-4957-9CDD-74642AC0E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CE0F5-2B78-47A3-B245-E6DD96064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D197F-5EE3-4CFB-B5C3-5DA0FE735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FF0FB-489E-4BE8-846C-CFED94D8B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D8852-D0F5-4CAE-B74E-12C17FC52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78C2A-9394-429B-A78E-7196A604C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E00FB-EEDA-460E-BA46-C5FC21511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DB19E-43A9-4C7A-9F15-721C66526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7BE27-9E25-43F1-BC40-AE091FE33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890B1-00F0-4660-A33B-444AD436D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E59AD-1566-4478-9698-C426B1A6B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0736B-68DD-42F1-9E08-20BE90E3B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B08D8-FB6A-43B4-8E24-EC4B9D172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C53A6-8A8B-4E9A-91C3-C4C1391A8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8FECB-9D99-41EC-A5FC-6133D51D7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49EC6-3F58-4458-9E15-5A356C507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B06F8-762E-46CA-BC81-943E75517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34AE8-BB9A-4ACE-9D67-418282EEB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D006-22C9-4F05-A31B-AE275C735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A5F1-5632-4460-BB5D-C5021AED0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E3BD-6E01-4372-98E5-414B534240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F84F-AB5C-44AA-B0A0-E91992B301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144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Injury Prevention Through Childhood</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m Carpenter MD, MP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 leading causes of PNM in US per CDC records1988-1998</a:t>
            </a:r>
            <a:endParaRPr b="1" lang="en-US" sz="4400" spc="-1" strike="noStrike">
              <a:solidFill>
                <a:srgbClr val="feec94"/>
              </a:solidFill>
              <a:latin typeface="Times New Roman"/>
            </a:endParaRPr>
          </a:p>
        </p:txBody>
      </p:sp>
      <p:pic>
        <p:nvPicPr>
          <p:cNvPr id="146" name="" descr=""/>
          <p:cNvPicPr/>
          <p:nvPr/>
        </p:nvPicPr>
        <p:blipFill>
          <a:blip r:embed="rId1"/>
          <a:stretch/>
        </p:blipFill>
        <p:spPr>
          <a:xfrm>
            <a:off x="838080" y="1676520"/>
            <a:ext cx="7239240" cy="453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nual rate of the leading specific cause of injury hospitalization and death / 100K by 3 month intervals 0-4 yrs CA 1996-1998</a:t>
            </a:r>
            <a:endParaRPr b="1" lang="en-US" sz="2400" spc="-1" strike="noStrike">
              <a:solidFill>
                <a:srgbClr val="feec94"/>
              </a:solidFill>
              <a:latin typeface="Times New Roman"/>
            </a:endParaRPr>
          </a:p>
        </p:txBody>
      </p:sp>
      <p:pic>
        <p:nvPicPr>
          <p:cNvPr id="148" name="" descr=""/>
          <p:cNvPicPr/>
          <p:nvPr/>
        </p:nvPicPr>
        <p:blipFill>
          <a:blip r:embed="rId1"/>
          <a:stretch/>
        </p:blipFill>
        <p:spPr>
          <a:xfrm>
            <a:off x="0" y="1430280"/>
            <a:ext cx="9144000" cy="5091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born Safety</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 and l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rowave h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mals/p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temperatur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direct sunlight; unable to move or change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yering of clot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alone in vehicle, extreme heat and extreme cold can kil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ve guns from home. If not then store guns and ammo separately with trigger loc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leave infant alone with pe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st neonatal Deaths</a:t>
            </a:r>
            <a:endParaRPr b="1" lang="en-US" sz="4400" spc="-1" strike="noStrike">
              <a:solidFill>
                <a:srgbClr val="feec94"/>
              </a:solidFill>
              <a:latin typeface="Times New Roman"/>
            </a:endParaRPr>
          </a:p>
        </p:txBody>
      </p:sp>
      <p:sp>
        <p:nvSpPr>
          <p:cNvPr id="153" name="PlaceHolder 2"/>
          <p:cNvSpPr>
            <a:spLocks noGrp="1"/>
          </p:cNvSpPr>
          <p:nvPr>
            <p:ph/>
          </p:nvPr>
        </p:nvSpPr>
        <p:spPr>
          <a:xfrm>
            <a:off x="533520" y="990360"/>
            <a:ext cx="8229600" cy="5562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1988-1998 12,209 post neonatal (28-364 days of age) deaths occur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vg. 1110/yea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ity unintentional injury due to</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cal suffocation i.e. wedging, oronasal obstruction by a plastic bag, overlying in bed, falling earth, lack of air in enclosed space, and accidental hanging</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tructive suffocation from aspiratio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or vehicle crash related death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Anticipatory Guidance</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94, 673 kids less that 5 yrs of age killed, 362 unrestrained.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r facing until 20lbs </a:t>
            </a:r>
            <a:r>
              <a:rPr b="0" lang="en-US" sz="2800" spc="-1" strike="noStrike" u="sng">
                <a:solidFill>
                  <a:srgbClr val="ffffff"/>
                </a:solidFill>
                <a:uFillTx/>
                <a:latin typeface="Times New Roman"/>
              </a:rPr>
              <a:t>and</a:t>
            </a:r>
            <a:r>
              <a:rPr b="0" lang="en-US" sz="2800" spc="-1" strike="noStrike">
                <a:solidFill>
                  <a:srgbClr val="ffffff"/>
                </a:solidFill>
                <a:latin typeface="Times New Roman"/>
              </a:rPr>
              <a:t> 1 yr of age to decrease risk of cervical spine inju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ck seat onl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ant seats should not have shields, abd pads, or arm rest that can directly contact fa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ear facing, shoulder straps should be lower than infants shoulders, clip should be mid sternum</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continued</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child’s head leans forward in rear facing car seat, chair should be reclined until head against back of chai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ible seat at 20 lbs and greater than 12 mos. Should be semi upright and forward facing (ears below top of back of seat and shoulders below the seat strap slo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oster seat to position lap and shoulder strap. Lap across hips and shoulder strap below neck</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6 Weeks</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bling jealous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wa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 over</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hould always sleep on back to reduce risk of S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ofa, soft mattress, waterbeds, comforters, crib pads, pillows, qui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leeping(bed-sharing) increase risk of SIDS and suffocation by 20% or more. Parents should not smoke, drink, take sedating me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 skid surface for bath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heater should be at 120 degree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new infant alone with sibling under 7.  Observe interactions. Children under five should not lift a younger sib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 should be on each floor of the house. Check batteries monthly. Change batteries yearly(landlords are responsible in many municipalitie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oal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 about child safety and the Physician role in Anticipatory Guida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on Child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cipatory Guidance for safety: why and what to sa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t water and burns</a:t>
            </a:r>
            <a:endParaRPr b="1" lang="en-US" sz="4400" spc="-1" strike="noStrike">
              <a:solidFill>
                <a:srgbClr val="feec94"/>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of 140F takes 6 sec for full thickness burns in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150 takes 2 seconds for full thickness in adu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0 takes 2 min to achieve full  thickness in adult</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 to 4 Months</a:t>
            </a:r>
            <a:endParaRPr b="1" lang="en-US" sz="4400" spc="-1" strike="noStrike">
              <a:solidFill>
                <a:srgbClr val="feec94"/>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y 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3520" y="304920"/>
            <a:ext cx="8229600" cy="6354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lats- should be narrower than 2 and 3/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inch(soda c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94 AAP recommend ban on walkers, CPSC reports more injuries than any other juvenile device. Decrease visual feedbac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ies can wiggle, kick, scoot never leave alone on surface. Pillow barriers </a:t>
            </a:r>
            <a:r>
              <a:rPr b="0" lang="en-US" sz="3200" spc="-1" strike="noStrike" u="sng">
                <a:solidFill>
                  <a:srgbClr val="ffffff"/>
                </a:solidFill>
                <a:uFillTx/>
                <a:latin typeface="Times New Roman"/>
              </a:rPr>
              <a:t>do not</a:t>
            </a:r>
            <a:r>
              <a:rPr b="0" lang="en-US" sz="3200" spc="-1" strike="noStrike">
                <a:solidFill>
                  <a:srgbClr val="ffffff"/>
                </a:solidFill>
                <a:latin typeface="Times New Roman"/>
              </a:rPr>
              <a:t> prevent falls and may cause suff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hot liquids and baby in your arm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baby gets burned, cool water, loose bandages, call MD</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lls</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ing cause of nonfatal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alities usually from heights &gt;2 stories. If not fatal 1/3 cuts and abrasions, fracture most common serious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less than two stories resulting in injury usually head first onto hard surface from caregiver’s arms or impact of caregiver onto infa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6 months</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king therapy</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 with small parts or that fit into a toilet paper roll pose a choking hazar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for age appropriateness labeling on toys and follow it(ie. Not for use by &lt; 3y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d pieces of food are choking risk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es to block stai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 BLS, no blind finger sweep, back blow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d coffee table and sharp corners</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6-9 Months</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lk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ys/Chok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wli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 the hous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g cov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 let kids get to dangerous areas, head and neck protrude unprotected for falls, can pull objects down on themselve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ypen/crib/ high chair are safe places while you are cook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ds this age love water, leave no standing water, close door to bathroom or have toilet lock to prevent drown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nd to mouth exploration leave no small objects or poisonous items within reach</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awl through house, great perspective to help child proofing</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9-12 months</a:t>
            </a:r>
            <a:endParaRPr b="1" lang="en-US" sz="4400" spc="-1" strike="noStrike">
              <a:solidFill>
                <a:srgbClr val="feec94"/>
              </a:solidFill>
              <a:latin typeface="Times New Roman"/>
            </a:endParaRPr>
          </a:p>
        </p:txBody>
      </p:sp>
      <p:sp>
        <p:nvSpPr>
          <p:cNvPr id="1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h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ing</a:t>
            </a:r>
            <a:endParaRPr b="0" lang="en-US" sz="2800" spc="-1" strike="noStrike">
              <a:solidFill>
                <a:srgbClr val="ffffff"/>
              </a:solidFill>
              <a:latin typeface="Times New Roman"/>
            </a:endParaRPr>
          </a:p>
        </p:txBody>
      </p:sp>
      <p:sp>
        <p:nvSpPr>
          <p:cNvPr id="17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chen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piration risk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destrian injuries: 1-2 yrs old most likely backed over in drivewa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est over all rate of injury 495/100K in California in 1997</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leave alone in bath, even with bath ring, do not leave in reach of fixtur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 poison control number(1-800-876-4766 or 1-800-8POISO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away all med and cleaners (remind other care givers as well).  Kitchen, bathroom, purs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 handles of pots inwards, use back burners, kids in playpen or high chair, not under foot, 3 foot safety zone from stov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ticipatory guidance</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nt lit review:18 of 20 studies showed positive effects from injury prevention counse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0% of parents report never receiving injury prevention counseling</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18 Months</a:t>
            </a:r>
            <a:endParaRPr b="1" lang="en-US" sz="44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tu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co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ing/tripp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tem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880" y="380880"/>
            <a:ext cx="8229600" cy="6019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likely fatal fall is from a windows &gt;2 stori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move furniture from windows, install operable window gu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ly all kids less than 6 can slip through 6 inch railing opening (none older that 1 can get through 4 inch ope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plug appliances when not in use. Keep cords tied back and out of reach</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ds love to climb to demonstrate new abilities and reach enticing objects. Anchor book shelves. Keep chairs away from counters etc</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8 –24 Months</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wir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 ti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ca/lead</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k about lead in home. CBC and Lead level. Sooner if hx of lead exposure.  Discourage play near old paint. Remember increased risk with remodeling, car repair, Greta, Azarc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let plugs for higher outlets.  Consider covers that require better fine motor and more strengt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4-30 Months</a:t>
            </a:r>
            <a:endParaRPr b="1" lang="en-US" sz="4400" spc="-1" strike="noStrike">
              <a:solidFill>
                <a:srgbClr val="feec94"/>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ives/gu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doors and cabin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highest rate of injury in California in 1997  387/100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terate car seat safety. Forward facing.  If out growing then booster sea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sliding doors and window guards. Consider door jam bumper guards</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0-36 Months</a:t>
            </a:r>
            <a:endParaRPr b="1" lang="en-US" sz="4400" spc="-1" strike="noStrike">
              <a:solidFill>
                <a:srgbClr val="feec94"/>
              </a:solidFill>
              <a:latin typeface="Times New Roman"/>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outle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s on door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ives/gu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door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temperatur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52280" y="53352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estrian injuries: 3-4 yrs old most likely injured in mid-block street entry accidents just like older k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 door safety includes cross streets, play ground equipment with proper supervision, boundaries of the yard</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 year old</a:t>
            </a: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ligh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door safety</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plan to escape home and meeting place should be developed and practic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 should be purchased with bike. Appropriate size, chin strap should be used. Reduce serious injury risk by 85%</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 about match safety.  No matches/lighters in rea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ride bike in the stree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Academy of Pediatrics taskforce entitled The Injury Prevention Progra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PP component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cy statement saying safety counseling is a priority and standard of care for PCP’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counseling schedule which suggests age appropriate topics for each well child visi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s for PCP’s including a Framingham Safety survey as well as info sheets</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6Year Old</a:t>
            </a: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tool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 helme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imal safety</a:t>
            </a:r>
            <a:endParaRPr b="0" lang="en-US" sz="2800" spc="-1" strike="noStrike">
              <a:solidFill>
                <a:srgbClr val="ffffff"/>
              </a:solidFill>
              <a:latin typeface="Times New Roman"/>
            </a:endParaRPr>
          </a:p>
        </p:txBody>
      </p:sp>
      <p:sp>
        <p:nvSpPr>
          <p:cNvPr id="19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 and Addres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mm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up dangerous item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et safety</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880" y="0"/>
            <a:ext cx="82296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eet crossing safety,  no crossing without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trangers.  Kids should be able to memorize name, address, phone (cell), parent’s na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ak age for injury from falls related to playground equipment 35/100K in CA 1997</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balconies and fire escapes are fall dangers. Boys 1.5:1 girls for rate of 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 age for swimming less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ower tools until age ten.  Proper safety gear if helping a parent (i.e. eye protec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approach animals. Never approach an animal while 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Booster seats until 6 years or 60 pounds(8 years or 80 pounds).  Rear seat until 12 years.</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7-8 year old</a:t>
            </a: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p:txBody>
      </p:sp>
      <p:sp>
        <p:nvSpPr>
          <p:cNvPr id="20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er safety gear for inline skating and skateboard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wrist guards for scoote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telling adult without touc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owning- always supervise water activit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0-13 Years Old</a:t>
            </a:r>
            <a:endParaRPr b="1" lang="en-US" sz="4400" spc="-1" strike="noStrike">
              <a:solidFill>
                <a:srgbClr val="feec94"/>
              </a:solidFill>
              <a:latin typeface="Times New Roman"/>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Skating/ Skateboa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to swi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Knives</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457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ing, EtOH, drug avoidan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rting sexual advances, computer safet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erty tal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stinence vs. safe sex, Plan 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water activiti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power tool usa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ride with driver if they are drin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operate ATV until age 16</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lict resolution without violenc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dolescent 14-21</a:t>
            </a: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a:t>
            </a: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4-15 Years Old</a:t>
            </a:r>
            <a:endParaRPr b="1" lang="en-US" sz="4400" spc="-1" strike="noStrike">
              <a:solidFill>
                <a:srgbClr val="feec94"/>
              </a:solidFill>
              <a:latin typeface="Times New Roman"/>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ctive gear for spor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licit drug use and risk of O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deaths and drowning risk with EtO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 Gun deaths reach 25/100K at age 14 in CA. 50/1000K at 15 yrs, peaks at 110 at 18 yrs for 1997.</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one under 16 should operate personal water craf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6-18 Years Old</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safety-markedly higher rate of fatal crashes, risk increases further with increasing passeng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fe sex and date rape, Plan 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ornia 1997 18 yr olds with highest rate of injury per year by age 732/100K</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too</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PP encompasses 11 visits between 0-4y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ey to be completed 2, 15,24 mos. and they allow PCP to tailor counsel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pics are: Safety seats, smoke detectors, crib safety, water safety, firearms, pedestrian, play equipment, fall prevention, burn prevention, choking, suffocation prevention, and poisoning prevention</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mmary</a:t>
            </a:r>
            <a:endParaRPr b="1" lang="en-US" sz="4400" spc="-1" strike="noStrike">
              <a:solidFill>
                <a:srgbClr val="feec94"/>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opportunity to counsel about safety to help prevent injury, disability, and medical cos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pts are great, but only if they actually help yo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ris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s</a:t>
            </a:r>
            <a:endParaRPr b="0" lang="en-US" sz="32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ibliography</a:t>
            </a: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Anderson C, Winn D, Trent R, Walton-Hayes L, Thayer S. Rates of pediatric injuries by 3-month intervals for children 0-3 years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Winn D, Anderson C, Trent R, Walton Hayes L. Rates of pediatric adolescent injuries by year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1;108:3</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Falls from heights: windows, roofs, and balconies</a:t>
            </a:r>
            <a:r>
              <a:rPr b="0" i="1" lang="en-US" sz="1600" spc="-1" strike="noStrike">
                <a:solidFill>
                  <a:srgbClr val="ffffff"/>
                </a:solidFill>
                <a:latin typeface="Times New Roman"/>
              </a:rPr>
              <a:t>. Pediatrics</a:t>
            </a:r>
            <a:r>
              <a:rPr b="0" lang="en-US" sz="1600" spc="-1" strike="noStrike">
                <a:solidFill>
                  <a:srgbClr val="ffffff"/>
                </a:solidFill>
                <a:latin typeface="Times New Roman"/>
              </a:rPr>
              <a:t>. 2001;10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Selecting and using the most appropriate car safety seats for growing children: guidelines for counseling parents.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6;9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ller T, Galbraith M. Injury prevention counseling by pediatricians: a benefit-cost comparison.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5:96:1</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rivastava L, Shrivastava N. Anticipatory guidance. </a:t>
            </a:r>
            <a:r>
              <a:rPr b="0" i="1" lang="en-US" sz="1600" spc="-1" strike="noStrike">
                <a:solidFill>
                  <a:srgbClr val="ffffff"/>
                </a:solidFill>
                <a:latin typeface="Times New Roman"/>
              </a:rPr>
              <a:t>Clinics in Family Practice</a:t>
            </a:r>
            <a:r>
              <a:rPr b="0" lang="en-US" sz="1600" spc="-1" strike="noStrike">
                <a:solidFill>
                  <a:srgbClr val="ffffff"/>
                </a:solidFill>
                <a:latin typeface="Times New Roman"/>
              </a:rPr>
              <a:t>. 2003;5: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mashek K, Hsia J, Iyasu S. Trends in post neonatal mortality attributable to injury, united States, 1988-1998.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ebsite: www.aap.org/family/tippmain.htm</a:t>
            </a:r>
            <a:endParaRPr b="0" lang="en-US" sz="1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knowledgement</a:t>
            </a:r>
            <a:endParaRPr b="1" lang="en-US" sz="4400" spc="-1" strike="noStrike">
              <a:solidFill>
                <a:srgbClr val="feec94"/>
              </a:solidFill>
              <a:latin typeface="Times New Roman"/>
            </a:endParaRPr>
          </a:p>
        </p:txBody>
      </p:sp>
      <p:sp>
        <p:nvSpPr>
          <p:cNvPr id="219" name=""/>
          <p:cNvSpPr txBox="1"/>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talk was modified from “Anticipating Safety” by Matthew Kraus M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cost</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takes 22 min of PCP’s time over 4 years thus adding an avg. of 1.5 min to the WCC visit (estimated as 16min long in 199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erials from AAP provided at $1.09 per child</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Benefit</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 costs saved $5.50 per visit, $60 per child, 230 million annually at national leve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wages lost to parents not included) $15.50 per visit, $170 per child, 660 million annual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of Life $59 per visit, $650 per child, 2.5 billion annual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ere did those #’s come from?</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ness of broad prevention counseling in a suburban office reduced child injury rate by 15.3%. National medical expenditure survey shows avg. injury cost $394 per 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5 yrs of a child’s lif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enting permanent disabilities and death allows kids to work as adult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jury reduces quality of life. Took ratio of QOL cost to wage loss to injured in data from safety seats and smoke detectors yields QOL sav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y care about injury prevention</a:t>
            </a:r>
            <a:endParaRPr b="1" lang="en-US" sz="40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Health Interview Survey data determined an injury rate of 25/100 kids through 0-21yrs of age (26.6 million injuries per year) Estimate cost $347  billion annually</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28:49Z</dcterms:created>
  <dc:creator>Information Systems</dc:creator>
  <dc:description/>
  <dc:language>en-US</dc:language>
  <cp:lastModifiedBy>HCMARTINEZ</cp:lastModifiedBy>
  <dcterms:modified xsi:type="dcterms:W3CDTF">2009-01-22T19:10:12Z</dcterms:modified>
  <cp:revision>18</cp:revision>
  <dc:subject/>
  <dc:title>Anticipating Safety</dc:title>
</cp:coreProperties>
</file>