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move the slide</a:t>
            </a:r>
            <a:endParaRPr b="1" lang="en-US" sz="5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85FFA-C46B-4CA0-AB44-3765504EF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407B1-6E82-46A4-95F4-0C246FAA3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4118A-5143-4B67-BE47-DD8DDC217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BC1A9-3E30-46EF-AA8B-15DC9C292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171DC-575E-4DA3-9505-CBC1363B6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1F9DF4-D4A6-489F-B2D0-59F22D97D7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392EB-4D95-481A-8319-E848F7638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FD93A-2A36-4A3D-909F-B2ACB527D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5EC0FF-F848-465E-BE12-CE6FD668E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73A60-E5E9-4BDC-8DF7-C1EEA4F96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D2344-0F5D-4C31-9171-4942A17E1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34649-399D-437F-8EE4-5C6DFF3B1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17941-888E-4400-8CEC-11AC830E5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E2DED-F186-4586-8241-A94575049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68C62-0C3B-45DB-8F02-73FD6A754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BB3BA-E8DF-4F2B-8705-E03D489FC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71FDF8-BB05-4708-87B5-26A6D72648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561C14-BC72-4E91-BF42-C789F561BA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3EEB7-3EEA-4AF9-B45E-7400E5332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01165-533E-4DAD-ABD4-4A346E7E2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94F6D-C2FE-41DF-9657-993BD2949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D10E7-6E5A-4DEB-B9BB-F21EC658D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15E45-8211-4055-B50D-938BD3CAA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F4DA8-18D1-4CB9-A544-8DD160F81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F0FDA-C0B6-4947-974A-933159698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9D411-A12A-4BB9-A3F7-9D7A90A104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6FACD-2B75-4A58-B3A5-AA831F8354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91440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Injury Prevention Through Childhood</a:t>
            </a:r>
            <a:endParaRPr b="1" lang="en-US" sz="5400" spc="-1" strike="noStrike">
              <a:solidFill>
                <a:srgbClr val="feec94"/>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im Carpenter MD, MPH</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5 leading causes of PNM in US per CDC records1988-1998</a:t>
            </a:r>
            <a:endParaRPr b="1" lang="en-US" sz="4400" spc="-1" strike="noStrike">
              <a:solidFill>
                <a:srgbClr val="feec94"/>
              </a:solidFill>
              <a:latin typeface="Times New Roman"/>
            </a:endParaRPr>
          </a:p>
        </p:txBody>
      </p:sp>
      <p:pic>
        <p:nvPicPr>
          <p:cNvPr id="146" name="" descr=""/>
          <p:cNvPicPr/>
          <p:nvPr/>
        </p:nvPicPr>
        <p:blipFill>
          <a:blip r:embed="rId1"/>
          <a:stretch/>
        </p:blipFill>
        <p:spPr>
          <a:xfrm>
            <a:off x="838080" y="1676520"/>
            <a:ext cx="7239240" cy="4538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nnual rate of the leading specific cause of injury hospitalization and death / 100K by 3 month intervals 0-4 yrs CA 1996-1998</a:t>
            </a:r>
            <a:endParaRPr b="1" lang="en-US" sz="2400" spc="-1" strike="noStrike">
              <a:solidFill>
                <a:srgbClr val="feec94"/>
              </a:solidFill>
              <a:latin typeface="Times New Roman"/>
            </a:endParaRPr>
          </a:p>
        </p:txBody>
      </p:sp>
      <p:pic>
        <p:nvPicPr>
          <p:cNvPr id="148" name="" descr=""/>
          <p:cNvPicPr/>
          <p:nvPr/>
        </p:nvPicPr>
        <p:blipFill>
          <a:blip r:embed="rId1"/>
          <a:stretch/>
        </p:blipFill>
        <p:spPr>
          <a:xfrm>
            <a:off x="0" y="1430280"/>
            <a:ext cx="9144000" cy="5091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Newborn Safety</a:t>
            </a: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eep position and loca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rowave heat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imals/p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ib</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ter temperatur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eat</a:t>
            </a:r>
            <a:endParaRPr b="0" lang="en-US" sz="3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d direct sunlight; unable to move or change posi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yering of cloth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ver leave alone in vehicle, extreme heat and extreme cold can kill</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ove guns from home. If not then store guns and ammo separately with trigger lock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n’t leave infant alone with pe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st neonatal Deaths</a:t>
            </a:r>
            <a:endParaRPr b="1" lang="en-US" sz="4400" spc="-1" strike="noStrike">
              <a:solidFill>
                <a:srgbClr val="feec94"/>
              </a:solidFill>
              <a:latin typeface="Times New Roman"/>
            </a:endParaRPr>
          </a:p>
        </p:txBody>
      </p:sp>
      <p:sp>
        <p:nvSpPr>
          <p:cNvPr id="153" name="PlaceHolder 2"/>
          <p:cNvSpPr>
            <a:spLocks noGrp="1"/>
          </p:cNvSpPr>
          <p:nvPr>
            <p:ph/>
          </p:nvPr>
        </p:nvSpPr>
        <p:spPr>
          <a:xfrm>
            <a:off x="533520" y="990360"/>
            <a:ext cx="8229600" cy="5562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m 1988-1998 12,209 post neonatal (28-364 days of age) deaths occurre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vg. 1110/yea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ity unintentional injury due to</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chanical suffocation i.e. wedging, oronasal obstruction by a plastic bag, overlying in bed, falling earth, lack of air in enclosed space, and accidental hanging</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structive suffocation from aspiration</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tor vehicle crash related deaths</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r Seat Anticipatory Guidance</a:t>
            </a:r>
            <a:endParaRPr b="1" lang="en-US" sz="4400" spc="-1" strike="noStrike">
              <a:solidFill>
                <a:srgbClr val="feec94"/>
              </a:solidFill>
              <a:latin typeface="Times New Roman"/>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994, 673 kids less that 5 yrs of age killed, 362 unrestrained.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r facing until 20lbs </a:t>
            </a:r>
            <a:r>
              <a:rPr b="0" lang="en-US" sz="2800" spc="-1" strike="noStrike" u="sng">
                <a:solidFill>
                  <a:srgbClr val="ffffff"/>
                </a:solidFill>
                <a:uFillTx/>
                <a:latin typeface="Times New Roman"/>
              </a:rPr>
              <a:t>and</a:t>
            </a:r>
            <a:r>
              <a:rPr b="0" lang="en-US" sz="2800" spc="-1" strike="noStrike">
                <a:solidFill>
                  <a:srgbClr val="ffffff"/>
                </a:solidFill>
                <a:latin typeface="Times New Roman"/>
              </a:rPr>
              <a:t> 1 yr of age to decrease risk of cervical spine injur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ck seat onl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ant seats should not have shields, abd pads, or arm rest that can directly contact fac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rear facing, shoulder straps should be lower than infants shoulders, clip should be mid sternum</a:t>
            </a:r>
            <a:endParaRPr b="0" lang="en-US" sz="2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r seat continued</a:t>
            </a:r>
            <a:endParaRPr b="1" lang="en-US" sz="4400" spc="-1" strike="noStrike">
              <a:solidFill>
                <a:srgbClr val="feec94"/>
              </a:solidFill>
              <a:latin typeface="Times New Roman"/>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child’s head leans forward in rear facing car seat, chair should be reclined until head against back of chair</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ible seat at 20 lbs and greater than 12 mos. Should be semi upright and forward facing (ears below top of back of seat and shoulders below the seat strap slot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oster seat to position lap and shoulder strap. Lap across hips and shoulder strap below neck</a:t>
            </a:r>
            <a:endParaRPr b="0" lang="en-US" sz="3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6 Weeks</a:t>
            </a:r>
            <a:endParaRPr b="1" lang="en-US" sz="4400" spc="-1" strike="noStrike">
              <a:solidFill>
                <a:srgbClr val="feec94"/>
              </a:solidFill>
              <a:latin typeface="Times New Roman"/>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ea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ib safe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eep Posi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bling jealous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oke detecto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thwate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lling over</a:t>
            </a:r>
            <a:endParaRPr b="0" lang="en-US" sz="3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ant should always sleep on back to reduce risk of SI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d sofa, soft mattress, waterbeds, comforters, crib pads, pillows, quil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sleeping(bed-sharing) increase risk of SIDS and suffocation by 20% or more. Parents should not smoke, drink, take sedating me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 skid surface for bath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t water heater should be at 120 degrees</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2286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ver leave new infant alone with sibling under 7.  Observe interactions. Children under five should not lift a younger sibl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oke detectors should be on each floor of the house. Check batteries monthly. Change batteries yearly(landlords are responsible in many municipalities)</a:t>
            </a: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Goals</a:t>
            </a: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ion about child safety and the Physician role in Anticipatory Guidan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a on Child Injur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ticipatory Guidance for safety: why and what to sa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s</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ot water and burns</a:t>
            </a:r>
            <a:endParaRPr b="1" lang="en-US" sz="4400" spc="-1" strike="noStrike">
              <a:solidFill>
                <a:srgbClr val="feec94"/>
              </a:solidFill>
              <a:latin typeface="Times New Roman"/>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t water of 140F takes 6 sec for full thickness burns in adul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t water 150 takes 2 seconds for full thickness in adul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20 takes 2 min to achieve full  thickness in adult</a:t>
            </a:r>
            <a:endParaRPr b="0" lang="en-US" sz="3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5 to 4 Months</a:t>
            </a:r>
            <a:endParaRPr b="1" lang="en-US" sz="4400" spc="-1" strike="noStrike">
              <a:solidFill>
                <a:srgbClr val="feec94"/>
              </a:solidFill>
              <a:latin typeface="Times New Roman"/>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by Walke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y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lling/fall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ant seat safe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ib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afety</a:t>
            </a:r>
            <a:endParaRPr b="0" lang="en-US" sz="3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533520" y="304920"/>
            <a:ext cx="8229600" cy="6354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ib slats- should be narrower than 2 and 3/8</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inch(soda ca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94 AAP recommend ban on walkers, CPSC reports more injuries than any other juvenile device. Decrease visual feedback</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bies can wiggle, kick, scoot never leave alone on surface. Pillow barriers </a:t>
            </a:r>
            <a:r>
              <a:rPr b="0" lang="en-US" sz="3200" spc="-1" strike="noStrike" u="sng">
                <a:solidFill>
                  <a:srgbClr val="ffffff"/>
                </a:solidFill>
                <a:uFillTx/>
                <a:latin typeface="Times New Roman"/>
              </a:rPr>
              <a:t>do not</a:t>
            </a:r>
            <a:r>
              <a:rPr b="0" lang="en-US" sz="3200" spc="-1" strike="noStrike">
                <a:solidFill>
                  <a:srgbClr val="ffffff"/>
                </a:solidFill>
                <a:latin typeface="Times New Roman"/>
              </a:rPr>
              <a:t> prevent falls and may cause suffoca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hot liquids and baby in your arm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baby gets burned, cool water, loose bandages, call MD</a:t>
            </a:r>
            <a:endParaRPr b="0" lang="en-US" sz="3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alls</a:t>
            </a:r>
            <a:endParaRPr b="1" lang="en-US" sz="4400" spc="-1" strike="noStrike">
              <a:solidFill>
                <a:srgbClr val="feec94"/>
              </a:solidFill>
              <a:latin typeface="Times New Roman"/>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ding cause of nonfatal injur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talities usually from heights &gt;2 stories. If not fatal 1/3 cuts and abrasions, fracture most common serious injur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ll less than two stories resulting in injury usually head first onto hard surface from caregiver’s arms or impact of caregiver onto infan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6 months</a:t>
            </a:r>
            <a:endParaRPr b="1" lang="en-US" sz="4400" spc="-1" strike="noStrike">
              <a:solidFill>
                <a:srgbClr val="feec94"/>
              </a:solidFill>
              <a:latin typeface="Times New Roman"/>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lke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y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ant Sea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ll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eat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oking therapy</a:t>
            </a:r>
            <a:endParaRPr b="0" lang="en-US" sz="3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ys with small parts or that fit into a toilet paper roll pose a choking hazar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ok for age appropriateness labeling on toys and follow it(ie. Not for use by &lt; 3yo)</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rd pieces of food are choking risk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tes to block stai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courage BLS, no blind finger sweep, back blow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d coffee table and sharp corners</a:t>
            </a:r>
            <a:endParaRPr b="0" lang="en-US" sz="3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6-9 Months</a:t>
            </a:r>
            <a:endParaRPr b="1" lang="en-US" sz="4400" spc="-1" strike="noStrike">
              <a:solidFill>
                <a:srgbClr val="feec94"/>
              </a:solidFill>
              <a:latin typeface="Times New Roman"/>
            </a:endParaRPr>
          </a:p>
        </p:txBody>
      </p:sp>
      <p:sp>
        <p:nvSpPr>
          <p:cNvPr id="17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lker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ys/Chok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own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irs/gate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awli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4"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 proof the house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nd to mouth activi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ug cover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rns</a:t>
            </a:r>
            <a:endParaRPr b="0" lang="en-US" sz="2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lkers let kids get to dangerous areas, head and neck protrude unprotected for falls, can pull objects down on themselves</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ypen/crib/ high chair are safe places while you are cooking</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ds this age love water, leave no standing water, close door to bathroom or have toilet lock to prevent drowning</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nd to mouth exploration leave no small objects or poisonous items within reach</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awl through house, great perspective to help child proofing</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9-12 months</a:t>
            </a:r>
            <a:endParaRPr b="1" lang="en-US" sz="4400" spc="-1" strike="noStrike">
              <a:solidFill>
                <a:srgbClr val="feec94"/>
              </a:solidFill>
              <a:latin typeface="Times New Roman"/>
            </a:endParaRPr>
          </a:p>
        </p:txBody>
      </p:sp>
      <p:sp>
        <p:nvSpPr>
          <p:cNvPr id="17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rn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 seat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h safe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ison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 proofing</a:t>
            </a:r>
            <a:endParaRPr b="0" lang="en-US" sz="2800" spc="-1" strike="noStrike">
              <a:solidFill>
                <a:srgbClr val="ffffff"/>
              </a:solidFill>
              <a:latin typeface="Times New Roman"/>
            </a:endParaRPr>
          </a:p>
        </p:txBody>
      </p:sp>
      <p:sp>
        <p:nvSpPr>
          <p:cNvPr id="178"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tchen safe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piration risk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nd to mouth activi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irs/gates</a:t>
            </a:r>
            <a:endParaRPr b="0" lang="en-US" sz="28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152280"/>
            <a:ext cx="8229600" cy="5973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destrian injuries: 1-2 yrs old most likely backed over in drivewa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est over all rate of injury 495/100K in California in 1997</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ver leave alone in bath, even with bath ring, do not leave in reach of fixtur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t poison control number(1-800-876-4766 or 1-800-8POISON)</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 away all med and cleaners (remind other care givers as well).  Kitchen, bathroom, purs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rn handles of pots inwards, use back burners, kids in playpen or high chair, not under foot, 3 foot safety zone from stov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nticipatory guidance</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ent lit review:18 of 20 studies showed positive effects from injury prevention counsel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0% of parents report never receiving injury prevention counseling</a:t>
            </a:r>
            <a:endParaRPr b="0" lang="en-US" sz="3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5-18 Months</a:t>
            </a:r>
            <a:endParaRPr b="1" lang="en-US" sz="4400" spc="-1" strike="noStrike">
              <a:solidFill>
                <a:srgbClr val="feec94"/>
              </a:solidFill>
              <a:latin typeface="Times New Roman"/>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thtub safe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al cor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oke detecto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lling/tripp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t water temp</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mbing</a:t>
            </a:r>
            <a:endParaRPr b="0" lang="en-US" sz="3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80880" y="380880"/>
            <a:ext cx="8229600" cy="601992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likely fatal fall is from a windows &gt;2 storie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move furniture from windows, install operable window guard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rtually all kids less than 6 can slip through 6 inch railing opening (none older that 1 can get through 4 inch open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plug appliances when not in use. Keep cords tied back and out of reach</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ds love to climb to demonstrate new abilities and reach enticing objects. Anchor book shelves. Keep chairs away from counters etc</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8 –24 Months</a:t>
            </a:r>
            <a:endParaRPr b="1" lang="en-US" sz="4400" spc="-1" strike="noStrike">
              <a:solidFill>
                <a:srgbClr val="feec94"/>
              </a:solidFill>
              <a:latin typeface="Times New Roman"/>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 wir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 outl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ea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mb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th tim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ica/lead</a:t>
            </a:r>
            <a:endParaRPr b="0" lang="en-US" sz="3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80880" y="38088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k about lead in home. CBC and Lead level. Sooner if hx of lead exposure.  Discourage play near old paint. Remember increased risk with remodeling, car repair, Greta, Azarc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tlet plugs for higher outlets.  Consider covers that require better fine motor and more strength</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4-30 Months</a:t>
            </a:r>
            <a:endParaRPr b="1" lang="en-US" sz="4400" spc="-1" strike="noStrike">
              <a:solidFill>
                <a:srgbClr val="feec94"/>
              </a:solidFill>
              <a:latin typeface="Times New Roman"/>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ea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 outl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nives/gun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ks on doors and cabin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afety</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highest rate of injury in California in 1997  387/100K</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iterate car seat safety. Forward facing.  If out growing then booster sea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ks on sliding doors and window guards. Consider door jam bumper guards</a:t>
            </a:r>
            <a:endParaRPr b="0" lang="en-US" sz="3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0-36 Months</a:t>
            </a:r>
            <a:endParaRPr b="1" lang="en-US" sz="4400" spc="-1" strike="noStrike">
              <a:solidFill>
                <a:srgbClr val="feec94"/>
              </a:solidFill>
              <a:latin typeface="Times New Roman"/>
            </a:endParaRPr>
          </a:p>
        </p:txBody>
      </p:sp>
      <p:sp>
        <p:nvSpPr>
          <p:cNvPr id="19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 sea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ical outle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s on door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ives/gun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1"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moke detector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utdoor safe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ison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ter temperatur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52280" y="53352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destrian injuries: 3-4 yrs old most likely injured in mid-block street entry accidents just like older ki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t door safety includes cross streets, play ground equipment with proper supervision, boundaries of the yard</a:t>
            </a:r>
            <a:endParaRPr b="0" lang="en-US" sz="32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 year old</a:t>
            </a:r>
            <a:endParaRPr b="1" lang="en-US" sz="4400" spc="-1" strike="noStrike">
              <a:solidFill>
                <a:srgbClr val="feec94"/>
              </a:solidFill>
              <a:latin typeface="Times New Roman"/>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ke helm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ical outle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e light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oke detecto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ison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utdoor safety</a:t>
            </a:r>
            <a:endParaRPr b="0" lang="en-US" sz="3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e plan to escape home and meeting place should be developed and practice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ke helmet should be purchased with bike. Appropriate size, chin strap should be used. Reduce serious injury risk by 85%</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 about match safety.  No matches/lighters in reach.</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not ride bike in the stree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IPP</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an Academy of Pediatrics taskforce entitled The Injury Prevention Progra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PP components</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licy statement saying safety counseling is a priority and standard of care for PCP’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des counseling schedule which suggests age appropriate topics for each well child visit</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erials for PCP’s including a Framingham Safety survey as well as info sheets</a:t>
            </a:r>
            <a:endParaRPr b="0" lang="en-US" sz="28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5-6Year Old</a:t>
            </a:r>
            <a:endParaRPr b="1" lang="en-US" sz="4400" spc="-1" strike="noStrike">
              <a:solidFill>
                <a:srgbClr val="feec94"/>
              </a:solidFill>
              <a:latin typeface="Times New Roman"/>
            </a:endParaRPr>
          </a:p>
        </p:txBody>
      </p:sp>
      <p:sp>
        <p:nvSpPr>
          <p:cNvPr id="19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tbelt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ical tool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ke helme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un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imal safety</a:t>
            </a:r>
            <a:endParaRPr b="0" lang="en-US" sz="2800" spc="-1" strike="noStrike">
              <a:solidFill>
                <a:srgbClr val="ffffff"/>
              </a:solidFill>
              <a:latin typeface="Times New Roman"/>
            </a:endParaRPr>
          </a:p>
        </p:txBody>
      </p:sp>
      <p:sp>
        <p:nvSpPr>
          <p:cNvPr id="198"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me and Addres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wimm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 up dangerous item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eet safety</a:t>
            </a:r>
            <a:endParaRPr b="0" lang="en-US" sz="28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80880" y="0"/>
            <a:ext cx="82296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eet crossing safety,  no crossing without adul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d strangers.  Kids should be able to memorize name, address, phone (cell), parent’s nam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ak age for injury from falls related to playground equipment 35/100K in CA 1997</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balconies and fire escapes are fall dangers. Boys 1.5:1 girls for rate of fall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priate age for swimming lesson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2286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power tools until age ten.  Proper safety gear if helping a parent (i.e. eye protec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to approach animals. Never approach an animal while eat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Booster seats until 6 years or 60 pounds(8 years or 80 pounds).  Rear seat until 12 years.</a:t>
            </a:r>
            <a:endParaRPr b="0" lang="en-US" sz="32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7-8 year old</a:t>
            </a:r>
            <a:endParaRPr b="1" lang="en-US" sz="4400" spc="-1" strike="noStrike">
              <a:solidFill>
                <a:srgbClr val="feec94"/>
              </a:solidFill>
              <a:latin typeface="Times New Roman"/>
            </a:endParaRPr>
          </a:p>
        </p:txBody>
      </p:sp>
      <p:sp>
        <p:nvSpPr>
          <p:cNvPr id="20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ke/skat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kateboard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tbelt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 to swim</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uns</a:t>
            </a:r>
            <a:endParaRPr b="0" lang="en-US" sz="2800" spc="-1" strike="noStrike">
              <a:solidFill>
                <a:srgbClr val="ffffff"/>
              </a:solidFill>
              <a:latin typeface="Times New Roman"/>
            </a:endParaRPr>
          </a:p>
        </p:txBody>
      </p:sp>
      <p:sp>
        <p:nvSpPr>
          <p:cNvPr id="203"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ke/Skating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kateboard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atbelt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moke detector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 to swim</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uns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owning</a:t>
            </a:r>
            <a:endParaRPr b="0" lang="en-US" sz="28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per safety gear for inline skating and skateboard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wrist guards for scooter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uns-telling adult without touch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owning- always supervise water activiti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0-13 Years Old</a:t>
            </a:r>
            <a:endParaRPr b="1" lang="en-US" sz="4400" spc="-1" strike="noStrike">
              <a:solidFill>
                <a:srgbClr val="feec94"/>
              </a:solidFill>
              <a:latin typeface="Times New Roman"/>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ke/Skating/ Skateboard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atbel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 to swi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uns/Knives</a:t>
            </a:r>
            <a:endParaRPr b="0" lang="en-US" sz="32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04920" y="457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moking, EtOH, drug avoidanc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orting sexual advances, computer safet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erty talk</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stinence vs. safe sex, Plan B</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ervise water activitie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ervise power tool usag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ride with driver if they are drinking</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operate ATV until age 16</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flict resolution without violence</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dolescent 14-21</a:t>
            </a:r>
            <a:endParaRPr b="1" lang="en-US" sz="4400" spc="-1" strike="noStrike">
              <a:solidFill>
                <a:srgbClr val="feec94"/>
              </a:solidFill>
              <a:latin typeface="Times New Roman"/>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olen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atbel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uns</a:t>
            </a:r>
            <a:endParaRPr b="0" lang="en-US" sz="32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4-15 Years Old</a:t>
            </a:r>
            <a:endParaRPr b="1" lang="en-US" sz="4400" spc="-1" strike="noStrike">
              <a:solidFill>
                <a:srgbClr val="feec94"/>
              </a:solidFill>
              <a:latin typeface="Times New Roman"/>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tective gear for sport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llicit drug use and risk of OD</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iving deaths and drowning risk with EtOH</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olence- Gun deaths reach 25/100K at age 14 in CA. 50/1000K at 15 yrs, peaks at 110 at 18 yrs for 1997.</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one under 16 should operate personal water craf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6-18 Years Old</a:t>
            </a:r>
            <a:endParaRPr b="1" lang="en-US" sz="4400" spc="-1" strike="noStrike">
              <a:solidFill>
                <a:srgbClr val="feec94"/>
              </a:solidFill>
              <a:latin typeface="Times New Roman"/>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atbel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iving safety-markedly higher rate of fatal crashes, risk increases further with increasing passenge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ug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fe sex and date rape, Plan B</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ifornia 1997 18 yr olds with highest rate of injury per year by age 732/100K</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IPP too</a:t>
            </a: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PP encompasses 11 visits between 0-4yr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rvey to be completed 2, 15,24 mos. and they allow PCP to tailor counselin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pics are: Safety seats, smoke detectors, crib safety, water safety, firearms, pedestrian, play equipment, fall prevention, burn prevention, choking, suffocation prevention, and poisoning prevention</a:t>
            </a:r>
            <a:endParaRPr b="0" lang="en-US" sz="28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ummary</a:t>
            </a:r>
            <a:endParaRPr b="1" lang="en-US" sz="4400" spc="-1" strike="noStrike">
              <a:solidFill>
                <a:srgbClr val="feec94"/>
              </a:solidFill>
              <a:latin typeface="Times New Roman"/>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ke the opportunity to counsel about safety to help prevent injury, disability, and medical cos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mpts are great, but only if they actually help you</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 safe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ll risk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isonings</a:t>
            </a:r>
            <a:endParaRPr b="0" lang="en-US" sz="32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ibliography</a:t>
            </a:r>
            <a:endParaRPr b="1" lang="en-US" sz="4400" spc="-1" strike="noStrike">
              <a:solidFill>
                <a:srgbClr val="feec94"/>
              </a:solidFill>
              <a:latin typeface="Times New Roman"/>
            </a:endParaRPr>
          </a:p>
        </p:txBody>
      </p:sp>
      <p:sp>
        <p:nvSpPr>
          <p:cNvPr id="217"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gran P, Anderson C, Winn D, Trent R, Walton-Hayes L, Thayer S. Rates of pediatric injuries by 3-month intervals for children 0-3 years of age. </a:t>
            </a:r>
            <a:r>
              <a:rPr b="0" i="1" lang="en-US" sz="1600" spc="-1" strike="noStrike">
                <a:solidFill>
                  <a:srgbClr val="ffffff"/>
                </a:solidFill>
                <a:latin typeface="Times New Roman"/>
              </a:rPr>
              <a:t>Pediatrics</a:t>
            </a:r>
            <a:r>
              <a:rPr b="0" lang="en-US" sz="1600" spc="-1" strike="noStrike">
                <a:solidFill>
                  <a:srgbClr val="ffffff"/>
                </a:solidFill>
                <a:latin typeface="Times New Roman"/>
              </a:rPr>
              <a:t> 2003;111:6</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gran P, Winn D, Anderson C, Trent R, Walton Hayes L. Rates of pediatric adolescent injuries by year of age. </a:t>
            </a:r>
            <a:r>
              <a:rPr b="0" i="1" lang="en-US" sz="1600" spc="-1" strike="noStrike">
                <a:solidFill>
                  <a:srgbClr val="ffffff"/>
                </a:solidFill>
                <a:latin typeface="Times New Roman"/>
              </a:rPr>
              <a:t>Pediatrics</a:t>
            </a:r>
            <a:r>
              <a:rPr b="0" lang="en-US" sz="1600" spc="-1" strike="noStrike">
                <a:solidFill>
                  <a:srgbClr val="ffffff"/>
                </a:solidFill>
                <a:latin typeface="Times New Roman"/>
              </a:rPr>
              <a:t>. 2001;108:3</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mittee on Injury and Poison Prevention AAP et. al.  Falls from heights: windows, roofs, and balconies</a:t>
            </a:r>
            <a:r>
              <a:rPr b="0" i="1" lang="en-US" sz="1600" spc="-1" strike="noStrike">
                <a:solidFill>
                  <a:srgbClr val="ffffff"/>
                </a:solidFill>
                <a:latin typeface="Times New Roman"/>
              </a:rPr>
              <a:t>. Pediatrics</a:t>
            </a:r>
            <a:r>
              <a:rPr b="0" lang="en-US" sz="1600" spc="-1" strike="noStrike">
                <a:solidFill>
                  <a:srgbClr val="ffffff"/>
                </a:solidFill>
                <a:latin typeface="Times New Roman"/>
              </a:rPr>
              <a:t>. 2001;107:5</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mittee on Injury and Poison Prevention AAP et. al. Selecting and using the most appropriate car safety seats for growing children: guidelines for counseling parents. </a:t>
            </a:r>
            <a:r>
              <a:rPr b="0" i="1" lang="en-US" sz="1600" spc="-1" strike="noStrike">
                <a:solidFill>
                  <a:srgbClr val="ffffff"/>
                </a:solidFill>
                <a:latin typeface="Times New Roman"/>
              </a:rPr>
              <a:t>Pediatrics</a:t>
            </a:r>
            <a:r>
              <a:rPr b="0" lang="en-US" sz="1600" spc="-1" strike="noStrike">
                <a:solidFill>
                  <a:srgbClr val="ffffff"/>
                </a:solidFill>
                <a:latin typeface="Times New Roman"/>
              </a:rPr>
              <a:t>. 1996;97:5</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iller T, Galbraith M. Injury prevention counseling by pediatricians: a benefit-cost comparison. </a:t>
            </a:r>
            <a:r>
              <a:rPr b="0" i="1" lang="en-US" sz="1600" spc="-1" strike="noStrike">
                <a:solidFill>
                  <a:srgbClr val="ffffff"/>
                </a:solidFill>
                <a:latin typeface="Times New Roman"/>
              </a:rPr>
              <a:t>Pediatrics</a:t>
            </a:r>
            <a:r>
              <a:rPr b="0" lang="en-US" sz="1600" spc="-1" strike="noStrike">
                <a:solidFill>
                  <a:srgbClr val="ffffff"/>
                </a:solidFill>
                <a:latin typeface="Times New Roman"/>
              </a:rPr>
              <a:t>. 1995:96:1</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hrivastava L, Shrivastava N. Anticipatory guidance. </a:t>
            </a:r>
            <a:r>
              <a:rPr b="0" i="1" lang="en-US" sz="1600" spc="-1" strike="noStrike">
                <a:solidFill>
                  <a:srgbClr val="ffffff"/>
                </a:solidFill>
                <a:latin typeface="Times New Roman"/>
              </a:rPr>
              <a:t>Clinics in Family Practice</a:t>
            </a:r>
            <a:r>
              <a:rPr b="0" lang="en-US" sz="1600" spc="-1" strike="noStrike">
                <a:solidFill>
                  <a:srgbClr val="ffffff"/>
                </a:solidFill>
                <a:latin typeface="Times New Roman"/>
              </a:rPr>
              <a:t>. 2003;5:6</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mashek K, Hsia J, Iyasu S. Trends in post neonatal mortality attributable to injury, united States, 1988-1998. </a:t>
            </a:r>
            <a:r>
              <a:rPr b="0" i="1" lang="en-US" sz="1600" spc="-1" strike="noStrike">
                <a:solidFill>
                  <a:srgbClr val="ffffff"/>
                </a:solidFill>
                <a:latin typeface="Times New Roman"/>
              </a:rPr>
              <a:t>Pediatrics</a:t>
            </a:r>
            <a:r>
              <a:rPr b="0" lang="en-US" sz="1600" spc="-1" strike="noStrike">
                <a:solidFill>
                  <a:srgbClr val="ffffff"/>
                </a:solidFill>
                <a:latin typeface="Times New Roman"/>
              </a:rPr>
              <a:t>. 2003,111:5</a:t>
            </a:r>
            <a:endParaRPr b="0" lang="en-US" sz="1600" spc="-1" strike="noStrike">
              <a:solidFill>
                <a:srgbClr val="ffffff"/>
              </a:solidFill>
              <a:latin typeface="Times New Roman"/>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ebsite: www.aap.org/family/tippmain.htm</a:t>
            </a:r>
            <a:endParaRPr b="0" lang="en-US" sz="16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cknowledgement</a:t>
            </a:r>
            <a:endParaRPr b="1" lang="en-US" sz="4400" spc="-1" strike="noStrike">
              <a:solidFill>
                <a:srgbClr val="feec94"/>
              </a:solidFill>
              <a:latin typeface="Times New Roman"/>
            </a:endParaRPr>
          </a:p>
        </p:txBody>
      </p:sp>
      <p:sp>
        <p:nvSpPr>
          <p:cNvPr id="219" name=""/>
          <p:cNvSpPr txBox="1"/>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talk was modified from “Anticipating Safety” by Matthew Kraus M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Questions?</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IPP cost</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ly takes 22 min of PCP’s time over 4 years thus adding an avg. of 1.5 min to the WCC visit (estimated as 16min long in 1992)</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erials from AAP provided at $1.09 per child</a:t>
            </a:r>
            <a:endParaRPr b="0" lang="en-US" sz="3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IPP Benefit</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al costs saved $5.50 per visit, $60 per child, 230 million annually at national level</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 (wages lost to parents not included) $15.50 per visit, $170 per child, 660 million annuall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ty of Life $59 per visit, $650 per child, 2.5 billion annually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ere did those #’s come from?</a:t>
            </a:r>
            <a:endParaRPr b="1" lang="en-US" sz="4400" spc="-1" strike="noStrike">
              <a:solidFill>
                <a:srgbClr val="feec94"/>
              </a:solidFill>
              <a:latin typeface="Times New Roman"/>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ffectiveness of broad prevention counseling in a suburban office reduced child injury rate by 15.3%. National medical expenditure survey shows avg. injury cost $394 per 1</a:t>
            </a:r>
            <a:r>
              <a:rPr b="0" lang="en-US" sz="2800" spc="-1" strike="noStrike" baseline="30000">
                <a:solidFill>
                  <a:srgbClr val="ffffff"/>
                </a:solidFill>
                <a:latin typeface="Times New Roman"/>
              </a:rPr>
              <a:t>st</a:t>
            </a:r>
            <a:r>
              <a:rPr b="0" lang="en-US" sz="2800" spc="-1" strike="noStrike">
                <a:solidFill>
                  <a:srgbClr val="ffffff"/>
                </a:solidFill>
                <a:latin typeface="Times New Roman"/>
              </a:rPr>
              <a:t> 5 yrs of a child’s lif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venting permanent disabilities and death allows kids to work as adult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jury reduces quality of life. Took ratio of QOL cost to wage loss to injured in data from safety seats and smoke detectors yields QOL saving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y care about injury prevention</a:t>
            </a:r>
            <a:endParaRPr b="1" lang="en-US" sz="40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Health Interview Survey data determined an injury rate of 25/100 kids through 0-21yrs of age (26.6 million injuries per year) Estimate cost $347  billion annually</a:t>
            </a:r>
            <a:endParaRPr b="0" lang="en-US" sz="3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7T19:28:49Z</dcterms:created>
  <dc:creator>Information Systems</dc:creator>
  <dc:description/>
  <dc:language>en-US</dc:language>
  <cp:lastModifiedBy>HCMARTINEZ</cp:lastModifiedBy>
  <dcterms:modified xsi:type="dcterms:W3CDTF">2009-01-22T19:10:12Z</dcterms:modified>
  <cp:revision>18</cp:revision>
  <dc:subject/>
  <dc:title>Anticipating Safety</dc:title>
</cp:coreProperties>
</file>