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4680"/>
            <a:ext cx="51404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C4D3-B515-4556-8A42-C33F2FFF1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4FFFD-3F3C-4A18-AE37-5429C939D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fully flex and straighten kn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e’s test is done by placing the feet eight to 10 inches apart with the feet turned out. The patient squats down as far as possible while keeping the feet flat on the floor. This position tests the medial meniscus. Pain or a click are felt when the knee is bent about</a:t>
            </a:r>
            <a:br>
              <a:rPr sz="1200"/>
            </a:br>
            <a:r>
              <a:rPr b="0" lang="en-US" sz="1200" spc="-1" strike="noStrike">
                <a:solidFill>
                  <a:srgbClr val="000000"/>
                </a:solidFill>
                <a:latin typeface="Times New Roman"/>
              </a:rPr>
              <a:t>90 degrees. The test can be repeated with the feet turned in for the lateral meniscu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5C24-CEC1-4699-9445-C92C22D16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81160" y="696960"/>
            <a:ext cx="4648320" cy="3486240"/>
          </a:xfrm>
          <a:prstGeom prst="rect">
            <a:avLst/>
          </a:prstGeom>
          <a:ln w="0">
            <a:noFill/>
          </a:ln>
        </p:spPr>
      </p:sp>
      <p:sp>
        <p:nvSpPr>
          <p:cNvPr id="158"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ain directly over the patella. The patient may have pain with leg extension or be unable to extend the knee with a severe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ain over the distal femur and often will have a hemarthrosis.  Patients are often unable to bear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esent with a knee effusion and pain.  May represent with an avulsion of the tibial attachment of the anterior cruciate liga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Pain over the anterior tibia about 3 cm distal to the articular surface. In severe fractures, the patient may be unable to extend the kn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ften, patients present with a knee effusion, and tenderness will be present over the medial or lateral plateau.  Up to 30% of tibial plateau fractures are associated with knee ligamentous injuries (medial collateral or anterior cruciate ligaments with lateral plateau fractures, lateral collateral or posterior cruciate ligaments with medial plateau fractur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C3BB0-FD0D-4734-8E29-C6A6FB8FB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The mechanism is usually a blow to the anterior thigh with an object or contact with another athlete or gear. Symptoms include painful anterior thigh, painful weightbearing, and unwillingness to flex the knee because of thigh p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mechanism is sudden stretching or repeated eccentric contraction of the muscle causing pain and dysfunction immediately or 1-3 days later.Symptoms include pain with ambulation and knee flexion and inability to extend the knee if the quadriceps is rupt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Usually more proximal than the tendon strain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8ABC-1F96-4B4E-853F-7E51203F5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ly defined end point on valgus stress testing indicates a grade 1 or grade 2 sprain, whereas complete medial instability indicates full rupture of the ligament (grade 3 sprai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9D3E-5424-4AC2-B8C9-7950A4402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 diabetes mellitus, alcoholism, acquired immunodeficiency syndrome, or corticosteroid therapy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03B82-8A86-4E0A-98F8-73FC81DEA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ing episodes suggests a meniscal tear :  popping at the time of injury suggests ligamentous injury, probably complete rupture of a ligament (third-degree tear) :  giving way are consistent with some degree of knee instability and may indicate patellar subluxation or ligamentous rupture (don’t forget about Quad weakness / PTF / pseudo-buck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A0D3F-841D-4FAD-AD70-9352F9F6C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onset (within two hours) of a large, tense effusion suggests rupture of the anterior cruciate ligament or fracture of the tibial plateau with resultant hemarthrosis, whereas slower onset (24 to 36 hours) of a mild to moderate effusion is consistent with meniscal injury or ligamentous sprain. Recurrent knee effusion after activity is consistent with meniscal injur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B147-D823-4FA3-BEE0-A1F7EA832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tions, supporting devices, and physical thera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ut, pseudogout, rheumatoid arthritis, or other degenerative joint dis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8E81C-3716-477D-BAED-25EF4FC86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ce of warmth, exquisite tenderness, painful effusion, and marked pain with even slight range of motion of the knee joint is consistent with septic arthritis or acute inflammatory arthropat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joint effusion produces clear, straw-colored transudative fluid, as in a knee sprain or chronic meniscal inj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20716-2E41-495C-8FBE-02323FD2E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ailed history and focused physical examination can narrow possible causes. The patient's age and the anatomic site of the pain are two factors that can be important in achieving an accurate diagnosis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607C-529C-49DF-902F-94C497B49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llofemoral pain syndrome (PFPS) is the most common diagnosis in outpatients presenting with knee pain. Studies have shown PFPS to be the most common single diagnosis among runners and in sports medicine centers.1,2 Eleven percent of musculoskeletal complaints in the office setting are caused by anterior knee pain (which most commonly results from PFPS), and PFPS constitutes 16 to 25 percent of all injuries in runners.1,3 It is caused by imbalances in the forces controlling patellar tracking during knee flexion and extension, particularly with overloading of the j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usually does not represent true patellar instability but rather transient inhibition of the quadriceps because of pain or deconditio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8D45-82B6-4B37-A152-F0640289A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rrows point to subchondral scleros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rrow points to osteophy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rrowheads point to joint narro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3E8A-5176-4580-B07B-47C8BA31F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birefringent, needle-shaped, urate crystals aspirated from a gouty tophus can be seen in this image taken with a polarizing microscope and a red compensator filter. The negatively birefringent crystals appear yellow when they lie parallel to the optical axis of the compensator and blue when perpendicular to it.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EDC5-3180-48EE-B638-68D966BEB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how many of these possible DX can be made with an X-ra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070B-AF96-4392-A265-9FAC64BC25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string muscles we know flex the knee, but tight hamstrings can place more posterior force on the knee, which causes pressure between the patella and the femur to increas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C9D4-32B5-4B2D-972E-EF679365D4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81160" y="696960"/>
            <a:ext cx="4648320" cy="3486240"/>
          </a:xfrm>
          <a:prstGeom prst="rect">
            <a:avLst/>
          </a:prstGeom>
          <a:ln w="0">
            <a:noFill/>
          </a:ln>
        </p:spPr>
      </p:sp>
      <p:sp>
        <p:nvSpPr>
          <p:cNvPr id="146" name="PlaceHolder 2"/>
          <p:cNvSpPr>
            <a:spLocks noGrp="1"/>
          </p:cNvSpPr>
          <p:nvPr>
            <p:ph type="body"/>
          </p:nvPr>
        </p:nvSpPr>
        <p:spPr>
          <a:xfrm>
            <a:off x="934560" y="4414680"/>
            <a:ext cx="5140440" cy="4184640"/>
          </a:xfrm>
          <a:prstGeom prst="rect">
            <a:avLst/>
          </a:prstGeom>
          <a:noFill/>
          <a:ln w="0">
            <a:noFill/>
          </a:ln>
        </p:spPr>
        <p:txBody>
          <a:bodyPr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s: Femur with distal medial and lateral epicondyles, Patella, Tibia with medial and lateral condyles, Tibial tubical - attachment of the quads and the Fibula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driceps (made up of 4 muscles). They form a tendon that envelops the patella. Below the patella it is call the patellar tendon and it inserts into the tibial tubical, anchoring the quads to the tibia. The quadriceps cause knee extensio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string muscles Found in the back of the thigh, they cause flexion of the kne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the Knee Join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ments: (hold bones together)</a:t>
            </a:r>
            <a:br>
              <a:rPr sz="1200"/>
            </a:br>
            <a:r>
              <a:rPr b="0" lang="en-US" sz="1200" spc="-1" strike="noStrike">
                <a:solidFill>
                  <a:srgbClr val="000000"/>
                </a:solidFill>
                <a:latin typeface="Times New Roman"/>
              </a:rPr>
              <a:t>Collateral Ligaments - lateral and medial</a:t>
            </a:r>
            <a:br>
              <a:rPr sz="1200"/>
            </a:br>
            <a:r>
              <a:rPr b="0" lang="en-US" sz="1200" spc="-1" strike="noStrike">
                <a:solidFill>
                  <a:srgbClr val="000000"/>
                </a:solidFill>
                <a:latin typeface="Times New Roman"/>
              </a:rPr>
              <a:t>Cruciate Ligaments - Anterior and posterio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isci: Distributes weight over the surface of the joint and functions as shock absorbers or cushion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lla: Our kneecap rides in the groove between the femoral condyl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sa: fibrous sacs of fluid that reduce friction between bones, ligaments and tend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0D30-BFF4-473C-82C5-FB6AF0570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81160" y="696960"/>
            <a:ext cx="4648320" cy="3486240"/>
          </a:xfrm>
          <a:prstGeom prst="rect">
            <a:avLst/>
          </a:prstGeom>
          <a:ln w="0">
            <a:noFill/>
          </a:ln>
        </p:spPr>
      </p:sp>
      <p:sp>
        <p:nvSpPr>
          <p:cNvPr id="149"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rect blow to the knee can cause serious injury. Anterior force applied to the proximal tibia with the knee in flexion (e.g.,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nee hits the dashboard in an automobile accident) can cause injury to the posterior cruciate ligament or patella fracture. The medial collateral ligament is most commonly injured as a result of direct lateral force to the knee (e.g., clipping in football); this force creates a valgus load on the knee joint and can result in rupture of the medial collateral ligament. Conversely, a medial blow that creates a varus load can injure the lateral collateral liga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contact forces also are an important cause of knee injury. Quick stops and sharp cuts or turns create significant deceleration forces that can sprain or rupture the anterior cruciate ligament. Hyperextension can result in injury to the anterior cruciate ligament or posterior cruciate ligament. Sudden twisting or pivoting motions create shear forces that can injure the meniscus. A combination of forces can occur simultaneously, causing injury to multiple struct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2631-FFED-4A9A-AAC1-613E1EB8B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81160" y="696960"/>
            <a:ext cx="4648320" cy="3486240"/>
          </a:xfrm>
          <a:prstGeom prst="rect">
            <a:avLst/>
          </a:prstGeom>
          <a:ln w="0">
            <a:noFill/>
          </a:ln>
        </p:spPr>
      </p:sp>
      <p:sp>
        <p:nvSpPr>
          <p:cNvPr id="152"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lla, tibial tubercle, patellar tendon, quadriceps tendon, anterolateral and anteromedial joint line, medial joint line, and lateral joint 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 helps ID joint lines, normal range of motion: extension, zero degrees; flexion, 135 degre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7C59C-AC76-4C7C-89AD-D1C1B43BD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54B6B-78AA-4D57-847B-57E3908CF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5AA50-7D8D-4E7D-9AF9-F403061B4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4DE42-640A-4B50-86F3-322AAC3A1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C1052-3445-4A40-BFF8-E8FC94989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153D3-A428-4A4D-BC6D-29DC7D2B6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284DA-A74E-4C16-B240-99DDAFEDB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090FA-7288-4BB5-BF3E-39BBE6E15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8A419-ADC5-4FED-9BF8-CCB379A11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DCF95-8577-4563-B303-E6428F38D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D30C7-190F-4837-B1A8-8721C880B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CDC94-7AC0-4F69-9AC6-6DFA8FC14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92E8-B090-439E-B0AE-F2EF115279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Initial Evaluation and Treatment of Knee Pain in Adults</a:t>
            </a:r>
            <a:endParaRPr b="0" lang="en-US" sz="60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se Yasul, M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ril 29,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uciate ligament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L</a:t>
            </a:r>
            <a:br>
              <a:rPr sz="3200"/>
            </a:br>
            <a:r>
              <a:rPr b="0" lang="en-US" sz="3200" spc="-1" strike="noStrike">
                <a:solidFill>
                  <a:srgbClr val="000000"/>
                </a:solidFill>
                <a:latin typeface="Times New Roman"/>
              </a:rPr>
              <a:t>&gt;Anterior drawer</a:t>
            </a:r>
            <a:br>
              <a:rPr sz="3200"/>
            </a:br>
            <a:r>
              <a:rPr b="0" lang="en-US" sz="3200" spc="-1" strike="noStrike">
                <a:solidFill>
                  <a:srgbClr val="000000"/>
                </a:solidFill>
                <a:latin typeface="Times New Roman"/>
              </a:rPr>
              <a:t>&gt;Lachman’s</a:t>
            </a:r>
            <a:br>
              <a:rPr sz="3200"/>
            </a:br>
            <a:r>
              <a:rPr b="0" lang="en-US" sz="3200" spc="-1" strike="noStrike">
                <a:solidFill>
                  <a:srgbClr val="000000"/>
                </a:solidFill>
                <a:latin typeface="Times New Roman"/>
              </a:rPr>
              <a:t>&gt;Pivot Shif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CL</a:t>
            </a:r>
            <a:br>
              <a:rPr sz="3200"/>
            </a:br>
            <a:r>
              <a:rPr b="0" lang="en-US" sz="3200" spc="-1" strike="noStrike">
                <a:solidFill>
                  <a:srgbClr val="000000"/>
                </a:solidFill>
                <a:latin typeface="Times New Roman"/>
              </a:rPr>
              <a:t>&gt;Posterior sag sign</a:t>
            </a:r>
            <a:br>
              <a:rPr sz="3200"/>
            </a:br>
            <a:r>
              <a:rPr b="0" lang="en-US" sz="3200" spc="-1" strike="noStrike">
                <a:solidFill>
                  <a:srgbClr val="000000"/>
                </a:solidFill>
                <a:latin typeface="Times New Roman"/>
              </a:rPr>
              <a:t>&gt;Posterior drawer t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lateral ligament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L – Valgus st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CL – Varus st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to uninjured si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 and 30 degrees of flex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nisci</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line tender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Murray’s test</a:t>
            </a:r>
            <a:br>
              <a:rPr sz="3200"/>
            </a:br>
            <a:r>
              <a:rPr b="0" lang="en-US" sz="3200" spc="-1" strike="noStrike">
                <a:solidFill>
                  <a:srgbClr val="000000"/>
                </a:solidFill>
                <a:latin typeface="Times New Roman"/>
              </a:rPr>
              <a:t>&gt;Lateral meniscus – IR tibia + valgus stress</a:t>
            </a:r>
            <a:br>
              <a:rPr sz="3200"/>
            </a:br>
            <a:r>
              <a:rPr b="0" lang="en-US" sz="3200" spc="-1" strike="noStrike">
                <a:solidFill>
                  <a:srgbClr val="000000"/>
                </a:solidFill>
                <a:latin typeface="Times New Roman"/>
              </a:rPr>
              <a:t>&gt;Medial meniscus – ER tibia + varus st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e's test – May be the most sens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ing (X-ray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lateral AP Weight bea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r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chant’s vie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ee Fractur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a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moral condyle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bial eminence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bial tubercle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bial plateau fractur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driceps Injurie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riceps contus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riceps tendon sprain / rup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riceps muscle partial tea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ute hamstring injuries tend to be more proxim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ute calf injuries tend to be more dis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L</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contact decele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t and sharp turn – Anterior displacement of tibia causes sprain or rupture of A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Pop” felt followed by pain causing patient to cease activity with swelling within 2 h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L</a:t>
            </a:r>
            <a:endParaRPr b="0" lang="en-US" sz="4400" spc="-1" strike="noStrike">
              <a:solidFill>
                <a:srgbClr val="000000"/>
              </a:solidFill>
              <a:latin typeface="Times New Roman"/>
            </a:endParaRPr>
          </a:p>
        </p:txBody>
      </p:sp>
      <p:sp>
        <p:nvSpPr>
          <p:cNvPr id="8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utely moderate to severe joint effu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arding and hemearthrosis limits testing in the acute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hman t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ray – tibial spine avul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I</a:t>
            </a:r>
            <a:endParaRPr b="0" lang="en-US" sz="2400" spc="-1" strike="noStrike">
              <a:solidFill>
                <a:srgbClr val="000000"/>
              </a:solidFill>
              <a:latin typeface="Times New Roman"/>
            </a:endParaRPr>
          </a:p>
        </p:txBody>
      </p:sp>
      <p:pic>
        <p:nvPicPr>
          <p:cNvPr id="83"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CL &amp; LCL</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L more common than LC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from Valgus and varus stress respective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derness at respective joint lin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gus/varus stress at 0 &amp; 30</a:t>
            </a:r>
            <a:r>
              <a:rPr b="0" lang="en-US" sz="3200" spc="-1" strike="noStrike">
                <a:solidFill>
                  <a:srgbClr val="000000"/>
                </a:solidFill>
                <a:latin typeface="Times New Roman"/>
                <a:ea typeface="Times New Roman"/>
              </a:rPr>
              <a:t>º reproduce pa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endpoint grade I/II sprai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endpoint grade III spr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niscal tear</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dden twisting injury or a prolonged degenerative pro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t locking with squatting / twi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der joint l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 atrop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Murray testing / Ege’s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decision and start treat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ee / Shoulder anatomy</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pain patter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tly encountered caus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examination skill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ial diagno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tic arthriti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common in immune compromis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rupt onset of pa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m, swollen, and exquisitely tend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motion causes INTENSE pa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hrocentesis</a:t>
            </a:r>
            <a:br>
              <a:rPr sz="3200"/>
            </a:br>
            <a:r>
              <a:rPr b="0" lang="en-US" sz="3200" spc="-1" strike="noStrike">
                <a:solidFill>
                  <a:srgbClr val="000000"/>
                </a:solidFill>
                <a:latin typeface="Times New Roman"/>
              </a:rPr>
              <a:t>-WBC &gt; 50,000/mm</a:t>
            </a:r>
            <a:r>
              <a:rPr b="0" lang="en-US" sz="3200" spc="-1" strike="noStrike" baseline="30000">
                <a:solidFill>
                  <a:srgbClr val="000000"/>
                </a:solidFill>
                <a:latin typeface="Times New Roman"/>
              </a:rPr>
              <a:t>3</a:t>
            </a:r>
            <a:br>
              <a:rPr sz="3200"/>
            </a:br>
            <a:r>
              <a:rPr b="0" lang="en-US" sz="3200" spc="-1" strike="noStrike" baseline="30000">
                <a:solidFill>
                  <a:srgbClr val="000000"/>
                </a:solidFill>
                <a:latin typeface="Times New Roman"/>
              </a:rPr>
              <a:t>-</a:t>
            </a:r>
            <a:r>
              <a:rPr b="0" lang="en-US" sz="3200" spc="-1" strike="noStrike">
                <a:solidFill>
                  <a:srgbClr val="000000"/>
                </a:solidFill>
                <a:latin typeface="Times New Roman"/>
              </a:rPr>
              <a:t> Gram stain – Staph, Strep, Gonorrhe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od – Elevated WBC, ESR, CR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a Decision - DDx</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ee contus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ctu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cle / tendon strain or ruptu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ament strain or ruptu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niscal injur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c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cerbation of chronic knee p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goal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bilize kn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ent further inju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ain full fun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 no har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s</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suranc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 activity / RIC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es and immobilizer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tches and canes (weight bearing statu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 exercise program</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 meds (Do not prevent further injur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 up</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rther imaging</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ltation / Referrals / admission</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ronic Onset (Questions I ask)</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lo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you doing when pain first notic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 injuri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 all the time or come and go</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ell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cal symptom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akes it better / worse (Theatre sig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ments?  (Rehab, bracing, me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sical Examinat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pection and palp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of mo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a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nisc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llofemoral assess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et &amp; Sho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ellofemoral assessment</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 supine and knee in extens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usion in suprapatellar pouch</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king of patell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pitu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MO ton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a apprehension tes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ar gri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et &amp; Shoe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s plan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erior tibia tendon dysfun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dwe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id so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ing</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ults 3 views</a:t>
            </a:r>
            <a:br>
              <a:rPr sz="3200"/>
            </a:br>
            <a:r>
              <a:rPr b="0" lang="en-US" sz="3200" spc="-1" strike="noStrike">
                <a:solidFill>
                  <a:srgbClr val="000000"/>
                </a:solidFill>
                <a:latin typeface="Times New Roman"/>
              </a:rPr>
              <a:t>&gt;AP</a:t>
            </a:r>
            <a:br>
              <a:rPr sz="3200"/>
            </a:br>
            <a:r>
              <a:rPr b="0" lang="en-US" sz="3200" spc="-1" strike="noStrike">
                <a:solidFill>
                  <a:srgbClr val="000000"/>
                </a:solidFill>
                <a:latin typeface="Times New Roman"/>
              </a:rPr>
              <a:t>&gt;Lateral</a:t>
            </a:r>
            <a:br>
              <a:rPr sz="3200"/>
            </a:br>
            <a:r>
              <a:rPr b="0" lang="en-US" sz="3200" spc="-1" strike="noStrike">
                <a:solidFill>
                  <a:srgbClr val="000000"/>
                </a:solidFill>
                <a:latin typeface="Times New Roman"/>
              </a:rPr>
              <a:t>&gt;Merchant’s or Sunri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eens, add notch or tunnel view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septic arthritis</a:t>
            </a:r>
            <a:br>
              <a:rPr sz="2800"/>
            </a:br>
            <a:r>
              <a:rPr b="0" lang="en-US" sz="2800" spc="-1" strike="noStrike">
                <a:solidFill>
                  <a:srgbClr val="000000"/>
                </a:solidFill>
                <a:latin typeface="Times New Roman"/>
              </a:rPr>
              <a:t>&gt;Blood – CBC-d, ESR, CRP</a:t>
            </a:r>
            <a:br>
              <a:rPr sz="2800"/>
            </a:br>
            <a:r>
              <a:rPr b="0" lang="en-US" sz="2800" spc="-1" strike="noStrike">
                <a:solidFill>
                  <a:srgbClr val="000000"/>
                </a:solidFill>
                <a:latin typeface="Times New Roman"/>
              </a:rPr>
              <a:t>&gt;Joint fluid</a:t>
            </a:r>
            <a:br>
              <a:rPr sz="2800"/>
            </a:br>
            <a:r>
              <a:rPr b="0" lang="en-US" sz="2800" spc="-1" strike="noStrike">
                <a:solidFill>
                  <a:srgbClr val="000000"/>
                </a:solidFill>
                <a:latin typeface="Times New Roman"/>
              </a:rPr>
              <a:t>-cell count with differential</a:t>
            </a:r>
            <a:br>
              <a:rPr sz="2800"/>
            </a:br>
            <a:r>
              <a:rPr b="0" lang="en-US" sz="2800" spc="-1" strike="noStrike">
                <a:solidFill>
                  <a:srgbClr val="000000"/>
                </a:solidFill>
                <a:latin typeface="Times New Roman"/>
              </a:rPr>
              <a:t>-glucose &amp; protein</a:t>
            </a:r>
            <a:br>
              <a:rPr sz="2800"/>
            </a:br>
            <a:r>
              <a:rPr b="0" lang="en-US" sz="2800" spc="-1" strike="noStrike">
                <a:solidFill>
                  <a:srgbClr val="000000"/>
                </a:solidFill>
                <a:latin typeface="Times New Roman"/>
              </a:rPr>
              <a:t>-bacterial cultu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joint effu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mearthros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globu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losure Slid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elevant financial relationship exists to potential commercial bi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l Diagnosis</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ofemoral pain syndr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al plica syndr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s anserine bursit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uma – ligament sprains or meniscal te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mmatory arthropat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ic arthrit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der adult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steoarthrit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ystal induced inflammatory arthropat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ut, pseudog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liteal cyst (Baker’s cy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ellofemoral syndrome (chondromalacia)</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ommon diagnosis in outpatients presenting with knee p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erior pain - mild to moderate seve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ater 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ly localized “Circle 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Knee giving w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inal common pathw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teoarthriti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gravated by weight bearing and relieved by r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ystemic symptoms, morning stiff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pisodes of acute synovit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 reveals decreased ROM, crepitus, mild joint effusion, possibly palpable osteophy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teoarthritis</a:t>
            </a: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rays – Wt bearing AP, lateral, Merch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int space narrow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hondral bony scleros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ystic chan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teophyt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8"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stal induced inflammatory arthropathy</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ut – Sodium urate crystals precipitate and cause inflammatory respon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seudogout – Calcium pyrophosph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 – Red, warm, swollen, tend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hrocentesis </a:t>
            </a:r>
            <a:br>
              <a:rPr sz="3200"/>
            </a:br>
            <a:r>
              <a:rPr b="0" lang="en-US" sz="3200" spc="-1" strike="noStrike">
                <a:solidFill>
                  <a:srgbClr val="000000"/>
                </a:solidFill>
                <a:latin typeface="Times New Roman"/>
              </a:rPr>
              <a:t>WBC – 2,000 to 75,000 per mm</a:t>
            </a:r>
            <a:r>
              <a:rPr b="0" lang="en-US" sz="3200" spc="-1" strike="noStrike" baseline="30000">
                <a:solidFill>
                  <a:srgbClr val="000000"/>
                </a:solidFill>
                <a:latin typeface="Times New Roman"/>
              </a:rPr>
              <a:t>3</a:t>
            </a:r>
            <a:br>
              <a:rPr sz="3200"/>
            </a:br>
            <a:r>
              <a:rPr b="0" lang="en-US" sz="3200" spc="-1" strike="noStrike">
                <a:solidFill>
                  <a:srgbClr val="000000"/>
                </a:solidFill>
                <a:latin typeface="Times New Roman"/>
              </a:rPr>
              <a:t>Protein – high (&gt;32g/dL)</a:t>
            </a:r>
            <a:br>
              <a:rPr sz="3200"/>
            </a:br>
            <a:r>
              <a:rPr b="0" lang="en-US" sz="3200" spc="-1" strike="noStrike">
                <a:solidFill>
                  <a:srgbClr val="000000"/>
                </a:solidFill>
                <a:latin typeface="Times New Roman"/>
              </a:rPr>
              <a:t>Glucose – 75% of ser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ut Crystals </a:t>
            </a:r>
            <a:endParaRPr b="0" lang="en-US" sz="4400" spc="-1" strike="noStrike">
              <a:solidFill>
                <a:srgbClr val="000000"/>
              </a:solidFill>
              <a:latin typeface="Times New Roman"/>
            </a:endParaRPr>
          </a:p>
        </p:txBody>
      </p:sp>
      <p:pic>
        <p:nvPicPr>
          <p:cNvPr id="122" name="Picture 3" descr=""/>
          <p:cNvPicPr/>
          <p:nvPr/>
        </p:nvPicPr>
        <p:blipFill>
          <a:blip r:embed="rId1"/>
          <a:stretch/>
        </p:blipFill>
        <p:spPr>
          <a:xfrm>
            <a:off x="685800" y="1981080"/>
            <a:ext cx="7772400" cy="4114800"/>
          </a:xfrm>
          <a:prstGeom prst="rect">
            <a:avLst/>
          </a:prstGeom>
          <a:ln w="0">
            <a:noFill/>
          </a:ln>
        </p:spPr>
      </p:pic>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udogout – Calcium pyrophosphate</a:t>
            </a:r>
            <a:endParaRPr b="0" lang="en-US" sz="4400" spc="-1" strike="noStrike">
              <a:solidFill>
                <a:srgbClr val="000000"/>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PPD crystals in the flui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homboid or rod-shaped, weakly positively birefringent crystals on polarized light microscopy of synovial fluid </a:t>
            </a:r>
            <a:endParaRPr b="0" lang="en-US" sz="2800" spc="-1" strike="noStrike">
              <a:solidFill>
                <a:srgbClr val="000000"/>
              </a:solidFill>
              <a:latin typeface="Times New Roman"/>
            </a:endParaRPr>
          </a:p>
        </p:txBody>
      </p:sp>
      <p:pic>
        <p:nvPicPr>
          <p:cNvPr id="126"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al plica syndrome</a:t>
            </a:r>
            <a:endParaRPr b="0" lang="en-US" sz="4400" spc="-1" strike="noStrike">
              <a:solidFill>
                <a:srgbClr val="000000"/>
              </a:solidFill>
              <a:latin typeface="Times New Roman"/>
            </a:endParaRPr>
          </a:p>
        </p:txBody>
      </p:sp>
      <p:sp>
        <p:nvSpPr>
          <p:cNvPr id="128"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tly overlooked source of medial knee pai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ndant joint synovium inflamed with repetitive overus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der, mobile nodularity medial aspect of knee just anterior to the joint lin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l knee pai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se with repetitive flexion and extension</a:t>
            </a:r>
            <a:endParaRPr b="0" lang="en-US" sz="2400" spc="-1" strike="noStrike">
              <a:solidFill>
                <a:srgbClr val="000000"/>
              </a:solidFill>
              <a:latin typeface="Times New Roman"/>
            </a:endParaRPr>
          </a:p>
        </p:txBody>
      </p:sp>
      <p:pic>
        <p:nvPicPr>
          <p:cNvPr id="129"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s anserine bursitis</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l knee p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se with repetitive flexion and exten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a:t>
            </a:r>
            <a:br>
              <a:rPr sz="2800"/>
            </a:br>
            <a:r>
              <a:rPr b="0" lang="en-US" sz="2800" spc="-1" strike="noStrike">
                <a:solidFill>
                  <a:srgbClr val="000000"/>
                </a:solidFill>
                <a:latin typeface="Times New Roman"/>
              </a:rPr>
              <a:t>&gt;No effusion</a:t>
            </a:r>
            <a:br>
              <a:rPr sz="2800"/>
            </a:br>
            <a:r>
              <a:rPr b="0" lang="en-US" sz="2800" spc="-1" strike="noStrike">
                <a:solidFill>
                  <a:srgbClr val="000000"/>
                </a:solidFill>
                <a:latin typeface="Times New Roman"/>
              </a:rPr>
              <a:t>&gt;tenderness just post. &amp; distal to med jt line</a:t>
            </a:r>
            <a:br>
              <a:rPr sz="2800"/>
            </a:br>
            <a:r>
              <a:rPr b="0" lang="en-US" sz="2800" spc="-1" strike="noStrike">
                <a:solidFill>
                  <a:srgbClr val="000000"/>
                </a:solidFill>
                <a:latin typeface="Times New Roman"/>
              </a:rPr>
              <a:t>&gt;Pain reproduced by valgus stress or resisted knee flexion</a:t>
            </a:r>
            <a:endParaRPr b="0" lang="en-US" sz="2800" spc="-1" strike="noStrike">
              <a:solidFill>
                <a:srgbClr val="000000"/>
              </a:solidFill>
              <a:latin typeface="Times New Roman"/>
            </a:endParaRPr>
          </a:p>
        </p:txBody>
      </p:sp>
      <p:pic>
        <p:nvPicPr>
          <p:cNvPr id="132"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culoskeletal Number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2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ee 1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ulder 16%</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1400" spc="-1" strike="noStrike">
                <a:solidFill>
                  <a:srgbClr val="000000"/>
                </a:solidFill>
                <a:latin typeface="Times New Roman"/>
              </a:rPr>
              <a:t>Urwin M, Symmons D, Alison T, et al. Estimating the burden of musculoskeletal disorders in the community: the comparative prevalence of symptoms at different anatomical sites, and the relation to social deprivation. Ann Rheum Dis. 1998;57(11):649-65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liteal cyst (Baker’s cyst)</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d to moderate pain in popliteal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ommon synovial cy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a response to preceding traum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eromedial aspect at the level of the gastrocnemiosemimembranous burs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lpable fullness posteromedi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Murray test may be pos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liteal cyst (Baker’s cyst)</a:t>
            </a:r>
            <a:endParaRPr b="0" lang="en-US" sz="4400" spc="-1" strike="noStrike">
              <a:solidFill>
                <a:srgbClr val="000000"/>
              </a:solidFill>
              <a:latin typeface="Times New Roman"/>
            </a:endParaRPr>
          </a:p>
        </p:txBody>
      </p:sp>
      <p:sp>
        <p:nvSpPr>
          <p:cNvPr id="13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ve diagnosis of a popliteal cyst may be made with arthrography, ultrasonography, CT scanning, or, less commonly, MRI </a:t>
            </a:r>
            <a:endParaRPr b="0" lang="en-US" sz="2800" spc="-1" strike="noStrike">
              <a:solidFill>
                <a:srgbClr val="000000"/>
              </a:solidFill>
              <a:latin typeface="Times New Roman"/>
            </a:endParaRPr>
          </a:p>
        </p:txBody>
      </p:sp>
      <p:pic>
        <p:nvPicPr>
          <p:cNvPr id="137"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a Decision - DDx</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llofemoral pain syndrom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teoarthriti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ystal induced inflammatory arthropath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ut, pseudogou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uma – ligament sprains or meniscal tear</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l plica syndrom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 anserine bursiti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ic arthriti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liteal cyst (Baker’s cyst)</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surance</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 activit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es and immobilizers </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tches and canes (weight bearing status)</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 exercise program</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 meds (Do not prevent further injur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oids (Oral or injectable)</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 up</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rther imaging</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ltation / Referrals / admission</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a:t>
            </a:r>
            <a:r>
              <a:rPr b="0" lang="en-US" sz="4400" spc="-1" strike="noStrike">
                <a:solidFill>
                  <a:srgbClr val="000000"/>
                </a:solidFill>
                <a:latin typeface="Times New Roman"/>
              </a:rPr>
              <a:t> </a:t>
            </a:r>
            <a:r>
              <a:rPr b="1" lang="en-US" sz="4400" spc="-1" strike="noStrike">
                <a:solidFill>
                  <a:srgbClr val="000000"/>
                </a:solidFill>
                <a:latin typeface="Times New Roman"/>
              </a:rPr>
              <a:t>role</a:t>
            </a:r>
            <a:r>
              <a:rPr b="0" lang="en-US" sz="4400" spc="-1" strike="noStrike">
                <a:solidFill>
                  <a:srgbClr val="000000"/>
                </a:solidFill>
                <a:latin typeface="Times New Roman"/>
              </a:rPr>
              <a:t> </a:t>
            </a:r>
            <a:r>
              <a:rPr b="1" lang="en-US" sz="4400" spc="-1" strike="noStrike">
                <a:solidFill>
                  <a:srgbClr val="000000"/>
                </a:solidFill>
                <a:latin typeface="Times New Roman"/>
              </a:rPr>
              <a:t>of</a:t>
            </a:r>
            <a:r>
              <a:rPr b="0" lang="en-US" sz="4400" spc="-1" strike="noStrike">
                <a:solidFill>
                  <a:srgbClr val="000000"/>
                </a:solidFill>
                <a:latin typeface="Times New Roman"/>
              </a:rPr>
              <a:t> </a:t>
            </a:r>
            <a:r>
              <a:rPr b="1" lang="en-US" sz="4400" spc="-1" strike="noStrike">
                <a:solidFill>
                  <a:srgbClr val="000000"/>
                </a:solidFill>
                <a:latin typeface="Times New Roman"/>
              </a:rPr>
              <a:t>the</a:t>
            </a:r>
            <a:r>
              <a:rPr b="0" lang="en-US" sz="4400" spc="-1" strike="noStrike">
                <a:solidFill>
                  <a:srgbClr val="000000"/>
                </a:solidFill>
                <a:latin typeface="Times New Roman"/>
              </a:rPr>
              <a:t> </a:t>
            </a:r>
            <a:r>
              <a:rPr b="1" lang="en-US" sz="4400" spc="-1" strike="noStrike">
                <a:solidFill>
                  <a:srgbClr val="000000"/>
                </a:solidFill>
                <a:latin typeface="Times New Roman"/>
              </a:rPr>
              <a:t>physician</a:t>
            </a:r>
            <a:r>
              <a:rPr b="0" lang="en-US" sz="4400" spc="-1" strike="noStrike">
                <a:solidFill>
                  <a:srgbClr val="000000"/>
                </a:solidFill>
                <a:latin typeface="Times New Roman"/>
              </a:rPr>
              <a:t> </a:t>
            </a:r>
            <a:r>
              <a:rPr b="1" lang="en-US" sz="4400" spc="-1" strike="noStrike">
                <a:solidFill>
                  <a:srgbClr val="000000"/>
                </a:solidFill>
                <a:latin typeface="Times New Roman"/>
              </a:rPr>
              <a:t>is</a:t>
            </a:r>
            <a:r>
              <a:rPr b="0" lang="en-US" sz="4400" spc="-1" strike="noStrike">
                <a:solidFill>
                  <a:srgbClr val="000000"/>
                </a:solidFill>
                <a:latin typeface="Times New Roman"/>
              </a:rPr>
              <a:t> </a:t>
            </a:r>
            <a:r>
              <a:rPr b="1" lang="en-US" sz="4400" spc="-1" strike="noStrike">
                <a:solidFill>
                  <a:srgbClr val="000000"/>
                </a:solidFill>
                <a:latin typeface="Times New Roman"/>
              </a:rPr>
              <a:t>to</a:t>
            </a:r>
            <a:r>
              <a:rPr b="0" lang="en-US" sz="4400" spc="-1" strike="noStrike">
                <a:solidFill>
                  <a:srgbClr val="000000"/>
                </a:solidFill>
                <a:latin typeface="Times New Roman"/>
              </a:rPr>
              <a:t> </a:t>
            </a:r>
            <a:r>
              <a:rPr b="1" lang="en-US" sz="4400" spc="-1" strike="noStrike">
                <a:solidFill>
                  <a:srgbClr val="000000"/>
                </a:solidFill>
                <a:latin typeface="Times New Roman"/>
              </a:rPr>
              <a:t>entertain</a:t>
            </a:r>
            <a:r>
              <a:rPr b="0" lang="en-US" sz="4400" spc="-1" strike="noStrike">
                <a:solidFill>
                  <a:srgbClr val="000000"/>
                </a:solidFill>
                <a:latin typeface="Times New Roman"/>
              </a:rPr>
              <a:t> </a:t>
            </a:r>
            <a:r>
              <a:rPr b="1" lang="en-US" sz="4400" spc="-1" strike="noStrike">
                <a:solidFill>
                  <a:srgbClr val="000000"/>
                </a:solidFill>
                <a:latin typeface="Times New Roman"/>
              </a:rPr>
              <a:t>the</a:t>
            </a:r>
            <a:r>
              <a:rPr b="0" lang="en-US" sz="4400" spc="-1" strike="noStrike">
                <a:solidFill>
                  <a:srgbClr val="000000"/>
                </a:solidFill>
                <a:latin typeface="Times New Roman"/>
              </a:rPr>
              <a:t> </a:t>
            </a:r>
            <a:r>
              <a:rPr b="1" lang="en-US" sz="4400" spc="-1" strike="noStrike">
                <a:solidFill>
                  <a:srgbClr val="000000"/>
                </a:solidFill>
                <a:latin typeface="Times New Roman"/>
              </a:rPr>
              <a:t>patient</a:t>
            </a:r>
            <a:r>
              <a:rPr b="0" lang="en-US" sz="4400" spc="-1" strike="noStrike">
                <a:solidFill>
                  <a:srgbClr val="000000"/>
                </a:solidFill>
                <a:latin typeface="Times New Roman"/>
              </a:rPr>
              <a:t> </a:t>
            </a:r>
            <a:r>
              <a:rPr b="1" lang="en-US" sz="4400" spc="-1" strike="noStrike">
                <a:solidFill>
                  <a:srgbClr val="000000"/>
                </a:solidFill>
                <a:latin typeface="Times New Roman"/>
              </a:rPr>
              <a:t>while</a:t>
            </a:r>
            <a:r>
              <a:rPr b="0" lang="en-US" sz="4400" spc="-1" strike="noStrike">
                <a:solidFill>
                  <a:srgbClr val="000000"/>
                </a:solidFill>
                <a:latin typeface="Times New Roman"/>
              </a:rPr>
              <a:t> </a:t>
            </a:r>
            <a:r>
              <a:rPr b="1" lang="en-US" sz="4400" spc="-1" strike="noStrike">
                <a:solidFill>
                  <a:srgbClr val="000000"/>
                </a:solidFill>
                <a:latin typeface="Times New Roman"/>
              </a:rPr>
              <a:t>Nature</a:t>
            </a:r>
            <a:r>
              <a:rPr b="0" lang="en-US" sz="4400" spc="-1" strike="noStrike">
                <a:solidFill>
                  <a:srgbClr val="000000"/>
                </a:solidFill>
                <a:latin typeface="Times New Roman"/>
              </a:rPr>
              <a:t> </a:t>
            </a:r>
            <a:r>
              <a:rPr b="1" lang="en-US" sz="4400" spc="-1" strike="noStrike">
                <a:solidFill>
                  <a:srgbClr val="000000"/>
                </a:solidFill>
                <a:latin typeface="Times New Roman"/>
              </a:rPr>
              <a:t>takes</a:t>
            </a:r>
            <a:r>
              <a:rPr b="0" lang="en-US" sz="4400" spc="-1" strike="noStrike">
                <a:solidFill>
                  <a:srgbClr val="000000"/>
                </a:solidFill>
                <a:latin typeface="Times New Roman"/>
              </a:rPr>
              <a:t> </a:t>
            </a:r>
            <a:r>
              <a:rPr b="1" lang="en-US" sz="4400" spc="-1" strike="noStrike">
                <a:solidFill>
                  <a:srgbClr val="000000"/>
                </a:solidFill>
                <a:latin typeface="Times New Roman"/>
              </a:rPr>
              <a:t>its</a:t>
            </a:r>
            <a:r>
              <a:rPr b="0" lang="en-US" sz="4400" spc="-1" strike="noStrike">
                <a:solidFill>
                  <a:srgbClr val="000000"/>
                </a:solidFill>
                <a:latin typeface="Times New Roman"/>
              </a:rPr>
              <a:t> </a:t>
            </a:r>
            <a:r>
              <a:rPr b="1" lang="en-US" sz="4400" spc="-1" strike="noStrike">
                <a:solidFill>
                  <a:srgbClr val="000000"/>
                </a:solidFill>
                <a:latin typeface="Times New Roman"/>
              </a:rPr>
              <a:t>cours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olt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ee Anatomy</a:t>
            </a:r>
            <a:endParaRPr b="0" lang="en-US" sz="4400" spc="-1" strike="noStrike">
              <a:solidFill>
                <a:srgbClr val="000000"/>
              </a:solidFill>
              <a:latin typeface="Times New Roman"/>
            </a:endParaRPr>
          </a:p>
        </p:txBody>
      </p:sp>
      <p:pic>
        <p:nvPicPr>
          <p:cNvPr id="57" name="Picture 3" descr=""/>
          <p:cNvPicPr/>
          <p:nvPr/>
        </p:nvPicPr>
        <p:blipFill>
          <a:blip r:embed="rId1"/>
          <a:stretch/>
        </p:blipFill>
        <p:spPr>
          <a:xfrm>
            <a:off x="685800" y="1981080"/>
            <a:ext cx="3809880" cy="4114800"/>
          </a:xfrm>
          <a:prstGeom prst="rect">
            <a:avLst/>
          </a:prstGeom>
          <a:ln w="0">
            <a:noFill/>
          </a:ln>
        </p:spPr>
      </p:pic>
      <p:sp>
        <p:nvSpPr>
          <p:cNvPr id="5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a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nisc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y</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Cour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sm of inju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in characterist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sympto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u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His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ute Onset (Questions I ask)</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e of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sm</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le to walk or continue activity immediately after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le to walk or bear weight since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usion / bruising</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cal symptom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 lower extremity inju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cused Physical Exam</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spection and palp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nge of mo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ga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nisc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ofemoral assess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pection and palpation / ROM</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ythema, swelling, bruising, discol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cul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in, warmth, effu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 tender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of mo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21:53:28Z</dcterms:created>
  <dc:creator> </dc:creator>
  <dc:description/>
  <dc:language>en-US</dc:language>
  <cp:lastModifiedBy>HCMARTINEZ</cp:lastModifiedBy>
  <dcterms:modified xsi:type="dcterms:W3CDTF">2009-04-29T19:16:00Z</dcterms:modified>
  <cp:revision>18</cp:revision>
  <dc:subject/>
  <dc:title>Knee pain</dc:title>
</cp:coreProperties>
</file>