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967-340A-42C2-883A-B97F4198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50C-DA90-4A1C-9C44-35D5C05E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4A2DD-1939-4060-84B4-C449A69B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63434-E078-4CEF-9E2F-3773E687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84996-D0C1-4A86-BECC-302E1F75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1960D-E5A7-483C-AE65-69746E2A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21E1F-B4D5-4BEB-9F25-BC9F20F5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C500F-D863-44AD-9305-6726A430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2AEAD-4742-4F60-B5DB-AE6D4FE0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11098-3759-4044-87B5-278B12ED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C614F-2271-49FE-9A71-A1934EA5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C5201-F268-4472-99E3-38D71ACB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930-BE25-4CB6-A7B9-C2BDFE78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C9E5C-7E32-4D65-95DB-9948AC9E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8310F-75E6-4D95-960D-3F1A6AB6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CD08D-5AF7-4FA6-AD65-E17BB145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07127-EBC3-41CF-9700-223733CD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A3987-074B-4C25-BD37-D877B559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25161-733C-49F8-AB85-A84D2486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536E6-BA2E-49E4-8DFB-DEED060A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916A9-23A6-4A8C-AEE3-826E7B13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B3E1DB-735F-437C-8349-D5578AE1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ADE45-A009-4A1B-8DFB-26DE2BB3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387B-3343-4A3E-A22C-FE322ED3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B95FF-65A3-42BA-847C-3CBE9011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762E2-6B5B-4F2F-AB43-55596BE4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80832-A478-4293-AB49-8A252C0E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F685F-13E4-4846-B42B-96D42047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4409F-23E8-4F1C-9EF4-787353C3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E379C-2E91-4183-93DC-CF0532FA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E9BB8-8D29-454A-BFBF-414F2C98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AFA23-5CD4-4064-9EA9-0366E78A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68400-EE3B-4190-A77B-AA55DF36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D56F7-14B1-490B-B36B-B58AE48A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23FE-4672-4584-82D3-06C3D980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5F741-0F67-4A8F-8B62-0A1AB681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D6B5B-7E5A-42BD-9600-9918819F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1BD59-8C4A-4E73-A90E-38BA4357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0FD46-B445-46ED-AA8B-6462790F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42063-6B10-4AA4-A2CE-5A951619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31517-29AE-450E-AE01-DBE6F812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C1DD9-666E-4977-B2B6-788E9AD6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12371-A170-4A6D-9AC1-9DD4DEBD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31B2B3-EB8F-45C4-BD0E-C9F0647B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FC08B-C841-46E4-B5F8-A13A5146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3365-1DC9-4157-8294-DE56DB8F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62BE3-367A-4988-812C-723EBE7A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A1317-1091-4856-91E3-9DFDB229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8EA75D-6E57-4C6C-BEC3-824230BB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D7B30-BEDA-4B9A-A30D-679B8C8E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B6B54-A915-4CB7-8F03-C1E49853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DAEA-05C1-4528-932D-8D101ED4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E916-790B-4E76-8FD1-50F3890A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673C-FD8D-4E65-88E0-F4500954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B3EF-636A-45EC-BD0F-0EA7A9DC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6CE3-774F-4655-B70A-10674FD0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08B-F203-4F3E-A2AC-C20CD6B9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1397-99EB-4E44-8DCD-62940E40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6E7F-6E51-4058-814B-96C9CF4E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D0F8-E692-489C-ADEB-CF7FCCE7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7722-720B-434D-852A-35FA7CF7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2DF1-8183-49C6-AE49-52DFA6E5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24A21-60BA-4FE0-88E7-E0D6AEAD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A7DCC-115F-4561-B8CC-8C3CD800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6F280-DDAE-4E06-8507-1F3D6351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B39F3-BC22-4603-A4BE-C71045FD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B24ED-459F-41C7-BABA-09C74833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56A-5025-487E-9386-EF7E1116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C87B2-0AAC-49D5-BCAE-FB33268C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91EA-422B-422C-85DB-79E37359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28FF6-D264-419E-BDB9-1E2D0CC1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C33C3-6E9E-405C-98C1-5EB8F7C3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978AD-E7D2-446F-B39C-415A5F06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CD9A1-DC90-412F-B95E-0DA0ACC9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981FE-6821-45A0-9AC5-B844BCDA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B354-2E5F-483F-84B8-3ECD63F4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3A6F8-0370-40FD-832C-C3142ACA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2B5B5-DD6D-40C5-A951-E6CEB59A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321-DF87-4C2E-B3D5-8CFD0A52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8447C-6A19-4EC2-922D-123F0E3A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68D10-2FDE-4D6B-B46D-57FCDEE2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95DF-6F56-42FA-9230-852BBF25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8BFBA-96E0-439E-B6C8-847ED1B6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BB01C-3039-45C9-BCC7-7646779C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15FA3-3EFF-4C7A-9806-E663EF86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94B69-A711-4A2E-82E7-607986E2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CBE51-BC34-4A56-A7CF-89ECF2B0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FCD96-ECF0-41BD-8F93-96CD86CC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93137-32B1-40E4-BC8E-66E6DE5E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5A7-82EA-428C-8E0E-CAD50277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3E8F6-7F1B-4D15-92C9-0D4B321D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5A896-9543-4ACF-8AF8-15600138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DCC15-98E6-40CF-BEF6-7397FAC4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647AE-BF6F-46CA-B1D1-32C89661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0B248-9226-4A77-9711-AD517104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81BA5-1F74-4B3E-AF18-7E2514DA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EA246-45D2-4C98-8846-6856AB60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8D8DD-7B6B-442C-A9FF-DC676CC0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07A7B-01E0-4C93-8342-EF4DE569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6F4F9-4B96-403B-8CA0-BAD608FD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5EC-F124-4EA2-95A2-1E443156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FAF31-AE54-45DB-AF57-2D536E23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37494-A23C-4A51-B6CF-00D9C0DD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90575-34AA-448B-AC7E-592D2002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BEAD5-864E-42F1-9300-0A9C0958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DF6E7-18C3-49CE-A897-68E8E3DD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196E0-DD5E-4265-A303-E00FD055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65885-9397-407A-9492-9B625B89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996F1-A53F-4DE2-9972-DF78CAEE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ECC82-3B96-454F-ACAD-15B9BC2B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3BB39-3A62-40FA-8F7D-89A11E4B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DD6-57E0-4384-95A5-40EA4735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7A955-E17C-4D95-B9C0-5EC8916D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E40BD-7503-4036-839B-0569B723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9262C-5C23-4142-AACB-D92C86B7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E9937-ED9C-4670-A15B-F745AEC5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0B204-8913-429C-8DD6-438A7F81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03CA6-B479-4A2E-A99B-4EF3689F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851F6-D4DA-40B8-BA7F-6FAE3987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B23FB-0AA8-453A-8F8D-752DE4E1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68749-F5E0-4062-B4C3-8EE53857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84344-6924-4697-B92F-343D0A5D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CE4-188A-4739-9225-3DDC940F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7156C-D825-4991-8EB5-93093636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AA1E7-ED90-4F40-9D6E-DCD29484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2DBFC-E203-4E57-9787-E20F4B68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F167E-042D-4E82-8E0A-07193116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CF1F0-2080-4D7B-B683-D64762F8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3E1BC-DE50-4A96-8B9F-EEA7F191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2B134-2457-4760-9CE3-738A0A6D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B3399-6696-45A2-9922-26B3D33C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B7069-DBF9-4068-A8A9-5AA36645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0341E-DB61-4187-B511-F1151679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189-E46F-4C8C-96DD-E8A6D126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4737C-EE74-4685-833A-4D71CFD2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33B10-0902-4E91-93D6-86C78808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A157B-E422-4EBB-B9B0-1D974775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9BAC1-A02C-4B99-BCFD-34B57206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AFC10-F495-4E1D-B61E-47FB6365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8A2DE-9DDD-4623-B6DA-FEEE4998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9490E-9211-4FC9-8C89-A82F01D9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3B3EF-1304-4728-B3E2-E49F0895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29E6D-D79B-4E54-801F-6E1D6C40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3E073-D405-4B14-8019-8D4317ED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CFAC-821C-4292-9347-590BCD986C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0F1B-6DD5-45EF-9A19-48305F3C89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3B36-D94C-46B1-81A1-4266EFFCC8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4006-3908-4EBC-9B86-2CEF3C7EB4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07B3-4419-478B-A848-2115178FC8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F5E2-2187-457D-B439-5A09E1E865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9161-C98C-4490-9F05-408727BB29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FE71-7105-4560-BD40-CB21953044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D1E6-A09B-4BC5-A6CA-86AE97E41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3426-468E-432F-AD59-0005F40BE6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DD6F-CCF9-45DE-84C0-45198C966B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4AB6-20B2-4964-A34B-53A79E08B8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Infant of a Diabetic Mothe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LGA and SGA bab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LGA.jpg"/>
          <p:cNvPicPr/>
          <p:nvPr/>
        </p:nvPicPr>
        <p:blipFill>
          <a:blip r:embed="rId1"/>
          <a:stretch/>
        </p:blipFill>
        <p:spPr>
          <a:xfrm>
            <a:off x="685800" y="1600200"/>
            <a:ext cx="3084480" cy="4672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http://newborns.stanford.edu/images/sga1.jpg"/>
          <p:cNvPicPr/>
          <p:nvPr/>
        </p:nvPicPr>
        <p:blipFill>
          <a:blip r:embed="rId2"/>
          <a:stretch/>
        </p:blipFill>
        <p:spPr>
          <a:xfrm>
            <a:off x="4114800" y="2438280"/>
            <a:ext cx="45910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glycemia: glucose &lt;40 mg/dl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27% of IDMs have hypoglycemia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occurs in first few hours of lif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econdary to persistent hyperinsulinemia while transplacental glucose supply has stopped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/S: lethargy, hypotonia, tremors, seizures, diaphoresis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calcemia: Ca &lt;7 mg/d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occurs in first 24-72 hours of lif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due to low PTH in infant, which may be related to high maternal Ca during pregnanc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/S: asymptomatic with self resolution or jitteriness, tachypnea, seizures/tetany, lethargy, apnea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magnesemia: Mg &lt;1.5 mg/d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40% of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from increased renal losses in diabetic mom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transient and asymptomat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ay need to treat if also hypocalcem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Respiratory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espiratory Distress Syndrome (RDS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more frequently in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yperinsulinemia causes delayed maturation of surfactant synthesi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Diabetic moms are more likely to go into premature labor and delivery, which puts infants at an even greater risk of having immature lungs at birth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D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Content Placeholder 3" descr="RDS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0844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espirato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5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ransient Tachypnea of the Newborn (TTN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Occurs more frequently in IDMs because of risk factors associated with having diabetes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matur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crosom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th asphyxi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ycythem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likelihood of c-se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Caused by delayed resorption of fetal lung fluid, mild pulmonary immaturity, and mild surfactant deficiency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Usually resolves by 72 hours of life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TT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Content Placeholder 5" descr="TTN.jpg"/>
          <p:cNvPicPr/>
          <p:nvPr/>
        </p:nvPicPr>
        <p:blipFill>
          <a:blip r:embed="rId1"/>
          <a:stretch/>
        </p:blipFill>
        <p:spPr>
          <a:xfrm>
            <a:off x="2438280" y="1828800"/>
            <a:ext cx="4270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ertrophic cardiomyopath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ost infants are asymptomatic, but 5-10% have respiratory distress, other signs of poor cardiac output, or heart failur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resolves by 6 months of ag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caused by hyperinsulinemia, which increases fat and glycogen deposition into myocardial cells, causes thickening of interventricular septum &amp;/or ventricular wall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ypertrophic Cardiomyopath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Content Placeholder 3" descr="HC.gif"/>
          <p:cNvPicPr/>
          <p:nvPr/>
        </p:nvPicPr>
        <p:blipFill>
          <a:blip r:embed="rId1"/>
          <a:stretch/>
        </p:blipFill>
        <p:spPr>
          <a:xfrm>
            <a:off x="2286000" y="1523880"/>
            <a:ext cx="46134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Introductio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Frequency: 3-10% of pregnant women have diabet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88% have gestational diabet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12% have known diabet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5% with Type I diabe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65% with Type II diabe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ardiac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Poor diabetic control in the 1</a:t>
            </a:r>
            <a:r>
              <a:rPr b="0" lang="en-US" sz="2800" spc="-1" strike="noStrike" baseline="30000">
                <a:solidFill>
                  <a:srgbClr val="646b86"/>
                </a:solidFill>
                <a:latin typeface="Georgia"/>
              </a:rPr>
              <a:t>st</a:t>
            </a: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 trimester is associated with an increased risk of congenital malformation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2/3 of congenital anomalies are cardiovascular or CNS related.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Common cardiac anomalies: Transposition of the great arteries, ASD, VSD, aortic coarctat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 Anomal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1" name="Content Placeholder 3" descr="VSD.jpg"/>
          <p:cNvPicPr/>
          <p:nvPr/>
        </p:nvPicPr>
        <p:blipFill>
          <a:blip r:embed="rId1"/>
          <a:stretch/>
        </p:blipFill>
        <p:spPr>
          <a:xfrm>
            <a:off x="457200" y="1752480"/>
            <a:ext cx="4286160" cy="3429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" descr="http://scienceblogs.com/whitecoatunderground/upload/2009/08/transp/transposition.jpg"/>
          <p:cNvPicPr/>
          <p:nvPr/>
        </p:nvPicPr>
        <p:blipFill>
          <a:blip r:embed="rId2"/>
          <a:stretch/>
        </p:blipFill>
        <p:spPr>
          <a:xfrm>
            <a:off x="5257800" y="1523880"/>
            <a:ext cx="3352680" cy="39243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5"/>
          <p:cNvSpPr/>
          <p:nvPr/>
        </p:nvSpPr>
        <p:spPr>
          <a:xfrm>
            <a:off x="5410080" y="57150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sition of the great 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Neur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NS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Anencephaly and spina bifida occur 12-20x more frequently in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Caudal Regression Syndrome: incomplete development of the lumbar and sacral vertebra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ccurs 200x more frequently in IDM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pectrum of structural defects possibl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ssociated with neurologic impairment due to involvement of distal spine (i.e. incontinence, decreased growth and movement of leg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nencephaly and Caudal Regression Syndrome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Content Placeholder 3" descr="Anencephaly.jpg"/>
          <p:cNvPicPr/>
          <p:nvPr/>
        </p:nvPicPr>
        <p:blipFill>
          <a:blip r:embed="rId1"/>
          <a:stretch/>
        </p:blipFill>
        <p:spPr>
          <a:xfrm>
            <a:off x="533520" y="16002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We Care: Caudal Regression Syndrome"/>
          <p:cNvPicPr/>
          <p:nvPr/>
        </p:nvPicPr>
        <p:blipFill>
          <a:blip r:embed="rId2"/>
          <a:stretch/>
        </p:blipFill>
        <p:spPr>
          <a:xfrm>
            <a:off x="4773600" y="1676520"/>
            <a:ext cx="3905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GI and GU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GI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itus inversus, atresias, small left colon syndrome: presents like Hirschsprung disease, but innervation of the bowel is normal, inability to pass meconium resolves spontaneously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GU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enal agenesis and other urinary tract abnormaliti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Small Left Colon Syndrome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2" name="Content Placeholder 3" descr="SLCS.jpg"/>
          <p:cNvPicPr/>
          <p:nvPr/>
        </p:nvPicPr>
        <p:blipFill>
          <a:blip r:embed="rId1"/>
          <a:stretch/>
        </p:blipFill>
        <p:spPr>
          <a:xfrm>
            <a:off x="2286000" y="1752480"/>
            <a:ext cx="44402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Hemat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olycythemia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Intervention required when central hematocrit &gt; 65 with symptoms or &gt;70 when asymptomat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13-33% of IDMs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elated to hypoxia in utero -&gt; stimulates erythropoietin, which increases RBC product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yperviscosity in vasculature can cause sludging, ischemia, and infarction of internal organ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Hemat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erbilirubinem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11-29% of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isk factors include: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matur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th injury resulting in bruising or cephalohematom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ycythemia causing increased hemolysis  and release of bilirub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Birth Inju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Macrosomia puts infant at risk for injuries during delivery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Shoulder dystocia can lead to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avicular and/or humeral fractur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rachial plexus injur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Traumatic delivery or need for vacuum/forceps assistance can lead to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phalohematom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al bruis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al nerve inju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4" descr="facial-bruising1.jpg"/>
          <p:cNvPicPr/>
          <p:nvPr/>
        </p:nvPicPr>
        <p:blipFill>
          <a:blip r:embed="rId1"/>
          <a:stretch/>
        </p:blipFill>
        <p:spPr>
          <a:xfrm>
            <a:off x="2590920" y="3124080"/>
            <a:ext cx="3743280" cy="281016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Birth Injur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1" name="Content Placeholder 3" descr="erbs.jpg"/>
          <p:cNvPicPr/>
          <p:nvPr/>
        </p:nvPicPr>
        <p:blipFill>
          <a:blip r:embed="rId2"/>
          <a:stretch/>
        </p:blipFill>
        <p:spPr>
          <a:xfrm>
            <a:off x="380880" y="1447920"/>
            <a:ext cx="2908440" cy="35337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http://1.bp.blogspot.com/_AJgfsjyCikE/SjMFRLHDGnI/AAAAAAAAAac/VdIw73J4iLc/s200/Cephalohematoma.jpg"/>
          <p:cNvPicPr/>
          <p:nvPr/>
        </p:nvPicPr>
        <p:blipFill>
          <a:blip r:embed="rId3"/>
          <a:stretch/>
        </p:blipFill>
        <p:spPr>
          <a:xfrm>
            <a:off x="6477120" y="1676520"/>
            <a:ext cx="24573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isk of Complication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pends on degree of glucose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ite’s classification system helps predict perinatal morta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risk for complications to the fetus in moms with pre-gestational diabetes than with gestational diabet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i.e. increased risk for congenital anomalies, future obesity, and diabete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risk of complications during pregnancy when diabetic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i.e. preeclampsia 2x more common in diabetic pregnancies vs. normal pregnancie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Work-Up and Management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37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blood sug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SGA or LGA, also check hematocri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urther work-up and management depends on patient’s clinical presentation and physical ex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ypoglycemia – early feeding or IVFs with dextr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ymptomatic electrolyte abnormalities – replete electrolyt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piratory distress – Cardiopulmonary support, CXR/echo to search for cau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yperbilirubinemia – phototherap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lycythemia – IVF hydration or exchange transfus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uro/GI/GU anomalies – imaging studies, specialist consul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rognosi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rbidity and mortality lessen with adequate diabetes control during pregnanc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diabetes is poorly controlled, there is a higher risk of neurodevelopmental defici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isk of CP and epilepsy is increas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isk of childhood obesity, diabetes, and metabolic syndrome is increas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2286000" y="263520"/>
            <a:ext cx="42670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athophysiology of Fetal Effect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6760"/>
            <a:ext cx="8537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ternal hyperglycemia acts like a teratogen -&gt; spontaneous abortions and malform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5" descr="http://www.lucinafoundation.org/assets/spina-bifida.jpg"/>
          <p:cNvPicPr/>
          <p:nvPr/>
        </p:nvPicPr>
        <p:blipFill>
          <a:blip r:embed="rId1"/>
          <a:stretch/>
        </p:blipFill>
        <p:spPr>
          <a:xfrm>
            <a:off x="685800" y="2743200"/>
            <a:ext cx="3621240" cy="3352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http://www.nature.com/jp/journal/v23/n8/images/7210987f2.jpg"/>
          <p:cNvPicPr/>
          <p:nvPr/>
        </p:nvPicPr>
        <p:blipFill>
          <a:blip r:embed="rId2"/>
          <a:stretch/>
        </p:blipFill>
        <p:spPr>
          <a:xfrm>
            <a:off x="4724280" y="2819520"/>
            <a:ext cx="3544920" cy="3282840"/>
          </a:xfrm>
          <a:prstGeom prst="rect">
            <a:avLst/>
          </a:prstGeom>
          <a:ln w="0">
            <a:noFill/>
          </a:ln>
        </p:spPr>
      </p:pic>
      <p:sp>
        <p:nvSpPr>
          <p:cNvPr id="618" name="TextBox 6"/>
          <p:cNvSpPr/>
          <p:nvPr/>
        </p:nvSpPr>
        <p:spPr>
          <a:xfrm>
            <a:off x="5105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s Inver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athophysiology of Fetal Effect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6760"/>
            <a:ext cx="8613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mittent maternal hyperglycemia causes fetal hyperglycemia -&gt; premature maturation of fetal pancreatic islet cells -&gt; hyperinsulinemia in the fet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d insulin -&gt; macrosomia -&gt; increased metabolic rate -&gt; increased O2 consumption -&gt; relative hypoxia in the fetus -&gt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Stimulates erythropoietin -&gt; polycythemi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May be contributing factor to 20-30% stillbirth rate in poorly controlled diabetic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omplications At Delive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4560" y="17524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remature delive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erinatal asphyx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Birth inju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6349"/>
                </a:solidFill>
                <a:latin typeface="Georgia"/>
              </a:rPr>
              <a:t>Neonatal Effects</a:t>
            </a:r>
            <a:br>
              <a:rPr sz="2500"/>
            </a:br>
            <a:br>
              <a:rPr sz="3800"/>
            </a:br>
            <a:r>
              <a:rPr b="0" lang="en-US" sz="3600" spc="-1" strike="noStrike">
                <a:solidFill>
                  <a:srgbClr val="d16349"/>
                </a:solidFill>
                <a:latin typeface="Georgia"/>
              </a:rPr>
              <a:t>Seen in 0.6% to 4% of diabetic pregnancie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6760"/>
            <a:ext cx="8613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UGR or macrosomia: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oms with poorly controlled diabetes and renal, cardiovascular, retinal disease (class F) are more likely to have a premature and/or IUGR bab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acrosomia is due to the direct effects of hyperinsulinemia 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abies are &gt;9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% in weight or &gt;4000g, with excess fat accumulation in abdominal and scapular regions, along with visceromegaly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22:31:36Z</dcterms:created>
  <dc:creator>hcmartinez</dc:creator>
  <dc:description/>
  <dc:language>en-US</dc:language>
  <cp:lastModifiedBy>HCMARTINEZ</cp:lastModifiedBy>
  <dcterms:modified xsi:type="dcterms:W3CDTF">2010-05-08T05:51:40Z</dcterms:modified>
  <cp:revision>43</cp:revision>
  <dc:subject/>
  <dc:title>Infant of a Diabetic Mother</dc:title>
</cp:coreProperties>
</file>