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0DFC-8352-40A4-9D9E-564565666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7F2A-392A-43BF-B99D-F3B2B4D3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C31EB5-8DCE-423A-881D-5F62580F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697DA2-8810-425A-8163-CCBFFFDE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E48D6F-98B2-4F84-BEA7-DE3513A5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8A9447-237E-4F3F-9CFA-BD8C3FF2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1BC101-41C6-466A-9848-BB3F50AB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51A151-6376-4565-B981-363F1EA3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693F52-E206-4D2B-AFD2-E312D17F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F956D3-6914-47AA-99CB-246A2D905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A9B6B4-D74A-4721-8E57-3F5C54B6F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1D8D05-6D55-48A0-857B-20E45C0E2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B721-9040-45D4-B291-FAE4B64BC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DF61A2-A4E1-41A0-9046-54756815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2DC1F4-6B29-4916-8146-BE7C2A6B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3A15F8-29EE-4AB4-8AD4-55B0BEAF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BEC90B-F959-4596-9320-1DDB7CB5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4861F6-483E-4871-A929-46FCBEFA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256160-00F2-4AEA-AF69-203480F0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3CA0DE-FE55-45A0-A29F-5E3192BF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3F36F9-FE8F-4E01-8B82-0A9F7EB9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32C9E1-4C47-4FAB-8547-3B17B164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F5C74D-473F-47B7-AC46-EADFBE2CB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84E1-FE84-4141-B2B7-65D482BED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7D694C-C723-435E-9E62-D598002E0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59A67-6372-43BA-9E73-CF266BBF1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9CF4F-8440-4593-BEBD-92F70F7C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53D2FA-8624-43F4-9A8B-CB8D6840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01439F-925F-44C0-BD8A-CCCBF269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F71C1-5513-4FD7-84FB-7FE07572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14011F-524D-4D06-AE5A-2F559EAD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85661-C7E3-4EC2-991E-924A8E06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AA9C8-501F-4F8B-BCEB-1A809A89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FD534-54BE-4512-9BB5-72141B41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6CF50-B782-4060-9D52-0078B7376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08B070-469E-4447-B411-D8998E6F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1AA2F-A987-4684-82B7-B2D071B2B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C42C4-867B-4797-9D3B-5B1E26CE1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58273E-942E-465A-8DF3-90EC3B7E8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A165C1-7482-44C2-B6A4-7EE25522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161648-7D14-42C0-B9B4-4D291498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F2B825-8747-4D22-86B9-E64F4216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BB6DBD-3E34-417A-97A0-2AAA38FE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41FB74-EDD8-43AB-AC12-607E91BE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51E838-9F26-416B-B878-5D9B08C3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4CC85-60EF-46D4-ADF7-EBE84797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4DE9A7-9A13-4760-81B2-B1773BE0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2416A9-9823-4555-AD53-5F0C1C05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64EBB1-F45A-405D-B858-78671F7A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71C483-7FE6-49EB-8B67-B9C064A14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E6248D-45AF-48D1-8466-74766592A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2180-C3A4-41F3-981C-E7CDCFCE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7246-E03C-43AA-82BE-6623511D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6B66-3C6E-4B7E-B968-2C2E0512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97B2-3005-4190-A32B-41570F06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181A-D3E6-41BC-9347-5EB52B31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71AE-2D05-4179-9894-12727379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7574-0BFE-41EC-81BF-6868B621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3EBCD-D13E-4B8E-BBB3-82383532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848D-71AB-4AD2-9EEB-EADFAB3A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2F71-6C49-47AB-A593-B17CAC43B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F472-BA94-4858-9F31-499284C49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E66FF-CC7D-4850-88C3-976E933DE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9BD4C-9B9E-4356-8673-40A3E5AF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F6645-C7F3-4214-8471-FC28CE1A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B43A8-846B-47E7-81A7-63E5825B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F6766-6FD7-4DA3-8183-B4639E72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52E7-B2B0-4AD1-93C7-F5FDBB52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7D07C-BD21-4DE6-9A30-C2A467ED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20973-37CF-4011-A687-AA439767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0981C-E60E-4D3A-8CB6-6352A1E0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CE868-67BC-433E-B878-EF842D5B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5DE46-4C3D-4CFC-AB34-C1CD5208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3A6CD-61A8-4EA1-BD54-6EECEDF76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AF628-D534-4149-B504-114205634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5C734-3C6F-4D04-B19E-0B47608F8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01EFA-F50F-4BE9-8462-E86C1AD7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61003-66B1-433B-884F-0304B1A3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623E-28C8-496B-9F8D-3DC2F987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2D586-688B-460E-AF57-8F9D84AF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BCDCB-A43B-466E-8D9A-6F037E1A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C3BD5-125E-448C-BC26-7C6A7BBB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59C95-B85D-4065-9E1F-1E2A771E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7BB3A-7523-4D40-8E0D-956A6FC7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20F1B-F74B-433B-AF48-48C75410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0E58B-C1C2-430B-9164-8E27538B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651C9-558E-4990-977F-23EBAA8C5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5EF48-B7E9-4613-A78A-482125316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9BCF8-BEF8-46A5-B6D5-D07373FF0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6948-A455-47F9-BC54-48745D62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0656D-10A9-4EE5-B6C0-17A2184B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A29D0-C82B-4DC6-B5BB-A5B5D33A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A99A3-95F0-45FC-BFF9-2E3BC5D1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8C640-C343-4294-BFCD-C2BC5500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46F6E-9242-4238-BE5A-91CDB9CB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8F7D5-A43F-4314-B2F4-264FF048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980DA-C546-489C-AC8B-2BA2D288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A2319-90E0-4929-8F99-A98492CF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B42DC-DE0F-418E-A349-8B6BC83D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DDD44-28FC-4712-B187-5D40D3F9A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F389-7CAC-44DE-9168-35B70E27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1DFB1-9D6F-4EBC-A209-181F29C21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73EED-D4A9-40DE-B7DB-F530C142B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B0395-89BC-407A-ABEC-884AF147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BD6CB-562C-4031-ABE7-CB04FB14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8AA2A-CBEC-4FB0-AD22-B62B1517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707CE-8C2D-4BC2-A92C-CBDABE57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BF4E1-B522-4058-AB39-013C4893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4728A-7FC5-4AC8-B842-68CE78EC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FA64F-AE4C-49CF-B203-E2D51321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2B316-0393-4D96-8495-79F3944B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ADA3-3657-4558-A3BB-D229EF73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6925A-4F15-4D41-8719-D34E2398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C066D-4DDD-4342-807F-AEEB975B9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08354-B883-4291-BB83-C91AAFC99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3667B-725E-46E5-90C6-84B8B0623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7F1B4-AFC8-4514-8DB7-FA0A6C27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BBBB6-DE12-4703-AE37-B8C06BB4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E6617-93CC-4A46-8560-821AEE91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5FB7D-F52E-45C1-A1E0-BE330E3B5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918DE-6E7F-4B49-ACF2-5ACA0BD7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DFC28-EF89-4FF7-AAF1-87FDDCB9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46CF-9CA1-4364-A78C-2DE52803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3764A-F571-4ACC-9067-EC8F226A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B2F2E-A047-429B-A168-8C74BAFC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28D32-60F2-4BFC-A1BE-0A902BF8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92D5A-FF1D-4352-87A9-77EA8D36B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E316F-599E-4CAE-ACC5-D6BE22C92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AED66-F8D6-449C-BCD1-859A34C09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21981-170B-4F01-9B77-AF9D3121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E7931-8EC5-4BD3-8894-F17D2DD6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749B8-8C53-4CE8-A566-64E70041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A7C45-CB81-468C-954E-05E1FD58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9ECA-588C-4061-99BE-A82C249D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411D3-0711-427C-AFC2-44D56F10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48F6A-B9F7-438B-A1D3-660428D3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080B7-8AD1-4652-AF4D-82CC9E82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9059D-19C9-4968-8E3A-6C4CF891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8F33D-E9E7-4A83-A2EB-E073A670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FFCED-BC59-487E-A122-37AF9B195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D097D-B48F-4F6E-852E-DEE2A4851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A8B059-4A78-4A4F-8D30-B5A06240F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A323DB-6D23-4364-AA3B-422485A2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C32011-237A-4CA5-8696-37A6BEE4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AB9F-6F90-4B5C-A3BA-6DF47C6178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8464-A6AD-47FC-99AB-A0F3EA789D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89E7-2E25-4EB8-A5EE-022F2DEFCE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40D0-4DE5-493E-98EB-B204073E12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ADB4-883A-4808-B431-A1CC3AE0C8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5462-C673-42C9-BFFC-9A35665015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A71D-BECF-467E-9C3F-506082EE65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A474-3C08-491E-B8BF-938AD702DA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A364-5FDA-41BA-858A-9659C777BE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C0B4-B78D-4D9D-8D3F-269BCB5B92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1086-9A82-4531-B25F-AB536BE1E6C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5FC7-9FE5-4C53-A2E9-D124E27CF7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Infant of a Diabetic Mother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LGA and SGA babie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8" name="Content Placeholder 3" descr="LGA.jpg"/>
          <p:cNvPicPr/>
          <p:nvPr/>
        </p:nvPicPr>
        <p:blipFill>
          <a:blip r:embed="rId1"/>
          <a:stretch/>
        </p:blipFill>
        <p:spPr>
          <a:xfrm>
            <a:off x="685800" y="1600200"/>
            <a:ext cx="3084480" cy="46720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2" descr="http://newborns.stanford.edu/images/sga1.jpg"/>
          <p:cNvPicPr/>
          <p:nvPr/>
        </p:nvPicPr>
        <p:blipFill>
          <a:blip r:embed="rId2"/>
          <a:stretch/>
        </p:blipFill>
        <p:spPr>
          <a:xfrm>
            <a:off x="4114800" y="2438280"/>
            <a:ext cx="459108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Metaboli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Hypoglycemia: glucose &lt;40 mg/dl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27% of IDMs have hypoglycemia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Usually occurs in first few hours of life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Secondary to persistent hyperinsulinemia while transplacental glucose supply has stopped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S/S: lethargy, hypotonia, tremors, seizures, diaphoresis 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Metaboli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Hypocalcemia: Ca &lt;7 mg/dl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Usually occurs in first 24-72 hours of life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Thought to be due to low PTH in infant, which may be related to high maternal Ca during pregnancy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S/S: asymptomatic with self resolution or jitteriness, tachypnea, seizures/tetany, lethargy, apnea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Metaboli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Hypomagnesemia: Mg &lt;1.5 mg/dl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Occurs in 40% of IDM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Thought to be from increased renal losses in diabetic mom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Usually transient and asymptomatic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May need to treat if also hypocalcemic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b9899"/>
                </a:solidFill>
                <a:latin typeface="Georgia"/>
              </a:rPr>
              <a:t>Respiratory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Respiratory Distress Syndrome (RDS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Occurs more frequently in IDM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Hyperinsulinemia causes delayed maturation of surfactant synthesi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Diabetic moms are more likely to go into premature labor and delivery, which puts infants at an even greater risk of having immature lungs at birth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RD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9" name="Content Placeholder 3" descr="RDS.jpg"/>
          <p:cNvPicPr/>
          <p:nvPr/>
        </p:nvPicPr>
        <p:blipFill>
          <a:blip r:embed="rId1"/>
          <a:stretch/>
        </p:blipFill>
        <p:spPr>
          <a:xfrm>
            <a:off x="2819520" y="1676520"/>
            <a:ext cx="3808440" cy="45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Respiratory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80520" y="16765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ransient Tachypnea of the Newborn (TTN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536400" indent="-267120">
              <a:spcBef>
                <a:spcPts val="6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Occurs more frequently in IDMs because of risk factors associated with having diabetes:</a:t>
            </a:r>
            <a:endParaRPr b="0" lang="en-US" sz="2600" spc="-1" strike="noStrike">
              <a:solidFill>
                <a:srgbClr val="646b86"/>
              </a:solidFill>
              <a:latin typeface="Georgia"/>
            </a:endParaRPr>
          </a:p>
          <a:p>
            <a:pPr lvl="2" marL="805680" indent="-223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ematurit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crosom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05680" indent="-223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irth asphyxia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olycythem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05680" indent="-223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creased likelihood of c-sec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36400" indent="-267120">
              <a:spcBef>
                <a:spcPts val="6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Caused by delayed resorption of fetal lung fluid, mild pulmonary immaturity, and mild surfactant deficiency</a:t>
            </a:r>
            <a:endParaRPr b="0" lang="en-US" sz="2600" spc="-1" strike="noStrike">
              <a:solidFill>
                <a:srgbClr val="646b86"/>
              </a:solidFill>
              <a:latin typeface="Georgia"/>
            </a:endParaRPr>
          </a:p>
          <a:p>
            <a:pPr lvl="1" marL="536400" indent="-267120">
              <a:spcBef>
                <a:spcPts val="6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Usually resolves by 72 hours of life</a:t>
            </a:r>
            <a:endParaRPr b="0" lang="en-US" sz="26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TTN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3" name="Content Placeholder 5" descr="TTN.jpg"/>
          <p:cNvPicPr/>
          <p:nvPr/>
        </p:nvPicPr>
        <p:blipFill>
          <a:blip r:embed="rId1"/>
          <a:stretch/>
        </p:blipFill>
        <p:spPr>
          <a:xfrm>
            <a:off x="2438280" y="1828800"/>
            <a:ext cx="427032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Cardia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Hypertrophic cardiomyopathy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36400" indent="-26712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Most infants are asymptomatic, but 5-10% have respiratory distress, other signs of poor cardiac output, or heart failure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36400" indent="-26712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Usually resolves by 6 months of age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36400" indent="-26712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Thought to be caused by hyperinsulinemia, which increases fat and glycogen deposition into myocardial cells, causes thickening of interventricular septum &amp;/or ventricular wall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ypertrophic Cardiomyopath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7" name="Content Placeholder 3" descr="HC.gif"/>
          <p:cNvPicPr/>
          <p:nvPr/>
        </p:nvPicPr>
        <p:blipFill>
          <a:blip r:embed="rId1"/>
          <a:stretch/>
        </p:blipFill>
        <p:spPr>
          <a:xfrm>
            <a:off x="2286000" y="1523880"/>
            <a:ext cx="461340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Introduction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Frequency: 3-10% of pregnant women have diabete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88% have gestational diabete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12% have known diabete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35% with Type I diabet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65% with Type II diabet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Cardia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Cardiac Anomalie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Poor diabetic control in the 1</a:t>
            </a:r>
            <a:r>
              <a:rPr b="0" lang="en-US" sz="2800" spc="-1" strike="noStrike" baseline="30000">
                <a:solidFill>
                  <a:srgbClr val="646b86"/>
                </a:solidFill>
                <a:latin typeface="Georgia"/>
              </a:rPr>
              <a:t>st</a:t>
            </a: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 trimester is associated with an increased risk of congenital malformation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2/3 of congenital anomalies are cardiovascular or CNS related.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Common cardiac anomalies: Transposition of the great arteries, ASD, VSD, aortic coarctation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Cardiac Anomalie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1" name="Content Placeholder 3" descr="VSD.jpg"/>
          <p:cNvPicPr/>
          <p:nvPr/>
        </p:nvPicPr>
        <p:blipFill>
          <a:blip r:embed="rId1"/>
          <a:stretch/>
        </p:blipFill>
        <p:spPr>
          <a:xfrm>
            <a:off x="457200" y="1752480"/>
            <a:ext cx="4286160" cy="342900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2" descr="http://scienceblogs.com/whitecoatunderground/upload/2009/08/transp/transposition.jpg"/>
          <p:cNvPicPr/>
          <p:nvPr/>
        </p:nvPicPr>
        <p:blipFill>
          <a:blip r:embed="rId2"/>
          <a:stretch/>
        </p:blipFill>
        <p:spPr>
          <a:xfrm>
            <a:off x="5257800" y="1523880"/>
            <a:ext cx="3352680" cy="3924360"/>
          </a:xfrm>
          <a:prstGeom prst="rect">
            <a:avLst/>
          </a:prstGeom>
          <a:ln w="0">
            <a:noFill/>
          </a:ln>
        </p:spPr>
      </p:pic>
      <p:sp>
        <p:nvSpPr>
          <p:cNvPr id="653" name="TextBox 5"/>
          <p:cNvSpPr/>
          <p:nvPr/>
        </p:nvSpPr>
        <p:spPr>
          <a:xfrm>
            <a:off x="5410080" y="57150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sition of the great art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Neurologi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CNS anomalie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25600" indent="-26172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Anencephaly and spina bifida occur 12-20x more frequently in IDM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25600" indent="-26172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Caudal Regression Syndrome: incomplete development of the lumbar and sacral vertebrae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2" marL="789120" indent="-219240">
              <a:lnSpc>
                <a:spcPct val="90000"/>
              </a:lnSpc>
              <a:spcBef>
                <a:spcPts val="64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occurs 200x more frequently in IDM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789120" indent="-219240">
              <a:lnSpc>
                <a:spcPct val="90000"/>
              </a:lnSpc>
              <a:spcBef>
                <a:spcPts val="64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pectrum of structural defects possibl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789120" indent="-219240">
              <a:lnSpc>
                <a:spcPct val="90000"/>
              </a:lnSpc>
              <a:spcBef>
                <a:spcPts val="64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ssociated with neurologic impairment due to involvement of distal spine (i.e. incontinence, decreased growth and movement of legs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Anencephaly and Caudal Regression Syndrome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7" name="Content Placeholder 3" descr="Anencephaly.jpg"/>
          <p:cNvPicPr/>
          <p:nvPr/>
        </p:nvPicPr>
        <p:blipFill>
          <a:blip r:embed="rId1"/>
          <a:stretch/>
        </p:blipFill>
        <p:spPr>
          <a:xfrm>
            <a:off x="533520" y="16002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" descr="We Care: Caudal Regression Syndrome"/>
          <p:cNvPicPr/>
          <p:nvPr/>
        </p:nvPicPr>
        <p:blipFill>
          <a:blip r:embed="rId2"/>
          <a:stretch/>
        </p:blipFill>
        <p:spPr>
          <a:xfrm>
            <a:off x="4773600" y="1676520"/>
            <a:ext cx="39052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GI and GU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GI anomalie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Situs inversus, atresias, small left colon syndrome: presents like Hirschsprung disease, but innervation of the bowel is normal, inability to pass meconium resolves spontaneously 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GU anomalie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Renal agenesis and other urinary tract abnormalitie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Small Left Colon Syndrome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62" name="Content Placeholder 3" descr="SLCS.jpg"/>
          <p:cNvPicPr/>
          <p:nvPr/>
        </p:nvPicPr>
        <p:blipFill>
          <a:blip r:embed="rId1"/>
          <a:stretch/>
        </p:blipFill>
        <p:spPr>
          <a:xfrm>
            <a:off x="2286000" y="1752480"/>
            <a:ext cx="444024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Hematologi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Polycythemia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09040" indent="-25344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Intervention required when central hematocrit &gt; 65 with symptoms or &gt;70 when asymptomatic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09040" indent="-25344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Occurs in 13-33% of IDMs 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09040" indent="-25344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Related to hypoxia in utero -&gt; stimulates erythropoietin, which increases RBC production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09040" indent="-25344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Hyperviscosity in vasculature can cause sludging, ischemia, and infarction of internal organ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09040" indent="-25344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Hematologi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Hyperbilirubinemia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Occurs in 11-29% of IDM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Risk factors include: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ematuri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irth injury resulting in bruising or cephalohematom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olycythemia causing increased hemolysis  and release of bilirubi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Birth Injury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8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Macrosomia puts infant at risk for injuries during delivery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Shoulder dystocia can lead to:</a:t>
            </a:r>
            <a:endParaRPr b="0" lang="en-US" sz="26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55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lavicular and/or humeral fracture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55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Brachial plexus injurie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Traumatic delivery or need for vacuum/forceps assistance can lead to:</a:t>
            </a:r>
            <a:endParaRPr b="0" lang="en-US" sz="26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ephalohematoma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acial bruis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acial nerve injuri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Picture 4" descr="facial-bruising1.jpg"/>
          <p:cNvPicPr/>
          <p:nvPr/>
        </p:nvPicPr>
        <p:blipFill>
          <a:blip r:embed="rId1"/>
          <a:stretch/>
        </p:blipFill>
        <p:spPr>
          <a:xfrm>
            <a:off x="2590920" y="3124080"/>
            <a:ext cx="3743280" cy="2810160"/>
          </a:xfrm>
          <a:prstGeom prst="rect">
            <a:avLst/>
          </a:prstGeom>
          <a:ln w="0">
            <a:noFill/>
          </a:ln>
        </p:spPr>
      </p:pic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Birth Injurie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1" name="Content Placeholder 3" descr="erbs.jpg"/>
          <p:cNvPicPr/>
          <p:nvPr/>
        </p:nvPicPr>
        <p:blipFill>
          <a:blip r:embed="rId2"/>
          <a:stretch/>
        </p:blipFill>
        <p:spPr>
          <a:xfrm>
            <a:off x="380880" y="1447920"/>
            <a:ext cx="2908440" cy="35337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2" descr="http://1.bp.blogspot.com/_AJgfsjyCikE/SjMFRLHDGnI/AAAAAAAAAac/VdIw73J4iLc/s200/Cephalohematoma.jpg"/>
          <p:cNvPicPr/>
          <p:nvPr/>
        </p:nvPicPr>
        <p:blipFill>
          <a:blip r:embed="rId3"/>
          <a:stretch/>
        </p:blipFill>
        <p:spPr>
          <a:xfrm>
            <a:off x="6477120" y="1676520"/>
            <a:ext cx="245736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Risk of Complication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61372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pends on degree of glucose contro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ite’s classification system helps predict perinatal mortal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igher risk for complications to the fetus in moms with pre-gestational diabetes than with gestational diabete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b86"/>
                </a:solidFill>
                <a:latin typeface="Georgia"/>
              </a:rPr>
              <a:t>i.e. increased risk for congenital anomalies, future obesity, and diabetes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igher risk of complications during pregnancy when diabetic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b86"/>
                </a:solidFill>
                <a:latin typeface="Georgia"/>
              </a:rPr>
              <a:t>i.e. preeclampsia 2x more common in diabetic pregnancies vs. normal pregnancies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Work-Up and Management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01320" y="1527120"/>
            <a:ext cx="85374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llow blood sugar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f SGA or LGA, also check hematocri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urther work-up and management depends on patient’s clinical presentation and physical exa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1800" indent="-2700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Hypoglycemia – early feeding or IVFs with dextros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ymptomatic electrolyte abnormalities – replete electrolyt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Respiratory distress – Cardiopulmonary support, CXR/echo to search for caus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Hyperbilirubinemia – phototherapy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olycythemia – IVF hydration or exchange transfusio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Neuro/GI/GU anomalies – imaging studies, specialist consul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Prognosi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40120" indent="-24012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orbidity and mortality lessen with adequate diabetes control during pregnancy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f diabetes is poorly controlled, there is a higher risk of neurodevelopmental deficit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risk of CP and epilepsy is increased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risk of childhood obesity, diabetes, and metabolic syndrome is increased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3" name="Picture 2" descr=""/>
          <p:cNvPicPr/>
          <p:nvPr/>
        </p:nvPicPr>
        <p:blipFill>
          <a:blip r:embed="rId1"/>
          <a:stretch/>
        </p:blipFill>
        <p:spPr>
          <a:xfrm>
            <a:off x="2286000" y="263520"/>
            <a:ext cx="4267080" cy="62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Pathophysiology of Fetal Effect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6760"/>
            <a:ext cx="85374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ternal hyperglycemia acts like a teratogen -&gt; spontaneous abortions and malforma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6" name="Picture 5" descr="http://www.lucinafoundation.org/assets/spina-bifida.jpg"/>
          <p:cNvPicPr/>
          <p:nvPr/>
        </p:nvPicPr>
        <p:blipFill>
          <a:blip r:embed="rId1"/>
          <a:stretch/>
        </p:blipFill>
        <p:spPr>
          <a:xfrm>
            <a:off x="685800" y="2743200"/>
            <a:ext cx="3621240" cy="335268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7" descr="http://www.nature.com/jp/journal/v23/n8/images/7210987f2.jpg"/>
          <p:cNvPicPr/>
          <p:nvPr/>
        </p:nvPicPr>
        <p:blipFill>
          <a:blip r:embed="rId2"/>
          <a:stretch/>
        </p:blipFill>
        <p:spPr>
          <a:xfrm>
            <a:off x="4724280" y="2819520"/>
            <a:ext cx="3544920" cy="3282840"/>
          </a:xfrm>
          <a:prstGeom prst="rect">
            <a:avLst/>
          </a:prstGeom>
          <a:ln w="0">
            <a:noFill/>
          </a:ln>
        </p:spPr>
      </p:pic>
      <p:sp>
        <p:nvSpPr>
          <p:cNvPr id="618" name="TextBox 6"/>
          <p:cNvSpPr/>
          <p:nvPr/>
        </p:nvSpPr>
        <p:spPr>
          <a:xfrm>
            <a:off x="5105520" y="6172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us Inver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Pathophysiology of Fetal Effect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6760"/>
            <a:ext cx="86137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termittent maternal hyperglycemia causes fetal hyperglycemia -&gt; premature maturation of fetal pancreatic islet cells -&gt; hyperinsulinemia in the fetu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creased insulin -&gt; macrosomia -&gt; increased metabolic rate -&gt; increased O2 consumption -&gt; relative hypoxia in the fetus -&gt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b86"/>
                </a:solidFill>
                <a:latin typeface="Georgia"/>
              </a:rPr>
              <a:t>Stimulates erythropoietin -&gt; polycythemia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b86"/>
                </a:solidFill>
                <a:latin typeface="Georgia"/>
              </a:rPr>
              <a:t>May be contributing factor to 20-30% stillbirth rate in poorly controlled diabetics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Complications At Delivery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4560" y="17524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Premature delivery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Perinatal asphyxia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Birth injury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45720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6349"/>
                </a:solidFill>
                <a:latin typeface="Georgia"/>
              </a:rPr>
              <a:t>Neonatal Effects</a:t>
            </a:r>
            <a:br>
              <a:rPr sz="2500"/>
            </a:br>
            <a:br>
              <a:rPr sz="3800"/>
            </a:br>
            <a:r>
              <a:rPr b="0" lang="en-US" sz="3600" spc="-1" strike="noStrike">
                <a:solidFill>
                  <a:srgbClr val="d16349"/>
                </a:solidFill>
                <a:latin typeface="Georgia"/>
              </a:rPr>
              <a:t>Seen in 0.6% to 4% of diabetic pregnancies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Metaboli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01320" y="1526760"/>
            <a:ext cx="86137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IUGR or macrosomia: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Moms with poorly controlled diabetes and renal, cardiovascular, retinal disease (class F) are more likely to have a premature and/or IUGR baby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Macrosomia is due to the direct effects of hyperinsulinemia  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64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Babies are &gt;9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% in weight or &gt;4000g, with excess fat accumulation in abdominal and scapular regions, along with visceromegaly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22:31:36Z</dcterms:created>
  <dc:creator>hcmartinez</dc:creator>
  <dc:description/>
  <dc:language>en-US</dc:language>
  <cp:lastModifiedBy>HCMARTINEZ</cp:lastModifiedBy>
  <dcterms:modified xsi:type="dcterms:W3CDTF">2010-05-08T05:51:40Z</dcterms:modified>
  <cp:revision>43</cp:revision>
  <dc:subject/>
  <dc:title>Infant of a Diabetic Mother</dc:title>
</cp:coreProperties>
</file>