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7.wmf" ContentType="image/x-wmf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4.wmf" ContentType="image/x-wmf"/>
  <Override PartName="/ppt/media/image2.wmf" ContentType="image/x-wmf"/>
  <Override PartName="/ppt/media/image3.jpeg" ContentType="image/jpeg"/>
  <Override PartName="/ppt/media/image6.jpeg" ContentType="image/jpeg"/>
  <Override PartName="/ppt/media/image11.jpeg" ContentType="image/jpeg"/>
  <Override PartName="/ppt/media/image9.png" ContentType="image/png"/>
  <Override PartName="/ppt/media/image10.jpeg" ContentType="image/jpeg"/>
  <Override PartName="/ppt/media/image5.png" ContentType="image/png"/>
  <Override PartName="/ppt/media/image13.wmf" ContentType="image/x-wmf"/>
  <Override PartName="/ppt/media/image8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D1178-CBE1-4EBD-AD77-24D8F98B2C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E394D-A9BF-46F1-85B7-C992889784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ces paid by practices vary. Vaccine purchasing costs account for about 20% of all pediatric practice expens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ten do not cover full cost of immuniz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rvey of rural physicians, shows many FPs considering re: continuation of administering all vaccines, especially HPV and MCV4 because of cost and varying levels of insur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ill deferring 12-15 mo Hib because of vaccine shortage except for high risk childr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125F1-91F2-42C0-90D6-D73B661375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al refusals:  fears re: autism. Recent Federal court ruling that MMR not connected to autism.  “Major setback for the fight to link autism to vaccines” 5000 families have filed claims against Federal program re:atuism and vaccines.  Aruge that thimerosal weakens immune system, leading to MMR viral infection and autis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98086-B76F-487E-93CE-489D2F2A11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s are free to make choices regarding medical care unless those choices place their child at substantial risk of serious ha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sk of harm related to probability of contracting the disease and risk of morbidity and mort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deep contaminated puncture wound and tetan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73863-8669-4637-97DD-3DD86A3647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ional Commission on Prevention prioriti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nking clinical preventive services for relative health impact and cost effectiveness.  3 with score of 10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pirin use with high-risk adults, immunizing children, and tobacco-use screening and brief interven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CEE5C-25B7-443C-9E6F-C77D5FEDD9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Hib deaths in Pennsylvania since 10/08, 5 cases of invasive disease in Minnesota – Associated with vaccine shortage and increased colonization.  Children involved were unvaccinated or undervaccina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 year high in measles cases last y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DA1C8-590D-4F80-84D0-117A9BE20B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’s new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u vaccine annua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bination vaccines – Result in Hep B, IPV ex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6CD44-789D-49CD-BE4F-77F6341865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ed 2/06 – 3 dose series ( 2.4.6 m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/08 – 2 dose series – 2, 4 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before 15 weeks, Complete by 8 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dose after 6 weeks, minimum 4 weeks interv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studies re: interchanga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tavirus – previous version associated with intussusception.  Present versions have no association, but strict guidelines re: administration.  New guidelines more flexible. 3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dose by 8 month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E605B-6639-40A9-B6E8-66DFD65C29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05 CCHP rates (Hybrid) MMR 90%, DTaP 71% by end of second y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05 CCHP rates (Admin) Hispanic 60%, White 40%, African American 26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1D13D-0BBD-4D2F-B0C9-F25ED0C33E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al issues:  Ignorance, difficulties managing child in clinic, transportation, work, child c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s issues: Failure to make return appointment, missed opportunities for well child care, immuniz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9C30B-E190-415B-82A8-C78FC484A7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mies – Use corrected 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64037-507B-4FD6-A9EF-22C4DCEB8F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u shot 6mo – 9 years require second dose one month p fir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45776-43D0-47EE-B1B4-4F2387146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F0FF2-3339-414E-B544-BF2BC4E2D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4E09A-65A9-4181-BBF3-C11EEAC96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89E22-2171-4474-AD8D-594B7C7E6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AE834-14AD-4505-AE6D-506BD92C2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7C166-BA1B-49DB-8D9A-AB3A61168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AF6E1-98A8-4709-9836-41BDA6F86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6725D-1BB7-462B-B6DF-9CEE72A49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8280D-CF8C-407F-A15A-FBED0C768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F816F-B881-4077-A447-BE1F13313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FAC54-A61C-494E-AECD-CE9A29CF2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9E6D5-B3B4-495B-A443-CFCA37075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3838B-C1D5-4A99-BBAE-89C850888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E4634-7A13-443C-B217-8AEBC1D87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A1D0F-CA0D-4F78-99C6-D416A9E19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F55E9-612A-4959-8148-43584891A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8BC48-9DCD-4270-9FF1-C278354C7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6B73D-D93B-4EAB-B4E6-6FA35BC2C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2032D-D5E1-4827-B561-722948AB1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4D63A-4C9B-4935-8FAC-661AF3561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7156F-86E9-48D6-A625-E443CB5D0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56625-F45A-4C5C-92F0-95418DF05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8279F-240C-41AB-A2DD-8E09584A2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D9ADB-AE4E-4BEF-BA8B-028C7FCEC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90847-D96B-499A-9685-784D4EFFBC0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D6840-6DD6-4F72-8652-0B2E87F7652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hyperlink" Target="http://www.vaccinateyourbaby.org/" TargetMode="External"/><Relationship Id="rId3" Type="http://schemas.openxmlformats.org/officeDocument/2006/relationships/hyperlink" Target="http://www.cispimmunize.org/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ediatric Immunizations</a:t>
            </a:r>
            <a:br>
              <a:rPr sz="4200"/>
            </a:b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Update and Controversi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ane Dooley M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ch 27, 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5" descr="rico-toddler-caplain-flower"/>
          <p:cNvPicPr/>
          <p:nvPr/>
        </p:nvPicPr>
        <p:blipFill>
          <a:blip r:embed="rId1"/>
          <a:stretch/>
        </p:blipFill>
        <p:spPr>
          <a:xfrm>
            <a:off x="4876920" y="3581280"/>
            <a:ext cx="366696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een Vaccination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5"/>
          <p:cNvSpPr/>
          <p:nvPr/>
        </p:nvSpPr>
        <p:spPr>
          <a:xfrm>
            <a:off x="609480" y="1676520"/>
            <a:ext cx="7239240" cy="46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Meningitis vaccine (MCV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1-12 y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ge freshm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HP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80000"/>
              </a:lnSpc>
              <a:spcBef>
                <a:spcPts val="15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males aged 9-26 y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8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da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80000"/>
              </a:lnSpc>
              <a:spcBef>
                <a:spcPts val="15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1-12 year olds who have completed their DTaP series but have not received T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3-18 year olds if they have completed their DTaP series and either missed their Td at 11-12 or it has been 5 years since they received their T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7" descr="teen"/>
          <p:cNvPicPr/>
          <p:nvPr/>
        </p:nvPicPr>
        <p:blipFill>
          <a:blip r:embed="rId1"/>
          <a:stretch/>
        </p:blipFill>
        <p:spPr>
          <a:xfrm>
            <a:off x="5715000" y="1600200"/>
            <a:ext cx="2743200" cy="247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pecial Consideration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term inf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BsAg + moth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munocomprom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gg aller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ctions to a previous vacc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essive neurologic disorder/seiz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8"/>
          <p:cNvSpPr/>
          <p:nvPr/>
        </p:nvSpPr>
        <p:spPr>
          <a:xfrm>
            <a:off x="3809880" y="5181480"/>
            <a:ext cx="5257800" cy="13737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Minor illness with or without fever does not contraindicate immun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9" descr="CAUTION"/>
          <p:cNvPicPr/>
          <p:nvPr/>
        </p:nvPicPr>
        <p:blipFill>
          <a:blip r:embed="rId1"/>
          <a:stretch/>
        </p:blipFill>
        <p:spPr>
          <a:xfrm>
            <a:off x="4743360" y="1600200"/>
            <a:ext cx="3486240" cy="34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Reasons Why Kids Miss Shots</a:t>
            </a:r>
            <a:br>
              <a:rPr sz="3800"/>
            </a:b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Health System Issue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752120" y="2286000"/>
            <a:ext cx="38862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st of vacc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PV, Rotavirus, MMR-V, MCV4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ccine short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appropriate deferral of sho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lth cover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7" descr="HM00322_%5B1%5D"/>
          <p:cNvPicPr/>
          <p:nvPr/>
        </p:nvPicPr>
        <p:blipFill>
          <a:blip r:embed="rId1"/>
          <a:stretch/>
        </p:blipFill>
        <p:spPr>
          <a:xfrm>
            <a:off x="4419720" y="1600200"/>
            <a:ext cx="4495680" cy="265428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8" descr="MCj04039850000[1]"/>
          <p:cNvPicPr/>
          <p:nvPr/>
        </p:nvPicPr>
        <p:blipFill>
          <a:blip r:embed="rId2"/>
          <a:stretch/>
        </p:blipFill>
        <p:spPr>
          <a:xfrm>
            <a:off x="304920" y="4800600"/>
            <a:ext cx="13716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Reasons Why Kids Miss Shots</a:t>
            </a:r>
            <a:br>
              <a:rPr sz="3800"/>
            </a:b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Parental Issue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647960" y="1600200"/>
            <a:ext cx="38862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ar of aut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ar of injections, early expos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ck of tru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belief about inf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lief in herd immun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5" descr="newborn"/>
          <p:cNvPicPr/>
          <p:nvPr/>
        </p:nvPicPr>
        <p:blipFill>
          <a:blip r:embed="rId1"/>
          <a:stretch/>
        </p:blipFill>
        <p:spPr>
          <a:xfrm>
            <a:off x="609480" y="2351160"/>
            <a:ext cx="3886200" cy="291780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6"/>
          <p:cNvSpPr/>
          <p:nvPr/>
        </p:nvSpPr>
        <p:spPr>
          <a:xfrm>
            <a:off x="1447920" y="5486400"/>
            <a:ext cx="6324480" cy="1167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6666"/>
                </a:solidFill>
                <a:uFillTx/>
                <a:latin typeface="Arial"/>
                <a:hlinkClick r:id="rId2"/>
              </a:rPr>
              <a:t>www.vaccinateyourbaby.or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 u="sng">
                <a:solidFill>
                  <a:srgbClr val="996666"/>
                </a:solidFill>
                <a:uFillTx/>
                <a:latin typeface="Arial"/>
                <a:hlinkClick r:id="rId3"/>
              </a:rPr>
              <a:t>www.cispimmunize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diatrics: The Problem with Dr. Bob’s Alternative Vaccine Schedul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nuary 20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ealing with Parental Refusal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6248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0% of pediatricians report recent parental refusal of vacc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rify concer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ligious or philosophical groun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cerns re: injections, combined vaccin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isk/Benefit rati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7" descr="3298"/>
          <p:cNvPicPr/>
          <p:nvPr/>
        </p:nvPicPr>
        <p:blipFill>
          <a:blip r:embed="rId1"/>
          <a:stretch/>
        </p:blipFill>
        <p:spPr>
          <a:xfrm>
            <a:off x="6858000" y="1752480"/>
            <a:ext cx="1905120" cy="26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ealing with Parental Refusal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33160" y="1676160"/>
            <a:ext cx="792468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u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80000"/>
              </a:lnSpc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sk/Benef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80000"/>
              </a:lnSpc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d immun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80000"/>
              </a:lnSpc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nical manage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acute illn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80000"/>
              </a:lnSpc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ool entry la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80000"/>
              </a:lnSpc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bsi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goti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inuing C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?Medical Negl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5" descr="MPj04089610000[1]"/>
          <p:cNvPicPr/>
          <p:nvPr/>
        </p:nvPicPr>
        <p:blipFill>
          <a:blip r:embed="rId1"/>
          <a:stretch/>
        </p:blipFill>
        <p:spPr>
          <a:xfrm>
            <a:off x="5410080" y="1676520"/>
            <a:ext cx="26956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Immunizations</a:t>
            </a:r>
            <a:br>
              <a:rPr sz="38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most effective component of well child ca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796 – Edward Jenner develops cowpox vacc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873 – 175,000 Americans died of infectious diseases.  The majority of these were children dying of whooping cough, measles, scarlatina, diphtheria, e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4" descr="MCAN02493_0000[1]"/>
          <p:cNvPicPr/>
          <p:nvPr/>
        </p:nvPicPr>
        <p:blipFill>
          <a:blip r:embed="rId1"/>
          <a:stretch/>
        </p:blipFill>
        <p:spPr>
          <a:xfrm>
            <a:off x="6056280" y="3962520"/>
            <a:ext cx="2273400" cy="270504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5"/>
          <p:cNvSpPr/>
          <p:nvPr/>
        </p:nvSpPr>
        <p:spPr>
          <a:xfrm>
            <a:off x="685800" y="5904000"/>
            <a:ext cx="5029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6"/>
          <p:cNvSpPr/>
          <p:nvPr/>
        </p:nvSpPr>
        <p:spPr>
          <a:xfrm>
            <a:off x="609480" y="3581280"/>
            <a:ext cx="54864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>
              <a:buClr>
                <a:srgbClr val="6666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880 – Pasteur, Koch and others demonstrated that diphtheria and cholera were infectious diseases transmitted by microb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buClr>
                <a:srgbClr val="6666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buClr>
                <a:srgbClr val="6666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77 – Last known case of smallpox     occurs in Somal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Immunizations 2009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ent Hib De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asles c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tus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Immunization regis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WordArt 8"/>
          <p:cNvSpPr txBox="1"/>
          <p:nvPr/>
        </p:nvSpPr>
        <p:spPr>
          <a:xfrm>
            <a:off x="2133720" y="4572000"/>
            <a:ext cx="456228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Immunization rates</a:t>
            </a:r>
            <a:endParaRPr b="0" lang="en-US" sz="24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Shots up to 2 years</a:t>
            </a:r>
            <a:endParaRPr b="0" lang="en-US" sz="24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2007:  CCRMC 85% </a:t>
            </a:r>
            <a:endParaRPr b="0" lang="en-US" sz="24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09" name="Picture 9" descr="baby"/>
          <p:cNvPicPr/>
          <p:nvPr/>
        </p:nvPicPr>
        <p:blipFill>
          <a:blip r:embed="rId1"/>
          <a:stretch/>
        </p:blipFill>
        <p:spPr>
          <a:xfrm>
            <a:off x="5715000" y="1676520"/>
            <a:ext cx="247644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Vaccine Schedul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1" name="Object 4"/>
          <p:cNvGraphicFramePr/>
          <p:nvPr/>
        </p:nvGraphicFramePr>
        <p:xfrm>
          <a:off x="3119400" y="1778040"/>
          <a:ext cx="290340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19400" y="1778040"/>
                    <a:ext cx="290340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3" name="Picture 6" descr=""/>
          <p:cNvPicPr/>
          <p:nvPr/>
        </p:nvPicPr>
        <p:blipFill>
          <a:blip r:embed="rId3"/>
          <a:srcRect l="0" t="0" r="0" b="19463"/>
          <a:stretch/>
        </p:blipFill>
        <p:spPr>
          <a:xfrm>
            <a:off x="457200" y="1463760"/>
            <a:ext cx="8226360" cy="40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Rotavirus Vaccin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343400" y="1599840"/>
            <a:ext cx="41911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common cause of severe diarrhea in infants and child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/14 of children in US seen in ER or admitted by age 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ve, oral 2 or 3 dose se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5-98% protection vs severe dise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5" descr="baby"/>
          <p:cNvPicPr/>
          <p:nvPr/>
        </p:nvPicPr>
        <p:blipFill>
          <a:blip r:embed="rId1"/>
          <a:stretch/>
        </p:blipFill>
        <p:spPr>
          <a:xfrm>
            <a:off x="901800" y="2050920"/>
            <a:ext cx="3301920" cy="351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oddler Gap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666520" y="1752120"/>
            <a:ext cx="579132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munization rates drop in the second year of life, especially DT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-22284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MR rates 9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-22284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TaP rates 71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alth disparity for African Americ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4" descr="Pre-Toddler"/>
          <p:cNvPicPr/>
          <p:nvPr/>
        </p:nvPicPr>
        <p:blipFill>
          <a:blip r:embed="rId1"/>
          <a:stretch/>
        </p:blipFill>
        <p:spPr>
          <a:xfrm>
            <a:off x="533520" y="2438280"/>
            <a:ext cx="2057400" cy="27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oddler gap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9250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sues contributing to toddler gap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alth care coverage ga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ultaneous administration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 shots – MMR,VZV,HIB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NV, DT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ental/family 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stems 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WordArt 4"/>
          <p:cNvSpPr txBox="1"/>
          <p:nvPr/>
        </p:nvSpPr>
        <p:spPr>
          <a:xfrm>
            <a:off x="5334120" y="4343400"/>
            <a:ext cx="3009960" cy="148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The Toddler </a:t>
            </a:r>
            <a:endParaRPr b="0" lang="en-US" sz="2800" spc="1" strike="noStrike">
              <a:ln w="12600">
                <a:solidFill>
                  <a:srgbClr val="ff0000"/>
                </a:solidFill>
                <a:miter/>
              </a:ln>
              <a:solidFill>
                <a:srgbClr val="ff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well child visits</a:t>
            </a:r>
            <a:endParaRPr b="0" lang="en-US" sz="2800" spc="1" strike="noStrike">
              <a:ln w="12600">
                <a:solidFill>
                  <a:srgbClr val="ff0000"/>
                </a:solidFill>
                <a:miter/>
              </a:ln>
              <a:solidFill>
                <a:srgbClr val="ff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are important!</a:t>
            </a:r>
            <a:endParaRPr b="0" lang="en-US" sz="2800" spc="1" strike="noStrike">
              <a:ln w="12600">
                <a:solidFill>
                  <a:srgbClr val="ff0000"/>
                </a:solidFill>
                <a:miter/>
              </a:ln>
              <a:solidFill>
                <a:srgbClr val="ff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23" name="Picture 5" descr="MCj03579750000[1]"/>
          <p:cNvPicPr/>
          <p:nvPr/>
        </p:nvPicPr>
        <p:blipFill>
          <a:blip r:embed="rId1"/>
          <a:stretch/>
        </p:blipFill>
        <p:spPr>
          <a:xfrm>
            <a:off x="6858000" y="1676520"/>
            <a:ext cx="141588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Coordinating Immunizations with a  well child exam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ll child schedu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hen 1 week, 1 mo,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2m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4m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6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mo,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12m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15m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18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nually from 2-18 y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als re: well child c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ular visits for developmental screening, anticipatory guid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ely administration of vacc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inuity relationship with pro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4" descr="Toddler"/>
          <p:cNvPicPr/>
          <p:nvPr/>
        </p:nvPicPr>
        <p:blipFill>
          <a:blip r:embed="rId1"/>
          <a:stretch/>
        </p:blipFill>
        <p:spPr>
          <a:xfrm>
            <a:off x="7346880" y="2743200"/>
            <a:ext cx="1797120" cy="342900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5"/>
          <p:cNvSpPr/>
          <p:nvPr/>
        </p:nvSpPr>
        <p:spPr>
          <a:xfrm>
            <a:off x="533520" y="5478480"/>
            <a:ext cx="7924680" cy="861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ways reappoint to the next well child visit with PCP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Vaccine Schedul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9" name="Object 5"/>
          <p:cNvGraphicFramePr/>
          <p:nvPr/>
        </p:nvGraphicFramePr>
        <p:xfrm>
          <a:off x="533520" y="1447920"/>
          <a:ext cx="8076960" cy="418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47920"/>
                    <a:ext cx="8076960" cy="418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6T18:37:05Z</dcterms:created>
  <dc:creator> </dc:creator>
  <dc:description/>
  <dc:language>en-US</dc:language>
  <cp:lastModifiedBy>nsmith</cp:lastModifiedBy>
  <dcterms:modified xsi:type="dcterms:W3CDTF">2009-03-27T18:25:25Z</dcterms:modified>
  <cp:revision>25</cp:revision>
  <dc:subject/>
  <dc:title>Doing Our Best –  CCRMC Well Child Care 0-18 months</dc:title>
</cp:coreProperties>
</file>