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6.jpeg" ContentType="image/jpeg"/>
  <Override PartName="/ppt/media/image11.jpeg" ContentType="image/jpeg"/>
  <Override PartName="/ppt/media/image9.png" ContentType="image/png"/>
  <Override PartName="/ppt/media/image10.jpeg" ContentType="image/jpeg"/>
  <Override PartName="/ppt/media/image5.png" ContentType="image/png"/>
  <Override PartName="/ppt/media/image13.wmf" ContentType="image/x-wmf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97C8-5445-4F99-A626-62AAE5E84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84E5-C0B0-4719-A965-BB82A181C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ces paid by practices vary. Vaccine purchasing costs account for about 20% of all pediatric practice expen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do not cover full cost of immuniz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ey of rural physicians, shows many FPs considering re: continuation of administering all vaccines, especially HPV and MCV4 because of cost and varying levels of ins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deferring 12-15 mo Hib because of vaccine shortage except for high risk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1430-3EAE-4F90-96E4-F889B81C3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al refusals:  fears re: autism. Recent Federal court ruling that MMR not connected to autism.  “Major setback for the fight to link autism to vaccines” 5000 families have filed claims against Federal program re:atuism and vaccines.  Aruge that thimerosal weakens immune system, leading to MMR viral infection and aut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4F05-72A6-4E8C-B939-5AB6A8F24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s are free to make choices regarding medical care unless those choices place their child at substantial risk of serious h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 of harm related to probability of contracting the disease and risk of morbidity and mort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deep contaminated puncture wound and tet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A24E-E896-451B-9062-526926446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Commission on Prevention priori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king clinical preventive services for relative health impact and cost effectiveness.  3 with score of 1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pirin use with high-risk adults, immunizing children, and tobacco-use screening and brief interven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B7C4-0CFE-4785-90CD-490EAC2E8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ib deaths in Pennsylvania since 10/08, 5 cases of invasive disease in Minnesota – Associated with vaccine shortage and increased colonization.  Children involved were unvaccinated or undervaccin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year high in measles cases last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6FD3-1DB9-47B3-B3D2-8EB0E8958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n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vaccine ann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ation vaccines – Result in Hep B, IPV ex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8B23-171D-403E-9DD2-6CFC64B25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d 2/06 – 3 dose series ( 2.4.6 m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/08 – 2 dose series – 2, 4 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before 15 weeks, Complete by 8 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ose after 6 weeks, minimum 4 weeks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tudies re: interchang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avirus – previous version associated with intussusception.  Present versions have no association, but strict guidelines re: administration.  New guidelines more flexible.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ose by 8 mon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793F-F48C-4222-A0B0-67D0F4814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 CCHP rates (Hybrid) MMR 90%, DTaP 71% by end of second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 CCHP rates (Admin) Hispanic 60%, White 40%, African American 2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517B-BC58-4850-94E7-4FA6B3711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al issues:  Ignorance, difficulties managing child in clinic, transportation, work, child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s issues: Failure to make return appointment, missed opportunities for well child care, immuniz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BAB4-ED5C-4FC7-A7B9-B7F2A15CF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ies – Use corrected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7938-2104-4DD3-AAC0-9E3CD85FA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shot 6mo – 9 years require second dose one month p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DD91-5074-4C1D-B127-D7DD8CD28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E94C-F8B0-49CA-BDF4-1A30081B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3E41-BDE6-4581-86CE-8526A5757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64A8-E99F-4E59-A2FF-C93D4393F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362D-05BA-4228-8083-837DAB84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8FB5-A505-4E50-BA06-D01A27CA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700F-8D71-4D12-B212-78E02C60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133A-5EEF-4976-A7B5-95A3D034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AC19-54B1-4B80-874C-5F6EE509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0BF9-CDF3-4061-BBFC-958466D8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7901-372F-4F53-93B2-978AF56C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4AD2-31D2-4C75-B51E-A2F5728A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5F32-2CB4-4B61-AF3D-7A99ED71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B45F-1AB0-4A12-9344-CFD6B4EB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F3A6-8113-4201-BF33-014C5DB2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A632-1F4D-4706-BDBB-41D0E7398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B0CF-0D21-4228-B873-8D8729168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B13C-D632-4260-A652-9E3AFB93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0625-010E-4C6E-BAC7-5DFAC5AD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56A1-2B8E-4030-A7DF-327D3ABC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F1EB-735E-4B19-ADC2-DEE96E6D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495D-B260-4DEC-90FB-8E1DB054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AAAA-BA13-4AB7-AE38-3E4A9055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7B5F-3590-40CC-AB3B-18B88DCF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6AE4-B2F8-4C76-847B-509F2A8DA2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EC11-09B9-4C13-8F3A-E08EF57A7A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vaccinateyourbaby.org/" TargetMode="External"/><Relationship Id="rId3" Type="http://schemas.openxmlformats.org/officeDocument/2006/relationships/hyperlink" Target="http://www.cispimmunize.org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ediatric Immunizations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pdate and Controvers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ne Dooley 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27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rico-toddler-caplain-flower"/>
          <p:cNvPicPr/>
          <p:nvPr/>
        </p:nvPicPr>
        <p:blipFill>
          <a:blip r:embed="rId1"/>
          <a:stretch/>
        </p:blipFill>
        <p:spPr>
          <a:xfrm>
            <a:off x="4876920" y="3581280"/>
            <a:ext cx="366696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en Vaccina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609480" y="1676520"/>
            <a:ext cx="7239240" cy="46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eningitis vaccine (MCV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-12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ge fresh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P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ales aged 9-26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d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-12 year olds who have completed their DTaP series but have not received 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-18 year olds if they have completed their DTaP series and either missed their Td at 11-12 or it has been 5 years since they received their T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teen"/>
          <p:cNvPicPr/>
          <p:nvPr/>
        </p:nvPicPr>
        <p:blipFill>
          <a:blip r:embed="rId1"/>
          <a:stretch/>
        </p:blipFill>
        <p:spPr>
          <a:xfrm>
            <a:off x="5715000" y="1600200"/>
            <a:ext cx="274320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pecial Considera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term inf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BsAg + m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unocomprom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g all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s to a previous vac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ive neurologic disorder/seiz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809880" y="5181480"/>
            <a:ext cx="525780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inor illness with or without fever does not contraindicate immu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CAUTION"/>
          <p:cNvPicPr/>
          <p:nvPr/>
        </p:nvPicPr>
        <p:blipFill>
          <a:blip r:embed="rId1"/>
          <a:stretch/>
        </p:blipFill>
        <p:spPr>
          <a:xfrm>
            <a:off x="4743360" y="1600200"/>
            <a:ext cx="348624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asons Why Kids Miss Shots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Health System Issu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52120" y="2286000"/>
            <a:ext cx="3886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vacc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PV, Rotavirus, MMR-V, MCV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ccine shor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ppropriate deferral of sh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HM00322_%5B1%5D"/>
          <p:cNvPicPr/>
          <p:nvPr/>
        </p:nvPicPr>
        <p:blipFill>
          <a:blip r:embed="rId1"/>
          <a:stretch/>
        </p:blipFill>
        <p:spPr>
          <a:xfrm>
            <a:off x="4419720" y="1600200"/>
            <a:ext cx="4495680" cy="2654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MCj04039850000[1]"/>
          <p:cNvPicPr/>
          <p:nvPr/>
        </p:nvPicPr>
        <p:blipFill>
          <a:blip r:embed="rId2"/>
          <a:stretch/>
        </p:blipFill>
        <p:spPr>
          <a:xfrm>
            <a:off x="304920" y="48006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asons Why Kids Miss Shots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arental Issu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r of aut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r of injections, early exp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tr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belief about inf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ief in herd i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newborn"/>
          <p:cNvPicPr/>
          <p:nvPr/>
        </p:nvPicPr>
        <p:blipFill>
          <a:blip r:embed="rId1"/>
          <a:stretch/>
        </p:blipFill>
        <p:spPr>
          <a:xfrm>
            <a:off x="609480" y="2351160"/>
            <a:ext cx="3886200" cy="2917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1447920" y="5486400"/>
            <a:ext cx="6324480" cy="1167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www.vaccinateyourbaby.or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996666"/>
                </a:solidFill>
                <a:uFillTx/>
                <a:latin typeface="Arial"/>
                <a:hlinkClick r:id="rId3"/>
              </a:rPr>
              <a:t>www.cispimmuniz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diatrics: The Problem with Dr. Bob’s Alternative Vaccine Schedu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aling with Parental Refus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6248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0% of pediatricians report recent parental refusal of vacc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 conc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igious or philosophical grou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erns re: injections, combined vacc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sk/Benefit rat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3298"/>
          <p:cNvPicPr/>
          <p:nvPr/>
        </p:nvPicPr>
        <p:blipFill>
          <a:blip r:embed="rId1"/>
          <a:stretch/>
        </p:blipFill>
        <p:spPr>
          <a:xfrm>
            <a:off x="6858000" y="1752480"/>
            <a:ext cx="190512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aling with Parental Refus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79246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/Bene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d i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 manag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cute ill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entry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ing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Medical Neg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MPj04089610000[1]"/>
          <p:cNvPicPr/>
          <p:nvPr/>
        </p:nvPicPr>
        <p:blipFill>
          <a:blip r:embed="rId1"/>
          <a:stretch/>
        </p:blipFill>
        <p:spPr>
          <a:xfrm>
            <a:off x="5410080" y="1676520"/>
            <a:ext cx="26956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mmunizations</a:t>
            </a:r>
            <a:br>
              <a:rPr sz="3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st effective component of well child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96 – Edward Jenner develops cowpox vac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73 – 175,000 Americans died of infectious diseases.  The majority of these were children dying of whooping cough, measles, scarlatina, diphtheria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MCAN02493_0000[1]"/>
          <p:cNvPicPr/>
          <p:nvPr/>
        </p:nvPicPr>
        <p:blipFill>
          <a:blip r:embed="rId1"/>
          <a:stretch/>
        </p:blipFill>
        <p:spPr>
          <a:xfrm>
            <a:off x="6056280" y="3962520"/>
            <a:ext cx="2273400" cy="27050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685800" y="590400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09480" y="3581280"/>
            <a:ext cx="5486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80 – Pasteur, Koch and others demonstrated that diphtheria and cholera were infectious diseases transmitted by microb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buClr>
                <a:srgbClr val="6666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7 – Last known case of smallpox     occurs in Som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mmunizations 2009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 Hib De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les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tus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Immunization reg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8"/>
          <p:cNvSpPr txBox="1"/>
          <p:nvPr/>
        </p:nvSpPr>
        <p:spPr>
          <a:xfrm>
            <a:off x="2133720" y="4572000"/>
            <a:ext cx="45622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mmunization rates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hots up to 2 years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007:  CCRMC 85% 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9" name="Picture 9" descr="baby"/>
          <p:cNvPicPr/>
          <p:nvPr/>
        </p:nvPicPr>
        <p:blipFill>
          <a:blip r:embed="rId1"/>
          <a:stretch/>
        </p:blipFill>
        <p:spPr>
          <a:xfrm>
            <a:off x="5715000" y="1676520"/>
            <a:ext cx="24764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accine Schedu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3119400" y="1778040"/>
          <a:ext cx="29034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9400" y="1778040"/>
                    <a:ext cx="29034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" name="Picture 6" descr=""/>
          <p:cNvPicPr/>
          <p:nvPr/>
        </p:nvPicPr>
        <p:blipFill>
          <a:blip r:embed="rId3"/>
          <a:srcRect l="0" t="0" r="0" b="19463"/>
          <a:stretch/>
        </p:blipFill>
        <p:spPr>
          <a:xfrm>
            <a:off x="457200" y="1463760"/>
            <a:ext cx="822636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otavirus Vacc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343400" y="159984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 cause of severe diarrhea in infants and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14 of children in US seen in ER or admitted by age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, oral 2 or 3 dose 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5-98% protection vs severe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baby"/>
          <p:cNvPicPr/>
          <p:nvPr/>
        </p:nvPicPr>
        <p:blipFill>
          <a:blip r:embed="rId1"/>
          <a:stretch/>
        </p:blipFill>
        <p:spPr>
          <a:xfrm>
            <a:off x="901800" y="2050920"/>
            <a:ext cx="330192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oddler Ga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66520" y="1752120"/>
            <a:ext cx="57913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unization rates drop in the second year of life, especially DT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MR rates 9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TaP rates 7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disparity for African Amer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Pre-Toddler"/>
          <p:cNvPicPr/>
          <p:nvPr/>
        </p:nvPicPr>
        <p:blipFill>
          <a:blip r:embed="rId1"/>
          <a:stretch/>
        </p:blipFill>
        <p:spPr>
          <a:xfrm>
            <a:off x="533520" y="2438280"/>
            <a:ext cx="205740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oddler ga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s contributing to toddler ga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care coverage g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taneous administration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shots – MMR,VZV,HIB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NV, DT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al/famil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s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5334120" y="4343400"/>
            <a:ext cx="300996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e Toddler </a:t>
            </a:r>
            <a:endParaRPr b="0" lang="en-US" sz="2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ell child visits</a:t>
            </a:r>
            <a:endParaRPr b="0" lang="en-US" sz="2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re important!</a:t>
            </a:r>
            <a:endParaRPr b="0" lang="en-US" sz="2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3" name="Picture 5" descr="MCj03579750000[1]"/>
          <p:cNvPicPr/>
          <p:nvPr/>
        </p:nvPicPr>
        <p:blipFill>
          <a:blip r:embed="rId1"/>
          <a:stretch/>
        </p:blipFill>
        <p:spPr>
          <a:xfrm>
            <a:off x="6858000" y="1676520"/>
            <a:ext cx="14158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ordinating Immunizations with a  well child exa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 child schedu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en 1 week, 1 mo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m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m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mo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m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5m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8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ally from 2-18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re: well child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 visits for developmental screening, anticipatory gu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ly administration of vacc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ity relationship with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Toddler"/>
          <p:cNvPicPr/>
          <p:nvPr/>
        </p:nvPicPr>
        <p:blipFill>
          <a:blip r:embed="rId1"/>
          <a:stretch/>
        </p:blipFill>
        <p:spPr>
          <a:xfrm>
            <a:off x="7346880" y="2743200"/>
            <a:ext cx="1797120" cy="3429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533520" y="5478480"/>
            <a:ext cx="7924680" cy="861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reappoint to the next well child visit with PC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accine Schedu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Object 5"/>
          <p:cNvGraphicFramePr/>
          <p:nvPr/>
        </p:nvGraphicFramePr>
        <p:xfrm>
          <a:off x="533520" y="1447920"/>
          <a:ext cx="8076960" cy="41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807696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8:37:05Z</dcterms:created>
  <dc:creator> </dc:creator>
  <dc:description/>
  <dc:language>en-US</dc:language>
  <cp:lastModifiedBy>nsmith</cp:lastModifiedBy>
  <dcterms:modified xsi:type="dcterms:W3CDTF">2009-03-27T18:25:25Z</dcterms:modified>
  <cp:revision>25</cp:revision>
  <dc:subject/>
  <dc:title>Doing Our Best –  CCRMC Well Child Care 0-18 months</dc:title>
</cp:coreProperties>
</file>