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B63E-EC68-456C-8D4B-48715B474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6285-99DF-43C9-84E6-22B53040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s paid by practices vary. Vaccine purchasing costs account for about 20% of all pediatric practice exp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do not cover full cost of immun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rural physicians, shows many FPs considering re: continuation of administering all vaccines, especially HPV and MCV4 because of cost and varying levels of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deferring 12-15 mo Hib because of vaccine shortage except for high risk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190C-5D5E-4B37-8385-B01DEEAA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refusals:  fears re: autism. Recent Federal court ruling that MMR not connected to autism.  “Major setback for the fight to link autism to vaccines” 5000 families have filed claims against Federal program re:atuism and vaccines.  Aruge that thimerosal weakens immune system, leading to MMR viral infection and aut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13E7-73A6-4FE5-B92A-6E88CCFF9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are free to make choices regarding medical care unless those choices place their child at substantial risk of serious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of harm related to probability of contracting the disease and risk of morbidity and mor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eep contaminated puncture wound and tet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71C3-D94D-4DF2-BC44-9BE480B62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mmission on Prevention prio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clinical preventive services for relative health impact and cost effectiveness.  3 with score of 1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irin use with high-risk adults, immunizing children, and tobacco-use screening and brief 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3ADC-05ED-4897-BB5A-957A089CA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ib deaths in Pennsylvania since 10/08, 5 cases of invasive disease in Minnesota – Associated with vaccine shortage and increased colonization.  Children involved were unvaccinated or undervaccin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year high in measles cases las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86FF-3C90-494F-8A5A-7D8B49C9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accine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vaccines – Result in Hep B, IPV ex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1003-E044-4D09-BCDD-11012ADA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2/06 – 3 dose series ( 2.4.6 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08 – 2 dose series – 2, 4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efore 15 weeks, Complete by 8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se after 6 weeks, minimum 4 weeks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tudies re: interchang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virus – previous version associated with intussusception.  Present versions have no association, but strict guidelines re: administration.  New guidelines more flexible.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se by 8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1CC8-7A65-49B3-AFA2-C63EF5364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Hybrid) MMR 90%, DTaP 71% by end of second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Admin) Hispanic 60%, White 40%, African American 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3086-4B73-4AF3-9DA7-4938070CB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ssues:  Ignorance, difficulties managing child in clinic, transportation, work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ssues: Failure to make return appointment, missed opportunities for well child care, immu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D0D5-E313-47B6-B92D-91DED5CBB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es – Use corrected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B37-125C-4A13-AD90-F1F42E28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shot 6mo – 9 years require second dose one month p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320-A9BD-4FFF-9651-BFF89854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343-2936-4711-90A3-C94B57CF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B38-8221-411B-A2AA-092CD921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061-B374-4EA4-BFFB-433737D9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7BB4-4E54-4154-BE37-16DBF377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808F-8ED0-4CC4-9BC1-5100CAF5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0EBB-FBAC-481C-B609-33B429B6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E3D4-A413-40FE-8E73-957CF02E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0790-AE38-4E5B-B531-7E6B7F41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12F9-1384-44DE-A0B7-9F89D9BA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FBAA-272E-409D-A949-635C00FE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F1A5-1A3C-493C-AB4E-7471B6AB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50F1-FCC5-4442-B8AF-FED9CA98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040A-E969-4E92-90ED-5ECDA7C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24A2-BA8B-443A-AEC0-98CF18F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85B9-3AE8-4678-A07C-47B253E1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5741-2122-4EDE-BA87-16A76275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998-20A9-4A3A-942A-024DEC3F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16B-9978-481B-B511-91F272C0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196-AAEE-493D-BD0D-F4E2474F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B8E-3B6F-4D90-B071-AA92A184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D50-1D4E-40E7-8EFC-22EFDC25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D79-B54C-47D0-9588-55B3EC6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779-0DD0-4449-89AC-FB5F75C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41A2-F086-41EC-A7E7-29BF6ED75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8C3-7A61-4791-BAC3-D45BFC3E9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vaccinateyourbaby.org/" TargetMode="External"/><Relationship Id="rId3" Type="http://schemas.openxmlformats.org/officeDocument/2006/relationships/hyperlink" Target="http://www.cispimmunize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diatric Immunization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and Controvers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ne Dooley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rico-toddler-caplain-flower"/>
          <p:cNvPicPr/>
          <p:nvPr/>
        </p:nvPicPr>
        <p:blipFill>
          <a:blip r:embed="rId1"/>
          <a:stretch/>
        </p:blipFill>
        <p:spPr>
          <a:xfrm>
            <a:off x="4876920" y="3581280"/>
            <a:ext cx="3666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en Vaccin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09480" y="1676520"/>
            <a:ext cx="723924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ningitis vaccine (MC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fres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aged 9-2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d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 olds who have completed their DTaP series but have not received 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18 year olds if they have completed their DTaP series and either missed their Td at 11-12 or it has been 5 years since they received their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een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ecial Consider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rm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 + m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to a previou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neurologic disorder/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09880" y="5181480"/>
            <a:ext cx="5257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nor illness with or without fever does not contraindicate immu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AUTION"/>
          <p:cNvPicPr/>
          <p:nvPr/>
        </p:nvPicPr>
        <p:blipFill>
          <a:blip r:embed="rId1"/>
          <a:stretch/>
        </p:blipFill>
        <p:spPr>
          <a:xfrm>
            <a:off x="4743360" y="1600200"/>
            <a:ext cx="348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alth System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V, Rotavirus, MMR-V, MCV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deferral of 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M00322_%5B1%5D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265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MCj04039850000[1]"/>
          <p:cNvPicPr/>
          <p:nvPr/>
        </p:nvPicPr>
        <p:blipFill>
          <a:blip r:embed="rId2"/>
          <a:stretch/>
        </p:blipFill>
        <p:spPr>
          <a:xfrm>
            <a:off x="304920" y="4800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ental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a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injections, early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elief about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in 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newborn"/>
          <p:cNvPicPr/>
          <p:nvPr/>
        </p:nvPicPr>
        <p:blipFill>
          <a:blip r:embed="rId1"/>
          <a:stretch/>
        </p:blipFill>
        <p:spPr>
          <a:xfrm>
            <a:off x="609480" y="235116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47920" y="5486400"/>
            <a:ext cx="6324480" cy="116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vaccinateyourbab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cispimmuniz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atrics: The Problem with Dr. Bob’s Alternative Vaccine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6248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of pediatricians report recent parental refusal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us or philosophical gr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s re: injections, combined vacc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/Benefit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3298"/>
          <p:cNvPicPr/>
          <p:nvPr/>
        </p:nvPicPr>
        <p:blipFill>
          <a:blip r:embed="rId1"/>
          <a:stretch/>
        </p:blipFill>
        <p:spPr>
          <a:xfrm>
            <a:off x="6858000" y="1752480"/>
            <a:ext cx="19051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cute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ent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Medical Neg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Pj0408961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mmunizations</a:t>
            </a:r>
            <a:br>
              <a:rPr sz="3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ffective component of well child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6 – Edward Jenner develops cowpox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73 – 175,000 Americans died of infectious diseases.  The majority of these were children dying of whooping cough, measles, scarlatina, diphtheri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CAN02493_0000[1]"/>
          <p:cNvPicPr/>
          <p:nvPr/>
        </p:nvPicPr>
        <p:blipFill>
          <a:blip r:embed="rId1"/>
          <a:stretch/>
        </p:blipFill>
        <p:spPr>
          <a:xfrm>
            <a:off x="6056280" y="3962520"/>
            <a:ext cx="2273400" cy="2705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85800" y="59040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9480" y="3581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 – Pasteur, Koch and others demonstrated that diphtheria and cholera were infectious diseases transmitted by micro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7 – Last known case of smallpox     occurs in So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munizations 200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Hib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unizatio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133720" y="4572000"/>
            <a:ext cx="4562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munization rate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hots up to 2 year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7:  CCRMC 85%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9" descr="baby"/>
          <p:cNvPicPr/>
          <p:nvPr/>
        </p:nvPicPr>
        <p:blipFill>
          <a:blip r:embed="rId1"/>
          <a:stretch/>
        </p:blipFill>
        <p:spPr>
          <a:xfrm>
            <a:off x="5715000" y="1676520"/>
            <a:ext cx="24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3119400" y="1778040"/>
          <a:ext cx="290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9400" y="1778040"/>
                    <a:ext cx="290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6" descr=""/>
          <p:cNvPicPr/>
          <p:nvPr/>
        </p:nvPicPr>
        <p:blipFill>
          <a:blip r:embed="rId3"/>
          <a:srcRect l="0" t="0" r="0" b="19463"/>
          <a:stretch/>
        </p:blipFill>
        <p:spPr>
          <a:xfrm>
            <a:off x="457200" y="1463760"/>
            <a:ext cx="8226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otavirus Vacc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of severe diarrhea in infants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14 of children in US seen in ER or admitted by 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, oral 2 or 3 dos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-98% protection vs sever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baby"/>
          <p:cNvPicPr/>
          <p:nvPr/>
        </p:nvPicPr>
        <p:blipFill>
          <a:blip r:embed="rId1"/>
          <a:stretch/>
        </p:blipFill>
        <p:spPr>
          <a:xfrm>
            <a:off x="901800" y="2050920"/>
            <a:ext cx="3301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6520" y="1752120"/>
            <a:ext cx="5791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ization rates drop in the second year of life, especially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R rates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aP rates 7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disparity for African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Pre-Toddler"/>
          <p:cNvPicPr/>
          <p:nvPr/>
        </p:nvPicPr>
        <p:blipFill>
          <a:blip r:embed="rId1"/>
          <a:stretch/>
        </p:blipFill>
        <p:spPr>
          <a:xfrm>
            <a:off x="533520" y="2438280"/>
            <a:ext cx="20574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contributing to toddler g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covera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 administr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hots – MMR,VZV,HI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V,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/famil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5334120" y="4343400"/>
            <a:ext cx="30099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Toddler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child visits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important!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Picture 5" descr="MCj035797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415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ordinating Immunizations with a  well child ex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child 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en 1 week, 1 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ly from 2-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re: well 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visits for developmental screening, anticipatory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 administration of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relationship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oddler"/>
          <p:cNvPicPr/>
          <p:nvPr/>
        </p:nvPicPr>
        <p:blipFill>
          <a:blip r:embed="rId1"/>
          <a:stretch/>
        </p:blipFill>
        <p:spPr>
          <a:xfrm>
            <a:off x="7346880" y="2743200"/>
            <a:ext cx="17971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33520" y="5478480"/>
            <a:ext cx="7924680" cy="86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ppoint to the next well child visit with PC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533520" y="1447920"/>
          <a:ext cx="80769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8:37:05Z</dcterms:created>
  <dc:creator> </dc:creator>
  <dc:description/>
  <dc:language>en-US</dc:language>
  <cp:lastModifiedBy>nsmith</cp:lastModifiedBy>
  <dcterms:modified xsi:type="dcterms:W3CDTF">2009-03-27T18:25:25Z</dcterms:modified>
  <cp:revision>25</cp:revision>
  <dc:subject/>
  <dc:title>Doing Our Best –  CCRMC Well Child Care 0-18 months</dc:title>
</cp:coreProperties>
</file>