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E5C-F956-4182-94B2-CC62768D1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43EA-6F0A-4789-9A9E-C440356F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paid by practices vary. Vaccine purchasing costs account for about 20% of all pediatric practice exp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do not cover full cost of immun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rural physicians, shows many FPs considering re: continuation of administering all vaccines, especially HPV and MCV4 because of cost and varying levels of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deferring 12-15 mo Hib because of vaccine shortage except for high risk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CA85-8C39-40B4-B11D-F302B74E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refusals:  fears re: autism. Recent Federal court ruling that MMR not connected to autism.  “Major setback for the fight to link autism to vaccines” 5000 families have filed claims against Federal program re:atuism and vaccines.  Aruge that thimerosal weakens immune system, leading to MMR viral infection and aut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C80A-8088-4010-9E8C-492E6BE3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re free to make choices regarding medical care unless those choices place their child at substantial risk of serious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of harm related to probability of contracting the disease and risk of morbidity an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eep contaminated puncture wound and 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CB9-A249-4882-BEF1-70F021D7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mmission on Prevention prio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clinical preventive services for relative health impact and cost effectiveness.  3 with score of 1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irin use with high-risk adults, immunizing children, and tobacco-use screening and brief 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3BFC-1692-41A2-8EF3-93E52121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ib deaths in Pennsylvania since 10/08, 5 cases of invasive disease in Minnesota – Associated with vaccine shortage and increased colonization.  Children involved were unvaccinated or undervacc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year high in measles cases las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3C4-8007-4848-85C5-F2CB9ED1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acci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vaccines – Result in Hep B, IPV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4F50-EED7-4B44-879F-EF696197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2/06 – 3 dose series ( 2.4.6 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08 – 2 dose series – 2, 4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efore 15 weeks, Complete by 8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se after 6 weeks, minimum 4 weeks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tudies re: interchang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virus – previous version associated with intussusception.  Present versions have no association, but strict guidelines re: administration.  New guidelines more flexible.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se by 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D0B-7BA8-47F4-BDC8-F6E7180A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Hybrid) MMR 90%, DTaP 71% by end of second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Admin) Hispanic 60%, White 40%, African American 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E76-C1C0-4BF3-BE4F-0AB1D8A2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ssues:  Ignorance, difficulties managing child in clinic, transportation, work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sues: Failure to make return appointment, missed opportunities for well child care, immu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F68-8FE4-4556-BF1E-5837858E7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es – Use corrected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A7A-F6CF-4494-81E6-2B1647749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shot 6mo – 9 years require second dose one month p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951-1622-4DED-99B4-B832327A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CF6-98A3-486D-9303-C316165E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952-AD82-46AB-9F10-F9292DD5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D0E-2AAE-4005-A0C8-4D6CA349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14E2-E912-4B93-9557-C966078D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7B54-C326-4764-9AD6-21DF612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4A8-D405-4F20-9518-DF7EFDD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342-5AF6-4116-B0E5-5CEAF09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2D10-7327-4B81-B1BA-3411C7AF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3C6-B70C-4B89-AE6A-C65CB3D5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84C3-59B8-48C9-A2D4-2908BF2F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9F1-B7B6-4A8F-B3B3-752DD13B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9D3F-6EA2-40E8-98B8-96E8EAB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4FAA-9083-4F1E-9BC4-C557292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824E-F38A-4EEF-9A78-C50002A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413-6602-446D-BC7C-4E0406CA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2BF7-5609-4171-AA44-C63B117F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EFD-7AE4-435C-A3FD-526BCF9B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CCA-BB4C-4DF7-ABC0-C957DD3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F1A-61F2-4C60-AA08-F6FA844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996-0CBB-4601-B8A2-706F7C1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DAF-A48C-4A67-9C5C-6B31760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FD0-AB08-4789-AC45-CA1E3A0F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C69-286D-4069-AC2B-99C1F812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0E2-E56D-4BD4-B99B-32341EBD9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EC2-2127-42B3-9CFD-E9CA54314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vaccinateyourbaby.org/" TargetMode="External"/><Relationship Id="rId3" Type="http://schemas.openxmlformats.org/officeDocument/2006/relationships/hyperlink" Target="http://www.cispimmuniz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diatric Immunization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and Controvers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ne Dooley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ico-toddler-caplain-flower"/>
          <p:cNvPicPr/>
          <p:nvPr/>
        </p:nvPicPr>
        <p:blipFill>
          <a:blip r:embed="rId1"/>
          <a:stretch/>
        </p:blipFill>
        <p:spPr>
          <a:xfrm>
            <a:off x="4876920" y="3581280"/>
            <a:ext cx="3666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en Vaccin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9480" y="1676520"/>
            <a:ext cx="723924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ingitis vaccine (MC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re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aged 9-2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 olds who have completed their DTaP series but have not received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18 year olds if they have completed their DTaP series and either missed their Td at 11-12 or it has been 5 years since they received their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een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rm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 +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o a previou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neurologic disorder/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09880" y="5181480"/>
            <a:ext cx="525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nor illness with or without fever does not contraindicate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AUTION"/>
          <p:cNvPicPr/>
          <p:nvPr/>
        </p:nvPicPr>
        <p:blipFill>
          <a:blip r:embed="rId1"/>
          <a:stretch/>
        </p:blipFill>
        <p:spPr>
          <a:xfrm>
            <a:off x="4743360" y="1600200"/>
            <a:ext cx="34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lth System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V, Rotavirus, MMR-V, MCV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deferral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M00322_%5B1%5D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26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MCj04039850000[1]"/>
          <p:cNvPicPr/>
          <p:nvPr/>
        </p:nvPicPr>
        <p:blipFill>
          <a:blip r:embed="rId2"/>
          <a:stretch/>
        </p:blipFill>
        <p:spPr>
          <a:xfrm>
            <a:off x="3049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ental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, early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elief about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newborn"/>
          <p:cNvPicPr/>
          <p:nvPr/>
        </p:nvPicPr>
        <p:blipFill>
          <a:blip r:embed="rId1"/>
          <a:stretch/>
        </p:blipFill>
        <p:spPr>
          <a:xfrm>
            <a:off x="609480" y="235116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5486400"/>
            <a:ext cx="632448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vaccinateyourbab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cispimmuniz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atrics: The Problem with Dr. Bob’s Alternative Vaccine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of pediatricians report recent parental refusal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us or philosophical g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re: injections, combined vacc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/Benefi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3298"/>
          <p:cNvPicPr/>
          <p:nvPr/>
        </p:nvPicPr>
        <p:blipFill>
          <a:blip r:embed="rId1"/>
          <a:stretch/>
        </p:blipFill>
        <p:spPr>
          <a:xfrm>
            <a:off x="6858000" y="1752480"/>
            <a:ext cx="1905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cute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nt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edical 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Pj0408961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mmunizations</a:t>
            </a:r>
            <a:br>
              <a:rPr sz="3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ffective component of well chil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6 – Edward Jenner develops cowpox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73 – 175,000 Americans died of infectious diseases.  The majority of these were children dying of whooping cough, measles, scarlatina, diphtheri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CAN02493_0000[1]"/>
          <p:cNvPicPr/>
          <p:nvPr/>
        </p:nvPicPr>
        <p:blipFill>
          <a:blip r:embed="rId1"/>
          <a:stretch/>
        </p:blipFill>
        <p:spPr>
          <a:xfrm>
            <a:off x="6056280" y="3962520"/>
            <a:ext cx="2273400" cy="2705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59040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3581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 – Pasteur, Koch and others demonstrated that diphtheria and cholera were infectious diseases transmitted by mic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7 – Last known case of smallpox     occurs in 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munizations 200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Hib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uniz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133720" y="4572000"/>
            <a:ext cx="4562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munization rat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hots up to 2 year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:  CCRMC 85%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9" descr="baby"/>
          <p:cNvPicPr/>
          <p:nvPr/>
        </p:nvPicPr>
        <p:blipFill>
          <a:blip r:embed="rId1"/>
          <a:stretch/>
        </p:blipFill>
        <p:spPr>
          <a:xfrm>
            <a:off x="5715000" y="1676520"/>
            <a:ext cx="24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3119400" y="1778040"/>
          <a:ext cx="290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1778040"/>
                    <a:ext cx="290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6" descr=""/>
          <p:cNvPicPr/>
          <p:nvPr/>
        </p:nvPicPr>
        <p:blipFill>
          <a:blip r:embed="rId3"/>
          <a:srcRect l="0" t="0" r="0" b="19463"/>
          <a:stretch/>
        </p:blipFill>
        <p:spPr>
          <a:xfrm>
            <a:off x="457200" y="1463760"/>
            <a:ext cx="8226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tavirus Vacc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severe diarrhea in infants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14 of children in US seen in ER or admitted by 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, oral 2 or 3 dos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8% protection vs sever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by"/>
          <p:cNvPicPr/>
          <p:nvPr/>
        </p:nvPicPr>
        <p:blipFill>
          <a:blip r:embed="rId1"/>
          <a:stretch/>
        </p:blipFill>
        <p:spPr>
          <a:xfrm>
            <a:off x="901800" y="2050920"/>
            <a:ext cx="3301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7521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ization rates drop in the second year of life, especially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R rates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aP rates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disparity for African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Pre-Toddler"/>
          <p:cNvPicPr/>
          <p:nvPr/>
        </p:nvPicPr>
        <p:blipFill>
          <a:blip r:embed="rId1"/>
          <a:stretch/>
        </p:blipFill>
        <p:spPr>
          <a:xfrm>
            <a:off x="533520" y="2438280"/>
            <a:ext cx="20574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contributing to toddler g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covera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administ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hots – MMR,VZV,HI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V,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4120" y="4343400"/>
            <a:ext cx="30099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oddler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child visits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important!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5" descr="MCj035797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415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ordinating Immunizations with a  well child ex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hil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en 1 week, 1 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ly from 2-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re: well 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visits for developmental screening, anticipator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ministration of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relationship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oddler"/>
          <p:cNvPicPr/>
          <p:nvPr/>
        </p:nvPicPr>
        <p:blipFill>
          <a:blip r:embed="rId1"/>
          <a:stretch/>
        </p:blipFill>
        <p:spPr>
          <a:xfrm>
            <a:off x="7346880" y="2743200"/>
            <a:ext cx="17971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33520" y="5478480"/>
            <a:ext cx="7924680" cy="86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ppoint to the next well child visit with PC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33520" y="1447920"/>
          <a:ext cx="80769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37:05Z</dcterms:created>
  <dc:creator> </dc:creator>
  <dc:description/>
  <dc:language>en-US</dc:language>
  <cp:lastModifiedBy>nsmith</cp:lastModifiedBy>
  <dcterms:modified xsi:type="dcterms:W3CDTF">2009-03-27T18:25:25Z</dcterms:modified>
  <cp:revision>25</cp:revision>
  <dc:subject/>
  <dc:title>Doing Our Best –  CCRMC Well Child Care 0-18 months</dc:title>
</cp:coreProperties>
</file>