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A62F7-16B8-495C-9E94-EDCED5920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11E50-41E1-4365-86E7-383B1B5FA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06947-C7C1-4130-AE37-D20F44C85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21C5A-690D-4DD7-93A9-ECB4F43EC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38A05-070C-4076-96D1-6EC327528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4B1F4-483E-413D-BCF2-A26FDF16B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9ED2D-EC8A-4F52-A491-1DA234DE6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0AD62-A4F0-48E7-85CE-C6CE224AD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7AC27-C8A5-47D2-836C-EF68CC9F9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0A85-380F-4B2D-B685-DFA9AEDF7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3083-E84D-4D75-85EE-20A3D9D26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93A63-C8DD-4EF5-B644-3CC244743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8E37-0D16-4A7F-9D89-C2C01289A0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Lydia Rodriguez</cp:lastModifiedBy>
  <dcterms:modified xsi:type="dcterms:W3CDTF">2009-10-09T15:55:55Z</dcterms:modified>
  <cp:revision>205</cp:revision>
  <dc:subject/>
  <dc:title>Hypertension</dc:title>
</cp:coreProperties>
</file>