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91A08-8835-4992-8089-B4614CCD3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68CEF-D885-44C1-BA7D-6563B0BBF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191B9-F433-4531-B0A3-A02ACDCF7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F30D7-813C-4D34-BECB-A8E1B41FA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0947D-6BC2-4E10-8E04-9D00F3533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0969C-8284-4F82-B31B-A98F39652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1EEC6-5FBA-4FD6-B131-B1E162311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B718B-3137-4C80-B6B3-5F145237C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41F2A-CBEA-45A4-BC2E-B3E43BA58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5BD5B-F329-4DD3-859D-061DE3676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DFA40-5EA0-438A-81EF-CD0B7E236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80838-21B4-4F48-8899-045017956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16947-30CB-415F-BF45-A3631E6EE2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kidney.org/professionals/KDOQI/guidelines_bp/images/table90l.jpg"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Hypertension:</a:t>
            </a:r>
            <a:br>
              <a:rPr sz="7200"/>
            </a:br>
            <a:r>
              <a:rPr b="0" lang="en-US" sz="7200" spc="-1" strike="noStrike">
                <a:solidFill>
                  <a:srgbClr val="000000"/>
                </a:solidFill>
                <a:latin typeface="Calibri"/>
              </a:rPr>
              <a:t>Evidence-based Strategies</a:t>
            </a:r>
            <a:endParaRPr b="0" lang="en-US" sz="72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Vijay Bhandari, MD</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CCRMC Noon Conference</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July 31, 200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pic>
        <p:nvPicPr>
          <p:cNvPr id="61" name="Picture 2" descr=""/>
          <p:cNvPicPr/>
          <p:nvPr/>
        </p:nvPicPr>
        <p:blipFill>
          <a:blip r:embed="rId1"/>
          <a:stretch/>
        </p:blipFill>
        <p:spPr>
          <a:xfrm>
            <a:off x="806400" y="1371600"/>
            <a:ext cx="7270920" cy="4267080"/>
          </a:xfrm>
          <a:prstGeom prst="rect">
            <a:avLst/>
          </a:prstGeom>
          <a:ln w="0">
            <a:noFill/>
          </a:ln>
        </p:spPr>
      </p:pic>
      <p:sp>
        <p:nvSpPr>
          <p:cNvPr id="62" name="TextBox 3"/>
          <p:cNvSpPr/>
          <p:nvPr/>
        </p:nvSpPr>
        <p:spPr>
          <a:xfrm>
            <a:off x="304920" y="563868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nst 2006: Randomized crossover trial (n=30) comparing HCTZ 50 mg vs chlorthlidone 25 mg. Data shown are from 24-hour ambulatory blood pressure monitoring (ABP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PM correlates more closely with CV outcomes than office B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mary advantage HCTZ has over chlorthalidone is its availability in combination pills with several other classes of antihypertensive drugs (eg, HCTZ/lisinopri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using HCTZ instead of chlorthalidone when patient adherence or out-of-pocket expense would benefit from combination pil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azides may outperform other drugs in BP reduction when used in combination therapy</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 Single Drug Therapy Cooperative Study: patients not controlled (DBP &gt;90) on one randomly assigned antihypertensive medication (thiazide diuretic, ACE inhibitor, BB, CCB, alpha-blocker, or a centrally acting alpha agonist) were then randomized to one of the other medications. If DBP was still not controlled, the first medication was added back to test the various 2-drug combinations: the combinations that included a diuretic were consistently more effective than combinations that did not include a diuretic (n=102, Materson 1995)</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 ACCOMPLISH refute thi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68" name="Picture 2" descr="graph"/>
          <p:cNvPicPr/>
          <p:nvPr/>
        </p:nvPicPr>
        <p:blipFill>
          <a:blip r:embed="rId1"/>
          <a:stretch/>
        </p:blipFill>
        <p:spPr>
          <a:xfrm>
            <a:off x="990720" y="1219320"/>
            <a:ext cx="7157880" cy="3733560"/>
          </a:xfrm>
          <a:prstGeom prst="rect">
            <a:avLst/>
          </a:prstGeom>
          <a:ln w="0">
            <a:noFill/>
          </a:ln>
        </p:spPr>
      </p:pic>
      <p:sp>
        <p:nvSpPr>
          <p:cNvPr id="69" name="TextBox 4"/>
          <p:cNvSpPr/>
          <p:nvPr/>
        </p:nvSpPr>
        <p:spPr>
          <a:xfrm>
            <a:off x="685800" y="4952880"/>
            <a:ext cx="7772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hypertensive response to bendrofluazide in relation to daily dose (in mg, multiply by 10 to get approximate equivalent doses of hydrochlorothiazide). The initial dose of 1.25 mg/day lowers the blood pressure in comparison to placebo; however, higher doses produced little further antihypertensive respons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71" name="Picture 2" descr="graph"/>
          <p:cNvPicPr/>
          <p:nvPr/>
        </p:nvPicPr>
        <p:blipFill>
          <a:blip r:embed="rId1"/>
          <a:stretch/>
        </p:blipFill>
        <p:spPr>
          <a:xfrm>
            <a:off x="442800" y="1600200"/>
            <a:ext cx="8320320" cy="3505320"/>
          </a:xfrm>
          <a:prstGeom prst="rect">
            <a:avLst/>
          </a:prstGeom>
          <a:ln w="0">
            <a:noFill/>
          </a:ln>
        </p:spPr>
      </p:pic>
      <p:sp>
        <p:nvSpPr>
          <p:cNvPr id="72" name="TextBox 4"/>
          <p:cNvSpPr/>
          <p:nvPr/>
        </p:nvSpPr>
        <p:spPr>
          <a:xfrm>
            <a:off x="380880" y="5105520"/>
            <a:ext cx="8305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abolic complications induced by bendrofluazide in relation to daily dose (multiply by 10 to get equivalent doses of hydrochlorothiazide). Increasing the dose led to progressive hypokalemia and hyperuricemia and a greater likelihood of a mild elevation in the fasting blood glucose (FBG), all without a further reduction in the systemic blood pressur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 in patients with uncomplicated HTN with normal renal function, consider starting with chlorthalidone (or HCTZ) 12.5 mg.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patients with CKD (but GFR &gt;30), consider starting with 25 mg.  Why?</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ss of the drug will be delivered to its site of ac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aliuresis may be a desired side effect in setting of poor K clearance and concomitant ACE or ARB use.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KD: If GFR&lt;30, thiazide diuretics are ineffective.  Substitute with loop diuretic. 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rosemide bid </a:t>
            </a:r>
            <a:r>
              <a:rPr b="0" lang="en-US" sz="2200" spc="-1" strike="noStrike">
                <a:solidFill>
                  <a:srgbClr val="000000"/>
                </a:solidFill>
                <a:latin typeface="Calibri"/>
              </a:rPr>
              <a:t>(usual dose range 10 bid – 40 bi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orsemide qd </a:t>
            </a:r>
            <a:r>
              <a:rPr b="0" lang="en-US" sz="2200" spc="-1" strike="noStrike">
                <a:solidFill>
                  <a:srgbClr val="000000"/>
                </a:solidFill>
                <a:latin typeface="Calibri"/>
              </a:rPr>
              <a:t>(usual dose range 2.5 qd – 10 qd)</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orsemide is on CCHP formular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y population: 11,506 patients with HTN and high CV ris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domized to receive either benazepril + amlodipine vs. benazepril + HCTZ</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amlodipine dosing was 20/5 qd x  month, then 40/5, followed by 40/10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HCTZ dosing was 20/12.5 qd x 1 month, then 40/12.5, followed by 40/25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outcome measure: composite of death from cardiovascular causes, nonfatal myocardial infarction, nonfatal stroke, hospitalization for angina, resuscitation after sudden cardiac arrest, and coronary revasculariz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end of trial: amlodipine group BP 131.6/73.3 vs. HCTZ group BP 132.5/74.4</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36 months, risk of CV events was lower in the amlodipine group (9.6%) than in the HCTZ group (11.8%), a 20% relative risk reduc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ritics say: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chlorthalidon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ambulatory BP monitoring, which has greater prognostic value than clinic measurement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hors respond:  Substudy of 573 ACCOMPLISH subjects who underwent 24-hours ambulatory BP monitoring showed similar BP control between groups (nonsignificant 1.6 mmHg difference in mean 24-hour systolic pressure favoring HCTZ, unpublished data)</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Lies, damned lies, and statistics</a:t>
            </a:r>
            <a:r>
              <a:rPr b="0" lang="en-US" sz="2400" spc="-1" strike="noStrike">
                <a:solidFill>
                  <a:srgbClr val="000000"/>
                </a:solidFill>
                <a:latin typeface="Calibri"/>
              </a:rPr>
              <a:t>: If primary combined outcome had excluded angina and revasculariation, there would have been no significant difference between grou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MI</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sting HR reduction correlated with magnitude of clinical benefit of BB.  Each 10 bpm reduction in the HR is estimated to reduce the relative risk of cardiac death by 30% (Cucherat 2007).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ation? </a:t>
            </a:r>
            <a:endParaRPr b="0" lang="en-US" sz="15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Since the large majority of the deaths in the randomized trials occurred during the first year after discharge, there is at present no direct evidence as to the net effects on mortality of continuing beta-blockade beyond the first year or two, although it is reasonable to presume that some risk reduction will continue.” (Yusuf 1985) </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Although efficacy of metoprolol tartrate beyond 3 months has not been conclusively established, data from studies with other beta-blockers suggest that treatment should be continued for 1 to 3 years” (Lopressor package insert 2008)</a:t>
            </a:r>
            <a:endParaRPr b="0" lang="en-US" sz="13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propranolol</a:t>
            </a:r>
            <a:r>
              <a:rPr b="0" lang="en-US" sz="1500" spc="-1" strike="noStrike">
                <a:solidFill>
                  <a:srgbClr val="000000"/>
                </a:solidFill>
                <a:latin typeface="Calibri"/>
              </a:rPr>
              <a:t>, </a:t>
            </a:r>
            <a:r>
              <a:rPr b="1" lang="en-US" sz="1500" spc="-1" strike="noStrike">
                <a:solidFill>
                  <a:srgbClr val="000000"/>
                </a:solidFill>
                <a:latin typeface="Calibri"/>
              </a:rPr>
              <a:t>timolol</a:t>
            </a:r>
            <a:r>
              <a:rPr b="0" lang="en-US" sz="1500" spc="-1" strike="noStrike">
                <a:solidFill>
                  <a:srgbClr val="000000"/>
                </a:solidFill>
                <a:latin typeface="Calibri"/>
              </a:rPr>
              <a:t>, and </a:t>
            </a:r>
            <a:r>
              <a:rPr b="1" lang="en-US" sz="1500" spc="-1" strike="noStrike">
                <a:solidFill>
                  <a:srgbClr val="000000"/>
                </a:solidFill>
                <a:latin typeface="Calibri"/>
              </a:rPr>
              <a:t>metoprolol </a:t>
            </a:r>
            <a:r>
              <a:rPr b="0" lang="en-US" sz="1500" spc="-1" strike="noStrike">
                <a:solidFill>
                  <a:srgbClr val="000000"/>
                </a:solidFill>
                <a:latin typeface="Calibri"/>
              </a:rPr>
              <a:t>(Cucherat 2007)</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V systolic dysfunction/CHF</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B benefit was associated with magnitude of HR reduction, not BB dose .  For every HR reduction of 5 bpm, there was an 18% reduction in the risk of death (McAlister 2009).</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carvedilol</a:t>
            </a:r>
            <a:r>
              <a:rPr b="0" lang="en-US" sz="1500" spc="-1" strike="noStrike">
                <a:solidFill>
                  <a:srgbClr val="000000"/>
                </a:solidFill>
                <a:latin typeface="Calibri"/>
              </a:rPr>
              <a:t>, </a:t>
            </a:r>
            <a:r>
              <a:rPr b="1" lang="en-US" sz="1500" spc="-1" strike="noStrike">
                <a:solidFill>
                  <a:srgbClr val="000000"/>
                </a:solidFill>
                <a:latin typeface="Calibri"/>
              </a:rPr>
              <a:t>metoprolol</a:t>
            </a:r>
            <a:r>
              <a:rPr b="0" lang="en-US" sz="1500" spc="-1" strike="noStrike">
                <a:solidFill>
                  <a:srgbClr val="000000"/>
                </a:solidFill>
                <a:latin typeface="Calibri"/>
              </a:rPr>
              <a:t> </a:t>
            </a:r>
            <a:r>
              <a:rPr b="1" lang="en-US" sz="1500" spc="-1" strike="noStrike">
                <a:solidFill>
                  <a:srgbClr val="000000"/>
                </a:solidFill>
                <a:latin typeface="Calibri"/>
              </a:rPr>
              <a:t>succinate</a:t>
            </a:r>
            <a:r>
              <a:rPr b="0" lang="en-US" sz="1500" spc="-1" strike="noStrike">
                <a:solidFill>
                  <a:srgbClr val="000000"/>
                </a:solidFill>
                <a:latin typeface="Calibri"/>
              </a:rPr>
              <a:t>, and </a:t>
            </a:r>
            <a:r>
              <a:rPr b="1" lang="en-US" sz="1500" spc="-1" strike="noStrike">
                <a:solidFill>
                  <a:srgbClr val="000000"/>
                </a:solidFill>
                <a:latin typeface="Calibri"/>
              </a:rPr>
              <a:t>bisoprolol</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i-angi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e-control of SVT (and possible mild antiarrhythmic effect for SV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ression of ventricular arrhythmi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laimer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talk is only about medic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few wrong ways to treat HT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a:t>
            </a:r>
            <a:r>
              <a:rPr b="1" lang="en-US" sz="2200" spc="-1" strike="noStrike">
                <a:solidFill>
                  <a:srgbClr val="000000"/>
                </a:solidFill>
                <a:latin typeface="Calibri"/>
              </a:rPr>
              <a:t>AHA</a:t>
            </a:r>
            <a:r>
              <a:rPr b="0" lang="en-US" sz="2200" spc="-1" strike="noStrike">
                <a:solidFill>
                  <a:srgbClr val="000000"/>
                </a:solidFill>
                <a:latin typeface="Calibri"/>
              </a:rPr>
              <a:t> guidelines and the England’s 2006 National Institute for Health and Clinical Excellence (</a:t>
            </a:r>
            <a:r>
              <a:rPr b="1" lang="en-US" sz="2200" spc="-1" strike="noStrike">
                <a:solidFill>
                  <a:srgbClr val="000000"/>
                </a:solidFill>
                <a:latin typeface="Calibri"/>
              </a:rPr>
              <a:t>NICE</a:t>
            </a:r>
            <a:r>
              <a:rPr b="0" lang="en-US" sz="2200" spc="-1" strike="noStrike">
                <a:solidFill>
                  <a:srgbClr val="000000"/>
                </a:solidFill>
                <a:latin typeface="Calibri"/>
              </a:rPr>
              <a:t>) guidelines no longer endorse BBs as 1</a:t>
            </a:r>
            <a:r>
              <a:rPr b="0" lang="en-US" sz="2200" spc="-1" strike="noStrike" baseline="30000">
                <a:solidFill>
                  <a:srgbClr val="000000"/>
                </a:solidFill>
                <a:latin typeface="Calibri"/>
              </a:rPr>
              <a:t>st</a:t>
            </a:r>
            <a:r>
              <a:rPr b="0" lang="en-US" sz="2200" spc="-1" strike="noStrike">
                <a:solidFill>
                  <a:srgbClr val="000000"/>
                </a:solidFill>
                <a:latin typeface="Calibri"/>
              </a:rPr>
              <a:t>-line treatment for uncomplicated HT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European Society of Hypertension/European Society of Cardiology (</a:t>
            </a:r>
            <a:r>
              <a:rPr b="1" lang="en-US" sz="2200" spc="-1" strike="noStrike">
                <a:solidFill>
                  <a:srgbClr val="000000"/>
                </a:solidFill>
                <a:latin typeface="Calibri"/>
              </a:rPr>
              <a:t>ESH/ESC</a:t>
            </a:r>
            <a:r>
              <a:rPr b="0" lang="en-US" sz="2200" spc="-1" strike="noStrike">
                <a:solidFill>
                  <a:srgbClr val="000000"/>
                </a:solidFill>
                <a:latin typeface="Calibri"/>
              </a:rPr>
              <a:t>) HTN guidelines state: “</a:t>
            </a:r>
            <a:r>
              <a:rPr b="0" i="1" lang="en-US" sz="2200" spc="-1" strike="noStrike">
                <a:solidFill>
                  <a:srgbClr val="000000"/>
                </a:solidFill>
                <a:latin typeface="Calibri"/>
              </a:rPr>
              <a:t>BBs, especially in combination with a thiazide diuretic, should not be used in patients with the metabolic syndrome or at high risk of incident diabete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what’s left for 1</a:t>
            </a:r>
            <a:r>
              <a:rPr b="0" lang="en-US" sz="2200" spc="-1" strike="noStrike" baseline="30000">
                <a:solidFill>
                  <a:srgbClr val="000000"/>
                </a:solidFill>
                <a:latin typeface="Calibri"/>
              </a:rPr>
              <a:t>st</a:t>
            </a:r>
            <a:r>
              <a:rPr b="0" lang="en-US" sz="2200" spc="-1" strike="noStrike">
                <a:solidFill>
                  <a:srgbClr val="000000"/>
                </a:solidFill>
                <a:latin typeface="Calibri"/>
              </a:rPr>
              <a:t>-line therapy (in no particular order):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azide diureti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EI/ARB</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CB</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ll JNC8 follow sui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86" name="Content Placeholder 2" descr=""/>
          <p:cNvPicPr/>
          <p:nvPr/>
        </p:nvPicPr>
        <p:blipFill>
          <a:blip r:embed="rId1"/>
          <a:stretch/>
        </p:blipFill>
        <p:spPr>
          <a:xfrm>
            <a:off x="328680" y="1474920"/>
            <a:ext cx="8553240" cy="465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155520" y="380880"/>
            <a:ext cx="8912160" cy="6043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P reduction: BB performed worse than other 1</a:t>
            </a:r>
            <a:r>
              <a:rPr b="0" lang="en-US" sz="2000" spc="-1" strike="noStrike" baseline="30000">
                <a:solidFill>
                  <a:srgbClr val="000000"/>
                </a:solidFill>
                <a:latin typeface="Calibri"/>
              </a:rPr>
              <a:t>st</a:t>
            </a:r>
            <a:r>
              <a:rPr b="0" lang="en-US" sz="2000" spc="-1" strike="noStrike">
                <a:solidFill>
                  <a:srgbClr val="000000"/>
                </a:solidFill>
                <a:latin typeface="Calibri"/>
              </a:rPr>
              <a:t>-line agents in some studies (STOP-1, LIFE, ASCOT-BP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s effect on central aortic pressure, which may be more important than peripheral press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 on LVH regression: outperformed by ACEI/ARB and CC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reased exercise endurance in healthy patients and those with uncomplicated HT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de effects/compliance: In meta-analyses of RCTs, risk of treatment withdrawal was 80% greater than diuretics and 41% greater than ACEI/ARB (Bradley 200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glycemia/new-onset diabetes (Elliott 2007, Gress 2000)</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fect on lipid profile: ↑ TG , ↓ HDL (Kasiske 199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ight gain:  In trials that do report weight changes, BBs are associated with a weight gain of 1.2 kg (range -0.4 to +3.5 kg) (Pischon 2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kalemia (Traub 198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228600" y="152280"/>
            <a:ext cx="8686800" cy="5600880"/>
          </a:xfrm>
          <a:prstGeom prst="rect">
            <a:avLst/>
          </a:prstGeom>
          <a:ln w="0">
            <a:noFill/>
          </a:ln>
        </p:spPr>
      </p:pic>
      <p:sp>
        <p:nvSpPr>
          <p:cNvPr id="91" name="TextBox 7"/>
          <p:cNvSpPr/>
          <p:nvPr/>
        </p:nvSpPr>
        <p:spPr>
          <a:xfrm>
            <a:off x="380880" y="571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lingbeil, A., M. Schneider, et al. (2003). "A meta-analysis of the effects of treatment on left venticular mass in essential hypertension." Am J Med 115: 41-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533520" y="533520"/>
            <a:ext cx="7983360" cy="5181480"/>
          </a:xfrm>
          <a:prstGeom prst="rect">
            <a:avLst/>
          </a:prstGeom>
          <a:ln w="0">
            <a:noFill/>
          </a:ln>
        </p:spPr>
      </p:pic>
      <p:sp>
        <p:nvSpPr>
          <p:cNvPr id="93" name="TextBox 2"/>
          <p:cNvSpPr/>
          <p:nvPr/>
        </p:nvSpPr>
        <p:spPr>
          <a:xfrm>
            <a:off x="228600" y="594360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ess, T. W., F. J. Nieto, et al. (2000). "Hypertension and antihypertensive therapy as risk factors for type 2 diabetes mellitus." NEJM 342: 905-912.</a:t>
            </a:r>
            <a:endParaRPr b="0" lang="en-US" sz="1800" spc="-1" strike="noStrike">
              <a:solidFill>
                <a:srgbClr val="000000"/>
              </a:solidFill>
              <a:latin typeface="Arial"/>
            </a:endParaRPr>
          </a:p>
        </p:txBody>
      </p:sp>
      <p:sp>
        <p:nvSpPr>
          <p:cNvPr id="94" name="Oval 8"/>
          <p:cNvSpPr/>
          <p:nvPr/>
        </p:nvSpPr>
        <p:spPr>
          <a:xfrm>
            <a:off x="-228600" y="2819520"/>
            <a:ext cx="967752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76320" y="1085760"/>
            <a:ext cx="9286920" cy="4686480"/>
          </a:xfrm>
          <a:prstGeom prst="rect">
            <a:avLst/>
          </a:prstGeom>
          <a:ln w="0">
            <a:noFill/>
          </a:ln>
        </p:spPr>
      </p:pic>
      <p:sp>
        <p:nvSpPr>
          <p:cNvPr id="96" name="Oval 2"/>
          <p:cNvSpPr/>
          <p:nvPr/>
        </p:nvSpPr>
        <p:spPr>
          <a:xfrm>
            <a:off x="-533520" y="3352680"/>
            <a:ext cx="10744200" cy="381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3"/>
          <p:cNvSpPr/>
          <p:nvPr/>
        </p:nvSpPr>
        <p:spPr>
          <a:xfrm>
            <a:off x="152280" y="605952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ub, Y. M., M. Rabinov, et al. (1980). "Elevation of serum potassium during beta blockade: Absence of relationship to the renin-aldosterone system." Clin Pharmacol Ther 28: 765-76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99" name="Picture 2" descr=""/>
          <p:cNvPicPr/>
          <p:nvPr/>
        </p:nvPicPr>
        <p:blipFill>
          <a:blip r:embed="rId1"/>
          <a:stretch/>
        </p:blipFill>
        <p:spPr>
          <a:xfrm>
            <a:off x="609480" y="1411200"/>
            <a:ext cx="7988400" cy="498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
          <p:cNvPicPr/>
          <p:nvPr/>
        </p:nvPicPr>
        <p:blipFill>
          <a:blip r:embed="rId1"/>
          <a:stretch/>
        </p:blipFill>
        <p:spPr>
          <a:xfrm>
            <a:off x="0" y="3049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 blockers: Fall from grace?</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veat</a:t>
            </a:r>
            <a:r>
              <a:rPr b="0" lang="en-US" sz="3200" spc="-1" strike="noStrike">
                <a:solidFill>
                  <a:srgbClr val="000000"/>
                </a:solidFill>
                <a:latin typeface="Calibri"/>
              </a:rPr>
              <a:t>: “All outcomes studies showing no benefit in HTN were conducted with traditional BBs such as atenolol and metoprolol.  Whether the newer vasodilating agents such as nebivolol or carvedilol, which have a more favorable hemodynamic and metabolic profile, will be more efficacious in reducing morbidity and mortality, remains to be determined.” (Bangalore 200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pidemiology</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fects &gt; 25% of adults in the developed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reat?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ear relationship between BP and CV risk</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15/75 to 185/115, every               ↑ SBP 20 mmHg or ↑ DBP 10 mmHg </a:t>
            </a:r>
            <a:r>
              <a:rPr b="1" lang="en-US" sz="3200" spc="-1" strike="noStrike" u="sng">
                <a:solidFill>
                  <a:srgbClr val="000000"/>
                </a:solidFill>
                <a:uFillTx/>
                <a:latin typeface="Calibri"/>
              </a:rPr>
              <a:t>doubles</a:t>
            </a:r>
            <a:r>
              <a:rPr b="0" lang="en-US" sz="3200" spc="-1" strike="noStrike">
                <a:solidFill>
                  <a:srgbClr val="000000"/>
                </a:solidFill>
                <a:latin typeface="Calibri"/>
              </a:rPr>
              <a:t> risk of fatal coronary ev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ger bang for your buc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Why should we care?</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Prognostic</a:t>
            </a:r>
            <a:r>
              <a:rPr b="0" lang="en-US" sz="2700" spc="-1" strike="noStrike">
                <a:solidFill>
                  <a:srgbClr val="000000"/>
                </a:solidFill>
                <a:latin typeface="Calibri"/>
              </a:rPr>
              <a:t>: Higher levels of proteinuria are associated with faster progression of kidney disease and an increased risk of CV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Toxic?</a:t>
            </a:r>
            <a:r>
              <a:rPr b="0" lang="en-US" sz="2700" spc="-1" strike="noStrike">
                <a:solidFill>
                  <a:srgbClr val="000000"/>
                </a:solidFill>
                <a:latin typeface="Calibri"/>
              </a:rPr>
              <a:t>: The more that protein excretion could be reduced, the better the renal outcomes, down to a level of about 500 mg/day (DeZeeuw 2004)</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ther proteinuria is a viable surrogate end point is debatable, but many experts recommend a </a:t>
            </a:r>
            <a:r>
              <a:rPr b="1" lang="en-US" sz="2700" spc="-1" strike="noStrike" u="sng">
                <a:solidFill>
                  <a:srgbClr val="000000"/>
                </a:solidFill>
                <a:uFillTx/>
                <a:latin typeface="Calibri"/>
              </a:rPr>
              <a:t>dual-goal</a:t>
            </a:r>
            <a:r>
              <a:rPr b="0" lang="en-US" sz="2700" spc="-1" strike="noStrike" u="sng">
                <a:solidFill>
                  <a:srgbClr val="000000"/>
                </a:solidFill>
                <a:uFillTx/>
                <a:latin typeface="Calibri"/>
              </a:rPr>
              <a:t> </a:t>
            </a:r>
            <a:r>
              <a:rPr b="1" lang="en-US" sz="2700" spc="-1" strike="noStrike" u="sng">
                <a:solidFill>
                  <a:srgbClr val="000000"/>
                </a:solidFill>
                <a:uFillTx/>
                <a:latin typeface="Calibri"/>
              </a:rPr>
              <a:t>approach</a:t>
            </a:r>
            <a:r>
              <a:rPr b="0" lang="en-US" sz="2700" spc="-1" strike="noStrike">
                <a:solidFill>
                  <a:srgbClr val="000000"/>
                </a:solidFill>
                <a:latin typeface="Calibri"/>
              </a:rPr>
              <a:t> to patients with proteinuric CKD: BP goal and urinary protein goal &lt; 300-500 mg/day (Hirsch 2008 CCJM, DeZeeuw 2004, Schieppati 2003).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4"/>
          <p:cNvSpPr/>
          <p:nvPr/>
        </p:nvSpPr>
        <p:spPr>
          <a:xfrm>
            <a:off x="533520" y="5943600"/>
            <a:ext cx="807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far, T., P. Stark, et al. (2003). "Progression of chronic kidney disease: the role of blood pressure control, proteinuria, and angiotensin-converting enzyme inhibition: a patient-level meta-analysis." Ann Intern Med 139: 244-252.</a:t>
            </a:r>
            <a:endParaRPr b="0" lang="en-US" sz="1800" spc="-1" strike="noStrike">
              <a:solidFill>
                <a:srgbClr val="000000"/>
              </a:solidFill>
              <a:latin typeface="Arial"/>
            </a:endParaRPr>
          </a:p>
        </p:txBody>
      </p:sp>
      <p:pic>
        <p:nvPicPr>
          <p:cNvPr id="106" name="Picture 3" descr=""/>
          <p:cNvPicPr/>
          <p:nvPr/>
        </p:nvPicPr>
        <p:blipFill>
          <a:blip r:embed="rId1"/>
          <a:stretch/>
        </p:blipFill>
        <p:spPr>
          <a:xfrm>
            <a:off x="1181160" y="228600"/>
            <a:ext cx="6514920" cy="564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271440" y="1600200"/>
            <a:ext cx="8513640" cy="415764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Definitions</a:t>
            </a:r>
            <a:endParaRPr b="0" lang="en-US" sz="4400" spc="-1" strike="noStrike">
              <a:solidFill>
                <a:srgbClr val="000000"/>
              </a:solidFill>
              <a:latin typeface="Calibri"/>
            </a:endParaRPr>
          </a:p>
        </p:txBody>
      </p:sp>
      <p:sp>
        <p:nvSpPr>
          <p:cNvPr id="109" name="TextBox 5"/>
          <p:cNvSpPr/>
          <p:nvPr/>
        </p:nvSpPr>
        <p:spPr>
          <a:xfrm>
            <a:off x="304920" y="594360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K/DOQI clinical practice guidelines on hypertension and antihypertens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nts in chronic kidney disease. Am J Kidney Dis 2004;43(Suppl 1):S1–S29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amp; RAS blockad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EI-ARB combination therapy reduces proteinuria more than either alone (Kunz 2008, Nakao 2003, Mogensen 200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Ultra-high” doses of ACEI and ARB produce further reduction in proteinuria without further reduction in BP (Navis 2002, Rossing 2005, Schmeider 2005, Aranda 2005)</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ther these strategies ultimately preserve renal function is not prov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ta-analysis (28 RCTs): non-DHP CCB (verapamil &amp; diltiazem), but not DHP CCB, were associated with a 30% reduction in proteinuria with same magnitude of BP reduction (Bakris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studies with 5-6 years of follow-up, non-DHP CCB preserve kidney function similarly to ACEI (caveat: small, single-center RCTs) (Gashti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addition of non-DHP CCB to an ACEI can lead to further reduction in proteinuria (Bakris 1992 RCT n=30, Bakris 1998 RCT n=37, both used verapamil S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KF: </a:t>
            </a:r>
            <a:r>
              <a:rPr b="1" i="1" lang="en-US" sz="2500" spc="-1" strike="noStrike">
                <a:solidFill>
                  <a:srgbClr val="000000"/>
                </a:solidFill>
                <a:latin typeface="Calibri"/>
              </a:rPr>
              <a:t>“It would be reasonable to use a combination of a non-DHP CCB and an ACEI or ARB to reduce proteinuria in hypertensive patients.”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1089000" y="380880"/>
            <a:ext cx="6607080" cy="5059440"/>
          </a:xfrm>
          <a:prstGeom prst="rect">
            <a:avLst/>
          </a:prstGeom>
          <a:ln w="0">
            <a:noFill/>
          </a:ln>
        </p:spPr>
      </p:pic>
      <p:sp>
        <p:nvSpPr>
          <p:cNvPr id="115" name="TextBox 4"/>
          <p:cNvSpPr/>
          <p:nvPr/>
        </p:nvSpPr>
        <p:spPr>
          <a:xfrm>
            <a:off x="457200" y="571500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kris, G., M. Weir, et al. (2004). "Differential effects of calcium antagonist subclasses on markers of nephropathy progression." Kidney Int 65: 1991-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us, consider using non-DHP CCB over DHP CCB in patients with macroalbuminuri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mbination of DHP CCB and non-DHP CCB has additive BP-reducing capabiliti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seen 1996 RCT: SBP reduction of 6 and DBP reduction of 8 as compared with nifedipine alone (caveat: n=16).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aesemeyer 1994:  Baseline: 54% of pts had BP &gt;160/90 on 2+ agents.  Combination verapamil + nifedipine → 6% of pts &gt;160/90. (caveat: not randomized, n=5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19" name="Picture 2" descr=""/>
          <p:cNvPicPr/>
          <p:nvPr/>
        </p:nvPicPr>
        <p:blipFill>
          <a:blip r:embed="rId1"/>
          <a:stretch/>
        </p:blipFill>
        <p:spPr>
          <a:xfrm>
            <a:off x="228600" y="1828800"/>
            <a:ext cx="9172440" cy="4495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1" name="Picture 2" descr=""/>
          <p:cNvPicPr/>
          <p:nvPr/>
        </p:nvPicPr>
        <p:blipFill>
          <a:blip r:embed="rId1"/>
          <a:stretch/>
        </p:blipFill>
        <p:spPr>
          <a:xfrm>
            <a:off x="152280" y="1523880"/>
            <a:ext cx="8896320" cy="4157640"/>
          </a:xfrm>
          <a:prstGeom prst="rect">
            <a:avLst/>
          </a:prstGeom>
          <a:ln w="0">
            <a:noFill/>
          </a:ln>
        </p:spPr>
      </p:pic>
      <p:sp>
        <p:nvSpPr>
          <p:cNvPr id="122" name="TextBox 3"/>
          <p:cNvSpPr/>
          <p:nvPr/>
        </p:nvSpPr>
        <p:spPr>
          <a:xfrm>
            <a:off x="152280" y="60958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4" name="Picture 2" descr=""/>
          <p:cNvPicPr/>
          <p:nvPr/>
        </p:nvPicPr>
        <p:blipFill>
          <a:blip r:embed="rId1"/>
          <a:stretch/>
        </p:blipFill>
        <p:spPr>
          <a:xfrm>
            <a:off x="1219320" y="1273320"/>
            <a:ext cx="6324480" cy="4670280"/>
          </a:xfrm>
          <a:prstGeom prst="rect">
            <a:avLst/>
          </a:prstGeom>
          <a:ln w="0">
            <a:noFill/>
          </a:ln>
        </p:spPr>
      </p:pic>
      <p:sp>
        <p:nvSpPr>
          <p:cNvPr id="125" name="TextBox 3"/>
          <p:cNvSpPr/>
          <p:nvPr/>
        </p:nvSpPr>
        <p:spPr>
          <a:xfrm>
            <a:off x="380880" y="601992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144360" y="1295280"/>
            <a:ext cx="8847360" cy="52578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Tight BP control vs. Tight glycemic control</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imary aldosteronism in 20% of patients with difficult-to-control HTN (Calhoun 2006)</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likely </a:t>
            </a:r>
            <a:r>
              <a:rPr b="0" lang="en-US" sz="2700" spc="-1" strike="noStrike" u="sng">
                <a:solidFill>
                  <a:srgbClr val="000000"/>
                </a:solidFill>
                <a:uFillTx/>
                <a:latin typeface="Calibri"/>
              </a:rPr>
              <a:t>underestimates</a:t>
            </a:r>
            <a:r>
              <a:rPr b="0" lang="en-US" sz="2700" spc="-1" strike="noStrike">
                <a:solidFill>
                  <a:srgbClr val="000000"/>
                </a:solidFill>
                <a:latin typeface="Calibri"/>
              </a:rPr>
              <a:t> the role of aldosterone excess in treatment resistan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ultiple studies show dramatic BP reduction with the addition of low-dose (25-50 mg) </a:t>
            </a:r>
            <a:r>
              <a:rPr b="1" lang="en-US" sz="2700" spc="-1" strike="noStrike">
                <a:solidFill>
                  <a:srgbClr val="000000"/>
                </a:solidFill>
                <a:latin typeface="Calibri"/>
              </a:rPr>
              <a:t>spironolactone</a:t>
            </a:r>
            <a:r>
              <a:rPr b="0" lang="en-US" sz="2700" spc="-1" strike="noStrike">
                <a:solidFill>
                  <a:srgbClr val="000000"/>
                </a:solidFill>
                <a:latin typeface="Calibri"/>
              </a:rPr>
              <a:t> in treatment-resistant patients already taking 3+ drug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shizaka 2003 (n=76): ↓BP by 25/12</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hmud 2005 (n=69): ↓ BP by 28/13</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pman 2007 (n=1,411): ↓ BP by 22/10 </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SCOT-BPLA tri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pironolactone</a:t>
            </a:r>
            <a:r>
              <a:rPr b="0" lang="en-US" sz="3200" spc="-1" strike="noStrike">
                <a:solidFill>
                  <a:srgbClr val="000000"/>
                </a:solidFill>
                <a:latin typeface="Calibri"/>
              </a:rPr>
              <a:t> also binds to progesterone and androgen receptors, so gynecomastia/breast pain, and sexual side effects are not uncomm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ynecomastia or breast pain: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 in RALES trial</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in ASCOT-BPLA trial</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erkalemia  (ASCOT –BPLA trial):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had serum K &gt;5.5</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had serum K &gt;6.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plerenone</a:t>
            </a:r>
            <a:r>
              <a:rPr b="0" lang="en-US" sz="3200" spc="-1" strike="noStrike">
                <a:solidFill>
                  <a:srgbClr val="000000"/>
                </a:solidFill>
                <a:latin typeface="Calibri"/>
              </a:rPr>
              <a:t> is more specific for the aldosterone receptor than spironolacto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n-formulary</a:t>
            </a:r>
            <a:r>
              <a:rPr b="0" lang="en-US" sz="2800" spc="-1" strike="noStrike">
                <a:solidFill>
                  <a:srgbClr val="000000"/>
                </a:solidFill>
                <a:latin typeface="Calibri"/>
              </a:rPr>
              <a:t> on CCHP</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miloride</a:t>
            </a:r>
            <a:r>
              <a:rPr b="0" lang="en-US" sz="3200" spc="-1" strike="noStrike">
                <a:solidFill>
                  <a:srgbClr val="000000"/>
                </a:solidFill>
                <a:latin typeface="Calibri"/>
              </a:rPr>
              <a:t> , an </a:t>
            </a:r>
            <a:r>
              <a:rPr b="0" i="1" lang="en-US" sz="3200" spc="-1" strike="noStrike">
                <a:solidFill>
                  <a:srgbClr val="000000"/>
                </a:solidFill>
                <a:latin typeface="Calibri"/>
              </a:rPr>
              <a:t>indirect</a:t>
            </a:r>
            <a:r>
              <a:rPr b="0" lang="en-US" sz="3200" spc="-1" strike="noStrike">
                <a:solidFill>
                  <a:srgbClr val="000000"/>
                </a:solidFill>
                <a:latin typeface="Calibri"/>
              </a:rPr>
              <a:t> aldosterone antagonist (blocks the epithelial sodium channel, which is upregulated by aldosterone), showed similar BP reductions (Calhou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CCHP </a:t>
            </a:r>
            <a:r>
              <a:rPr b="1" lang="en-US" sz="2800" spc="-1" strike="noStrike">
                <a:solidFill>
                  <a:srgbClr val="000000"/>
                </a:solidFill>
                <a:latin typeface="Calibri"/>
              </a:rPr>
              <a:t>formulary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least 8 clinical trials have confirmed an incremental renal benefit (</a:t>
            </a:r>
            <a:r>
              <a:rPr b="1" lang="en-US" sz="3200" spc="-1" strike="noStrike">
                <a:solidFill>
                  <a:srgbClr val="000000"/>
                </a:solidFill>
                <a:latin typeface="Calibri"/>
              </a:rPr>
              <a:t>↓ proteinuria</a:t>
            </a:r>
            <a:r>
              <a:rPr b="0" lang="en-US" sz="3200" spc="-1" strike="noStrike">
                <a:solidFill>
                  <a:srgbClr val="000000"/>
                </a:solidFill>
                <a:latin typeface="Calibri"/>
              </a:rPr>
              <a:t>) when aldosterone receptor blockade is added to a regimen of ACEI or ARB (Epstei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 of the trials used </a:t>
            </a:r>
            <a:r>
              <a:rPr b="1" lang="en-US" sz="2800" spc="-1" strike="noStrike">
                <a:solidFill>
                  <a:srgbClr val="000000"/>
                </a:solidFill>
                <a:latin typeface="Calibri"/>
              </a:rPr>
              <a:t>spironolacto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of the trials used </a:t>
            </a:r>
            <a:r>
              <a:rPr b="1" lang="en-US" sz="2800" spc="-1" strike="noStrike">
                <a:solidFill>
                  <a:srgbClr val="000000"/>
                </a:solidFill>
                <a:latin typeface="Calibri"/>
              </a:rPr>
              <a:t>eplereno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AS blockers</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ation of using more than one agent that blocks the renin-angiotensin-aldosterone system (RAAS) (eg, ACEI and aldosterone antagonist) or using high doses of these agents requires that you are able to regularly follow the patient’s serum potassium, renal function, and volume statu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that frequently miss appointments or lab draws are not good candid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Hydralazine</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se: 25 bid -&gt; 50 bid -&gt; 100 bi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erse effec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aches, flushing, and tachycardia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e to reflex sympathetic activation</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be blunted by concomitant beta-blocker use</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ug-induced lupus: sex (F&gt;&gt;M) &amp; dose-dependent (Cameron 1984, n=281)</a:t>
            </a:r>
            <a:endParaRPr b="0" lang="en-US" sz="28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 mg/day: </a:t>
            </a:r>
            <a:r>
              <a:rPr b="0" lang="en-US" sz="2000" spc="-1" strike="noStrike">
                <a:solidFill>
                  <a:srgbClr val="000000"/>
                </a:solidFill>
                <a:latin typeface="Calibri"/>
              </a:rPr>
              <a:t>	</a:t>
            </a:r>
            <a:r>
              <a:rPr b="0" lang="en-US" sz="2000" spc="-1" strike="noStrike">
                <a:solidFill>
                  <a:srgbClr val="000000"/>
                </a:solidFill>
                <a:latin typeface="Calibri"/>
              </a:rPr>
              <a:t>0%</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 mg/day: </a:t>
            </a:r>
            <a:r>
              <a:rPr b="0" lang="en-US" sz="2000" spc="-1" strike="noStrike">
                <a:solidFill>
                  <a:srgbClr val="000000"/>
                </a:solidFill>
                <a:latin typeface="Calibri"/>
              </a:rPr>
              <a:t>	</a:t>
            </a:r>
            <a:r>
              <a:rPr b="0" lang="en-US" sz="2000" spc="-1" strike="noStrike">
                <a:solidFill>
                  <a:srgbClr val="000000"/>
                </a:solidFill>
                <a:latin typeface="Calibri"/>
              </a:rPr>
              <a:t>5.4% (0% in men)</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0 mg/day: </a:t>
            </a:r>
            <a:r>
              <a:rPr b="0" lang="en-US" sz="2000" spc="-1" strike="noStrike">
                <a:solidFill>
                  <a:srgbClr val="000000"/>
                </a:solidFill>
                <a:latin typeface="Calibri"/>
              </a:rPr>
              <a:t>	</a:t>
            </a:r>
            <a:r>
              <a:rPr b="0" lang="en-US" sz="2000" spc="-1" strike="noStrike">
                <a:solidFill>
                  <a:srgbClr val="000000"/>
                </a:solidFill>
                <a:latin typeface="Calibri"/>
              </a:rPr>
              <a:t>10.4%  (19.4% in women vs. 4.9% in m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Clonidine</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se:</a:t>
            </a:r>
            <a:r>
              <a:rPr b="1" lang="en-U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oral</a:t>
            </a:r>
            <a:r>
              <a:rPr b="0" lang="en-US" sz="2600" spc="-1" strike="noStrike">
                <a:solidFill>
                  <a:srgbClr val="000000"/>
                </a:solidFill>
                <a:latin typeface="Calibri"/>
              </a:rPr>
              <a:t> 0.1 bid -&gt; 0.2 bid -&gt; 0.3 bid -&gt; 0.4 bi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ekly</a:t>
            </a:r>
            <a:r>
              <a:rPr b="1" lang="en-US" sz="2600" spc="-1" strike="noStrike">
                <a:solidFill>
                  <a:srgbClr val="000000"/>
                </a:solidFill>
                <a:latin typeface="Calibri"/>
              </a:rPr>
              <a:t> transdermal patch</a:t>
            </a:r>
            <a:r>
              <a:rPr b="0" lang="en-US" sz="2600" spc="-1" strike="noStrike">
                <a:solidFill>
                  <a:srgbClr val="000000"/>
                </a:solidFill>
                <a:latin typeface="Calibri"/>
              </a:rPr>
              <a:t> 0.1 -&gt; 0.2 -&gt; 0.3 -&gt; 0.4</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verse effect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common: sedation &amp; dry mouth</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bound HTN in setting of abrupt discontinu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e common/severe with higher dos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be exaggerated if concomitant BB use (unopposed alpha) (Lilja 1982)</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1020600" y="485640"/>
            <a:ext cx="6751800" cy="6220080"/>
          </a:xfrm>
          <a:prstGeom prst="rect">
            <a:avLst/>
          </a:prstGeom>
          <a:ln w="0">
            <a:noFill/>
          </a:ln>
        </p:spPr>
      </p:pic>
      <p:sp>
        <p:nvSpPr>
          <p:cNvPr id="141" name="Oval 4"/>
          <p:cNvSpPr/>
          <p:nvPr/>
        </p:nvSpPr>
        <p:spPr>
          <a:xfrm>
            <a:off x="1143000" y="4343400"/>
            <a:ext cx="251460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5"/>
          <p:cNvSpPr/>
          <p:nvPr/>
        </p:nvSpPr>
        <p:spPr>
          <a:xfrm>
            <a:off x="380880" y="0"/>
            <a:ext cx="518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om JNC7 full report:</a:t>
            </a:r>
            <a:endParaRPr b="0" lang="en-US" sz="2400" spc="-1" strike="noStrike">
              <a:solidFill>
                <a:srgbClr val="000000"/>
              </a:solidFill>
              <a:latin typeface="Arial"/>
            </a:endParaRPr>
          </a:p>
        </p:txBody>
      </p:sp>
      <p:sp>
        <p:nvSpPr>
          <p:cNvPr id="143" name="TextBox 6"/>
          <p:cNvSpPr/>
          <p:nvPr/>
        </p:nvSpPr>
        <p:spPr>
          <a:xfrm>
            <a:off x="3657600" y="41148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x out or move on?</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ot necessary to “max out” one drug in the algorithm before moving on to the next.  In fact, adding a second agent is more effective at reducing BP than doubling the dose of the first agent and likely reduces the risk of side effects. (Wald 2009, Law 2009)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x out” approach may be preferable for patients with whom adherence and/or cost with multiple pills are concer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cy of BP checks</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 NKF: “not studied, but appears reasonable”</a:t>
            </a:r>
            <a:endParaRPr b="0" lang="en-US" sz="3200" spc="-1" strike="noStrike">
              <a:solidFill>
                <a:srgbClr val="000000"/>
              </a:solidFill>
              <a:latin typeface="Calibri"/>
            </a:endParaRPr>
          </a:p>
        </p:txBody>
      </p:sp>
      <p:pic>
        <p:nvPicPr>
          <p:cNvPr id="148" name="Picture 2" descr="http://www.kidney.org/professionals/KDOQI/guidelines_bp/images/table90.jpg">
            <a:hlinkClick r:id="rId1"/>
          </p:cNvPr>
          <p:cNvPicPr/>
          <p:nvPr/>
        </p:nvPicPr>
        <p:blipFill>
          <a:blip r:embed="rId2"/>
          <a:stretch/>
        </p:blipFill>
        <p:spPr>
          <a:xfrm>
            <a:off x="152280" y="2971800"/>
            <a:ext cx="8640720" cy="220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P Goals? Depends on who you ask</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NC7 (2003)</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or DM: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ryone else: &lt;140/90</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HA (2007)</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DM, CAD, or CAD risk equivalent, or Framingham 10-year CV risk &gt;10%: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V systolic dysfunction/CHF: consider ≤120/80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KF (2000)</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e as JNC 7 but if CKD with &gt;1 g/d proteinuria: consider &lt;125/75</a:t>
            </a:r>
            <a:endParaRPr b="0" lang="en-US" sz="2600" spc="-1" strike="noStrike">
              <a:solidFill>
                <a:srgbClr val="000000"/>
              </a:solidFill>
              <a:latin typeface="Calibri"/>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e we reached our BP goal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trol rat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HANE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3% at goal &lt;140/90</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KD: 37% at goal</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M: 25% at goal</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amingham:  48% at goal &lt;140/9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urope: 19-40% of treated pts are at goal</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istant HTN: failure to reach BP goal when a patient adheres to maximum tolerated doses of 3 antihypertensive drugs including a diuretic</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alenc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in gen med clinics vs. &gt;50% in nephrology clinic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35% in large BP tria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alibri"/>
            </a:endParaRPr>
          </a:p>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alibri"/>
              </a:rPr>
              <a:t>What drugs should we use?</a:t>
            </a:r>
            <a:endParaRPr b="0" lang="en-US" sz="5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lorthalidone</a:t>
            </a:r>
            <a:r>
              <a:rPr b="0" lang="en-US" sz="3200" spc="-1" strike="noStrike">
                <a:solidFill>
                  <a:srgbClr val="000000"/>
                </a:solidFill>
                <a:latin typeface="Calibri"/>
              </a:rPr>
              <a:t> is the preferred thiazide diuretic becau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was the agent used in the largest hypertension clinical trials with patient-oriented outcomes (eg, ALLH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is 1.5 to 2 times as potent as HCTZ at the same dose (Ernst 2006)</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has a longer half-life (45-60 hrs vs. 8-15 hrs for HCTZ)  (Khosla 200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347760" y="1066680"/>
            <a:ext cx="8448480" cy="5238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9" name="TextBox 5"/>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hosla 2005: 17 of 19 patients were taking 25 mg HCTZ -&gt; chlorthalidone, other two 12.5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luding the 2 patients with greatest benefit reduced mean difference from 7 to 4 mmHg SB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6:55:13Z</dcterms:created>
  <dc:creator>Anil</dc:creator>
  <dc:description/>
  <dc:language>en-US</dc:language>
  <cp:lastModifiedBy>Lydia Rodriguez</cp:lastModifiedBy>
  <dcterms:modified xsi:type="dcterms:W3CDTF">2009-10-09T15:55:55Z</dcterms:modified>
  <cp:revision>205</cp:revision>
  <dc:subject/>
  <dc:title>Hypertension</dc:title>
</cp:coreProperties>
</file>