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5CF88-A765-43FC-BA2E-22817F373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60BC-62C9-42B4-98C4-76E4BB3E9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BC03E-B669-4F48-BA80-873059366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5D7C3-7301-43DB-98E6-426291E4B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86C7-AE21-45DF-87BB-ADFCF1007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BA317-AE26-4AAB-A546-85236E8D1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B87B-A666-49CD-A284-A2990C7E7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5987-1009-4849-9B79-4044FB589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3BE8-DECD-4383-87D4-CBD4576AD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CA9C-9FD0-4A82-84C9-3D2F147E8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6370-B70E-4505-8FAA-61ECA6A66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AFF4-CD48-4329-9E75-AE9F362BB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6CC1-EDD9-43E9-9429-CE5A88204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10-09T18:54:28Z</dcterms:modified>
  <cp:revision>205</cp:revision>
  <dc:subject/>
  <dc:title>Hypertension</dc:title>
</cp:coreProperties>
</file>