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1AF8-D0A9-435E-BB03-0C4FDF45D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82535-FABB-440C-A108-04B17E222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D07B4-1BCB-436C-AFF6-1CBCD9D11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F3045-ACE3-4E85-B144-0277F101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F3A1D-6DAF-4A1C-AFC8-CF8BC7164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C538C-9934-453D-8954-98A37032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7B877-7BE8-409F-9085-E1F0015EF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05D18-F6DB-4504-B740-60534ECA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9D11-F387-4FF5-B9F2-6900732F8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9DBE1-7E9F-4CBC-8391-542A95834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A8A3-F8F9-4263-BF0E-5F6AB6F1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1F18-A9A4-4731-9E9E-AB6FABCDE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1EA9-8B27-4382-B257-F6591E24C8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10-09T18:54:28Z</dcterms:modified>
  <cp:revision>205</cp:revision>
  <dc:subject/>
  <dc:title>Hypertension</dc:title>
</cp:coreProperties>
</file>