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EA12E-575B-46E7-9397-8A6DA6D5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19C8A-F0D5-4C7C-8137-ED69F19C0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836D2-4B6E-4406-A38E-7E8F34DC9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A79BA-FAAF-4949-AF8E-3AD7ABA90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C1D4-25CC-41C6-8683-1D7646BD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ACB90-7648-498B-AC71-19CBE61C8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5312-0E5F-4AE2-B9FC-49A310266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7106-E7B8-474E-AE56-5474ED50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EF9A1-A104-454D-9720-8894B69F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98BA-850E-446D-ABF2-6B6E03B2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3888-3844-4CCB-9883-B7E49822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2782C-887F-4B6C-AB1C-88C2D81CA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D211-E589-4D16-A610-A2126274B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07-31T19:01:15Z</dcterms:modified>
  <cp:revision>205</cp:revision>
  <dc:subject/>
  <dc:title>Hypertension</dc:title>
</cp:coreProperties>
</file>