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1D5ED-B339-4D17-A985-9EF00B34C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A884-5F65-4C88-8D46-2CC3C65D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395EA-1060-46D4-BA4B-B58688010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B274D-BC6C-4564-9A7A-38267040B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48A21-F068-403B-B193-3B421CEA4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93B01-C1CE-43BD-82F6-187C1017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352A-3DDB-4C2A-99E6-E75D10E44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65576-B242-4801-959E-2E69AD35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ECEF-15E5-432F-A36F-36D9298F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CAE29-7F44-4F31-971E-CC17093AF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3BDF-E730-461C-93CD-A79BF687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22DE-2C1D-4EC9-8CE2-ED979ADE6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00D3-D440-41C4-9ACE-9370983D5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07-31T19:01:15Z</dcterms:modified>
  <cp:revision>205</cp:revision>
  <dc:subject/>
  <dc:title>Hypertension</dc:title>
</cp:coreProperties>
</file>