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wmf" ContentType="image/x-wmf"/>
  <Override PartName="/ppt/media/image5.jpeg" ContentType="image/jpeg"/>
  <Override PartName="/ppt/media/image13.jpeg" ContentType="image/jpeg"/>
  <Override PartName="/ppt/media/image8.jpeg" ContentType="image/jpeg"/>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A2E84-62C4-4B60-9535-2DC6AD152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1C50-6A74-4CCD-A1D6-84335BF8E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9EFD0-1A1A-4A66-B633-84A66D3A0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4C558-1E14-40F2-BAD2-8C40E96A9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2DD718-26A2-4F0A-B890-8A85EC9F9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92636-C48E-4D45-BCA6-BF50BE495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2281C-9F2D-4B30-B525-D0A951877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CE80B-05A3-4B99-9CF6-4598C77DA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1B555-051D-48EB-9678-A7D15A10E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89DCF-D4EC-42D2-97FF-1B6117B46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6624-FD18-4CB6-A09F-B679CDEE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C069-64E7-42F9-883C-60E08A72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D2B58-AF00-4D15-ADB2-FAAF3BB1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34892-6B87-4ADC-9D3F-DF2A56A04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5F732-7744-4644-952A-3588ADE68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9CB50-08AA-402F-8BE4-40094B7A1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CFCE5-C0EC-4E66-8EF7-F4387AF2C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08A73D-C257-478A-9229-650F0D4B5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3BCFA-4393-4426-88E5-194411B21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E9C58-50E9-453C-93B7-BB22D1BDA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382E8-6ECE-4B8B-A348-73414052F8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4FFB9-1329-4DD9-B91C-3EB76EC5C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DEE2-2CED-4329-92B6-F159035F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2BFE6-0FBA-404A-9E71-7093D7630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6CFA7-FDF8-4044-8CA9-DE0206D59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5082D-39F6-4103-9478-422AEA734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23D790-9E0F-427E-8291-E988FB114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84AED-C516-4B3B-BD63-66008C6AB6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350EE-A670-4912-8282-B105E3C53B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E5D55-E7FB-47A4-93AC-2F30A0F8D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E9170-F4F3-44A0-92E2-BECEBDC55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AFEC-3072-431E-9779-7A723E06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080B-329E-411E-B0FC-D6A7BDB4B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447A2-A714-4C9F-AFBC-0F7E26A82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B0B1-600E-4D4A-AC24-AC421C14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C856-0052-496F-A26E-B2715CA27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6F44-0FEB-4903-B60A-E0D50601D5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Click to edit the title text format</a:t>
            </a:r>
            <a:endParaRPr b="0" lang="en-US" sz="4800" spc="-1" strike="noStrike">
              <a:solidFill>
                <a:srgbClr val="ff9933"/>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F84C-C4DF-4244-8396-A6AD17B15D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BA7F-9051-49CC-8C63-59761D16A0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ashingtonindependent.com/wp-content/uploads/2008/10/fdr1.jpg&amp;imgrefurl=http://washingtonindependent.com/15955/republicans-are-wrong-about-united-government&amp;usg=__clIa4c8nFNARsfX8Pf26QC3qU_I=&amp;h=2928&amp;w=2488&amp;sz=1737&amp;hl=en&amp;start=32&amp;sig2=MKWUfqEw74ONHnSdD6hiZw&amp;um=1&amp;tbnid=ZMoh1nBFU8NnmM:&amp;tbnh=150&amp;tbnw=127&amp;prev=/images%3Fq%3Dfdr%2Bpictures%26ndsp%3D20%26hl%3Den%26sa%3DN%26start%3D20%26um%3D1&amp;ei=aetAS4foG6bktAO0tt2JBA" TargetMode="External"/><Relationship Id="rId3" Type="http://schemas.openxmlformats.org/officeDocument/2006/relationships/image" Target="../media/image11.jpeg"/><Relationship Id="rId4" Type="http://schemas.openxmlformats.org/officeDocument/2006/relationships/hyperlink" Target="http://images.google.com/imgres?imgurl=http://www.thewe.cc/thewei/%26/images3/2004_war_photos_3/lyndon_b_johnson.jpe&amp;imgrefurl=http://www.thewe.cc/weplanet/news/armed_force/us_soldiers_committing_suicide_vietnam_iraq.html&amp;usg=__6CwE0TJmM4Bx-YD2J0iD1_1jmI8=&amp;h=410&amp;w=296&amp;sz=16&amp;hl=en&amp;start=7&amp;sig2=8sRzmvW00Yi8KMYG8cxkng&amp;um=1&amp;tbnid=40-6ZwBYn83HvM:&amp;tbnh=125&amp;tbnw=90&amp;prev=/images%3Fq%3Dlyndon%2Bb%2Bjohnson%26hl%3Den%26um%3D1&amp;ei=hutAS536LJvotQO7zbXUAw" TargetMode="External"/><Relationship Id="rId5" Type="http://schemas.openxmlformats.org/officeDocument/2006/relationships/image" Target="../media/image12.jpeg"/><Relationship Id="rId6" Type="http://schemas.openxmlformats.org/officeDocument/2006/relationships/hyperlink" Target="http://images.google.com/imgres?imgurl=http://gryphonscry.files.wordpress.com/2009/10/clinton-bill.jpg&amp;imgrefurl=http://gryphonscry.wordpress.com/2009/10/&amp;usg=__IGIkrCaD59j8rJ1P1u_JPs6_mpE=&amp;h=510&amp;w=444&amp;sz=80&amp;hl=en&amp;start=9&amp;sig2=7ArE0qwSbdMuUp-YN6l4aQ&amp;um=1&amp;tbnid=j87fjoq4rZZ2bM:&amp;tbnh=131&amp;tbnw=114&amp;prev=/images%3Fq%3Dwilliam%2Bclinton%26hl%3Den%26sa%3DG%26um%3D1&amp;ei=tOtAS_TsB532tAPe9a3XAw" TargetMode="Externa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ixing Health Reform</a:t>
            </a:r>
            <a:br>
              <a:rPr sz="4400"/>
            </a:br>
            <a:r>
              <a:rPr b="0" lang="en-US" sz="4400" spc="-1" strike="noStrike">
                <a:solidFill>
                  <a:srgbClr val="ff9933"/>
                </a:solidFill>
                <a:latin typeface="Arial"/>
              </a:rPr>
              <a:t>It’s Up To Us</a:t>
            </a:r>
            <a:endParaRPr b="0" lang="en-US" sz="4400" spc="-1" strike="noStrike">
              <a:solidFill>
                <a:srgbClr val="ff9933"/>
              </a:solidFill>
              <a:latin typeface="Arial"/>
            </a:endParaRPr>
          </a:p>
        </p:txBody>
      </p:sp>
      <p:sp>
        <p:nvSpPr>
          <p:cNvPr id="204" name="PlaceHolder 2"/>
          <p:cNvSpPr>
            <a:spLocks noGrp="1"/>
          </p:cNvSpPr>
          <p:nvPr>
            <p:ph type="subTitle"/>
          </p:nvPr>
        </p:nvSpPr>
        <p:spPr>
          <a:xfrm>
            <a:off x="1371600" y="3200040"/>
            <a:ext cx="6400800" cy="2895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len R. Shaffer PhD MP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e Brenner M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AL/Center for Policy Analys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centerforpolicyanalysi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15-922-6204  ershaffer@gmail.com</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nuary, 2010</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fare Expenditures, General Fund, </a:t>
            </a:r>
            <a:r>
              <a:rPr b="0" lang="en-US" sz="2000" spc="-1" strike="noStrike">
                <a:solidFill>
                  <a:srgbClr val="000000"/>
                </a:solidFill>
                <a:latin typeface="Arial"/>
              </a:rPr>
              <a:t>All K-12 Districts and County Offices of Education, California</a:t>
            </a:r>
            <a:br>
              <a:rPr sz="2000"/>
            </a:br>
            <a:r>
              <a:rPr b="0" lang="en-US" sz="2000" spc="-1" strike="noStrike">
                <a:solidFill>
                  <a:srgbClr val="000000"/>
                </a:solidFill>
                <a:latin typeface="Arial"/>
              </a:rPr>
              <a:t>$  BILLIONS  1999 – 2008</a:t>
            </a:r>
            <a:endParaRPr b="0" lang="en-US" sz="2000" spc="-1" strike="noStrike">
              <a:solidFill>
                <a:srgbClr val="000000"/>
              </a:solidFill>
              <a:latin typeface="Arial"/>
            </a:endParaRPr>
          </a:p>
        </p:txBody>
      </p:sp>
      <p:graphicFrame>
        <p:nvGraphicFramePr>
          <p:cNvPr id="222" name=""/>
          <p:cNvGraphicFramePr/>
          <p:nvPr/>
        </p:nvGraphicFramePr>
        <p:xfrm>
          <a:off x="457200" y="1755720"/>
          <a:ext cx="8229600" cy="4213440"/>
        </p:xfrm>
        <a:graphic>
          <a:graphicData uri="http://schemas.openxmlformats.org/presentationml/2006/ole">
            <p:oleObj progId="Excel.Sheet.12" r:id="rId1" spid="">
              <p:embed/>
              <p:pic>
                <p:nvPicPr>
                  <p:cNvPr id="223" name="" descr=""/>
                  <p:cNvPicPr/>
                  <p:nvPr/>
                </p:nvPicPr>
                <p:blipFill>
                  <a:blip r:embed="rId2"/>
                  <a:stretch/>
                </p:blipFill>
                <p:spPr>
                  <a:xfrm>
                    <a:off x="457200" y="1755720"/>
                    <a:ext cx="8229600" cy="4213440"/>
                  </a:xfrm>
                  <a:prstGeom prst="rect">
                    <a:avLst/>
                  </a:prstGeom>
                  <a:ln w="0">
                    <a:noFill/>
                  </a:ln>
                </p:spPr>
              </p:pic>
            </p:oleObj>
          </a:graphicData>
        </a:graphic>
      </p:graphicFrame>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3C3ECCAA-63DB-4F7C-994B-E2CDD8BB6917}" type="slidenum">
              <a:t>10</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alth Care in California</a:t>
            </a:r>
            <a:endParaRPr b="0" lang="en-US" sz="4400" spc="-1" strike="noStrike">
              <a:solidFill>
                <a:srgbClr val="ff9933"/>
              </a:solidFill>
              <a:latin typeface="Arial"/>
            </a:endParaRPr>
          </a:p>
        </p:txBody>
      </p:sp>
      <p:sp>
        <p:nvSpPr>
          <p:cNvPr id="22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million uninsured in 2006, = 20 % of nonelderly population </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3,000 children uninsure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significantly at risk for losing their coverag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spending grows two to three times faster than California's economy</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remiums grow significantly faster than overall health care spending</a:t>
            </a:r>
            <a:endParaRPr b="0" lang="en-US" sz="2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B 810</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A91F1DD-C5C9-4DF4-9FCF-BF0F59B30EF3}" type="slidenum">
              <a:t>1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ough Road</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752480"/>
            <a:ext cx="1752840" cy="1828800"/>
          </a:xfrm>
          <a:prstGeom prst="rect">
            <a:avLst/>
          </a:prstGeom>
          <a:ln w="0">
            <a:noFill/>
          </a:ln>
        </p:spPr>
      </p:pic>
      <p:pic>
        <p:nvPicPr>
          <p:cNvPr id="228" name="" descr="">
            <a:hlinkClick r:id="rId2"/>
          </p:cNvPr>
          <p:cNvPicPr/>
          <p:nvPr/>
        </p:nvPicPr>
        <p:blipFill>
          <a:blip r:embed="rId3"/>
          <a:stretch/>
        </p:blipFill>
        <p:spPr>
          <a:xfrm>
            <a:off x="6553080" y="1828800"/>
            <a:ext cx="1484280" cy="1752480"/>
          </a:xfrm>
          <a:prstGeom prst="rect">
            <a:avLst/>
          </a:prstGeom>
          <a:ln w="0">
            <a:noFill/>
          </a:ln>
        </p:spPr>
      </p:pic>
      <p:pic>
        <p:nvPicPr>
          <p:cNvPr id="229" name="" descr="">
            <a:hlinkClick r:id="rId4"/>
          </p:cNvPr>
          <p:cNvPicPr/>
          <p:nvPr/>
        </p:nvPicPr>
        <p:blipFill>
          <a:blip r:embed="rId5"/>
          <a:stretch/>
        </p:blipFill>
        <p:spPr>
          <a:xfrm>
            <a:off x="4267080" y="4114800"/>
            <a:ext cx="1425600" cy="1981080"/>
          </a:xfrm>
          <a:prstGeom prst="rect">
            <a:avLst/>
          </a:prstGeom>
          <a:ln w="0">
            <a:noFill/>
          </a:ln>
        </p:spPr>
      </p:pic>
      <p:pic>
        <p:nvPicPr>
          <p:cNvPr id="230" name="" descr="">
            <a:hlinkClick r:id="rId6"/>
          </p:cNvPr>
          <p:cNvPicPr/>
          <p:nvPr/>
        </p:nvPicPr>
        <p:blipFill>
          <a:blip r:embed="rId7"/>
          <a:stretch/>
        </p:blipFill>
        <p:spPr>
          <a:xfrm>
            <a:off x="6553080" y="4267080"/>
            <a:ext cx="1525680" cy="1752840"/>
          </a:xfrm>
          <a:prstGeom prst="rect">
            <a:avLst/>
          </a:prstGeom>
          <a:ln w="0">
            <a:noFill/>
          </a:ln>
        </p:spPr>
      </p:pic>
      <p:pic>
        <p:nvPicPr>
          <p:cNvPr id="231" name="" descr=""/>
          <p:cNvPicPr/>
          <p:nvPr/>
        </p:nvPicPr>
        <p:blipFill>
          <a:blip r:embed="rId8"/>
          <a:stretch/>
        </p:blipFill>
        <p:spPr>
          <a:xfrm>
            <a:off x="4038480" y="1835280"/>
            <a:ext cx="1828800" cy="1758960"/>
          </a:xfrm>
          <a:prstGeom prst="rect">
            <a:avLst/>
          </a:prstGeom>
          <a:ln w="0">
            <a:noFill/>
          </a:ln>
        </p:spPr>
      </p:pic>
      <p:pic>
        <p:nvPicPr>
          <p:cNvPr id="232" name="" descr=""/>
          <p:cNvPicPr/>
          <p:nvPr/>
        </p:nvPicPr>
        <p:blipFill>
          <a:blip r:embed="rId9"/>
          <a:stretch/>
        </p:blipFill>
        <p:spPr>
          <a:xfrm>
            <a:off x="1523880" y="4114800"/>
            <a:ext cx="1712880" cy="1752480"/>
          </a:xfrm>
          <a:prstGeom prst="rect">
            <a:avLst/>
          </a:prstGeom>
          <a:ln w="0">
            <a:noFill/>
          </a:ln>
        </p:spPr>
      </p:pic>
      <p:sp>
        <p:nvSpPr>
          <p:cNvPr id="233" name=""/>
          <p:cNvSpPr/>
          <p:nvPr/>
        </p:nvSpPr>
        <p:spPr>
          <a:xfrm>
            <a:off x="762120" y="4724280"/>
            <a:ext cx="68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4" name=""/>
          <p:cNvSpPr/>
          <p:nvPr/>
        </p:nvSpPr>
        <p:spPr>
          <a:xfrm>
            <a:off x="4191120" y="3962520"/>
            <a:ext cx="1600200" cy="228852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477120" y="4114800"/>
            <a:ext cx="1676160" cy="201420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79C4B0B1-F597-4F1A-8233-6C6B02C103C1}" type="slidenum">
              <a:t>12</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ome Victories</a:t>
            </a:r>
            <a:endParaRPr b="0" lang="en-US" sz="4400" spc="-1" strike="noStrike">
              <a:solidFill>
                <a:srgbClr val="ff9933"/>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5 – Johnson  MEDICARE, MEDICA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4 – Clinton    SCHIP</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4684C2E-567B-4E9C-92AD-371FAA032059}" type="slidenum">
              <a:t>1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Auspicious </a:t>
            </a:r>
            <a:endParaRPr b="0" lang="en-US" sz="4400" spc="-1" strike="noStrike">
              <a:solidFill>
                <a:srgbClr val="ff9933"/>
              </a:solidFill>
              <a:latin typeface="Arial"/>
            </a:endParaRPr>
          </a:p>
        </p:txBody>
      </p:sp>
      <p:sp>
        <p:nvSpPr>
          <p:cNvPr id="23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04224D1-95DD-4CAD-8149-6188A48389AF}" type="slidenum">
              <a:t>1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0" name="" descr="Barack Obama in St. Paul, Minnesota: Photo by Chris Gallevo (CC)"/>
          <p:cNvPicPr/>
          <p:nvPr/>
        </p:nvPicPr>
        <p:blipFill>
          <a:blip r:embed="rId1"/>
          <a:stretch/>
        </p:blipFill>
        <p:spPr>
          <a:xfrm>
            <a:off x="1143000" y="838080"/>
            <a:ext cx="7391520" cy="492444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C7DB0224-06D0-46A4-BB5C-02C92E48DEEC}" type="slidenum">
              <a:t>15</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Challenging</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9BD0DDF-ACF2-40CE-B02C-8B489D67D3CB}" type="slidenum">
              <a:t>1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conomic Collapse –</a:t>
            </a:r>
            <a:br>
              <a:rPr sz="4000"/>
            </a:br>
            <a:r>
              <a:rPr b="0" lang="en-US" sz="4000" spc="-1" strike="noStrike">
                <a:solidFill>
                  <a:srgbClr val="ff9933"/>
                </a:solidFill>
                <a:latin typeface="Arial"/>
              </a:rPr>
              <a:t>But Corporations Still In Charge</a:t>
            </a:r>
            <a:endParaRPr b="0" lang="en-US" sz="4000" spc="-1" strike="noStrike">
              <a:solidFill>
                <a:srgbClr val="ff9933"/>
              </a:solidFill>
              <a:latin typeface="Arial"/>
            </a:endParaRPr>
          </a:p>
        </p:txBody>
      </p:sp>
      <p:pic>
        <p:nvPicPr>
          <p:cNvPr id="243" name="" descr="http://4.bp.blogspot.com/_txfrNeKEs8I/SSSeA6Je-PI/AAAAAAAAAB4/B5WFs9PvFw8/s400/global+free+market+capitalism.jpg"/>
          <p:cNvPicPr/>
          <p:nvPr/>
        </p:nvPicPr>
        <p:blipFill>
          <a:blip r:embed="rId1"/>
          <a:stretch/>
        </p:blipFill>
        <p:spPr>
          <a:xfrm>
            <a:off x="2209680" y="1676520"/>
            <a:ext cx="5029200" cy="42717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69F71885-1EBF-442E-ABCF-D40179AC3C09}" type="slidenum">
              <a:t>1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ocial institutions weakened: labor, women, civil society - </a:t>
            </a:r>
            <a:br>
              <a:rPr sz="4000"/>
            </a:br>
            <a:r>
              <a:rPr b="0" lang="en-US" sz="4000" spc="-1" strike="noStrike">
                <a:solidFill>
                  <a:srgbClr val="ff9933"/>
                </a:solidFill>
                <a:latin typeface="Arial"/>
              </a:rPr>
              <a:t>++Faith Community growing ++</a:t>
            </a:r>
            <a:endParaRPr b="0" lang="en-US" sz="4000" spc="-1" strike="noStrike">
              <a:solidFill>
                <a:srgbClr val="ff9933"/>
              </a:solidFill>
              <a:latin typeface="Arial"/>
            </a:endParaRPr>
          </a:p>
        </p:txBody>
      </p:sp>
      <p:pic>
        <p:nvPicPr>
          <p:cNvPr id="245" name="" descr="http://agonist.org/files/active/2/historical%20union%20membership.gif"/>
          <p:cNvPicPr/>
          <p:nvPr/>
        </p:nvPicPr>
        <p:blipFill>
          <a:blip r:embed="rId1"/>
          <a:stretch/>
        </p:blipFill>
        <p:spPr>
          <a:xfrm>
            <a:off x="1523880" y="2362320"/>
            <a:ext cx="5410440" cy="35859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C33E8CA-699F-4FCC-AADB-46601B6E8185}" type="slidenum">
              <a:t>1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rporate media</a:t>
            </a:r>
            <a:br>
              <a:rPr sz="4000"/>
            </a:br>
            <a:endParaRPr b="0" lang="en-US" sz="4000" spc="-1" strike="noStrike">
              <a:solidFill>
                <a:srgbClr val="ff9933"/>
              </a:solidFill>
              <a:latin typeface="Arial"/>
            </a:endParaRPr>
          </a:p>
        </p:txBody>
      </p:sp>
      <p:pic>
        <p:nvPicPr>
          <p:cNvPr id="247" name="" descr="http://spktruth2power.files.wordpress.com/2007/11/corporate-news.jpg"/>
          <p:cNvPicPr/>
          <p:nvPr/>
        </p:nvPicPr>
        <p:blipFill>
          <a:blip r:embed="rId1"/>
          <a:stretch/>
        </p:blipFill>
        <p:spPr>
          <a:xfrm>
            <a:off x="2860560" y="1600200"/>
            <a:ext cx="3422880" cy="45306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F68CB96-6E33-4ED3-9F3A-29933713AAFF}" type="slidenum">
              <a:t>1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10 Things About Health Reform</a:t>
            </a:r>
            <a:endParaRPr b="0" lang="en-US" sz="4400" spc="-1" strike="noStrike">
              <a:solidFill>
                <a:srgbClr val="ff9933"/>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We Have to Do Th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Do?</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going to cost m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y put me in jail if I don’t pa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t really fix those insurance companies?</a:t>
            </a:r>
            <a:endParaRPr b="0" lang="en-US" sz="24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t it be better after the next election?</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get single payer in our state? </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n’t Congress have all these rules?</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n’t this someone else’s job?</a:t>
            </a: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wrong with the French anyway?</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EQUAL Health/Center for Policy Analysis</a:t>
            </a:r>
          </a:p>
        </p:txBody>
      </p:sp>
      <p:sp>
        <p:nvSpPr>
          <p:cNvPr id="6" name="PlaceHolder 5"/>
          <p:cNvSpPr>
            <a:spLocks noGrp="1"/>
          </p:cNvSpPr>
          <p:nvPr>
            <p:ph type="sldNum" idx="3"/>
          </p:nvPr>
        </p:nvSpPr>
        <p:spPr/>
        <p:txBody>
          <a:bodyPr/>
          <a:p>
            <a:fld id="{9789EFE5-5541-4016-AEB0-73498D4BCDF2}" type="slidenum">
              <a:t>2</a:t>
            </a:fld>
          </a:p>
        </p:txBody>
      </p:sp>
      <p:sp>
        <p:nvSpPr>
          <p:cNvPr id="7" name="PlaceHolder 6"/>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Just Say No</a:t>
            </a:r>
            <a:br>
              <a:rPr sz="4000"/>
            </a:br>
            <a:r>
              <a:rPr b="0" lang="en-US" sz="4000" spc="-1" strike="noStrike">
                <a:solidFill>
                  <a:srgbClr val="ff9933"/>
                </a:solidFill>
                <a:latin typeface="Arial"/>
              </a:rPr>
              <a:t>To Stop Reform</a:t>
            </a:r>
            <a:endParaRPr b="0" lang="en-US" sz="4000" spc="-1" strike="noStrike">
              <a:solidFill>
                <a:srgbClr val="ff9933"/>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dea not necessa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e tactics: government bureaucrats, socialism, rationing, class warfare, death pane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political backlas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9D248BE-31A1-4252-9BFE-9DE60962C8DB}" type="slidenum">
              <a:t>2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ingle Payer: What it Is and Why You Hear Nasty Stories About It</a:t>
            </a:r>
            <a:endParaRPr b="0" lang="en-US" sz="4000" spc="-1" strike="noStrike">
              <a:solidFill>
                <a:srgbClr val="ff9933"/>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automatically covered, most cost efficient, contributes to social &amp; economic equity, good outco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ives government the authority to constrain health care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could possibly object to th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AF91DA1-28C9-481D-B11B-7BB1451C691F}" type="slidenum">
              <a:t>2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2.5 Trillion: Spending or Income?</a:t>
            </a:r>
            <a:br>
              <a:rPr sz="4000"/>
            </a:br>
            <a:r>
              <a:rPr b="0" lang="en-US" sz="4000" spc="-1" strike="noStrike">
                <a:solidFill>
                  <a:srgbClr val="ff9933"/>
                </a:solidFill>
                <a:latin typeface="Arial"/>
              </a:rPr>
              <a:t>Balloon or Dirigible?</a:t>
            </a:r>
            <a:endParaRPr b="0" lang="en-US" sz="4000" spc="-1" strike="noStrike">
              <a:solidFill>
                <a:srgbClr val="ff9933"/>
              </a:solidFill>
              <a:latin typeface="Arial"/>
            </a:endParaRPr>
          </a:p>
        </p:txBody>
      </p:sp>
      <p:graphicFrame>
        <p:nvGraphicFramePr>
          <p:cNvPr id="253" name=""/>
          <p:cNvGraphicFramePr/>
          <p:nvPr/>
        </p:nvGraphicFramePr>
        <p:xfrm>
          <a:off x="457200" y="1752480"/>
          <a:ext cx="8229600" cy="4011480"/>
        </p:xfrm>
        <a:graphic>
          <a:graphicData uri="http://schemas.openxmlformats.org/drawingml/2006/table">
            <a:tbl>
              <a:tblPr/>
              <a:tblGrid>
                <a:gridCol w="4114800"/>
                <a:gridCol w="4114800"/>
              </a:tblGrid>
              <a:tr h="6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Arial"/>
                        </a:rPr>
                        <a:t>Spend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5c984"/>
                          </a:solidFill>
                          <a:uFillTx/>
                          <a:latin typeface="Arial"/>
                        </a:rPr>
                        <a:t>Incom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dividua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Insurance Industr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mploy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Pharmaceutical Co.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overn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Hospitals, Physici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1D9B5C5-A678-4124-9BAB-A18BF5040F64}" type="slidenum">
              <a:t>2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Reform: What Does It Do?</a:t>
            </a:r>
            <a:endParaRPr b="0" lang="en-US" sz="4000" spc="-1" strike="noStrike">
              <a:solidFill>
                <a:srgbClr val="ff9933"/>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Expands Medicaid</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Individual and Employer Manda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mployed/Small Business: Insurance Exchange</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UBLIC OPTION ?  2013  ?  2014 ?</a:t>
            </a:r>
            <a:endParaRPr b="0" lang="en-US" sz="20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ordability: Premium Subsid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urbs Insurance Co. Abu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xisting Condition Exclusions, Rescissions</a:t>
            </a:r>
            <a:endParaRPr b="0" lang="en-US" sz="24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Cost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Incentives for Tea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AE5D278-A7B9-4570-AECD-86DCF4A8B28F}" type="slidenum">
              <a:t>2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Do We Need To Fix?</a:t>
            </a:r>
            <a:endParaRPr b="0" lang="en-US" sz="4400" spc="-1" strike="noStrike">
              <a:solidFill>
                <a:srgbClr val="ff9933"/>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The public option: our toe-hold on structural chang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ffordable coverage - Strong employer manda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Fair financing - Tax income, not hard-won benefi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No retreat on abortion coverage, and immigrants’ inclu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ccountability for insurance compani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 single national exchang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Eliminate anti-trust exemption – FTC regulation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State options for real progres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Use the conference process to improve the bi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D685540-4D30-406C-989F-E0D0AD6657A4}" type="slidenum">
              <a:t>2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is it going to cost me?</a:t>
            </a:r>
            <a:endParaRPr b="0" lang="en-US" sz="4400" spc="-1" strike="noStrike">
              <a:solidFill>
                <a:srgbClr val="ff9933"/>
              </a:solidFill>
              <a:latin typeface="Arial"/>
            </a:endParaRPr>
          </a:p>
        </p:txBody>
      </p:sp>
      <p:pic>
        <p:nvPicPr>
          <p:cNvPr id="259" name="" descr="http://www.babyboomercaretaker.com/images/Affordable-Medical-Insurance-For-Family.jpg"/>
          <p:cNvPicPr/>
          <p:nvPr/>
        </p:nvPicPr>
        <p:blipFill>
          <a:blip r:embed="rId1"/>
          <a:stretch/>
        </p:blipFill>
        <p:spPr>
          <a:xfrm>
            <a:off x="2743200" y="1371600"/>
            <a:ext cx="3346560" cy="50148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BC19273-82C7-4918-B58E-78C4D49025C8}" type="slidenum">
              <a:t>25</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FFORDABILITY</a:t>
            </a:r>
            <a:endParaRPr b="0" lang="en-US" sz="4400" spc="-1" strike="noStrike">
              <a:solidFill>
                <a:srgbClr val="ff9933"/>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a big concer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s and employers required to p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as all other countrie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um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ffordable than now for uninsu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necessarily affordable for ma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OPTION would provide choice and bargaining clou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98FDA7E-EEC9-4BEC-BB0C-287E43BC0E86}" type="slidenum">
              <a:t>2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stimates by House TriCommittee  Staff</a:t>
            </a:r>
            <a:endParaRPr b="0" lang="en-US" sz="4000" spc="-1" strike="noStrike">
              <a:solidFill>
                <a:srgbClr val="ff9933"/>
              </a:solidFill>
              <a:latin typeface="Arial"/>
            </a:endParaRPr>
          </a:p>
        </p:txBody>
      </p:sp>
      <p:pic>
        <p:nvPicPr>
          <p:cNvPr id="263" name="" descr=""/>
          <p:cNvPicPr/>
          <p:nvPr/>
        </p:nvPicPr>
        <p:blipFill>
          <a:blip r:embed="rId1"/>
          <a:stretch/>
        </p:blipFill>
        <p:spPr>
          <a:xfrm>
            <a:off x="457200" y="1752480"/>
            <a:ext cx="8170920" cy="41734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C63316B-352F-494A-A6CD-3A5E1219616C}" type="slidenum">
              <a:t>2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5" name="" descr=""/>
          <p:cNvPicPr/>
          <p:nvPr/>
        </p:nvPicPr>
        <p:blipFill>
          <a:blip r:embed="rId1"/>
          <a:stretch/>
        </p:blipFill>
        <p:spPr>
          <a:xfrm>
            <a:off x="712800" y="1839960"/>
            <a:ext cx="7716960" cy="40510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D5E084C-8B32-4A3C-AB10-62E89B1ECA0E}" type="slidenum">
              <a:t>2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7" name="" descr=""/>
          <p:cNvPicPr/>
          <p:nvPr/>
        </p:nvPicPr>
        <p:blipFill>
          <a:blip r:embed="rId1"/>
          <a:stretch/>
        </p:blipFill>
        <p:spPr>
          <a:xfrm>
            <a:off x="527040" y="2274840"/>
            <a:ext cx="8089920" cy="318132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585667C-56D8-4067-9FE7-D094D3701B0F}" type="slidenum">
              <a:t>2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Partners</a:t>
            </a:r>
            <a:endParaRPr b="0" lang="en-US" sz="4400" spc="-1" strike="noStrike">
              <a:solidFill>
                <a:srgbClr val="ff9933"/>
              </a:solidFill>
              <a:latin typeface="Arial"/>
            </a:endParaRPr>
          </a:p>
        </p:txBody>
      </p:sp>
      <p:sp>
        <p:nvSpPr>
          <p:cNvPr id="20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a:t>
            </a:r>
            <a:r>
              <a:rPr b="0" lang="en-US" sz="2800" spc="-1" strike="noStrike">
                <a:solidFill>
                  <a:srgbClr val="ffffff"/>
                </a:solidFill>
                <a:latin typeface="Arial"/>
              </a:rPr>
              <a:t>quitable, </a:t>
            </a:r>
            <a:r>
              <a:rPr b="1" lang="en-US" sz="2800" spc="-1" strike="noStrike" u="sng">
                <a:solidFill>
                  <a:srgbClr val="ffffff"/>
                </a:solidFill>
                <a:uFillTx/>
                <a:latin typeface="Arial"/>
              </a:rPr>
              <a:t>Q</a:t>
            </a:r>
            <a:r>
              <a:rPr b="0" lang="en-US" sz="2800" spc="-1" strike="noStrike">
                <a:solidFill>
                  <a:srgbClr val="ffffff"/>
                </a:solidFill>
                <a:latin typeface="Arial"/>
              </a:rPr>
              <a:t>uality, </a:t>
            </a:r>
            <a:r>
              <a:rPr b="1" lang="en-US" sz="2800" spc="-1" strike="noStrike" u="sng">
                <a:solidFill>
                  <a:srgbClr val="ffffff"/>
                </a:solidFill>
                <a:uFillTx/>
                <a:latin typeface="Arial"/>
              </a:rPr>
              <a:t>U</a:t>
            </a:r>
            <a:r>
              <a:rPr b="0" lang="en-US" sz="2800" spc="-1" strike="noStrike">
                <a:solidFill>
                  <a:srgbClr val="ffffff"/>
                </a:solidFill>
                <a:latin typeface="Arial"/>
              </a:rPr>
              <a:t>niversal, </a:t>
            </a:r>
            <a:r>
              <a:rPr b="1" lang="en-US" sz="2800" spc="-1" strike="noStrike" u="sng">
                <a:solidFill>
                  <a:srgbClr val="ffffff"/>
                </a:solidFill>
                <a:uFillTx/>
                <a:latin typeface="Arial"/>
              </a:rPr>
              <a:t>A</a:t>
            </a:r>
            <a:r>
              <a:rPr b="0" lang="en-US" sz="2800" spc="-1" strike="noStrike">
                <a:solidFill>
                  <a:srgbClr val="ffffff"/>
                </a:solidFill>
                <a:latin typeface="Arial"/>
              </a:rPr>
              <a:t>ffordab</a:t>
            </a:r>
            <a:r>
              <a:rPr b="1" lang="en-US" sz="2800" spc="-1" strike="noStrike" u="sng">
                <a:solidFill>
                  <a:srgbClr val="ffffff"/>
                </a:solidFill>
                <a:uFillTx/>
                <a:latin typeface="Arial"/>
              </a:rPr>
              <a:t>l</a:t>
            </a:r>
            <a:r>
              <a:rPr b="0" lang="en-US" sz="2800" spc="-1" strike="noStrike">
                <a:solidFill>
                  <a:srgbClr val="ffffff"/>
                </a:solidFill>
                <a:latin typeface="Arial"/>
              </a:rPr>
              <a:t>e health care</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Policy Analysis</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kindling Reform, NY</a:t>
            </a:r>
            <a:endParaRPr b="0" lang="en-US" sz="2800" spc="-1" strike="noStrike">
              <a:solidFill>
                <a:srgbClr val="ffffff"/>
              </a:solidFill>
              <a:latin typeface="Arial"/>
            </a:endParaRPr>
          </a:p>
          <a:p>
            <a:pPr marL="339480" indent="-3394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Public Health Association-North</a:t>
            </a:r>
            <a:endParaRPr b="0" lang="en-US" sz="2800" spc="-1" strike="noStrike">
              <a:solidFill>
                <a:srgbClr val="ffffff"/>
              </a:solidFill>
              <a:latin typeface="Arial"/>
            </a:endParaRPr>
          </a:p>
          <a:p>
            <a:pPr marL="339480" indent="-3394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Women’s Agenda</a:t>
            </a:r>
            <a:endParaRPr b="0" lang="en-US" sz="2800" spc="-1" strike="noStrike">
              <a:solidFill>
                <a:srgbClr val="ffffff"/>
              </a:solidFill>
              <a:latin typeface="Arial"/>
            </a:endParaRPr>
          </a:p>
          <a:p>
            <a:pPr marL="339480" indent="-3394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Women’s League</a:t>
            </a:r>
            <a:endParaRPr b="0" lang="en-US" sz="2800" spc="-1" strike="noStrike">
              <a:solidFill>
                <a:srgbClr val="ffffff"/>
              </a:solidFill>
              <a:latin typeface="Arial"/>
            </a:endParaRPr>
          </a:p>
          <a:p>
            <a:pPr marL="339480" indent="-3394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Medical Women’s Associ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HN/RWV</a:t>
            </a:r>
            <a:endParaRPr b="0" lang="en-US" sz="2400" spc="-1" strike="noStrike">
              <a:solidFill>
                <a:srgbClr val="ffffff"/>
              </a:solidFill>
              <a:latin typeface="Arial"/>
            </a:endParaRPr>
          </a:p>
          <a:p>
            <a:pPr marL="339480" indent="-3394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 Inside-Outside Grou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3B7FB4E-B46A-43A7-96BF-56C91734F476}" type="slidenum">
              <a:t>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they put me in jail if I don’t pay?</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D35426F-3F92-47F0-91B3-775173AC8C4D}" type="slidenum">
              <a:t>30</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NO</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EC09348-4D16-4449-8E79-D56FAFEB500F}" type="slidenum">
              <a:t>31</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t there are financial penalties</a:t>
            </a:r>
            <a:endParaRPr b="0" lang="en-US" sz="4400" spc="-1" strike="noStrike">
              <a:solidFill>
                <a:srgbClr val="ff9933"/>
              </a:solidFill>
              <a:latin typeface="Arial"/>
            </a:endParaRPr>
          </a:p>
        </p:txBody>
      </p:sp>
      <p:sp>
        <p:nvSpPr>
          <p:cNvPr id="27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34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House:</a:t>
            </a:r>
            <a:r>
              <a:rPr b="0" lang="en-US" sz="1400" spc="-1" strike="noStrike">
                <a:solidFill>
                  <a:srgbClr val="ffffff"/>
                </a:solidFill>
                <a:latin typeface="Arial"/>
              </a:rPr>
              <a:t> Individuals are required to obtain health insurance coverage or pay a fee equal to lower of 2.5% of their adjusted income above the filing threshold or the average premium on the Exchange. Individuals and families below the income tax filing are exemp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9, the threshold for taxpayers under age 65 is $9,350 for singles and $18,700 for coup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may apply for a hardship waiver if coverage is unaffordable and there are elected exemptions from the mandate. Those with coverage through the VA or who are eligible for government-sponsored healthcare because they are a member of a tribe are considered to have fulfilled the requirement to obtain coverag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nate:</a:t>
            </a:r>
            <a:r>
              <a:rPr b="0" lang="en-US" sz="1400" spc="-1" strike="noStrike">
                <a:solidFill>
                  <a:srgbClr val="ffffff"/>
                </a:solidFill>
                <a:latin typeface="Arial"/>
              </a:rPr>
              <a:t> Revises penalty amounts for the individual responsibility requirement. Individuals who</a:t>
            </a:r>
            <a:br>
              <a:rPr sz="1400"/>
            </a:br>
            <a:r>
              <a:rPr b="0" lang="en-US" sz="1400" spc="-1" strike="noStrike">
                <a:solidFill>
                  <a:srgbClr val="ffffff"/>
                </a:solidFill>
                <a:latin typeface="Arial"/>
              </a:rPr>
              <a:t>do not purchase coverage will pay the greater of $95 in 2014, $495 in 2015 and $750 in</a:t>
            </a:r>
            <a:br>
              <a:rPr sz="1400"/>
            </a:br>
            <a:r>
              <a:rPr b="0" lang="en-US" sz="1400" spc="-1" strike="noStrike">
                <a:solidFill>
                  <a:srgbClr val="ffffff"/>
                </a:solidFill>
                <a:latin typeface="Arial"/>
              </a:rPr>
              <a:t>2016, or up to 2% of income by 2016, up to a cap of the national average bronze</a:t>
            </a:r>
            <a:br>
              <a:rPr sz="1400"/>
            </a:br>
            <a:r>
              <a:rPr b="0" lang="en-US" sz="1400" spc="-1" strike="noStrike">
                <a:solidFill>
                  <a:srgbClr val="ffffff"/>
                </a:solidFill>
                <a:latin typeface="Arial"/>
              </a:rPr>
              <a:t>plan premium. Families will pay half the amount for children up to a cap of $2,250 for</a:t>
            </a:r>
            <a:br>
              <a:rPr sz="1400"/>
            </a:br>
            <a:r>
              <a:rPr b="0" lang="en-US" sz="1400" spc="-1" strike="noStrike">
                <a:solidFill>
                  <a:srgbClr val="ffffff"/>
                </a:solidFill>
                <a:latin typeface="Arial"/>
              </a:rPr>
              <a:t>the entire family. After 2016, dollar amounts will increase by the annual cost of living</a:t>
            </a:r>
            <a:br>
              <a:rPr sz="1400"/>
            </a:br>
            <a:br>
              <a:rPr sz="1400"/>
            </a:br>
            <a:r>
              <a:rPr b="0" lang="en-US" sz="1400" spc="-1" strike="noStrike">
                <a:solidFill>
                  <a:srgbClr val="ffffff"/>
                </a:solidFill>
                <a:latin typeface="Arial"/>
              </a:rPr>
              <a:t>EXEMPTIONS FROM INDIVIDUAL RESPONSIBILITY REQUIREMENTS- </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ere is no affordable qualified health plan available through the</a:t>
            </a:r>
            <a:br>
              <a:rPr sz="1400"/>
            </a:br>
            <a:r>
              <a:rPr b="0" lang="en-US" sz="1400" spc="-1" strike="noStrike">
                <a:solidFill>
                  <a:srgbClr val="ffffff"/>
                </a:solidFill>
                <a:latin typeface="Arial"/>
              </a:rPr>
              <a:t>Exchange, or the individual's employer, covering the individual; or</a:t>
            </a:r>
            <a:br>
              <a:rPr sz="1400"/>
            </a:br>
            <a:r>
              <a:rPr b="0" lang="en-US" sz="1400" spc="-1" strike="noStrike">
                <a:solidFill>
                  <a:srgbClr val="ffffff"/>
                </a:solidFill>
                <a:latin typeface="Arial"/>
              </a:rPr>
              <a:t>(ii) the individual meets the requirements for any other such exemption</a:t>
            </a:r>
            <a:br>
              <a:rPr sz="1400"/>
            </a:br>
            <a:r>
              <a:rPr b="0" lang="en-US" sz="1400" spc="-1" strike="noStrike">
                <a:solidFill>
                  <a:srgbClr val="ffffff"/>
                </a:solidFill>
                <a:latin typeface="Arial"/>
              </a:rPr>
              <a:t>from the individual responsibility requirement or penalty;</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status as a member of an exempt religious sect or division,</a:t>
            </a:r>
            <a:br>
              <a:rPr sz="1400"/>
            </a:br>
            <a:r>
              <a:rPr b="0" lang="en-US" sz="1400" spc="-1" strike="noStrike">
                <a:solidFill>
                  <a:srgbClr val="ffffff"/>
                </a:solidFill>
                <a:latin typeface="Arial"/>
              </a:rPr>
              <a:t>as a member of a health care sharing ministry, as an Indian, or as an</a:t>
            </a:r>
            <a:br>
              <a:rPr sz="1400"/>
            </a:br>
            <a:r>
              <a:rPr b="0" lang="en-US" sz="1400" spc="-1" strike="noStrike">
                <a:solidFill>
                  <a:srgbClr val="ffffff"/>
                </a:solidFill>
                <a:latin typeface="Arial"/>
              </a:rPr>
              <a:t>individual eligible for a hardship exemption, </a:t>
            </a: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38D3944-3625-4A55-AC0E-19C313F4E211}" type="slidenum">
              <a:t>3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it really fix those insurance compani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1D61E261-F23E-4C5E-92EF-E12D0AA2638E}" type="slidenum">
              <a:t>3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roblems For Individuals</a:t>
            </a:r>
            <a:endParaRPr b="0" lang="en-US" sz="4400" spc="-1" strike="noStrike">
              <a:solidFill>
                <a:srgbClr val="ff9933"/>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xisting condition exclu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eginning in 2013/201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for children in 2010 (Se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discrimi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y gen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But Permitted by 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5C841D2-5122-47A1-A502-4FA23CBC0D17}" type="slidenum">
              <a:t>3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roblem for Insured:</a:t>
            </a:r>
            <a:br>
              <a:rPr sz="4000"/>
            </a:br>
            <a:r>
              <a:rPr b="0" lang="en-US" sz="4000" spc="-1" strike="noStrike">
                <a:solidFill>
                  <a:srgbClr val="ff9933"/>
                </a:solidFill>
                <a:latin typeface="Arial"/>
              </a:rPr>
              <a:t>Denials of Care</a:t>
            </a:r>
            <a:endParaRPr b="0" lang="en-US" sz="4000" spc="-1" strike="noStrike">
              <a:solidFill>
                <a:srgbClr val="ff9933"/>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of claims denied</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is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age for a person or a treatment revok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ly would be prohibi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llowed in the case of </a:t>
            </a:r>
            <a:r>
              <a:rPr b="0" lang="en-US" sz="2400" spc="-1" strike="noStrike" u="sng">
                <a:solidFill>
                  <a:srgbClr val="ffffff"/>
                </a:solidFill>
                <a:uFillTx/>
                <a:latin typeface="Arial"/>
              </a:rPr>
              <a:t>“fraud or misrepresent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UBLIC OPTION would have no incentive to deny legitimate clai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regulation by Federal Trade Commission (revoke anti-trust exemp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8DE8403-2835-471E-970D-90AC00BF4663}" type="slidenum">
              <a:t>3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iscrimination by Age and Gender</a:t>
            </a:r>
            <a:br>
              <a:rPr sz="4000"/>
            </a:br>
            <a:r>
              <a:rPr b="0" lang="en-US" sz="4000" spc="-1" strike="noStrike">
                <a:solidFill>
                  <a:srgbClr val="ff9933"/>
                </a:solidFill>
                <a:latin typeface="Arial"/>
              </a:rPr>
              <a:t> </a:t>
            </a:r>
            <a:r>
              <a:rPr b="0" lang="en-US" sz="2400" spc="-1" strike="noStrike">
                <a:solidFill>
                  <a:srgbClr val="ff9933"/>
                </a:solidFill>
                <a:latin typeface="Arial"/>
              </a:rPr>
              <a:t>Kaiser Permanente Monthly Rates California 2010</a:t>
            </a:r>
            <a:endParaRPr b="0" lang="en-US" sz="2400" spc="-1" strike="noStrike">
              <a:solidFill>
                <a:srgbClr val="ff9933"/>
              </a:solidFill>
              <a:latin typeface="Arial"/>
            </a:endParaRPr>
          </a:p>
        </p:txBody>
      </p:sp>
      <p:graphicFrame>
        <p:nvGraphicFramePr>
          <p:cNvPr id="278" name=""/>
          <p:cNvGraphicFramePr/>
          <p:nvPr/>
        </p:nvGraphicFramePr>
        <p:xfrm>
          <a:off x="457200" y="1600200"/>
          <a:ext cx="7238880" cy="4657680"/>
        </p:xfrm>
        <a:graphic>
          <a:graphicData uri="http://schemas.openxmlformats.org/drawingml/2006/table">
            <a:tbl>
              <a:tblPr/>
              <a:tblGrid>
                <a:gridCol w="2666880"/>
                <a:gridCol w="2133720"/>
                <a:gridCol w="2438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86EF751-AB1F-4E70-8D36-7847AAFB3466}" type="slidenum">
              <a:t>3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men Can Pay More Now</a:t>
            </a:r>
            <a:br>
              <a:rPr sz="4000"/>
            </a:br>
            <a:r>
              <a:rPr b="0" lang="en-US" sz="2400" spc="-1" strike="noStrike">
                <a:solidFill>
                  <a:srgbClr val="ff9933"/>
                </a:solidFill>
                <a:latin typeface="Arial"/>
              </a:rPr>
              <a:t>Kaiser Permanente Monthly Premiums 2010</a:t>
            </a:r>
            <a:endParaRPr b="0" lang="en-US" sz="2400" spc="-1" strike="noStrike">
              <a:solidFill>
                <a:srgbClr val="ff9933"/>
              </a:solidFill>
              <a:latin typeface="Arial"/>
            </a:endParaRPr>
          </a:p>
        </p:txBody>
      </p:sp>
      <p:graphicFrame>
        <p:nvGraphicFramePr>
          <p:cNvPr id="280" name=""/>
          <p:cNvGraphicFramePr/>
          <p:nvPr/>
        </p:nvGraphicFramePr>
        <p:xfrm>
          <a:off x="533520" y="1447920"/>
          <a:ext cx="8305560" cy="5200560"/>
        </p:xfrm>
        <a:graphic>
          <a:graphicData uri="http://schemas.openxmlformats.org/drawingml/2006/table">
            <a:tbl>
              <a:tblPr/>
              <a:tblGrid>
                <a:gridCol w="2076480"/>
                <a:gridCol w="2076480"/>
                <a:gridCol w="1790640"/>
                <a:gridCol w="2361960"/>
              </a:tblGrid>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0901A20-45FE-44D7-A2D3-24911ED50992}" type="slidenum">
              <a:t>3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ender Discrimination Would Be Prohibited</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9D0C670-E4F7-42BA-B7CF-D79676726488}" type="slidenum">
              <a:t>3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ldest Compared to Youngest: 215%</a:t>
            </a:r>
            <a:endParaRPr b="0" lang="en-US" sz="4000" spc="-1" strike="noStrike">
              <a:solidFill>
                <a:srgbClr val="ff9933"/>
              </a:solidFill>
              <a:latin typeface="Arial"/>
            </a:endParaRPr>
          </a:p>
        </p:txBody>
      </p:sp>
      <p:graphicFrame>
        <p:nvGraphicFramePr>
          <p:cNvPr id="283" name=""/>
          <p:cNvGraphicFramePr/>
          <p:nvPr/>
        </p:nvGraphicFramePr>
        <p:xfrm>
          <a:off x="457200" y="1447920"/>
          <a:ext cx="8229600" cy="5006880"/>
        </p:xfrm>
        <a:graphic>
          <a:graphicData uri="http://schemas.openxmlformats.org/drawingml/2006/table">
            <a:tbl>
              <a:tblPr/>
              <a:tblGrid>
                <a:gridCol w="2057400"/>
                <a:gridCol w="2057400"/>
                <a:gridCol w="2057400"/>
                <a:gridCol w="20574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6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59</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5%</a:t>
                      </a:r>
                      <a:r>
                        <a:rPr b="1" lang="en-US" sz="2400" spc="-1" strike="noStrike">
                          <a:solidFill>
                            <a:srgbClr val="ffffff"/>
                          </a:solidFill>
                          <a:latin typeface="Arial"/>
                        </a:rPr>
                        <a: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D9134EA-A7BC-48DD-BAA9-F61DB08456ED}" type="slidenum">
              <a:t>3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ctivities</a:t>
            </a:r>
            <a:endParaRPr b="0" lang="en-US" sz="4400" spc="-1" strike="noStrike">
              <a:solidFill>
                <a:srgbClr val="ff9933"/>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Health Leaders, Obama Campaign</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Oct. 2008</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atements 2009</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100 Days Health Agenda</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Health</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 Policy – Medical Care, CHPPD</a:t>
            </a:r>
            <a:endParaRPr b="0" lang="en-US" sz="28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rence calls, Radio Series - KPF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4226034-6830-46F6-90D6-24F97F4B15B8}" type="slidenum">
              <a:t>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Age Discrimination Would be Permitted</a:t>
            </a:r>
            <a:endParaRPr b="0" lang="en-US" sz="4000" spc="-1" strike="noStrike">
              <a:solidFill>
                <a:srgbClr val="ff9933"/>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2: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e bill:          3: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im:                4: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 risk pool)</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39DF593-E9D5-427D-A27E-ED609BB171AC}" type="slidenum">
              <a:t>4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trolling Premium Costs</a:t>
            </a:r>
            <a:endParaRPr b="0" lang="en-US" sz="4400" spc="-1" strike="noStrike">
              <a:solidFill>
                <a:srgbClr val="ff9933"/>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s in Senate bi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language, but needs to be enforced by 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TION</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FAE7634-9433-403E-8C95-C8083244B04C}" type="slidenum">
              <a:t>4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n’t it be better to do this after the next election?</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06CF64D0-53F8-4DFC-A369-876BD30B6378}" type="slidenum">
              <a:t>4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ff9933"/>
                </a:solidFill>
                <a:latin typeface="Arial"/>
              </a:rPr>
              <a:t>How can we get a single payer plan in our state?</a:t>
            </a:r>
            <a:br>
              <a:rPr sz="4000"/>
            </a:br>
            <a:br>
              <a:rPr sz="4000"/>
            </a:br>
            <a:r>
              <a:rPr b="0" lang="en-US" sz="4000" spc="-1" strike="noStrike">
                <a:solidFill>
                  <a:srgbClr val="ff9933"/>
                </a:solidFill>
                <a:latin typeface="Arial"/>
              </a:rPr>
              <a:t>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195A12F-F3DA-402C-8036-1297DF25A82F}" type="slidenum">
              <a:t>4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ild Momentum Now</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vernment-sponsored system like Medicare would do a better job of controlling costs and covering every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urance industry will oppose single payer strongly at the state leve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ong national bill will build momentum to rein in the industry and keep up the effort for state single payer system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34632D1-1618-4803-BEA9-468A1E6207B5}" type="slidenum">
              <a:t>4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ollow the Money</a:t>
            </a:r>
            <a:br>
              <a:rPr sz="4000"/>
            </a:br>
            <a:r>
              <a:rPr b="1" lang="en-US" sz="4000" spc="-1" strike="noStrike">
                <a:solidFill>
                  <a:srgbClr val="ff9933"/>
                </a:solidFill>
                <a:latin typeface="Arial"/>
              </a:rPr>
              <a:t>State</a:t>
            </a:r>
            <a:r>
              <a:rPr b="0" lang="en-US" sz="4000" spc="-1" strike="noStrike">
                <a:solidFill>
                  <a:srgbClr val="ff9933"/>
                </a:solidFill>
                <a:latin typeface="Arial"/>
              </a:rPr>
              <a:t> Campaign Contributions</a:t>
            </a:r>
            <a:br>
              <a:rPr sz="4000"/>
            </a:br>
            <a:r>
              <a:rPr b="0" lang="en-US" sz="4000" spc="-1" strike="noStrike">
                <a:solidFill>
                  <a:srgbClr val="ff9933"/>
                </a:solidFill>
                <a:latin typeface="Arial"/>
              </a:rPr>
              <a:t>2004-8</a:t>
            </a:r>
            <a:endParaRPr b="0" lang="en-US" sz="4000" spc="-1" strike="noStrike">
              <a:solidFill>
                <a:srgbClr val="ff9933"/>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dustry TOTAL: </a:t>
            </a:r>
            <a:r>
              <a:rPr b="1" lang="en-US" sz="3200" spc="-1" strike="noStrike">
                <a:solidFill>
                  <a:srgbClr val="ffffff"/>
                </a:solidFill>
                <a:latin typeface="Arial"/>
              </a:rPr>
              <a:t>$132,943,232</a:t>
            </a:r>
            <a:r>
              <a:rPr b="0" lang="en-US" sz="14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eutical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s &amp; Health System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surance &amp; HMO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 Practice Groups and Associations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ing Hom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ollowthemoney.org/press/ReportView.phtml?r=408&amp;ext=7&amp;PHPSESSID=da58e785f999fd4ed54c448724038908#tableid7</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s free online access to public records in all 50 states, to document political donor and lobbyist contributions to policymak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0F1373C-F24A-4074-B3D1-A834A3D0A05D}" type="slidenum">
              <a:t>4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Insurance &amp; HMO </a:t>
            </a:r>
            <a:br>
              <a:rPr sz="4000"/>
            </a:br>
            <a:r>
              <a:rPr b="0" lang="en-US" sz="4000" spc="-1" strike="noStrike">
                <a:solidFill>
                  <a:srgbClr val="ff9933"/>
                </a:solidFill>
                <a:latin typeface="Arial"/>
              </a:rPr>
              <a:t>State Contributions 2004-8</a:t>
            </a:r>
            <a:endParaRPr b="0" lang="en-US" sz="4000" spc="-1" strike="noStrike">
              <a:solidFill>
                <a:srgbClr val="ff9933"/>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mpanies </a:t>
            </a:r>
            <a:r>
              <a:rPr b="1" lang="en-US" sz="3200" spc="-1" strike="noStrike">
                <a:solidFill>
                  <a:srgbClr val="ffffff"/>
                </a:solidFill>
                <a:latin typeface="Arial"/>
              </a:rPr>
              <a:t>$42,233,972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 ballot measur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to Officeholders: $21.4 mill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rd top recipient: </a:t>
            </a:r>
            <a:r>
              <a:rPr b="1" lang="en-US" sz="3200" spc="-1" strike="noStrike">
                <a:solidFill>
                  <a:srgbClr val="ffffff"/>
                </a:solidFill>
                <a:latin typeface="Arial"/>
              </a:rPr>
              <a:t>California Republican Party</a:t>
            </a:r>
            <a:r>
              <a:rPr b="0" lang="en-US" sz="3200" spc="-1" strike="noStrike">
                <a:solidFill>
                  <a:srgbClr val="ffffff"/>
                </a:solidFill>
                <a:latin typeface="Arial"/>
              </a:rPr>
              <a:t> - </a:t>
            </a:r>
            <a:r>
              <a:rPr b="1" lang="en-US" sz="3200" spc="-1" strike="noStrike">
                <a:solidFill>
                  <a:srgbClr val="ffffff"/>
                </a:solidFill>
                <a:latin typeface="Arial"/>
              </a:rPr>
              <a:t>$1.3 mill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ollowthemoney.org/press/ReportView.phtml?r=408&amp;ext=7&amp;PHPSESSID=da58e785f999fd4ed54c448724038908#tableid7</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F8BCB3F-86A6-475D-87F4-D9BCC6A8C55A}" type="slidenum">
              <a:t>4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oesn’t Congress have all these rul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ACD4518-997F-4D82-B44B-DB1DB9D8408D}" type="slidenum">
              <a:t>4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a:t>
            </a:r>
            <a:endParaRPr b="0" lang="en-US" sz="4400" spc="-1" strike="noStrike">
              <a:solidFill>
                <a:srgbClr val="ff9933"/>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a Carta, 1215</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days in 2009 the following were in favor of the public option:</a:t>
            </a:r>
            <a:endParaRPr b="0" lang="en-US" sz="28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of Representatives (majority):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61%):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Baucus: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Lieberman (Medicare buy-in)*: 350</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Nelson (free Medicaid for Nebraska): 365</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on which Senate changed its min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24 </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http://www.huffingtonpost.com/2009/12/14/liebermans-medicare-flip_n_391732.htm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D65CF90-73F6-45A7-A1EC-AA1D85838FAE}" type="slidenum">
              <a:t>4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I</a:t>
            </a:r>
            <a:endParaRPr b="0" lang="en-US" sz="4400" spc="-1" strike="noStrike">
              <a:solidFill>
                <a:srgbClr val="ff9933"/>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US Senate voted down an anti-abortion amendment, 54 –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8</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Senate adopted a bill that included an anti-abortion amendment they never vot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4</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E82ED5D-593B-4CA3-A3EB-ABD43C67B8C9}" type="slidenum">
              <a:t>49</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Do we have to do this?</a:t>
            </a:r>
            <a:endParaRPr b="0" lang="en-US" sz="4800" spc="-1" strike="noStrike">
              <a:solidFill>
                <a:srgbClr val="ff99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Isn’t this someone else’s job?</a:t>
            </a:r>
            <a:endParaRPr b="0" lang="en-US" sz="4400" spc="-1" strike="noStrike">
              <a:solidFill>
                <a:srgbClr val="ff9933"/>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from Congress sta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NOW IS THE TIME TO HEAR FROM DOCTORS, PATIENTS, AND NURSES ON THE MEDICAL IMPACT IF WE PASS “BLUE CROSS BLUE SHIELD FOR ALL.”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EAB0A25-18BA-4D00-929C-9EE67B726E1F}" type="slidenum">
              <a:t>5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rom the Senate Dec. 17: </a:t>
            </a:r>
            <a:endParaRPr b="0" lang="en-US" sz="4400" spc="-1" strike="noStrike">
              <a:solidFill>
                <a:srgbClr val="ff9933"/>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hone lines being lit up in support of public option makes it harder to ask them to hold 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for a good bill is far from ov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BEBD24B-D987-48CF-A256-3B179521D0A7}" type="slidenum">
              <a:t>5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n We Win?</a:t>
            </a:r>
            <a:endParaRPr b="0" lang="en-US" sz="4400" spc="-1" strike="noStrike">
              <a:solidFill>
                <a:srgbClr val="ff9933"/>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orth it if it isn’t single p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gain g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lerted, becoming educat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machine at work</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fight for what we can win, pave the way for future progr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62F0BE6-EB54-4F54-AA1F-002FA278C30B}" type="slidenum">
              <a:t>5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What’s wrong with the French anyway?</a:t>
            </a:r>
            <a:br>
              <a:rPr sz="4000"/>
            </a:br>
            <a:endParaRPr b="0" lang="en-US" sz="4000" spc="-1" strike="noStrike">
              <a:solidFill>
                <a:srgbClr val="ff9933"/>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ur side in the Revolutionary War against the Britis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ve military assistance turned the tid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health care syste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C4598A7-2CD8-4BF4-8771-3BC6E310090E}" type="slidenum">
              <a:t>5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endParaRPr b="0" lang="en-US" sz="4400" spc="-1" strike="noStrike">
              <a:solidFill>
                <a:srgbClr val="ff9933"/>
              </a:solidFill>
              <a:latin typeface="Arial"/>
            </a:endParaRPr>
          </a:p>
        </p:txBody>
      </p:sp>
      <p:sp>
        <p:nvSpPr>
          <p:cNvPr id="310" name="PlaceHolder 2"/>
          <p:cNvSpPr>
            <a:spLocks noGrp="1"/>
          </p:cNvSpPr>
          <p:nvPr>
            <p:ph/>
          </p:nvPr>
        </p:nvSpPr>
        <p:spPr>
          <a:xfrm>
            <a:off x="533520" y="1218960"/>
            <a:ext cx="8229600" cy="4647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 coverage for health care is crucial</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historic chance to move forwar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so that care is affordable and accessible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A PUBLIC OP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to protect abortion coverage and immigrants’ inclu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2DE4E457-1A85-4336-B6AE-0723B3ADBCEB}" type="slidenum">
              <a:t>5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p to 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critical week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nents still want to kill the bil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public’s job to express our will</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r elected officials’ job to figure out how to do i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BE69692-B76F-4CF8-A396-8C78F2CEEA4F}" type="slidenum">
              <a:t>5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ho Needs to Hear From Us </a:t>
            </a:r>
            <a:endParaRPr b="0" lang="en-US" sz="4000" spc="-1" strike="noStrike">
              <a:solidFill>
                <a:srgbClr val="ff9933"/>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Pelos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amp; Labor Chair George Mill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s &amp; Means – Charlie Rangel. Pete Stark</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mp; Commerce Chair Henry Waxm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o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bam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CF020AF-EDC2-400D-A232-9A6E2B78B929}" type="slidenum">
              <a:t>5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304920" y="1905120"/>
            <a:ext cx="88390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man in his early 20s with a worsening dental infection was unable to afford a dentist.  He finally saw a physician who prescribed an antibiotic, but the patient was unable to pay for the prescription.  He came to our clinic when the infection had spread   to his chest.  He died soon after admission. The egregious is commonplace in our non-system.</a:t>
            </a:r>
            <a:r>
              <a:rPr b="0" lang="en-US"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AVol. 286 No. 20, November 28, 2001"Within the System of No-System," Robert L. Ferrer, MD, MPH</a:t>
            </a:r>
            <a:endParaRPr b="0" lang="en-US" sz="2000" spc="-1" strike="noStrike">
              <a:solidFill>
                <a:srgbClr val="ffffff"/>
              </a:solidFill>
              <a:latin typeface="Arial"/>
            </a:endParaRPr>
          </a:p>
        </p:txBody>
      </p:sp>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9933"/>
                </a:solidFill>
                <a:latin typeface="Arial"/>
              </a:rPr>
              <a:t>Uninsured: Dying from a Toothache in the U.S.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75399F4-0090-4CF2-B13B-1FAC05E08F76}" type="slidenum">
              <a:t>5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lp Us Make History</a:t>
            </a:r>
            <a:endParaRPr b="0" lang="en-US" sz="4400" spc="-1" strike="noStrike">
              <a:solidFill>
                <a:srgbClr val="ff9933"/>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the EQUAL Listser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blank message t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join-equal@list.equalhealth.info</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our websit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enterforpolicyanalysis.or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B20F5E6-9D4D-4FFE-885F-4C37FA9AC04A}" type="slidenum">
              <a:t>5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29000" y="609480"/>
            <a:ext cx="2371680" cy="5715000"/>
          </a:xfrm>
          <a:prstGeom prst="rect">
            <a:avLst/>
          </a:prstGeom>
          <a:ln w="0">
            <a:noFill/>
          </a:ln>
        </p:spPr>
      </p:pic>
      <p:sp>
        <p:nvSpPr>
          <p:cNvPr id="215" name=""/>
          <p:cNvSpPr/>
          <p:nvPr/>
        </p:nvSpPr>
        <p:spPr>
          <a:xfrm>
            <a:off x="1598760" y="1249200"/>
            <a:ext cx="458640" cy="1189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6" name=""/>
          <p:cNvSpPr/>
          <p:nvPr/>
        </p:nvSpPr>
        <p:spPr>
          <a:xfrm>
            <a:off x="1127160" y="1103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
          <p:cNvSpPr/>
          <p:nvPr/>
        </p:nvSpPr>
        <p:spPr>
          <a:xfrm>
            <a:off x="6936120" y="604368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York Times</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904A1E97-37E5-4C42-99F6-21624AEF6DFA}" type="slidenum">
              <a:t>6</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581280" y="533520"/>
            <a:ext cx="2962440" cy="556236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60C63BED-327E-4C60-91CA-C5B426611C2F}" type="slidenum">
              <a:t>7</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67200" y="762120"/>
            <a:ext cx="2873160" cy="541008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138133E4-B606-49E3-B313-48FBB44C8580}" type="slidenum">
              <a:t>8</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124080" y="457200"/>
            <a:ext cx="2941920" cy="579132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7946E951-40C9-42E4-B029-06A14C6DABDF}" type="slidenum">
              <a:t>9</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3:29:32Z</dcterms:created>
  <dc:creator>Ellen</dc:creator>
  <dc:description/>
  <dc:language>en-US</dc:language>
  <cp:lastModifiedBy>EllenS</cp:lastModifiedBy>
  <dcterms:modified xsi:type="dcterms:W3CDTF">2010-01-14T13:40:36Z</dcterms:modified>
  <cp:revision>52</cp:revision>
  <dc:subject/>
  <dc:title>Health Reform</dc:title>
</cp:coreProperties>
</file>