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77600" cy="90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4000680" y="-360"/>
            <a:ext cx="30765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263600" y="667800"/>
            <a:ext cx="4549680" cy="341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22320" y="4303440"/>
            <a:ext cx="52322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400068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435C-6E83-4981-B17B-B1655E5C4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00680" y="8607600"/>
            <a:ext cx="3076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6695-975E-4481-A5D5-C7122D272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63600" y="668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2320" y="4303440"/>
            <a:ext cx="52322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C58-82A9-4A74-A930-1312823E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5908-816D-44C4-B4A8-F9D1C998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656F-3FA6-476C-9D5D-59408F0B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7A1D-8BCB-4F9D-A0AC-3F00279A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8BF3-AF6C-4129-AC85-6CFF7605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6A3C-204F-4CFC-8E10-12534E2E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C002-ECCA-4305-A143-44C0C188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8847-C9CA-44CA-B504-8D3FF2ED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505B-D3E7-4E1A-A0C8-7C75F3F3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8DAF-071A-4C3F-891A-A734EDE7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0359-03D7-416D-AFEB-705600C5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1FC-53A7-4422-9494-54DA7204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C6F6-23D8-401C-B516-F64E3BA3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79C7-259A-4588-8B3F-5C7279A2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9B43-2EA9-4B04-B385-A7690B59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972C-1EA4-4AA3-933C-7BC2568F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35AD-80E7-41AA-BEC5-E3E7F143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FEBA-938C-414C-A9D8-1EDA93B2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D22-2332-4B9E-9743-B05D0304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837-25DA-4E92-BED5-EBB7980F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BE36-9B46-4A2C-8812-C815C23D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223-3ADF-4E55-AA51-CDFD575D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B3E-3904-48FF-A21D-B24BD561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646-7D17-4956-B618-B3666ADC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74520" y="-4680"/>
                <a:ext cx="967320" cy="683280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0560" y="1697040"/>
                <a:ext cx="967680" cy="50076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81360" y="1274040"/>
                <a:ext cx="967680" cy="5029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81360" y="138240"/>
                <a:ext cx="967680" cy="3031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0560" y="989640"/>
                <a:ext cx="967680" cy="3481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2000" y="674640"/>
                <a:ext cx="967680" cy="43272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3080" y="366840"/>
                <a:ext cx="980280" cy="37548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1480" y="3920760"/>
                <a:ext cx="967320" cy="4993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2640" y="3536640"/>
                <a:ext cx="967680" cy="50076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2640" y="2397600"/>
                <a:ext cx="967680" cy="30420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2640" y="3223800"/>
                <a:ext cx="967680" cy="34704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2640" y="2931480"/>
                <a:ext cx="967680" cy="427680"/>
              </a:xfrm>
              <a:custGeom>
                <a:avLst/>
                <a:gdLst>
                  <a:gd name="textAreaLeft" fmla="*/ 0 w 967680"/>
                  <a:gd name="textAreaRight" fmla="*/ 967680 w 967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2280" y="2610720"/>
                <a:ext cx="980280" cy="37584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52880"/>
                <a:ext cx="967320" cy="4993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9040" y="4533120"/>
                <a:ext cx="967320" cy="5029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1480" y="5640120"/>
                <a:ext cx="967320" cy="30312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5600"/>
                <a:ext cx="345960" cy="969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69120"/>
                  <a:gd name="textAreaBottom" fmla="*/ 969480 h 969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88400"/>
                <a:ext cx="967320" cy="427680"/>
              </a:xfrm>
              <a:custGeom>
                <a:avLst/>
                <a:gdLst>
                  <a:gd name="textAreaLeft" fmla="*/ -360 w 967320"/>
                  <a:gd name="textAreaRight" fmla="*/ 967320 w 9673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73400"/>
                <a:ext cx="980280" cy="375840"/>
              </a:xfrm>
              <a:custGeom>
                <a:avLst/>
                <a:gdLst>
                  <a:gd name="textAreaLeft" fmla="*/ -360 w 980280"/>
                  <a:gd name="textAreaRight" fmla="*/ 980280 w 98028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48AA-9F12-4F75-930F-7A1823255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5257800"/>
            <a:ext cx="9147240" cy="1063800"/>
            <a:chOff x="-3600" y="525780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5299200"/>
              <a:ext cx="9146880" cy="1022040"/>
              <a:chOff x="-3240" y="529920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124416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546984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546912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561132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557064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551664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55695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0720" y="546336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54612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560340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55627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551088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555120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5520" y="546984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546912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3080" y="5600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529920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8920" y="551088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555120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525780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602136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8340-1972-47F0-904E-C030E4F73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6629400" cy="25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Times New Roman"/>
              </a:rPr>
              <a:t>Recovery and the Patient Perspective in an In-Patient Setting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304776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Office for Consumer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tra Costa Ment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6"/>
          <p:cNvSpPr/>
          <p:nvPr/>
        </p:nvSpPr>
        <p:spPr>
          <a:xfrm>
            <a:off x="762120" y="342900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32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Educational Nee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ntrol of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Effects of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Soci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Participation in Treatment Decisions (Shared Decision-Making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Recovery Pathway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The Five Pathways of  Recove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Spirit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HOPE: Encouraging Others and Focusing on Strength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2d5c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some of your strength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have you done that makes you prou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gives you ho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do that makes you happy or you like to share with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CHOICE: Helping Others to Reconnect With Who They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like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would you like to l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want most out of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your goa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is one of the best choices you have ma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EMPOWERMENT: Assisting Others With Taking Action and Finding Their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If you picture the best thing you’d like to see happen with this, what would it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feel about this sit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options have you considered to solve this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are your choi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RECOVERY ENVIRONM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value about your commu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connect with people who share your val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ere do you go to feel uplif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encourage 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3716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SPIRITUALITY: FINDING MEANING AND PUR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43000" y="2133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do you value about spiritu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connect with your spiritual po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hat can you do to enhance your spiritua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ow do you share this with 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1600200" y="304920"/>
            <a:ext cx="6934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Holistic (i.e., biological, psychological, social, and spiritual) view of mental illness that focuses on the person, not just the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is not dependent on one’s ideas about the causes of mental il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1447920" y="488880"/>
            <a:ext cx="701028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from severe psychiatric disabilities is achie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can occur even though symptoms may re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1600200" y="304920"/>
            <a:ext cx="64008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ndividuals are responsible for 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Recovery requires a well-organized support system that is responsive to the person’s needs and doesn’t tie the person’s needs only to existing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Office for Consumer Empower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The Contra Costa Mental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O</a:t>
            </a:r>
            <a:r>
              <a:rPr b="1" lang="en-US" sz="2900" spc="-1" strike="noStrike">
                <a:solidFill>
                  <a:srgbClr val="0099cc"/>
                </a:solidFill>
                <a:latin typeface="Arial"/>
              </a:rPr>
              <a:t>ffice for Consumer Empowerment  represents and encourages the inclusion of the consumer perspective in planning, service delivery, policy development, and evaluation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99cc"/>
                </a:solidFill>
                <a:latin typeface="Arial"/>
              </a:rPr>
              <a:t>We educate, empower and motivate consumers to engage in their own individual recovery and become active in the communit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The Recovery Model: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Basic Attributes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7324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Each individual is viewed as a person first, making the equitable rights and opportunities in community membership a key conce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Maintains a consumer-based focus, noting that diversity factors do not operate in the same way for all consumers of the same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imes New Roman"/>
              </a:rPr>
              <a:t>(The Contra Costa Mental Health Recovery Task Force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Times New Roman"/>
              </a:rPr>
              <a:t>Warning Signs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7324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Pay attention to early warning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Help the patient to notice their warning signs and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Introduce the patient to WRAP: Wellness Recovery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Utilize WRAP in discharg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1600200" y="609480"/>
            <a:ext cx="716292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Key Elements of WRAP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Wellness Toolbo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Daily Maintenance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Triggers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Early Warning Signs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Identifying When Things Are Breaking Down and an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Crisis Pla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Post Crisis Plan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-3124080" y="1523880"/>
            <a:ext cx="16886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In all my years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with psychiatric professional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 one thing that’s been most hearte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is when the professional acknowl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 common humanit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theirs and mine, ours together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(Unnamed Consumer Study Particip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  <a:ea typeface="Arial"/>
              </a:rPr>
              <a:t>Our Mission Stat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  <a:ea typeface="Times New Roman"/>
              </a:rPr>
              <a:t>Through education and engagement, we empower consumers to play an active role in transforming the system to recovery-based, consumer-driven, culturally competent services and sup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1447920" y="3049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1371600" y="38088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Office for Consumer Empower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orbidity  in Persons Recovering from  Mental Ill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ontent Placeholder 3" descr="Comorbidity Rates.jpg"/>
          <p:cNvPicPr/>
          <p:nvPr/>
        </p:nvPicPr>
        <p:blipFill>
          <a:blip r:embed="rId1"/>
          <a:stretch/>
        </p:blipFill>
        <p:spPr>
          <a:xfrm>
            <a:off x="1776240" y="1981080"/>
            <a:ext cx="656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is remembering who you are and using your strengths to become all that you were meant to be.” – Recovery Innovations,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752480" y="1676520"/>
            <a:ext cx="632484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“ 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The task is not to become normal. The task is to take up your journey of recovery and to become who you are called to be.” – Patricia E. Dee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The Recovery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What Is Recove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covery is a deeply personal, unique process changing one’s attitude, values, feelings, goals, skills, and/or roles. It is a way of living a satisfying, hopeful, and contributing life. Recovery involves the development of new meaning and purpose in one’s life as one grows beyond the catastrophic effects of psychiatric disability.” – Dr. William Ant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</a:t>
            </a:r>
            <a:br>
              <a:rPr sz="3800"/>
            </a:b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1752480"/>
            <a:ext cx="766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e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spect Confidentiality yet Maintain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Look for Interactions Between 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e with the Patient and Their Psychiatrist Before Switching M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How Does Using a Recovery Approach Impact Patient Identified Issu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Respect Recovery from Co-Occurring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Self-Reliance vs.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trol vs.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Working with Perceptions of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nsumer’s Need for Time and Attention From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ommunication and Empa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23:02:31Z</dcterms:created>
  <dc:creator>alubarov</dc:creator>
  <dc:description/>
  <dc:language>en-US</dc:language>
  <cp:lastModifiedBy>smedlin</cp:lastModifiedBy>
  <dcterms:modified xsi:type="dcterms:W3CDTF">2010-05-26T01:55:22Z</dcterms:modified>
  <cp:revision>95</cp:revision>
  <dc:subject/>
  <dc:title>Recovery Training??</dc:title>
</cp:coreProperties>
</file>