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7077075" cy="9050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077600" cy="905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656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4000680" y="-360"/>
            <a:ext cx="307656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263600" y="667800"/>
            <a:ext cx="4549680" cy="341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22320" y="4303440"/>
            <a:ext cx="5232240" cy="40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0" y="8607600"/>
            <a:ext cx="307656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4000680" y="8607600"/>
            <a:ext cx="307656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8F3B7-B023-48CD-B7AE-1F7D86720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00680" y="8607600"/>
            <a:ext cx="30765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BBD97-6044-4B5C-A6D6-64B8372EBF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263600" y="66816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22320" y="4303440"/>
            <a:ext cx="523224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A783-2274-4C36-BA44-C187851A2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A5B7-94B8-4037-8679-5127FD948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2968-A60C-4A09-96A6-405BFACAF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74CB-095A-44E3-A7A8-FE7104CC2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57F25-CDE0-47A8-B126-D35F696E9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C8261-D7BC-4DF9-9679-D8847C7A0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586AA-68DB-463B-99A2-902F6B72F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33CDD-AD21-4ADF-A9F9-DA8D08F3E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87C5A-1B53-459C-A21C-D4FD3D4EC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0B7F7-7ECA-4988-AA61-14BA31C89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0B4E3-79B1-49CA-8B76-2ED75CD9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B33A-4520-4C9B-ABC4-2321439AF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9B9C3-A31F-4AF0-AA0D-8A502D60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795D1-8B25-4828-9A81-8262BE00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5DF5F-8F6F-46D8-BA86-E89EA163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40A7F-6714-4F26-84B5-BC33A0BBB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D4F84-57B0-4E0B-BAE4-A3D3E7141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9064-E6C6-4C48-8F1A-9D1F5D736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723C-5125-49FE-98B2-A752D26A7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F703-9566-438F-BF07-371736BB3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5DF4-3B5A-43F4-97E8-9294FDF71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86B6-0AFB-4AA0-A295-9769097B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5C50-B83E-49BC-99C7-EA5EFD9C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89DE-C7EE-452B-9582-6B87FCAA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74520" y="-4680"/>
                <a:ext cx="967320" cy="6832800"/>
              </a:xfrm>
              <a:custGeom>
                <a:avLst/>
                <a:gdLst>
                  <a:gd name="textAreaLeft" fmla="*/ -360 w 967320"/>
                  <a:gd name="textAreaRight" fmla="*/ 967320 w 96732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0560" y="1697040"/>
                <a:ext cx="967680" cy="500760"/>
              </a:xfrm>
              <a:custGeom>
                <a:avLst/>
                <a:gdLst>
                  <a:gd name="textAreaLeft" fmla="*/ 0 w 967680"/>
                  <a:gd name="textAreaRight" fmla="*/ 967680 w 967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81360" y="1274040"/>
                <a:ext cx="967680" cy="502920"/>
              </a:xfrm>
              <a:custGeom>
                <a:avLst/>
                <a:gdLst>
                  <a:gd name="textAreaLeft" fmla="*/ 0 w 967680"/>
                  <a:gd name="textAreaRight" fmla="*/ 967680 w 9676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81360" y="138240"/>
                <a:ext cx="967680" cy="303120"/>
              </a:xfrm>
              <a:custGeom>
                <a:avLst/>
                <a:gdLst>
                  <a:gd name="textAreaLeft" fmla="*/ 0 w 967680"/>
                  <a:gd name="textAreaRight" fmla="*/ 967680 w 96768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0560" y="989640"/>
                <a:ext cx="967680" cy="348120"/>
              </a:xfrm>
              <a:custGeom>
                <a:avLst/>
                <a:gdLst>
                  <a:gd name="textAreaLeft" fmla="*/ 0 w 967680"/>
                  <a:gd name="textAreaRight" fmla="*/ 967680 w 96768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2000" y="674640"/>
                <a:ext cx="967680" cy="432720"/>
              </a:xfrm>
              <a:custGeom>
                <a:avLst/>
                <a:gdLst>
                  <a:gd name="textAreaLeft" fmla="*/ 0 w 967680"/>
                  <a:gd name="textAreaRight" fmla="*/ 967680 w 96768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3080" y="366840"/>
                <a:ext cx="980280" cy="375480"/>
              </a:xfrm>
              <a:custGeom>
                <a:avLst/>
                <a:gdLst>
                  <a:gd name="textAreaLeft" fmla="*/ -360 w 980280"/>
                  <a:gd name="textAreaRight" fmla="*/ 980280 w 98028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1480" y="3920760"/>
                <a:ext cx="967320" cy="499320"/>
              </a:xfrm>
              <a:custGeom>
                <a:avLst/>
                <a:gdLst>
                  <a:gd name="textAreaLeft" fmla="*/ -360 w 967320"/>
                  <a:gd name="textAreaRight" fmla="*/ 967320 w 967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2640" y="3536640"/>
                <a:ext cx="967680" cy="500760"/>
              </a:xfrm>
              <a:custGeom>
                <a:avLst/>
                <a:gdLst>
                  <a:gd name="textAreaLeft" fmla="*/ 0 w 967680"/>
                  <a:gd name="textAreaRight" fmla="*/ 967680 w 967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2640" y="2397600"/>
                <a:ext cx="967680" cy="304200"/>
              </a:xfrm>
              <a:custGeom>
                <a:avLst/>
                <a:gdLst>
                  <a:gd name="textAreaLeft" fmla="*/ 0 w 967680"/>
                  <a:gd name="textAreaRight" fmla="*/ 967680 w 9676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2640" y="3223800"/>
                <a:ext cx="967680" cy="347040"/>
              </a:xfrm>
              <a:custGeom>
                <a:avLst/>
                <a:gdLst>
                  <a:gd name="textAreaLeft" fmla="*/ 0 w 967680"/>
                  <a:gd name="textAreaRight" fmla="*/ 967680 w 96768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2640" y="2931480"/>
                <a:ext cx="967680" cy="427680"/>
              </a:xfrm>
              <a:custGeom>
                <a:avLst/>
                <a:gdLst>
                  <a:gd name="textAreaLeft" fmla="*/ 0 w 967680"/>
                  <a:gd name="textAreaRight" fmla="*/ 967680 w 967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2280" y="2610720"/>
                <a:ext cx="980280" cy="375840"/>
              </a:xfrm>
              <a:custGeom>
                <a:avLst/>
                <a:gdLst>
                  <a:gd name="textAreaLeft" fmla="*/ -360 w 980280"/>
                  <a:gd name="textAreaRight" fmla="*/ 980280 w 98028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240" y="4952880"/>
                <a:ext cx="967320" cy="499320"/>
              </a:xfrm>
              <a:custGeom>
                <a:avLst/>
                <a:gdLst>
                  <a:gd name="textAreaLeft" fmla="*/ -360 w 967320"/>
                  <a:gd name="textAreaRight" fmla="*/ 967320 w 967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9040" y="4533120"/>
                <a:ext cx="967320" cy="502920"/>
              </a:xfrm>
              <a:custGeom>
                <a:avLst/>
                <a:gdLst>
                  <a:gd name="textAreaLeft" fmla="*/ -360 w 967320"/>
                  <a:gd name="textAreaRight" fmla="*/ 967320 w 9673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1480" y="5640120"/>
                <a:ext cx="967320" cy="303120"/>
              </a:xfrm>
              <a:custGeom>
                <a:avLst/>
                <a:gdLst>
                  <a:gd name="textAreaLeft" fmla="*/ -360 w 967320"/>
                  <a:gd name="textAreaRight" fmla="*/ 967320 w 9673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5600"/>
                <a:ext cx="345960" cy="9691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69120"/>
                  <a:gd name="textAreaBottom" fmla="*/ 969480 h 9691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0680" y="6188400"/>
                <a:ext cx="967320" cy="427680"/>
              </a:xfrm>
              <a:custGeom>
                <a:avLst/>
                <a:gdLst>
                  <a:gd name="textAreaLeft" fmla="*/ -360 w 967320"/>
                  <a:gd name="textAreaRight" fmla="*/ 967320 w 96732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0680" y="5873400"/>
                <a:ext cx="980280" cy="375840"/>
              </a:xfrm>
              <a:custGeom>
                <a:avLst/>
                <a:gdLst>
                  <a:gd name="textAreaLeft" fmla="*/ -360 w 980280"/>
                  <a:gd name="textAreaRight" fmla="*/ 980280 w 98028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7FF1B-0DE9-4E78-8B90-764F8C82F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5257800"/>
            <a:ext cx="9147240" cy="1063800"/>
            <a:chOff x="-3600" y="525780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5299200"/>
              <a:ext cx="9146880" cy="1022040"/>
              <a:chOff x="-3240" y="529920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124416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546984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546912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120" y="5611320"/>
                <a:ext cx="990720" cy="4042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557064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551664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55695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0720" y="5463360"/>
                <a:ext cx="990360" cy="6678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54612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5603400"/>
                <a:ext cx="990720" cy="4046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55627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551088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555120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5520" y="5469840"/>
                <a:ext cx="990720" cy="667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546912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3080" y="5600160"/>
                <a:ext cx="990720" cy="4046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529920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8920" y="551088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555120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525780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602136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5F377-4F9C-4FCE-8240-58A11F39A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6629400" cy="25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Times New Roman"/>
              </a:rPr>
              <a:t>Recovery and the Patient Perspective in an In-Patient Setting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838080" y="3047760"/>
            <a:ext cx="69343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Office for Consumer Empower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Contra Costa Mental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6"/>
          <p:cNvSpPr/>
          <p:nvPr/>
        </p:nvSpPr>
        <p:spPr>
          <a:xfrm>
            <a:off x="762120" y="3429000"/>
            <a:ext cx="670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Times New Roman"/>
              </a:rPr>
              <a:t>How Does Using a Recovery Approach Impact Patient Identified Issue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17324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Educational Nee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Med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Control of Symp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Effects of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Social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Participation in Treatment Decisions (Shared Decision-Making Mod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Recovery Pathway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7324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cc"/>
                </a:solidFill>
                <a:latin typeface="Arial"/>
              </a:rPr>
              <a:t>The Five Pathways of  Recover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60000"/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H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60000"/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Ch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60000"/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Empower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60000"/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Recovery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60000"/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Spirit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HOPE: Encouraging Others and Focusing on Strength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2d5cb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at are some of your strength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at have you done that makes you prou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at gives you hop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at do you do that makes you happy or you like to share with oth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137160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CHOICE: Helping Others to Reconnect With Who They A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at do you like to 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ere would you like to liv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at do you want most out of lif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at are your goal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at is one of the best choices you have mad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137160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EMPOWERMENT: Assisting Others With Taking Action and Finding Their Pow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1143000" y="2133720"/>
            <a:ext cx="77724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If you picture the best thing you’d like to see happen with this, what would it b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How do you feel about this situ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at options have you considered to solve this proble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at are your choic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137160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RECOVERY ENVIRONMENT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1143000" y="2133720"/>
            <a:ext cx="77724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at do you value about your communit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How do you connect with people who share your valu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ere do you go to feel uplift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How do you encourage othe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137160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SPIRITUALITY: FINDING MEANING AND PURPO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143000" y="2133720"/>
            <a:ext cx="77724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at do you value about spiritualit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How do you connect with your spiritual pow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at can you do to enhance your spiritualit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How do you share this with othe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2"/>
          <p:cNvSpPr/>
          <p:nvPr/>
        </p:nvSpPr>
        <p:spPr>
          <a:xfrm>
            <a:off x="1600200" y="304920"/>
            <a:ext cx="69343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The Recovery Model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Basic Attribut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Holistic (i.e., biological, psychological, social, and spiritual) view of mental illness that focuses on the person, not just the symp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Recovery is not dependent on one’s ideas about the causes of mental ill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Times New Roman"/>
              </a:rPr>
              <a:t>(The Contra Costa Mental Health Recovery Task Force 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"/>
          <p:cNvSpPr/>
          <p:nvPr/>
        </p:nvSpPr>
        <p:spPr>
          <a:xfrm>
            <a:off x="1447920" y="488880"/>
            <a:ext cx="7010280" cy="59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Times New Roman"/>
              </a:rPr>
              <a:t>The Recovery Model: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Times New Roman"/>
              </a:rPr>
              <a:t>Basic Attribute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Recovery from severe psychiatric disabilities is achiev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Recovery can occur even though symptoms may reocc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Times New Roman"/>
              </a:rPr>
              <a:t>(The Contra Costa Mental Health Recovery Task Force 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"/>
          <p:cNvSpPr/>
          <p:nvPr/>
        </p:nvSpPr>
        <p:spPr>
          <a:xfrm>
            <a:off x="1600200" y="304920"/>
            <a:ext cx="6400800" cy="65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The Recovery Model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Basic Attribut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Individuals are responsible for the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Recovery requires a well-organized support system that is responsive to the person’s needs and doesn’t tie the person’s needs only to existing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Times New Roman"/>
              </a:rPr>
              <a:t>(The Contra Costa Mental Health Recovery Task Force 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Times New Roman"/>
              </a:rPr>
              <a:t>Office for Consumer Empowermen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The Contra Costa Mental Heal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O</a:t>
            </a:r>
            <a:r>
              <a:rPr b="1" lang="en-US" sz="2900" spc="-1" strike="noStrike">
                <a:solidFill>
                  <a:srgbClr val="0099cc"/>
                </a:solidFill>
                <a:latin typeface="Arial"/>
              </a:rPr>
              <a:t>ffice for Consumer Empowerment  represents and encourages the inclusion of the consumer perspective in planning, service delivery, policy development, and evaluation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99cc"/>
                </a:solidFill>
                <a:latin typeface="Arial"/>
              </a:rPr>
              <a:t>We educate, empower and motivate consumers to engage in their own individual recovery and become active in the community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The Recovery Model:</a:t>
            </a:r>
            <a:br>
              <a:rPr sz="4000"/>
            </a:b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Basic Attributes</a:t>
            </a:r>
            <a:br>
              <a:rPr sz="4000"/>
            </a:b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17324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Each individual is viewed as a person first, making the equitable rights and opportunities in community membership a key conce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Maintains a consumer-based focus, noting that diversity factors do not operate in the same way for all consumers of the same 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Times New Roman"/>
              </a:rPr>
              <a:t>(The Contra Costa Mental Health Recovery Task Force 2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Times New Roman"/>
              </a:rPr>
              <a:t>Warning Signs 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17324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5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Pay attention to early warning s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5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Help the patient to notice their warning signs and trig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5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Introduce the patient to WRAP: Wellness Recovery Actio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5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Utilize WRAP in discharg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"/>
          <p:cNvSpPr/>
          <p:nvPr/>
        </p:nvSpPr>
        <p:spPr>
          <a:xfrm>
            <a:off x="1600200" y="609480"/>
            <a:ext cx="7162920" cy="56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Key Elements of WRAP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Wellness Toolbox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Daily Maintenance Pl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Identifying Triggers and an Action Pl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Identifying Early Warning Signs and an Action Pl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Identifying When Things Are Breaking Down and an Action Pl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Crisis Plann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Post Crisis Plannin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-3124080" y="1523880"/>
            <a:ext cx="16886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In all my years exper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with psychiatric professional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the one thing that’s been most hearten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is when the professional acknowled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the common humanity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theirs and mine, ours together.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(Unnamed Consumer Study Participa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95280" y="198072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  <a:ea typeface="Arial"/>
              </a:rPr>
              <a:t>Our Mission State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99cc"/>
                </a:solidFill>
                <a:latin typeface="Arial"/>
                <a:ea typeface="Times New Roman"/>
              </a:rPr>
              <a:t>Through education and engagement, we empower consumers to play an active role in transforming the system to recovery-based, consumer-driven, culturally competent services and suppor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7"/>
          <p:cNvSpPr/>
          <p:nvPr/>
        </p:nvSpPr>
        <p:spPr>
          <a:xfrm>
            <a:off x="1447920" y="30492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28"/>
          <p:cNvSpPr/>
          <p:nvPr/>
        </p:nvSpPr>
        <p:spPr>
          <a:xfrm>
            <a:off x="1371600" y="380880"/>
            <a:ext cx="7010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Times New Roman"/>
              </a:rPr>
              <a:t>Office for Consumer Empower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morbidity  in Persons Recovering from  Mental Illnes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5" name="Content Placeholder 3" descr="Comorbidity Rates.jpg"/>
          <p:cNvPicPr/>
          <p:nvPr/>
        </p:nvPicPr>
        <p:blipFill>
          <a:blip r:embed="rId1"/>
          <a:stretch/>
        </p:blipFill>
        <p:spPr>
          <a:xfrm>
            <a:off x="1776240" y="1981080"/>
            <a:ext cx="6566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Times New Roman"/>
              </a:rPr>
              <a:t>The Recovery Mode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cc"/>
                </a:solidFill>
                <a:latin typeface="Arial"/>
              </a:rPr>
              <a:t>What Is Recover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Recovery is remembering who you are and using your strengths to become all that you were meant to be.” – Recovery Innovations, In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The Recovery Mode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7391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3"/>
          <p:cNvSpPr/>
          <p:nvPr/>
        </p:nvSpPr>
        <p:spPr>
          <a:xfrm>
            <a:off x="1752480" y="1676520"/>
            <a:ext cx="6324840" cy="33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cc"/>
                </a:solidFill>
                <a:latin typeface="Arial"/>
              </a:rPr>
              <a:t>What Is Recover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“ </a:t>
            </a: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The task is not to become normal. The task is to take up your journey of recovery and to become who you are called to be.” – Patricia E. Deeg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Times New Roman"/>
              </a:rPr>
              <a:t>The Recovery Mode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716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99cc"/>
                </a:solidFill>
                <a:latin typeface="Arial"/>
              </a:rPr>
              <a:t>What Is Recover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Recovery is a deeply personal, unique process changing one’s attitude, values, feelings, goals, skills, and/or roles. It is a way of living a satisfying, hopeful, and contributing life. Recovery involves the development of new meaning and purpose in one’s life as one grows beyond the catastrophic effects of psychiatric disability.” – Dr. William Anth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3800" spc="-1" strike="noStrike">
                <a:solidFill>
                  <a:srgbClr val="336699"/>
                </a:solidFill>
                <a:latin typeface="Times New Roman"/>
              </a:rPr>
              <a:t>How Does Using a Recovery Approach Impact Patient Identified Issues</a:t>
            </a:r>
            <a:br>
              <a:rPr sz="3800"/>
            </a:br>
            <a:endParaRPr b="0" lang="en-US" sz="3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990720" y="1752480"/>
            <a:ext cx="766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Communicate H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Respect Confidentiality yet Maintain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Look for Interactions Between Med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Communicate with the Patient and Their Psychiatrist Before Switching M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Times New Roman"/>
              </a:rPr>
              <a:t>How Does Using a Recovery Approach Impact Patient Identified Issue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Respect Recovery from Co-Occurring Dis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Self-Reliance vs. Depen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Control vs. Ch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orking with Perceptions of 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Consumer’s Need for Time and Attention From Staf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Communication and Empat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4T23:02:31Z</dcterms:created>
  <dc:creator>alubarov</dc:creator>
  <dc:description/>
  <dc:language>en-US</dc:language>
  <cp:lastModifiedBy>smedlin</cp:lastModifiedBy>
  <dcterms:modified xsi:type="dcterms:W3CDTF">2010-05-26T01:55:22Z</dcterms:modified>
  <cp:revision>95</cp:revision>
  <dc:subject/>
  <dc:title>Recovery Training??</dc:title>
</cp:coreProperties>
</file>