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77600" cy="90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4000680" y="-360"/>
            <a:ext cx="30765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263600" y="667800"/>
            <a:ext cx="4549680" cy="341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22320" y="4303440"/>
            <a:ext cx="52322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8607600"/>
            <a:ext cx="3076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4000680" y="8607600"/>
            <a:ext cx="3076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2EC8-C4A7-422F-B397-19F9B8877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00680" y="8607600"/>
            <a:ext cx="3076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AD34-B07A-4287-AC51-9FC1973F3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63600" y="6681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2320" y="4303440"/>
            <a:ext cx="52322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09B0-1D0F-4EC2-A3C6-C47FF9D1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DD23-D2E3-4452-9522-C3B25001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C79-BF36-4016-97BF-A60C11E3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73DE-D468-4018-BB46-942F0F7B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11BB-654E-4ED7-B3D8-F265A828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929F-C734-41B9-B6C6-E5D712E9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ECD3-B610-44AE-9A03-39F13AEB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4A84-1E36-487D-BEAB-9CED5CFB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DD7E-9A88-4D83-B7B6-86FC8A04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17EE-E5BC-46DD-A6E1-39929B1C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DCE2-A65B-4B3F-ADC3-C0F467E4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E80-1B62-4503-9A6C-011504A7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CABE-A58D-4D42-8588-B5E0B9EF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77D4-1034-4EFE-B8D3-8A26211B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D54D-0112-4981-A6F0-BB9A1F3B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BFE8-AD4D-494F-9B63-399952DC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1DB2-4478-4DD3-ABD7-34A7374B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D3F-6ACF-4619-A023-76A89F2A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8ED8-EAC7-4193-875F-4F53CB67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58A-A6B6-4F82-91F5-6C932D21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467-FEE3-4715-8C79-57572B25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D60-F11F-4DE1-B7AF-00C7E5FB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EC02-39A7-4258-98AA-CA9C4370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0896-6F16-46ED-8AA5-B966C0E3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74520" y="-4680"/>
                <a:ext cx="967320" cy="683280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0560" y="1697040"/>
                <a:ext cx="967680" cy="50076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81360" y="1274040"/>
                <a:ext cx="967680" cy="5029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81360" y="138240"/>
                <a:ext cx="967680" cy="3031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0560" y="989640"/>
                <a:ext cx="967680" cy="3481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2000" y="674640"/>
                <a:ext cx="967680" cy="4327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3080" y="366840"/>
                <a:ext cx="980280" cy="375480"/>
              </a:xfrm>
              <a:custGeom>
                <a:avLst/>
                <a:gdLst>
                  <a:gd name="textAreaLeft" fmla="*/ -360 w 980280"/>
                  <a:gd name="textAreaRight" fmla="*/ 980280 w 98028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1480" y="3920760"/>
                <a:ext cx="967320" cy="4993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2640" y="3536640"/>
                <a:ext cx="967680" cy="50076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2640" y="2397600"/>
                <a:ext cx="967680" cy="30420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2640" y="3223800"/>
                <a:ext cx="967680" cy="34704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2640" y="2931480"/>
                <a:ext cx="967680" cy="42768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2280" y="2610720"/>
                <a:ext cx="980280" cy="375840"/>
              </a:xfrm>
              <a:custGeom>
                <a:avLst/>
                <a:gdLst>
                  <a:gd name="textAreaLeft" fmla="*/ -360 w 980280"/>
                  <a:gd name="textAreaRight" fmla="*/ 980280 w 98028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52880"/>
                <a:ext cx="967320" cy="4993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9040" y="4533120"/>
                <a:ext cx="967320" cy="5029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1480" y="5640120"/>
                <a:ext cx="967320" cy="3031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5600"/>
                <a:ext cx="345960" cy="969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69120"/>
                  <a:gd name="textAreaBottom" fmla="*/ 969480 h 969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88400"/>
                <a:ext cx="967320" cy="42768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73400"/>
                <a:ext cx="980280" cy="375840"/>
              </a:xfrm>
              <a:custGeom>
                <a:avLst/>
                <a:gdLst>
                  <a:gd name="textAreaLeft" fmla="*/ -360 w 980280"/>
                  <a:gd name="textAreaRight" fmla="*/ 980280 w 98028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EA03-63C0-4AF7-8C97-C6DF93A28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5257800"/>
            <a:ext cx="9147240" cy="1063800"/>
            <a:chOff x="-3600" y="525780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5299200"/>
              <a:ext cx="9146880" cy="1022040"/>
              <a:chOff x="-3240" y="529920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124416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546984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546912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561132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557064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551664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55695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0720" y="5463360"/>
                <a:ext cx="990360" cy="6678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54612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560340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55627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551088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555120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5520" y="546984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546912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3080" y="5600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529920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8920" y="551088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555120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525780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602136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B89B-78BC-4C0F-899F-32B3A42E3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6629400" cy="25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Times New Roman"/>
              </a:rPr>
              <a:t>Recovery and the Patient Perspective in an In-Patient Setting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30477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Office for Consumer 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ntra Costa Ment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6"/>
          <p:cNvSpPr/>
          <p:nvPr/>
        </p:nvSpPr>
        <p:spPr>
          <a:xfrm>
            <a:off x="762120" y="342900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Does Using a Recovery Approach Impact Patient Identified Issu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32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Educational Nee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ntrol of Symp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Effects of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Soci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Participation in Treatment Decisions (Shared Decision-Making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Recovery Pathway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The Five Pathways of  Recove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covery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Spirit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HOPE: Encouraging Others and Focusing on Strength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2d5c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are some of your strengt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have you done that makes you prou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gives you ho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do that makes you happy or you like to share with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CHOICE: Helping Others to Reconnect With Who They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like to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would you like to li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want most out of li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are your goa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is one of the best choices you have ma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EMPOWERMENT: Assisting Others With Taking Action and Finding Their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143000" y="21337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If you picture the best thing you’d like to see happen with this, what would it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feel about this situ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options have you considered to solve this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are your choi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RECOVERY ENVIRONMEN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143000" y="21337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value about your commun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connect with people who share your val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do you go to feel uplif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encourage oth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SPIRITUALITY: FINDING MEANING AND PURP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43000" y="21337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value about spiritua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connect with your spiritual pow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can you do to enhance your spiritua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share this with oth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2"/>
          <p:cNvSpPr/>
          <p:nvPr/>
        </p:nvSpPr>
        <p:spPr>
          <a:xfrm>
            <a:off x="1600200" y="304920"/>
            <a:ext cx="6934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The Recovery Model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Basic Attribu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Holistic (i.e., biological, psychological, social, and spiritual) view of mental illness that focuses on the person, not just the symp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is not dependent on one’s ideas about the causes of mental ill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1447920" y="488880"/>
            <a:ext cx="701028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Times New Roman"/>
              </a:rPr>
              <a:t>The Recovery Model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Times New Roman"/>
              </a:rPr>
              <a:t>Basic Attribut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from severe psychiatric disabilities is achie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can occur even though symptoms may re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1600200" y="304920"/>
            <a:ext cx="64008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The Recovery Model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Basic Attribu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ndividuals are responsible for th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requires a well-organized support system that is responsive to the person’s needs and doesn’t tie the person’s needs only to existing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Office for Consumer Empower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he Contra Costa Mental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O</a:t>
            </a:r>
            <a:r>
              <a:rPr b="1" lang="en-US" sz="2900" spc="-1" strike="noStrike">
                <a:solidFill>
                  <a:srgbClr val="0099cc"/>
                </a:solidFill>
                <a:latin typeface="Arial"/>
              </a:rPr>
              <a:t>ffice for Consumer Empowerment  represents and encourages the inclusion of the consumer perspective in planning, service delivery, policy development, and evaluation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99cc"/>
                </a:solidFill>
                <a:latin typeface="Arial"/>
              </a:rPr>
              <a:t>We educate, empower and motivate consumers to engage in their own individual recovery and become active in the communit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The Recovery Model: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Basic Attributes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7324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Each individual is viewed as a person first, making the equitable rights and opportunities in community membership a key conce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Maintains a consumer-based focus, noting that diversity factors do not operate in the same way for all consumers of the same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Times New Roman"/>
              </a:rPr>
              <a:t>Warning Signs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7324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Pay attention to early warning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elp the patient to notice their warning signs and tri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Introduce the patient to WRAP: Wellness Recovery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Utilize WRAP in discharg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1600200" y="609480"/>
            <a:ext cx="716292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Key Elements of WRAP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Wellness Toolbo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Daily Maintenance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dentifying Triggers and an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dentifying Early Warning Signs and an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dentifying When Things Are Breaking Down and an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Crisis Plan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Post Crisis Plan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-3124080" y="1523880"/>
            <a:ext cx="16886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In all my years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with psychiatric professional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the one thing that’s been most hearte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is when the professional acknowl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the common humanit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theirs and mine, ours together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(Unnamed Consumer Study Particip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  <a:ea typeface="Arial"/>
              </a:rPr>
              <a:t>Our Mission Stat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  <a:ea typeface="Times New Roman"/>
              </a:rPr>
              <a:t>Through education and engagement, we empower consumers to play an active role in transforming the system to recovery-based, consumer-driven, culturally competent services and sup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7"/>
          <p:cNvSpPr/>
          <p:nvPr/>
        </p:nvSpPr>
        <p:spPr>
          <a:xfrm>
            <a:off x="1447920" y="3049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1371600" y="38088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Office for Consumer Empower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orbidity  in Persons Recovering from  Mental Ill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ontent Placeholder 3" descr="Comorbidity Rates.jpg"/>
          <p:cNvPicPr/>
          <p:nvPr/>
        </p:nvPicPr>
        <p:blipFill>
          <a:blip r:embed="rId1"/>
          <a:stretch/>
        </p:blipFill>
        <p:spPr>
          <a:xfrm>
            <a:off x="1776240" y="1981080"/>
            <a:ext cx="6566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The Recovery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What Is Recove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covery is remembering who you are and using your strengths to become all that you were meant to be.” – Recovery Innovations, I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he Recovery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1752480" y="1676520"/>
            <a:ext cx="632484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What Is Recove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“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The task is not to become normal. The task is to take up your journey of recovery and to become who you are called to be.” – Patricia E. Dee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The Recovery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What Is Recove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covery is a deeply personal, unique process changing one’s attitude, values, feelings, goals, skills, and/or roles. It is a way of living a satisfying, hopeful, and contributing life. Recovery involves the development of new meaning and purpose in one’s life as one grows beyond the catastrophic effects of psychiatric disability.” – Dr. William Ant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Times New Roman"/>
              </a:rPr>
              <a:t>How Does Using a Recovery Approach Impact Patient Identified Issues</a:t>
            </a:r>
            <a:br>
              <a:rPr sz="3800"/>
            </a:b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720" y="1752480"/>
            <a:ext cx="766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mmunicate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spect Confidentiality yet Maintain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Look for Interactions Between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mmunicate with the Patient and Their Psychiatrist Before Switching M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Does Using a Recovery Approach Impact Patient Identified Issu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spect Recovery from Co-Occurring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Self-Reliance vs. 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ntrol vs.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orking with Perceptions of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nsumer’s Need for Time and Attention From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mmunication and Empa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23:02:31Z</dcterms:created>
  <dc:creator>alubarov</dc:creator>
  <dc:description/>
  <dc:language>en-US</dc:language>
  <cp:lastModifiedBy>smedlin</cp:lastModifiedBy>
  <dcterms:modified xsi:type="dcterms:W3CDTF">2010-05-26T01:55:22Z</dcterms:modified>
  <cp:revision>95</cp:revision>
  <dc:subject/>
  <dc:title>Recovery Training??</dc:title>
</cp:coreProperties>
</file>