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671-F7D7-410A-8ABC-17A3D0FA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3ED-4DA9-4652-AA5A-EF361851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AAB-F230-4262-8119-DA0A4A06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99D-A3D5-447C-8BC7-A94FD3BC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AD3-18A9-4728-B96C-D5F59432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F91-CF0E-4876-B012-100E47F5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286-9245-4105-95E4-CC02ABB6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C03-8EA3-461D-B61B-D8159655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D45-0260-4986-B1A9-C9D30774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781-0987-4922-9215-3F5F6C01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4A2C-7AD1-4654-B63C-7A93FD9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D79-CAA0-41B9-B455-C9F0CDD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21f07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21f07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DB702-FAA0-46EA-BE23-81B5EA05A5C7}" type="datetime">
              <a:rPr b="0" lang="en-US" sz="1200" spc="-1" strike="noStrike">
                <a:solidFill>
                  <a:srgbClr val="b68c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68c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39E12-0249-484A-9099-BEA934F496A8}" type="slidenum">
              <a:rPr b="0" lang="en-US" sz="1200" spc="-1" strike="noStrike">
                <a:solidFill>
                  <a:srgbClr val="b68c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21f07"/>
                </a:solidFill>
                <a:latin typeface="Calibri"/>
              </a:rPr>
              <a:t>Teaching HIV: Educating Residents and Empowering Patients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9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Joanna Eveland, MS, M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68c89"/>
                </a:solidFill>
                <a:latin typeface="Calibri"/>
              </a:rPr>
              <a:t>May 18, 2010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3" name="Picture 5" descr="conversation.gif"/>
          <p:cNvPicPr/>
          <p:nvPr/>
        </p:nvPicPr>
        <p:blipFill>
          <a:blip r:embed="rId1"/>
          <a:stretch/>
        </p:blipFill>
        <p:spPr>
          <a:xfrm>
            <a:off x="2712960" y="2401920"/>
            <a:ext cx="3675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 HIV Group Medical visits to dat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4 residents participated 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One resident facilitated 8 groups; One resident facilitated 3 groups; Two residents facilitated 1 group each.</a:t>
            </a: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Overall positive feedback from residents and patients.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0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IV pathophysiology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Understanding HIV Lab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Influenza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Prevention for Positive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patitis C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ntiretroviral Adherence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rt &amp; Poetry projects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Cardiovascular disease &amp; HIV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Health Self-Management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921f07"/>
                </a:solidFill>
                <a:latin typeface="Calibri"/>
              </a:rPr>
              <a:t>Advanced Directives (with attorney present)</a:t>
            </a: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3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Resid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re comfortable with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tter at HIV screening and preven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Understanding chronic disease and identi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Experience for Patien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cepting of residents and each oth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ove through stages of grief, recover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Value th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7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Facilitation skill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ontinuity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cheduling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or pati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Strong emotion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Homogeneous group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Lack of systemic suppor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the future of HIV medicin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cy is a good time to lear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oup visits are great for patients and resid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et involved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Thanks</a:t>
            </a:r>
            <a:r>
              <a:rPr b="0" lang="en-US" sz="4400" spc="-1" strike="noStrike">
                <a:solidFill>
                  <a:srgbClr val="921f07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ynthia Carmichael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ichel Sam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of the N. Richmond HIV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nn Harve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lise Lewis &amp; Anni Hanse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lan Siegel &amp; David Pepper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8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ngitudinal track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earch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undraising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Increased county support for group visits?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9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Discuss the role of Family Practice residents in HIV ca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xplain how an HIV group visit work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hare a model for a resident-driven longitudinal curriculum during residenc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6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in CCC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1700 HIV+ patients, majority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ared for in 6 FM ID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yan White part C funded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. Richmond: 70+ patients, majority men, high prevalence of IDU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49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Path to HIV Medicine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sonal and professional interes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Work in West Coun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reat mentorship and role mode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Needed more training!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2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alibri"/>
              </a:rPr>
              <a:t>Barriers to practicing HIV medicine as a resident</a:t>
            </a:r>
            <a:endParaRPr b="0" lang="en-US" sz="40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any other commitmen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Low inpatient HIV censu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pecialty clinic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Established provide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erceived difficulty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5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We Can Do This!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FPs are good at: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Chronic disease management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Multidisciplinary team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Addressing substance abuse and mental illness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Prevention and harm reduction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21f07"/>
                </a:solidFill>
                <a:latin typeface="Calibri"/>
              </a:rPr>
              <a:t>End of life care</a:t>
            </a: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21f07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58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My Action Plan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Met with mentor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ursued elective opportunities through East Bay AET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viewed literature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ttended local conference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rticipated in HIV group visit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1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HIV Group Visits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Started informally in NR 10 years ago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Begun in response to high death rate in West CCC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ohesive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Active patient involvement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4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0400" y="274320"/>
            <a:ext cx="65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Calibri"/>
              </a:rPr>
              <a:t>Group Visit Format</a:t>
            </a:r>
            <a:endParaRPr b="0" lang="en-US" sz="4400" spc="-1" strike="noStrike">
              <a:solidFill>
                <a:srgbClr val="921f07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0400" y="1600200"/>
            <a:ext cx="65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8 AM: Patients arrive, RNs check vitals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Guided medi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Check i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Resident led discussion/ presentation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1f0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1f07"/>
                </a:solidFill>
                <a:latin typeface="Calibri"/>
              </a:rPr>
              <a:t>Patients seen individually after group</a:t>
            </a:r>
            <a:endParaRPr b="0" lang="en-US" sz="3200" spc="-1" strike="noStrike">
              <a:solidFill>
                <a:srgbClr val="921f07"/>
              </a:solidFill>
              <a:latin typeface="Calibri"/>
            </a:endParaRPr>
          </a:p>
        </p:txBody>
      </p:sp>
      <p:pic>
        <p:nvPicPr>
          <p:cNvPr id="67" name="Picture 3" descr="quilt01a.jpg"/>
          <p:cNvPicPr/>
          <p:nvPr/>
        </p:nvPicPr>
        <p:blipFill>
          <a:blip r:embed="rId1"/>
          <a:srcRect l="57601" t="4804" r="25601" b="4804"/>
          <a:stretch/>
        </p:blipFill>
        <p:spPr>
          <a:xfrm>
            <a:off x="0" y="-60480"/>
            <a:ext cx="164160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24:13Z</dcterms:created>
  <dc:creator>Joanna Eveland</dc:creator>
  <dc:description/>
  <dc:language>en-US</dc:language>
  <cp:lastModifiedBy>Joanna Eveland</cp:lastModifiedBy>
  <dcterms:modified xsi:type="dcterms:W3CDTF">2010-05-18T18:27:16Z</dcterms:modified>
  <cp:revision>7</cp:revision>
  <dc:subject/>
  <dc:title>Slide 1</dc:title>
</cp:coreProperties>
</file>