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343-CB9B-4B09-AF33-6D27DDB8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843-8FD8-42ED-89C8-1E5F0C61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5AD-058C-44CB-92AA-679E9B21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366-2A01-462A-A02E-6FB23FBD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7E2-837E-4BB8-8F29-237E437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494-2064-4C58-93AA-EC7E9D1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E3E-9492-4434-9B43-066E1741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617-46F2-4AC7-9E5B-56FFF7C5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D8C-4B7C-47CC-9CD2-E8ACA71A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066-C2B6-448D-A9AE-115C26A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391-3866-4B5F-8201-F548367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60A-2448-4371-A7DE-25D073E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5E5EB-1530-4848-AD24-52E5EDE2566B}" type="datetime">
              <a:rPr b="0" lang="en-US" sz="1200" spc="-1" strike="noStrike">
                <a:solidFill>
                  <a:srgbClr val="b68c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2CED2-19F9-4584-8FFC-117BFABB0E8C}" type="slidenum">
              <a:rPr b="0" lang="en-US" sz="1200" spc="-1" strike="noStrike">
                <a:solidFill>
                  <a:srgbClr val="b68c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21f07"/>
                </a:solidFill>
                <a:latin typeface="Calibri"/>
              </a:rPr>
              <a:t>Teaching HIV: Educating Residents and Empowering Patients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9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Joanna Eveland, MS, M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May 18, 2010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3" name="Picture 5" descr="conversation.gif"/>
          <p:cNvPicPr/>
          <p:nvPr/>
        </p:nvPicPr>
        <p:blipFill>
          <a:blip r:embed="rId1"/>
          <a:stretch/>
        </p:blipFill>
        <p:spPr>
          <a:xfrm>
            <a:off x="2712960" y="2401920"/>
            <a:ext cx="3675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 HIV Group Medical visits to dat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4 residents participated 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One resident facilitated 8 groups; One resident facilitated 3 groups; Two residents facilitated 1 group each.</a:t>
            </a: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Overall positive feedback from residents and patients.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0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IV pathophysiology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Understanding HIV Lab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Influenza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Prevention for Positive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patitis C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ntiretroviral Adherence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rt &amp; Poetry project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Cardiovascular disease &amp; HIV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alth Self-Management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dvanced Directives (with attorney present)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3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Resid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re comfortable with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tter at HIV screening and preven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Understanding chronic disease and identi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Pati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cepting of residents and each oth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ve through stages of grief, recover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Value th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Facilitation skill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ontinuity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cheduling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pati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trong emotion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Homogeneous group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Lack of systemic suppor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the future of HIV medicin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cy is a good time to lear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oup visits are great for patients and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et involved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hanks</a:t>
            </a: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ynthia Carmicha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ichel Sam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of the N. Richmond HIV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nn Harve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lise Lewis &amp; Anni Hanse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lan Siegel &amp; David Pepp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ngitudinal track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earch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undraising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Increased county support for group visit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9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Discuss the role of Family Practice residents i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xplain how an HIV group visit work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hare a model for a resident-driven longitudinal curriculum during residenc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in CCC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00 HIV+ patients, majority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ared for in 6 FM ID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yan White part C funde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. Richmond: 70+ patients, majority men, high prevalence of IDU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Path to HIV Medicine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sonal and professional interes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Work in West Coun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eat mentorship and role mode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eeded more training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bri"/>
              </a:rPr>
              <a:t>Barriers to practicing HIV medicine as a resident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any other commitm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w inpatient HIV censu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pecialty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stablished provide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ceived difficul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We Can Do This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good at: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hronic disease managemen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Multidisciplinary team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Addressing substance abuse and mental illnes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Prevention and harm reduction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End of life care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Action Plan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et with mento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ursued elective opportunities through East Bay AET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viewed literatu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ttended local conference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rticipated in HIV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Group Visi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tarted informally in NR 10 years ago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gun in response to high death rate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ohesiv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tive patient involvemen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4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Group Visi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8 AM: Patients arrive, RNs check vita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uided medi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heck i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t led discussion/ presen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seen individually after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7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24:13Z</dcterms:created>
  <dc:creator>Joanna Eveland</dc:creator>
  <dc:description/>
  <dc:language>en-US</dc:language>
  <cp:lastModifiedBy>Joanna Eveland</cp:lastModifiedBy>
  <dcterms:modified xsi:type="dcterms:W3CDTF">2010-05-18T18:27:16Z</dcterms:modified>
  <cp:revision>7</cp:revision>
  <dc:subject/>
  <dc:title>Slide 1</dc:title>
</cp:coreProperties>
</file>