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168-7012-4766-8CC5-40BEF3B5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386-94A9-46F9-899F-CB5E3183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99C-678A-44AF-858F-2045D5B6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DF8-7744-4C78-B14A-E8A63FD8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73E-7883-4E31-A688-BB3B93BD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3A9-919E-4518-8905-ECB8E08B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9E9-C853-4B9A-9585-3D31B111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F16-0BDF-4A15-B3A7-07AD3395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C81-8DED-40EC-988D-D319317C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B91-3FB5-4F6B-8C0C-FAE71C73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272-5128-4B60-8511-7E48657A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6FB-B1CF-4F11-9AAD-A39D9F34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5124-03FF-4F2A-899D-38A8ECA45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t Articles 200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spital Medi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Gabriela Sullivan M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CCRM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(Borrowed liberally from talk by Brad Sharpe, MD, UCSF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e Control in afib with RV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u C, et al. Crit care Med July 2009; 37(7):21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-label RCT 150 patients who presented to ER with symptomatic uncomplicated afi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d 3 groups: IV dilt, IV dig, IV am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comes were rate &lt;90 and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 achieved earlier rate control, more rate control, and shorter LOS. Also better symptom r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68 year old nursing home resident with S. aureus osteo.  He has new swelling in his right arm. He has a diffusely swollen R arm but no redness or joint swelling.  He has a PICC in that 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risk of thromboembolism in patients with PIC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happ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TE with PI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bo et al, J Hosp Med 2009; 4:417-4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hart review of adult general medicine inpatients in a single university-affiliated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54 PICCS; 777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tomatic patients only screened, mean age 61, 60%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5% developed UE DV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% developed 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: 5.0 VTE/1000 PICC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4.5% had a VTE complic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/o VTE (OR 10.8) and non-central PICC location (OR 2.6) associated with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 UE VTE like LE V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time of discharge the nurse asks if the patient should get a pneumovax before he goe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re benefit in nursing home pati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neumovax in nursing h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uyama et al. BMJ 2010; 340:c1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blind RCT of 1006 Japanese nursing home residents comparing 23-valent pneumovax vs. placebo showed 4.5% decreased risk of pneumoccocal pneumonia (NNT 2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sk of death from pneumococcal disease declined 3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man with COPD, HTN and chronic back pain is admitted for increasing cough, chest pain, and dyspnea. He describes his pain as “ripping” to his ba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ink this is COPD but you are wondering if this could be PE or diss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ests can you order to rule out PE and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I of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of the 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di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scan of the ch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7 year old woman with a h/o HTN presents with syncop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ests should you 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dimer in Diss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zuki T et al, Circulation 2009; 119:27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 is can D-dimer aid in evaluation of diss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pective multi-center 222 suspected of dissection, all D-dimer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&lt;24 hours of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7 patients with dis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characteristic for D-dimer&lt;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bove true rules out dissection 95% of the time, but poor specificity, 6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-dimer&gt;1600 it showed a positive likelihood ratio of 12.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D-dimer is slightly elevated so he gets a CT of the chest which is negative except for a new 1 cm pulmonary nodule in the R l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alence of clinically relevant incidental findings on CT for 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 &lt;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l, et al. Arch Intern Med 2009; 169(2):19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ross-sectional, 589 CTA’s ordered by ED, reviewed for final read for PE and non-PE fin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397160"/>
          <a:ext cx="6858000" cy="43272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ive Diagn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=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idental no f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_x0013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 CT scan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al findings common for CTA. Many require f/u; new nodules/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creatinine went from .9-1.3 over a 36 hour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need to worry about this increase in creatin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an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antes et al. Mayo Clin Proc, 2009; 84(5); 410-4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and case-control study of 735 adult patients with AKI (increase in serum creatinine &gt;.3 within 48 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89 controls at a single community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I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AKI w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X more likely to die in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have LOS&gt;7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X more likely to require critical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diagnostic test is the highest yield and most cost-eff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 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e for 24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oponin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lt-table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eet the patient’s wife and before she shakes your hand she asks you if you have washed your ha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ve you washed your ha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e as you hit the alcohol dispenser on the w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 before and after each patient 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course as you wipe your lunch on your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ing hand hygi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int et al. Qual Saf Health Care 2009; 18: 4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a mulitmodal intervention improve healthcare worker hand hygie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hygiene intervention 5 hosp units; mulitmodal intervention over 2 weeks; before/after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rs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identified, engaged, motivated by bas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logy unit MDs; pre: 6.4%, post 3.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 champion key, rates still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0 yo woman with DM and CKD found altered in her a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he is in the ER her temp is 38.5C and she is somnolent with nuccal rig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uspect bacterial meningitis and perform LP, start empiric antibiotics and admit her to the hospi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289320" y="165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uld you also start steroi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 the g stain; if GPC 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 in this pat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in children but not i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roids in acute bacterial mening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ri, et al. Mayo Clinic Proc 2009; 84(5) 403-4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effect of adjuvant steroids on short-term mortality and neurologic sequelae in acute bacterial meningit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atic review/meta-analysis, placebo-controlled, RCTs. 4 trials; 1261 adult and adolescent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led RR of death (95% C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HIV preva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ed countries: NNT to prevent 1 death 12.5. NNT to prevent 1 death from S pneumo is 4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NT to prevent 1 neuro sequelae in developed countries is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s used dexamethasone .6 mg/kg/day 4 X 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du ML, et al, Arch Intern Med July 2009: 169:12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spective cohort study 2100 pts. All &gt;65 yo.  Studies ordered were noted and if tests made diagnosis or changed man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3% had diagnosis for syn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ommon causes vasovagal, orth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tient worsens and a code blue is called. The son and daughter are outside the room and they would like to come into the room during the resusci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you allow tha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allow family to be present during resuscit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it is important to show them that everything is being done and so they can be there for h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too traumatic for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my hospital has a policy allowing families to be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, having the family might impair the performance of the cod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presence at c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nandez R, et al Crit Care Med. June 2009; 37; 19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T 2nd and 3rd year EM residents, simulated codes, worker and family member present: 3 groups, no family witness, a nonobstuctive “quiet” witness, a witness with an “overt grief reac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1397160"/>
          <a:ext cx="6858000" cy="47242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ical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wi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t gr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c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1st sh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sho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to dea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st Com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spective study of 509 out-of-hospital cardiac arrests ( VF or VT) examined % time given chest compressions and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% time patients were given chest compressions increased the odds of surviving to hospital discharge (11% increase for each 10% increase in time sp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el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use dilt instead of dig or amio for rate control in uncomplicated af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give pneumovax to eligible nursing home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appreciate how common important incidental findings are in CT scans for 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) prioritize chest compressions in resusc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limiting the eval of syncope in patients &gt;65 to history, exam, orthostatics, tele, EKG, troponin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the risk of VTE with PICC is 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using D-Dimer to R/O aortic dis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small increases in creatinine in the hospital may be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how hard it is to get providers to wash their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the consequences of allowing family members to be present at resusci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235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diagnosi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ected management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2967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btained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 per + test -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ponin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hostatic 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gnostic Tests in Syn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thostatic VS the best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KG, tele, and troponin high-yield, low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atient has a normal EKG and troponin and is admitted to tele for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develops rapid atrial fib the next day, to 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rate control in absence of CHF and normal renal func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am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di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 me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diov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9:36:41Z</dcterms:created>
  <dc:creator>hcmartinez</dc:creator>
  <dc:description/>
  <dc:language>en-US</dc:language>
  <cp:lastModifiedBy>hcmartinez</cp:lastModifiedBy>
  <dcterms:modified xsi:type="dcterms:W3CDTF">2010-06-30T16:45:10Z</dcterms:modified>
  <cp:revision>17</cp:revision>
  <dc:subject/>
  <dc:title>Significant Articles 2009 Hospital Medicine</dc:title>
</cp:coreProperties>
</file>