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6D8F-752B-4A5E-BB32-52CABE2A1DF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C7F9-255F-4321-92D8-DDF8158B314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ERNAL-TO-INFANT TRANSMISS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group B streptococcal disease cases among newborns result from mother-to-infant transmission during labor and delivery.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women are asymptomatically colonized by group B streptococcus in the genital and gastrointestinal tract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nization is not altered by or dependent on pregnancy.</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half the infants born to colonized mothers are themselves colonized on the skin and mucosal surfaces as a result of passage through the birth canal or as a result of GBS ascending into the amniotic flui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ity of colonized infants, 98%, are asymptomati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2% will develop early-onset disease, presenting with sepsis, pneumonia or meningitis in the first few days of lif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2220-8ED0-46D2-819A-87D30CD6066E}"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ES OF EARLY-ONSET GBS DISEASE BY PRENATAL COLONIZATION &amp; RISK FACTOR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in consideration in development of prevention guidelines was characterizing which women were at risk for delivering infants with early-onset infec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ummarizes data from a prospective study conducted in the early 1980s by Boyer and Gotoff (published in Antibiotics and Chemotherapy in 1985) that assessed nearly 5300 infants born over a three-and-a-half year period, none of whom had received intrapartum antibiotic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hort of deliveries was considered in terms of maternal prenatal colonization with group B streptococcus and the presence of an intrapartum risk factor, either pematurity, prolonged rupture of membranes, or intrapartum fever.</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tack rate was quite high among infants born to colonized mothers with one or more risk factors, 40.8 per 1000 births, or about 1 in 25 infant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colonized mothers without a risk factor had the next highest risk of early onset infants with an attack rate of 5.1 per 1000 birth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ants born to mothers with risk factors who were not prenatally colonized and to mothers who were neither colonized nor had risk factors, had very low attack rates of 0.9 per 1000 births and 0.3 per 1000 births, respectivel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F08D-7871-4A36-9DE9-7A2D433CFD2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ST U.S. CONSENSUS RECOMMENDATIONS (CDC ’96, ACOG ’96, AAP ’97)</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6 guidelines were issued by the Centers for Disease Control and Prevention, American College of Obstetricians and Gynecologists, and American Academy of Pediatric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guidelines recommend health care providers and institutions choose between two alternative prevention strategies:</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gnant women should be cultured between 35-37 weeks</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artum antibiotic prophylaxis (IAP) should be offered to women identified as GBS carriers and to women of unknown GBS status at the time of labor who are delivering preterm</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based approach</a:t>
            </a:r>
            <a:endParaRPr b="0" lang="en-US" sz="1000" spc="-1" strike="noStrike">
              <a:solidFill>
                <a:srgbClr val="000000"/>
              </a:solidFill>
              <a:latin typeface="Times New Roman"/>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P to preterm, membrane rupture from 18 hrs or more, or for an intrapartum fever of 100.4F or more (38C or mor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strategies also give IAP to women with GBS bacteriuria or previous infant with GBS diseas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9DC672-C0F5-4932-B87C-3AA9E7F40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6CCD32-49EF-4CBA-8E9D-003EA415F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7D32FC-6F2A-4392-86C1-FCC557B19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108D49-0F18-4C11-BDA5-AAE110DA50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6799C-4254-4FBE-BFAC-4C701E444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C2BC5-4DA6-4912-999D-C07251B10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71A7A-FB28-4514-91A6-45AD69997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B5BE2-EFD3-447F-A0B6-DE414A903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CE8C3-7EE0-49EB-843F-121D9FEB0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05DF0-7262-4914-98BC-A37D374A2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5578D-33F8-4A97-8048-3497FAFB4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BD4FB-2ADB-4937-A6B2-0C860F657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688DF-C4BB-4C8C-BEDA-8273BDC94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7146A-CECE-4915-9AFD-4BB92E172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C8551-2501-425F-853A-6FCBB6A10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70D93-03CF-463D-B4D1-A574EFA13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5DDDB-85F3-4AEC-BF07-1A0D77372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229429-E5FF-4380-9CAE-1FAFF9E35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76B54C-BB31-465F-9446-60BD01ECA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3E94EA-9623-4121-B713-1BC8C9291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CEF3D-5D7B-44E5-AED1-0115F2C11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44B84E-44AA-4397-BBA1-7D39123B7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85075-4006-49F3-B233-BA41B6DC8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0CC4BA-432C-45A2-B95D-E7152F02DF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childrenshospitaloakland.org/index.html" TargetMode="Externa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E79C-50A5-41A5-B527-027779BF00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8" descr="logo_01">
            <a:hlinkClick r:id="rId2"/>
          </p:cNvPr>
          <p:cNvPicPr/>
          <p:nvPr/>
        </p:nvPicPr>
        <p:blipFill>
          <a:blip r:embed="rId3"/>
          <a:stretch/>
        </p:blipFill>
        <p:spPr>
          <a:xfrm>
            <a:off x="380880" y="6116760"/>
            <a:ext cx="990720" cy="66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53" descr="logo_01">
            <a:hlinkClick r:id="rId2"/>
          </p:cNvPr>
          <p:cNvPicPr/>
          <p:nvPr/>
        </p:nvPicPr>
        <p:blipFill>
          <a:blip r:embed="rId3"/>
          <a:stretch/>
        </p:blipFill>
        <p:spPr>
          <a:xfrm>
            <a:off x="7086600" y="228600"/>
            <a:ext cx="1771560" cy="119052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1B1B-BA67-48D5-94AD-A62110B622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dc.gov/groupbstrep/guidelines/guideline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440" y="1722240"/>
            <a:ext cx="6095880" cy="23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onatal Group B Streptococcal Infections</a:t>
            </a:r>
            <a:endParaRPr b="0" lang="en-US" sz="3800" spc="-1" strike="noStrike">
              <a:solidFill>
                <a:srgbClr val="000000"/>
              </a:solidFill>
              <a:latin typeface="Arial"/>
            </a:endParaRPr>
          </a:p>
        </p:txBody>
      </p:sp>
      <p:sp>
        <p:nvSpPr>
          <p:cNvPr id="116" name="PlaceHolder 2"/>
          <p:cNvSpPr>
            <a:spLocks noGrp="1"/>
          </p:cNvSpPr>
          <p:nvPr>
            <p:ph type="subTitle"/>
          </p:nvPr>
        </p:nvSpPr>
        <p:spPr>
          <a:xfrm>
            <a:off x="1034640" y="49525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inatal CDC Prevention Guidelines</a:t>
            </a:r>
            <a:endParaRPr b="0" lang="en-US" sz="30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scilla Joe, M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1D12-DA1F-4412-B641-0961975C67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apartum Prophylaxis: Indications</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invasive GBS disea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GBS screening culture during current pregnancy (unless a planned c-section, in the absence of labor or amniotic membrane rupt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known GBS status AND any of the follow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at &lt; 37 weeks’ ges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niotic membrane rupture &gt;18 hou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artum temperature &gt;38.0°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CEF5-9841-4A49-8FDF-36E037F3E3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apartum Prophylaxis NOT Indicated</a:t>
            </a:r>
            <a:endParaRPr b="0" lang="en-US" sz="36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pregnancy with a positive GBS screening culture (unless culture positive ALSO during current pregnan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d c-section performed in the absence of labor or membrane rupture (regardless of maternal GBS culture stat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vaginal and rectal GBS screening culture during the current pregnancy, regardless of intrapartum risk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92C7-95A6-4259-B206-785DEA0503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ernal Antibiotic Prophylaxis</a:t>
            </a:r>
            <a:endParaRPr b="0" lang="en-US" sz="4000" spc="-1" strike="noStrike">
              <a:solidFill>
                <a:srgbClr val="000000"/>
              </a:solidFill>
              <a:latin typeface="Arial"/>
            </a:endParaRPr>
          </a:p>
        </p:txBody>
      </p:sp>
      <p:graphicFrame>
        <p:nvGraphicFramePr>
          <p:cNvPr id="167" name=""/>
          <p:cNvGraphicFramePr/>
          <p:nvPr/>
        </p:nvGraphicFramePr>
        <p:xfrm>
          <a:off x="457200" y="1981080"/>
          <a:ext cx="8229600" cy="3108600"/>
        </p:xfrm>
        <a:graphic>
          <a:graphicData uri="http://schemas.openxmlformats.org/drawingml/2006/table">
            <a:tbl>
              <a:tblPr/>
              <a:tblGrid>
                <a:gridCol w="4114800"/>
                <a:gridCol w="4114800"/>
              </a:tblGrid>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se giv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natal coloniz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 1 h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 </a:t>
                      </a:r>
                      <a:r>
                        <a:rPr b="0" lang="en-US" sz="2000" spc="-1" strike="noStrike">
                          <a:solidFill>
                            <a:srgbClr val="000000"/>
                          </a:solidFill>
                          <a:latin typeface="Arial"/>
                        </a:rPr>
                        <a:t>similar to no treat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o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4 h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AD4E-B18E-437C-94CF-32F9E72E2B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PlaceHolder 1"/>
          <p:cNvSpPr>
            <a:spLocks noGrp="1"/>
          </p:cNvSpPr>
          <p:nvPr>
            <p:ph type="title"/>
          </p:nvPr>
        </p:nvSpPr>
        <p:spPr>
          <a:xfrm>
            <a:off x="457200" y="68544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0" name="Rectangle 6"/>
          <p:cNvSpPr/>
          <p:nvPr/>
        </p:nvSpPr>
        <p:spPr>
          <a:xfrm>
            <a:off x="1628640" y="1192320"/>
            <a:ext cx="606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1" name="Rectangle 7"/>
          <p:cNvSpPr/>
          <p:nvPr/>
        </p:nvSpPr>
        <p:spPr>
          <a:xfrm>
            <a:off x="1657440" y="1077840"/>
            <a:ext cx="5962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2" name="Rectangle 8"/>
          <p:cNvSpPr/>
          <p:nvPr/>
        </p:nvSpPr>
        <p:spPr>
          <a:xfrm>
            <a:off x="2066760" y="9936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73" name="Picture 6" descr="perinatal GBS.gif"/>
          <p:cNvPicPr/>
          <p:nvPr/>
        </p:nvPicPr>
        <p:blipFill>
          <a:blip r:embed="rId1"/>
          <a:srcRect l="0" t="0" r="1606" b="28575"/>
          <a:stretch/>
        </p:blipFill>
        <p:spPr>
          <a:xfrm>
            <a:off x="1600200" y="1295280"/>
            <a:ext cx="5943600" cy="495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6610-1813-4405-9919-3781C6EAC2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864720"/>
            <a:ext cx="822960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onatal Management Algorithm</a:t>
            </a:r>
            <a:endParaRPr b="0" lang="en-US" sz="3200" spc="-1" strike="noStrike">
              <a:solidFill>
                <a:srgbClr val="000000"/>
              </a:solidFill>
              <a:latin typeface="Arial"/>
            </a:endParaRPr>
          </a:p>
        </p:txBody>
      </p:sp>
      <p:sp>
        <p:nvSpPr>
          <p:cNvPr id="176" name="TextBox 4"/>
          <p:cNvSpPr/>
          <p:nvPr/>
        </p:nvSpPr>
        <p:spPr>
          <a:xfrm>
            <a:off x="1066680" y="1447920"/>
            <a:ext cx="731520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800" spc="-1" strike="noStrike">
                <a:solidFill>
                  <a:srgbClr val="000000"/>
                </a:solidFill>
                <a:latin typeface="Arial"/>
              </a:rPr>
              <a:t> </a:t>
            </a:r>
            <a:r>
              <a:rPr b="0" lang="en-US" sz="1400" spc="-1" strike="noStrike">
                <a:solidFill>
                  <a:srgbClr val="000000"/>
                </a:solidFill>
                <a:latin typeface="Arial"/>
              </a:rPr>
              <a:t>Full diagnostic evaluation includes a blood culture, a complete blood count (CBC) including white blood cell differential and platelet counts, chest radiograph (if respiratory abnormalities are present), and lumbar puncture (if patient is stable enough to tolerate procedure and sepsis is suspec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ntibiotic therapy should be directed toward the most common causes of neonatal sepsis, including intravenous ampicillin for GBS and coverage for other organisms (including </a:t>
            </a:r>
            <a:r>
              <a:rPr b="0" i="1" lang="en-US" sz="1400" spc="-1" strike="noStrike">
                <a:solidFill>
                  <a:srgbClr val="000000"/>
                </a:solidFill>
                <a:latin typeface="Arial"/>
              </a:rPr>
              <a:t>Escherichia coli</a:t>
            </a:r>
            <a:r>
              <a:rPr b="0" lang="en-US" sz="1400" spc="-1" strike="noStrike">
                <a:solidFill>
                  <a:srgbClr val="000000"/>
                </a:solidFill>
                <a:latin typeface="Arial"/>
              </a:rPr>
              <a:t> and other gram-negative pathogens) and should take into account local antibiotic resistance patter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sultation with obstetric providers is important to determine the level of clinical suspicion for chorioamnionitis. Chorioamnionitis is diagnosed clinically and some of the signs are nonspecifi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Limited evaluation includes blood culture (at birth) and CBC with differential and platelets (at birth and/or at 6--12 hours of lif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If signs of sepsis develop, a full diagnostic evaluation should be conducted and antibiotic therapy initi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If ≥37 weeks' gestation, observation may occur at home after 24 hours if other discharge criteria have been met, access to medical care is readily available, and a person who is able to comply fully with instructions for home observation will be present. If any of these conditions is not met, the infant should be observed in the hospital for at least 48 hours and until discharge criteria are achiev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ome experts recommend a CBC with differential and platelets at age 6--12 h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26A8-3010-40EC-A56E-7C5CEDB707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26964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Onset Disease</a:t>
            </a:r>
            <a:endParaRPr b="0" lang="en-US" sz="3600" spc="-1" strike="noStrike">
              <a:solidFill>
                <a:srgbClr val="000000"/>
              </a:solidFill>
              <a:latin typeface="Arial"/>
            </a:endParaRPr>
          </a:p>
        </p:txBody>
      </p:sp>
      <p:sp>
        <p:nvSpPr>
          <p:cNvPr id="179" name="PlaceHolder 2"/>
          <p:cNvSpPr>
            <a:spLocks noGrp="1"/>
          </p:cNvSpPr>
          <p:nvPr>
            <p:ph/>
          </p:nvPr>
        </p:nvSpPr>
        <p:spPr>
          <a:xfrm>
            <a:off x="685440" y="1219320"/>
            <a:ext cx="84582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sentation within 1</a:t>
            </a:r>
            <a:r>
              <a:rPr b="0" lang="en-US" sz="2800" spc="-1" strike="noStrike" baseline="30000">
                <a:solidFill>
                  <a:srgbClr val="000000"/>
                </a:solidFill>
                <a:latin typeface="Arial"/>
                <a:ea typeface="Times New Roman"/>
              </a:rPr>
              <a:t>st</a:t>
            </a:r>
            <a:r>
              <a:rPr b="0" lang="en-US" sz="2800" spc="-1" strike="noStrike">
                <a:solidFill>
                  <a:srgbClr val="000000"/>
                </a:solidFill>
                <a:latin typeface="Arial"/>
                <a:ea typeface="Times New Roman"/>
              </a:rPr>
              <a:t> 24 hrs, 0 - 6da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75% of cases of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ertical transmi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sis 25-4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neumonia 35-5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eningitis 5-10%</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rtality 5%; higher in preterm infants</a:t>
            </a:r>
            <a:endParaRPr b="0" lang="en-US" sz="2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ue to opsonin deficiency, limited maternal antibody transfer, limited maternal capsular antibod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0959-BD84-4D8B-9DD4-150D50119B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PlaceHolder 1"/>
          <p:cNvSpPr>
            <a:spLocks noGrp="1"/>
          </p:cNvSpPr>
          <p:nvPr>
            <p:ph type="title"/>
          </p:nvPr>
        </p:nvSpPr>
        <p:spPr>
          <a:xfrm>
            <a:off x="253800" y="544680"/>
            <a:ext cx="863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e Onset Disease</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4 weeks after birth, range 7d-3mo</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 and preterm infants equally susceptible</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rotype III most common and predominant cause of meningitis</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acteremia and mening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steomyelitis, septic arthritis, and cellulitis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rizontal transmission (hospital, community, mother)</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idence unchanged with intrapartum prophylax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16E9-3604-4A04-8156-71ED4296DE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304920" y="83808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Arial"/>
              </a:rPr>
              <a:t>Treatment of Asymptomatic Neonates</a:t>
            </a:r>
            <a:endParaRPr b="0" lang="en-US" sz="3600" spc="-1" strike="noStrike">
              <a:solidFill>
                <a:srgbClr val="000000"/>
              </a:solidFill>
              <a:latin typeface="Arial"/>
            </a:endParaRPr>
          </a:p>
        </p:txBody>
      </p:sp>
      <p:sp>
        <p:nvSpPr>
          <p:cNvPr id="185" name="PlaceHolder 2"/>
          <p:cNvSpPr>
            <a:spLocks noGrp="1"/>
          </p:cNvSpPr>
          <p:nvPr>
            <p:ph/>
          </p:nvPr>
        </p:nvSpPr>
        <p:spPr>
          <a:xfrm>
            <a:off x="609480" y="2307960"/>
            <a:ext cx="7772400" cy="352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4-48 hr observation period for infants    with pretreated moth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outine use of antibiotics in infants whose mothers received adequate treatment is not indic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DA7F-E968-45EA-8C94-94FE039706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244080" y="544680"/>
            <a:ext cx="8637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iagnosis</a:t>
            </a:r>
            <a:endParaRPr b="0" lang="en-US" sz="4400" spc="-1" strike="noStrike">
              <a:solidFill>
                <a:srgbClr val="000000"/>
              </a:solidFill>
              <a:latin typeface="Arial"/>
            </a:endParaRPr>
          </a:p>
        </p:txBody>
      </p:sp>
      <p:sp>
        <p:nvSpPr>
          <p:cNvPr id="188" name="PlaceHolder 2"/>
          <p:cNvSpPr>
            <a:spLocks noGrp="1"/>
          </p:cNvSpPr>
          <p:nvPr>
            <p:ph/>
          </p:nvPr>
        </p:nvSpPr>
        <p:spPr>
          <a:xfrm>
            <a:off x="838080" y="1980720"/>
            <a:ext cx="784872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lood, CSF, ETT cx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B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R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X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DE3C-2828-4E64-818E-3AB2EBCF6A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664920" y="53316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eatment of GBS Disease</a:t>
            </a:r>
            <a:endParaRPr b="0" lang="en-US" sz="4000" spc="-1" strike="noStrike">
              <a:solidFill>
                <a:srgbClr val="000000"/>
              </a:solidFill>
              <a:latin typeface="Arial"/>
            </a:endParaRPr>
          </a:p>
        </p:txBody>
      </p:sp>
      <p:sp>
        <p:nvSpPr>
          <p:cNvPr id="1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mpicillin and Gentamic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7-10 days for uncomplicated bacteremi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4 days for uncomplicated mening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1-28 days for meningitis complicated by abscesses, ventriculit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4-6 weeks for osteomyelitis or endocardit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FA47-8252-4327-B395-80FC10718A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Disease</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cause of early-onset sepsis in U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intrapartum prophylaxis: 7,500 cases/year or 1.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now to 1,200 cases/year or 0.34-0.37/1000 live birt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natal GBS disease burde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illness/death, long-term dis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nal morbid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A740-B4DC-4E90-B601-C6D37B5578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779400"/>
            <a:ext cx="822960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cdc.gov/groupbstrep/guidelines/guidelines.htm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ABD4-1396-4C09-AF79-05F081F70C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ther to Infant Transmission</a:t>
            </a:r>
            <a:endParaRPr b="0" lang="en-US" sz="3600" spc="-1" strike="noStrike">
              <a:solidFill>
                <a:srgbClr val="000000"/>
              </a:solidFill>
              <a:latin typeface="Arial"/>
            </a:endParaRPr>
          </a:p>
        </p:txBody>
      </p:sp>
      <p:sp>
        <p:nvSpPr>
          <p:cNvPr id="122" name="Text Box 3"/>
          <p:cNvSpPr/>
          <p:nvPr/>
        </p:nvSpPr>
        <p:spPr>
          <a:xfrm>
            <a:off x="2976120" y="2017800"/>
            <a:ext cx="29088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BS colonized mother</a:t>
            </a:r>
            <a:endParaRPr b="0" lang="en-US" sz="2000" spc="-1" strike="noStrike">
              <a:solidFill>
                <a:srgbClr val="000000"/>
              </a:solidFill>
              <a:latin typeface="Arial"/>
            </a:endParaRPr>
          </a:p>
        </p:txBody>
      </p:sp>
      <p:sp>
        <p:nvSpPr>
          <p:cNvPr id="123" name="Text Box 4"/>
          <p:cNvSpPr/>
          <p:nvPr/>
        </p:nvSpPr>
        <p:spPr>
          <a:xfrm>
            <a:off x="1066680" y="304812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lonized newborn</a:t>
            </a:r>
            <a:endParaRPr b="0" lang="en-US" sz="2000" spc="-1" strike="noStrike">
              <a:solidFill>
                <a:srgbClr val="000000"/>
              </a:solidFill>
              <a:latin typeface="Arial"/>
            </a:endParaRPr>
          </a:p>
        </p:txBody>
      </p:sp>
      <p:sp>
        <p:nvSpPr>
          <p:cNvPr id="124" name="Text Box 5"/>
          <p:cNvSpPr/>
          <p:nvPr/>
        </p:nvSpPr>
        <p:spPr>
          <a:xfrm>
            <a:off x="5715000" y="3063960"/>
            <a:ext cx="1676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zed newborn</a:t>
            </a:r>
            <a:endParaRPr b="0" lang="en-US" sz="2000" spc="-1" strike="noStrike">
              <a:solidFill>
                <a:srgbClr val="000000"/>
              </a:solidFill>
              <a:latin typeface="Arial"/>
            </a:endParaRPr>
          </a:p>
        </p:txBody>
      </p:sp>
      <p:sp>
        <p:nvSpPr>
          <p:cNvPr id="125" name="Text Box 6"/>
          <p:cNvSpPr/>
          <p:nvPr/>
        </p:nvSpPr>
        <p:spPr>
          <a:xfrm>
            <a:off x="1224000" y="4770360"/>
            <a:ext cx="1935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ptomatic</a:t>
            </a:r>
            <a:endParaRPr b="0" lang="en-US" sz="2000" spc="-1" strike="noStrike">
              <a:solidFill>
                <a:srgbClr val="000000"/>
              </a:solidFill>
              <a:latin typeface="Arial"/>
            </a:endParaRPr>
          </a:p>
        </p:txBody>
      </p:sp>
      <p:sp>
        <p:nvSpPr>
          <p:cNvPr id="126" name="Text Box 7"/>
          <p:cNvSpPr/>
          <p:nvPr/>
        </p:nvSpPr>
        <p:spPr>
          <a:xfrm>
            <a:off x="5257800" y="4587840"/>
            <a:ext cx="3276720" cy="703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onset sepsis, pneumonia, meningitis</a:t>
            </a:r>
            <a:endParaRPr b="0" lang="en-US" sz="2000" spc="-1" strike="noStrike">
              <a:solidFill>
                <a:srgbClr val="000000"/>
              </a:solidFill>
              <a:latin typeface="Arial"/>
            </a:endParaRPr>
          </a:p>
        </p:txBody>
      </p:sp>
      <p:sp>
        <p:nvSpPr>
          <p:cNvPr id="127" name="Line 8"/>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9"/>
          <p:cNvSpPr/>
          <p:nvPr/>
        </p:nvSpPr>
        <p:spPr>
          <a:xfrm flipH="1">
            <a:off x="3276360" y="2743200"/>
            <a:ext cx="11430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0"/>
          <p:cNvSpPr/>
          <p:nvPr/>
        </p:nvSpPr>
        <p:spPr>
          <a:xfrm>
            <a:off x="4419720" y="2743200"/>
            <a:ext cx="129528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1"/>
          <p:cNvSpPr/>
          <p:nvPr/>
        </p:nvSpPr>
        <p:spPr>
          <a:xfrm>
            <a:off x="5791320" y="3886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Line 12"/>
          <p:cNvSpPr/>
          <p:nvPr/>
        </p:nvSpPr>
        <p:spPr>
          <a:xfrm flipH="1">
            <a:off x="3200040" y="4114800"/>
            <a:ext cx="2590920" cy="60948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Line 13"/>
          <p:cNvSpPr/>
          <p:nvPr/>
        </p:nvSpPr>
        <p:spPr>
          <a:xfrm>
            <a:off x="5791320" y="4114800"/>
            <a:ext cx="685800" cy="45720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Text Box 14"/>
          <p:cNvSpPr/>
          <p:nvPr/>
        </p:nvSpPr>
        <p:spPr>
          <a:xfrm>
            <a:off x="1772640" y="260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4" name="Text Box 15"/>
          <p:cNvSpPr/>
          <p:nvPr/>
        </p:nvSpPr>
        <p:spPr>
          <a:xfrm>
            <a:off x="6096960" y="263700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35" name="Text Box 16"/>
          <p:cNvSpPr/>
          <p:nvPr/>
        </p:nvSpPr>
        <p:spPr>
          <a:xfrm>
            <a:off x="2972880" y="41608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a:t>
            </a:r>
            <a:endParaRPr b="0" lang="en-US" sz="2000" spc="-1" strike="noStrike">
              <a:solidFill>
                <a:srgbClr val="000000"/>
              </a:solidFill>
              <a:latin typeface="Arial"/>
            </a:endParaRPr>
          </a:p>
        </p:txBody>
      </p:sp>
      <p:sp>
        <p:nvSpPr>
          <p:cNvPr id="136" name="Text Box 17"/>
          <p:cNvSpPr/>
          <p:nvPr/>
        </p:nvSpPr>
        <p:spPr>
          <a:xfrm>
            <a:off x="6554520" y="4160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8130-8CF6-46AC-BF4A-FE97590423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lonization Rates</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Carri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30% of women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 African Americans and nonsmok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igns not predictiv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condi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factor for early-onset disease:  GBS colonization at deliver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natal cultures late in pregnancy predict delivery st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BB3C-BDCF-4010-ADD3-3C74065E63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Risk Factors for</a:t>
            </a:r>
            <a:br>
              <a:rPr sz="3600"/>
            </a:br>
            <a:r>
              <a:rPr b="0" lang="en-US" sz="3600" spc="-1" strike="noStrike">
                <a:solidFill>
                  <a:srgbClr val="000000"/>
                </a:solidFill>
                <a:latin typeface="Arial"/>
              </a:rPr>
              <a:t>Early-Onset GBS Disease</a:t>
            </a:r>
            <a:endParaRPr b="0" lang="en-US" sz="36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etric: prolonged rupture of membranes, preterm delivery, intrapartum fev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S bacteriur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infant with GBS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African American, young 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ologic (low antibody to GBS capsular polysaccha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5C8D-158E-4A11-B9C2-1FBE82EE05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vention of Perinatal GBS Disease</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partum antibiot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ffective at preventing early-onset disease in women at risk for transmission of GBS to their newbor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best to identify wome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3C6D-4BB7-49BC-9E3C-6601FEB82B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es of Early-Onset GBS Disease by Prenatal Colonization &amp; Risk Factors</a:t>
            </a:r>
            <a:endParaRPr b="0" lang="en-US" sz="3200" spc="-1" strike="noStrike">
              <a:solidFill>
                <a:srgbClr val="000000"/>
              </a:solidFill>
              <a:latin typeface="Arial"/>
            </a:endParaRPr>
          </a:p>
        </p:txBody>
      </p:sp>
      <p:graphicFrame>
        <p:nvGraphicFramePr>
          <p:cNvPr id="148" name="Object 3"/>
          <p:cNvGraphicFramePr/>
          <p:nvPr/>
        </p:nvGraphicFramePr>
        <p:xfrm>
          <a:off x="685800" y="2111400"/>
          <a:ext cx="7770960" cy="3530520"/>
        </p:xfrm>
        <a:graphic>
          <a:graphicData uri="http://schemas.openxmlformats.org/presentationml/2006/ole">
            <p:oleObj r:id="rId1" spid="">
              <p:embed/>
              <p:pic>
                <p:nvPicPr>
                  <p:cNvPr id="149" name="Object 3" descr=""/>
                  <p:cNvPicPr/>
                  <p:nvPr/>
                </p:nvPicPr>
                <p:blipFill>
                  <a:blip r:embed="rId2"/>
                  <a:stretch/>
                </p:blipFill>
                <p:spPr>
                  <a:xfrm>
                    <a:off x="685800" y="2111400"/>
                    <a:ext cx="7770960" cy="3530520"/>
                  </a:xfrm>
                  <a:prstGeom prst="rect">
                    <a:avLst/>
                  </a:prstGeom>
                  <a:ln w="0">
                    <a:noFill/>
                  </a:ln>
                </p:spPr>
              </p:pic>
            </p:oleObj>
          </a:graphicData>
        </a:graphic>
      </p:graphicFrame>
      <p:sp>
        <p:nvSpPr>
          <p:cNvPr id="150" name="Text Box 4"/>
          <p:cNvSpPr/>
          <p:nvPr/>
        </p:nvSpPr>
        <p:spPr>
          <a:xfrm>
            <a:off x="3429000" y="2327400"/>
            <a:ext cx="49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 prenatal vag/rect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risk factors (gest. &lt;37 wks,    ROM &gt;18 hr, fever &gt; 37.5</a:t>
            </a:r>
            <a:r>
              <a:rPr b="1" lang="en-US" sz="2400" spc="-1" strike="noStrike">
                <a:solidFill>
                  <a:srgbClr val="000000"/>
                </a:solidFill>
                <a:latin typeface="Arial"/>
                <a:ea typeface="Arial"/>
              </a:rPr>
              <a:t>°</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51" name="Text Box 5"/>
          <p:cNvSpPr/>
          <p:nvPr/>
        </p:nvSpPr>
        <p:spPr>
          <a:xfrm>
            <a:off x="1452240" y="5662440"/>
            <a:ext cx="392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yer &amp; Gotoff, Antibiot Chemother 198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420C-CFB1-415C-A9A3-EA13B9B867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U.S. Consensus  Recommendations</a:t>
            </a:r>
            <a:br>
              <a:rPr sz="3200"/>
            </a:br>
            <a:r>
              <a:rPr b="0" lang="en-US" sz="2000" spc="-1" strike="noStrike">
                <a:solidFill>
                  <a:srgbClr val="000000"/>
                </a:solidFill>
                <a:latin typeface="Arial"/>
              </a:rPr>
              <a:t>(CDC '96, ACOG '96, AAP '97)</a:t>
            </a:r>
            <a:br>
              <a:rPr sz="2000"/>
            </a:br>
            <a:endParaRPr b="0" lang="en-US" sz="2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based approach: </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7 wks culture, offer intrapartum antibiotic prophylaxis (IAP) to GBS carriers and to preterm unless neg. culture result available, </a:t>
            </a:r>
            <a:r>
              <a:rPr b="0" lang="en-US" sz="2400" spc="-1" strike="noStrike">
                <a:solidFill>
                  <a:srgbClr val="000000"/>
                </a:solidFill>
                <a:latin typeface="Arial"/>
              </a:rPr>
              <a:t>or</a:t>
            </a:r>
            <a:endParaRPr b="0" lang="en-US" sz="2400" spc="-1" strike="noStrike">
              <a:solidFill>
                <a:srgbClr val="000000"/>
              </a:solidFill>
              <a:latin typeface="Arial"/>
            </a:endParaRPr>
          </a:p>
          <a:p>
            <a:pPr marL="339480" indent="-339480">
              <a:lnSpc>
                <a:spcPct val="90000"/>
              </a:lnSpc>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based approach:</a:t>
            </a:r>
            <a:endParaRPr b="0" lang="en-US" sz="2800" spc="-1" strike="noStrike">
              <a:solidFill>
                <a:srgbClr val="000000"/>
              </a:solidFill>
              <a:latin typeface="Arial"/>
            </a:endParaRPr>
          </a:p>
          <a:p>
            <a:pPr lvl="1" marL="735480" indent="-282960">
              <a:lnSpc>
                <a:spcPct val="9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 to preterm, membrane rupture</a:t>
            </a:r>
            <a:r>
              <a:rPr b="0" lang="en-US" sz="2400" spc="-1" strike="noStrike" u="sng">
                <a:solidFill>
                  <a:srgbClr val="000000"/>
                </a:solidFill>
                <a:uFillTx/>
                <a:latin typeface="Arial"/>
              </a:rPr>
              <a:t>&gt;</a:t>
            </a:r>
            <a:r>
              <a:rPr b="0" lang="en-US" sz="2400" spc="-1" strike="noStrike">
                <a:solidFill>
                  <a:srgbClr val="000000"/>
                </a:solidFill>
                <a:latin typeface="Arial"/>
              </a:rPr>
              <a:t>18 hours, or intrapartum fever (T</a:t>
            </a:r>
            <a:r>
              <a:rPr b="0" lang="en-US" sz="2400" spc="-1" strike="noStrike" u="sng">
                <a:solidFill>
                  <a:srgbClr val="000000"/>
                </a:solidFill>
                <a:uFillTx/>
                <a:latin typeface="Arial"/>
              </a:rPr>
              <a:t>&gt;</a:t>
            </a:r>
            <a:r>
              <a:rPr b="0" lang="en-US" sz="2400" spc="-1" strike="noStrike">
                <a:solidFill>
                  <a:srgbClr val="000000"/>
                </a:solidFill>
                <a:latin typeface="Arial"/>
              </a:rPr>
              <a:t>38</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oth strategies also give IAP to women with GBS bacteriuria, or previous infant with GBS disease</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0A0C-DF10-4B6A-AEA4-AE94EAF888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screening more protective than the risk-based approach?</a:t>
            </a:r>
            <a:endParaRPr b="0" lang="en-US" sz="36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er coverage of at-risk popul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s colonized women without obstetric risk factors (18% of all deliveri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 effectiveness in this cohort, based on birth survey data:  89% (64-97%)</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Text Box 4"/>
          <p:cNvSpPr/>
          <p:nvPr/>
        </p:nvSpPr>
        <p:spPr>
          <a:xfrm>
            <a:off x="685800" y="48006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rag et al, NEJM 2002, 347:23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20:01Z</dcterms:created>
  <dc:creator>NeoGuest</dc:creator>
  <dc:description/>
  <dc:language>en-US</dc:language>
  <cp:lastModifiedBy>Cinnie</cp:lastModifiedBy>
  <dcterms:modified xsi:type="dcterms:W3CDTF">2011-06-14T15:05:16Z</dcterms:modified>
  <cp:revision>61</cp:revision>
  <dc:subject/>
  <dc:title>Group B Streptococcal Infections</dc:title>
</cp:coreProperties>
</file>