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0416-6816-4AFE-9F4A-243BE03B2D6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F62A-70F1-42CB-A060-87BE9A727CC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4844-D016-4250-BC4C-6EDB0FEB5D2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6403-71F2-486E-849A-39C500877B9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CE4AE2-5451-4C5E-8EE9-1B7E235E4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FA5556-DDBF-42CC-BDA2-F7CE8946A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168DDD-FFD0-462B-B58C-26B998F3AD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C72758-845C-46CA-9FF3-2782C583C9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CAFEE-3E04-4811-9B60-C0CB02B26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860A0-BC79-41F3-B3EE-AC0AC9C65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2ED5D-C8AE-4272-8E25-E870C7224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980CB-C9C8-4508-A49F-0787B7A9E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5E8B5-8A82-43FB-A1A9-F39B223E4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34839-B8EC-4D1D-8175-63A36988A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AAE5D-908D-4503-930B-2C324FD1F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DA7FCE-04C6-4964-83A0-543439B75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E073A-AAC2-41B3-8ECC-B7594911A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70B44-6655-4DE5-B3BA-02810866E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891B4-A7B8-47DA-95E6-7E882B123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36264-B12C-4189-BBBD-79FC7D055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54561-BA18-4579-8E63-33217E1A8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E3A1B0-CC21-4C6B-A90B-20C679853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083514-83C2-494F-BE43-05F174768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2B0405-72B8-4B77-B1D5-A00B959B9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E98CBD-3862-4945-99BA-F04C4458C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718454-9A3E-4DE3-B41B-F60671F32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F4769-F97A-49AD-AF3A-D7055AE13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506831-9B94-4352-8938-293D2D8D13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EC0A-373B-4040-9390-65C8146976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5B2C-9549-4823-A38D-5159B6910A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uidelines/guideline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E38F-EDC3-4F19-A623-28D14B6F78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9D63-EBFA-4651-9B98-55042E1C0C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11B6-905F-48B4-8B3B-CC26AAEF7F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AEB9-F96B-43ED-BC6B-DB5486DD47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0" name="Rectangle 6"/>
          <p:cNvSpPr/>
          <p:nvPr/>
        </p:nvSpPr>
        <p:spPr>
          <a:xfrm>
            <a:off x="1628640" y="1192320"/>
            <a:ext cx="606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1" name="Rectangle 7"/>
          <p:cNvSpPr/>
          <p:nvPr/>
        </p:nvSpPr>
        <p:spPr>
          <a:xfrm>
            <a:off x="1657440" y="1077840"/>
            <a:ext cx="5962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Rectangle 8"/>
          <p:cNvSpPr/>
          <p:nvPr/>
        </p:nvSpPr>
        <p:spPr>
          <a:xfrm>
            <a:off x="2066760" y="9936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73" name="Picture 6" descr="perinatal GBS.gif"/>
          <p:cNvPicPr/>
          <p:nvPr/>
        </p:nvPicPr>
        <p:blipFill>
          <a:blip r:embed="rId1"/>
          <a:srcRect l="0" t="0" r="1606" b="28575"/>
          <a:stretch/>
        </p:blipFill>
        <p:spPr>
          <a:xfrm>
            <a:off x="1600200" y="1295280"/>
            <a:ext cx="5943600" cy="495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69AC-243F-414C-8C1B-16EFF64139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6" name="TextBox 4"/>
          <p:cNvSpPr/>
          <p:nvPr/>
        </p:nvSpPr>
        <p:spPr>
          <a:xfrm>
            <a:off x="1066680" y="1447920"/>
            <a:ext cx="7315200" cy="48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800" spc="-1" strike="noStrike">
                <a:solidFill>
                  <a:srgbClr val="000000"/>
                </a:solidFill>
                <a:latin typeface="Arial"/>
              </a:rPr>
              <a:t> </a:t>
            </a:r>
            <a:r>
              <a:rPr b="0" lang="en-US" sz="1400" spc="-1" strike="noStrike">
                <a:solidFill>
                  <a:srgbClr val="000000"/>
                </a:solidFill>
                <a:latin typeface="Arial"/>
              </a:rPr>
              <a:t>Full diagnostic evaluation includes a blood culture, a complete blood count (CBC) including white blood cell differential and platelet counts, chest radiograph (if respiratory abnormalities are present), and lumbar puncture (if patient is stable enough to tolerate procedure and sepsis is suspec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ntibiotic therapy should be directed toward the most common causes of neonatal sepsis, including intravenous ampicillin for GBS and coverage for other organisms (including </a:t>
            </a:r>
            <a:r>
              <a:rPr b="0" i="1" lang="en-US" sz="1400" spc="-1" strike="noStrike">
                <a:solidFill>
                  <a:srgbClr val="000000"/>
                </a:solidFill>
                <a:latin typeface="Arial"/>
              </a:rPr>
              <a:t>Escherichia coli</a:t>
            </a:r>
            <a:r>
              <a:rPr b="0" lang="en-US" sz="1400" spc="-1" strike="noStrike">
                <a:solidFill>
                  <a:srgbClr val="000000"/>
                </a:solidFill>
                <a:latin typeface="Arial"/>
              </a:rPr>
              <a:t> and other gram-negative pathogens) and should take into account local antibiotic resistance patter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sultation with obstetric providers is important to determine the level of clinical suspicion for chorioamnionitis. Chorioamnionitis is diagnosed clinically and some of the signs are nonspecific.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imited evaluation includes blood culture (at birth) and CBC with differential and platelets (at birth and/or at 6--12 hours of lif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If signs of sepsis develop, a full diagnostic evaluation should be conducted and antibiotic therapy initi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If ≥37 weeks' gestation, observation may occur at home after 24 hours if other discharge criteria have been met, access to medical care is readily available, and a person who is able to comply fully with instructions for home observation will be present. If any of these conditions is not met, the infant should be observed in the hospital for at least 48 hours and until discharge criteria are achiev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ome experts recommend a CBC with differential and platelets at age 6--12 h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7B38-FF59-4208-A9CC-72A33A363E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9"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80C5-0CC7-4EEC-A568-13C8D869D4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2FCF-454D-4705-B0C5-B19ED82CC0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5"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8342-DA2A-430C-A854-8FAC96A16E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8"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B758-24B2-4D9E-9857-15D1F892A4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537A-D08F-4264-B695-0C9D22F238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7,500 cases/year or 1.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200 cases/year or 0.34-0.3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4E1E-B189-4334-8ED6-193CD2D701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uidelines/guidelines.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60E9-428B-4BED-9C21-5A916BC521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612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400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33DC-FEBC-484E-B00F-7F0EC8C960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9D7F-1D5D-4118-B260-494B97CA4F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E7D5-19C6-4E57-BDC9-CF696957A7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DF35-AE8B-479C-8DD5-FE0FB4735E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224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4585-CEC2-4553-885C-FC3FC3D61A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556B-854C-4DCF-986D-0CE8E3C8B0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cp:lastModifiedBy>
  <dcterms:modified xsi:type="dcterms:W3CDTF">2011-06-14T15:05:16Z</dcterms:modified>
  <cp:revision>61</cp:revision>
  <dc:subject/>
  <dc:title>Group B Streptococcal Infections</dc:title>
</cp:coreProperties>
</file>