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0F53-BC3A-40A6-A518-D37E9C5D6C6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F81C-12C1-4259-89DA-EB6ADFCC377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610D-6666-4D49-BA8A-B3884E8CDE6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C94C-5043-4453-94BF-E4829E8A4F9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C6C260-B049-46F8-A200-B385AEAE6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614DD0-E00A-4C73-AC4B-B71EC065B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7948D6-867C-484A-A37F-B3C61D69F4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A8BCC9-4FA1-4BC9-9D2C-81662FBBA1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3D2AD-8F46-4D90-815E-0E875EBC2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CC22C-B843-4114-ABB5-632BB0577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CE278-9C22-4287-B15A-5530000FE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E0CF2-CABB-4CB0-8711-A6BCE86D6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7C4DC-B4AE-405B-9435-6295BB146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5CBC6-D9A6-4376-B64E-B9BF005B5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F7402-6B66-4C1F-A884-7816A3AA4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F99C75-2C5E-4F90-8478-332A508C0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351D3-A5F9-48FF-A408-4EDA46F41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CCCFC-DE65-4C7C-B3BF-D2E47C91C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85B3F-C0B6-4749-8E88-40D900286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924E9-DF29-40FC-AC4A-BE46E4EFB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D9CB8-6067-47E9-9117-ECBDC7ACC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E577F9-1C72-462D-8F34-28E061DF6B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6DD53C-12C2-40C8-9A9C-AFF0F6963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C3DF8F-32DF-4B57-B8B0-5F61AD0D4E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7777DE-C0B6-4191-B0A5-65FCD41C7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11B112-FB6A-4519-935D-D998D59BE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40EC62-129C-4CB4-A4FF-7FE85272F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50BF81-C20B-45AF-B03D-C396DCB2AB3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DD6E-A4A4-4C08-92A6-F1F68A04B0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FF82-7CE5-45BF-B506-C142236ADB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bs/hospitals_guidelines.Neonatal.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D7EE-09BF-4A70-AE1D-5C78E355B2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3AC8-A742-4643-96AD-427A732B01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6C1B-C6A1-4164-ABC4-FC7B36D145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A5F9-9A09-4523-B6D4-0E89EAB88E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0" name="Picture 4" descr="fig4"/>
          <p:cNvPicPr/>
          <p:nvPr/>
        </p:nvPicPr>
        <p:blipFill>
          <a:blip r:embed="rId1">
            <a:lum bright="-18000"/>
          </a:blip>
          <a:srcRect l="0" t="13996" r="0" b="38027"/>
          <a:stretch/>
        </p:blipFill>
        <p:spPr>
          <a:xfrm>
            <a:off x="1771560" y="1219320"/>
            <a:ext cx="5958000" cy="55260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4E51-65DC-48E1-B76C-CE2641B3DD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3" name="Picture 4" descr="fig4"/>
          <p:cNvPicPr/>
          <p:nvPr/>
        </p:nvPicPr>
        <p:blipFill>
          <a:blip r:embed="rId1"/>
          <a:srcRect l="0" t="61979" r="0" b="0"/>
          <a:stretch/>
        </p:blipFill>
        <p:spPr>
          <a:xfrm>
            <a:off x="1257480" y="1523880"/>
            <a:ext cx="72547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8CA3-BB2E-472C-918B-1ACB11DA87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6"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2F9C-1DA1-44CA-8A42-D42559576B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D967-5950-47DF-8029-8DD2A75763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2"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D3F8-47A9-47F3-8661-786ACE3E69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5"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26FD-7289-40E5-8E70-38981A6F58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141F-EFFF-4B55-83FE-97D61C6805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8,000 cases/year or 2/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600 cases/year or 0.6/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DB15-2B54-49E1-AC2E-F227FBD1F0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bs/hospitals_guidelines.Neonatal.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81D9-7C86-4C0C-8786-A0E8A5FC2F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540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328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0F10-4FD9-4DAB-A645-CA7A79BE14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7D78-DF39-4724-AE69-5DB9E00F25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CF2F-5131-40A7-9E41-223C0E3811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C489-D5E5-4356-AB8F-D84F288811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368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2F2C-24E5-4902-A3E1-863269C381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D1BF-5185-4C31-A597-4FCE240F55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 chou</cp:lastModifiedBy>
  <dcterms:modified xsi:type="dcterms:W3CDTF">2010-06-20T21:21:25Z</dcterms:modified>
  <cp:revision>57</cp:revision>
  <dc:subject/>
  <dc:title>Group B Streptococcal Infections</dc:title>
</cp:coreProperties>
</file>