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8A64-87EF-487B-B346-830023AB959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476D-1AFC-41C0-849C-D7ADEA6E1D8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29C7-C11E-4EAF-967B-64D8FEC5A04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837E-C116-4F34-883A-493A221A00BC}"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D0B6C8-1A77-411B-9046-D180C2EE1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8E913-7A31-4B78-BCCC-C44D1EFD7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05252B-D6E3-4377-B92E-8BE01C0306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87ED9C-DAAA-43D2-951D-1A16C92C2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66C9A-D7B6-404E-BA65-C70B0FE45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A2B9B-F89D-417C-81A2-EB6AA487C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382F0-05AE-4319-A789-2BCC4D894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4480-AB4C-429B-940A-AA0A7FBE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2905C-06D3-4CC6-B2EC-10E25C9A2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315A8-DE46-444B-A2EF-69DFC37B9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FE4FC-BEA2-4AC3-9F86-38C9591FE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B222F7-A8A6-48C0-9355-E85FE553D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CB0E2-E144-42A6-9FDE-E08E17DFE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52A95-901C-41BC-9D0C-E84A43A67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8AFA3-63C1-4ED7-A3C9-44541460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776D2-5D17-45A4-8D90-580BC7A4C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19372-8496-4666-A9DF-5BDB58EE5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CE4561-1418-4FF5-B1C8-B2F48D5EF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6C4AC6-0A8B-40D4-B13E-48BCF21EF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4AB0A-7754-40D7-A98B-CA8280C82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165DFC-479C-4FD1-BA55-B3232E841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F0EB6-29A2-4283-B601-B0E07E887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336AD9-B46E-47D1-8275-6E36A68A9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33BDF2-EE54-4DCD-BF4A-E4C4E02089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CAF0-45A9-4D17-A044-605E8197C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F8005-2F8C-4DB4-B4F4-E9237C8EE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bs/hospitals_guidelines.Neonatal.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6B35-6A36-473F-9F9A-480FAEBACD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B0C3-21D9-4576-8A2F-3E406F58B1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897-1FB5-4974-BAE6-D4553323A3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CDF0-92B6-4CC2-B1CA-3A80F88828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0" name="Picture 4" descr="fig4"/>
          <p:cNvPicPr/>
          <p:nvPr/>
        </p:nvPicPr>
        <p:blipFill>
          <a:blip r:embed="rId1">
            <a:lum bright="-18000"/>
          </a:blip>
          <a:srcRect l="0" t="13996" r="0" b="38027"/>
          <a:stretch/>
        </p:blipFill>
        <p:spPr>
          <a:xfrm>
            <a:off x="1771560" y="1219320"/>
            <a:ext cx="5958000" cy="552600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21D5-06A4-4FE9-B0D7-78D77A1078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pic>
        <p:nvPicPr>
          <p:cNvPr id="173" name="Picture 4" descr="fig4"/>
          <p:cNvPicPr/>
          <p:nvPr/>
        </p:nvPicPr>
        <p:blipFill>
          <a:blip r:embed="rId1"/>
          <a:srcRect l="0" t="61979" r="0" b="0"/>
          <a:stretch/>
        </p:blipFill>
        <p:spPr>
          <a:xfrm>
            <a:off x="1257480" y="1523880"/>
            <a:ext cx="72547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BC25-3757-455E-B8B1-E12A92378F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6"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69AE-9C44-4928-959E-4D62D259CE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1CBF-4120-49A7-B184-EC3D0677B2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2"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D22B-F518-4DD9-9518-05DA34A08E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5"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97D7-43A6-42DF-83C0-144A58D535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13F1-9AA2-4782-908A-D26DF9C543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8,000 cases/year or 2/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600 cases/year or 0.6/1000 live birth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570C-FEE6-4D5E-9ED7-2549B32F71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bs/hospitals_guidelines.Neonatal.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CB97-7C2A-436D-B922-3FAAE58FE7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540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328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0671-038F-4236-90B9-74B29E2064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C375-874B-4ED8-8A97-7D9AE2EB92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8A5A-BC7D-45BF-A06A-7BDCDFD02A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A63C-33F0-4C14-9230-02C1319517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368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2BA1-E533-4B83-B7EE-3817D20330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6CEE-0A3B-4E0D-87AE-7BC425F476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 chou</cp:lastModifiedBy>
  <dcterms:modified xsi:type="dcterms:W3CDTF">2010-06-20T21:21:25Z</dcterms:modified>
  <cp:revision>57</cp:revision>
  <dc:subject/>
  <dc:title>Group B Streptococcal Infections</dc:title>
</cp:coreProperties>
</file>