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1A64-FEB8-4CE0-B2D3-7477B17E5F1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6E78-01CE-4D2A-A7C0-A43E88A4314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F2F1-24C3-4375-9B33-59849A58880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8D8E-B9B3-4691-90E1-5CE15651767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8A3D24-1534-46B1-B89D-C0D97FDE7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C77610-DD3D-4926-9AE0-573F3FBB1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9F79EC-B22D-453D-9923-3C430F3DDE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346029-5B1A-4D6A-AEEF-CFD8F994C3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0982C-A185-499B-8056-625F3123C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6F63E-FB3C-4543-ACA3-739D428E9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2E727-4328-43BA-B2C2-39DF136D7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0EB9D-2D0F-4257-8BC7-DBCF314D4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C5B70-E519-4475-AF64-B4E93269F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7E264-722C-4651-AE83-623F71A91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D6834-5311-4FC7-AC7D-83B484796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EDEC5B-CDAB-4863-B7D3-3A93137E3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2E855-F4CB-4528-841A-6F9BF4328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086D5-C955-46CD-9D7D-35E8AED8F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504CD-1D73-41E5-814C-C979FC47C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F88F3-0090-4A21-8A3B-4D549722C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E8B91-610B-41D2-9E77-70EF58A56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3D63DB-9D53-47E8-A2AB-F59BA85B1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E29F14-BA84-4BA2-B70C-1471EE343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76EAD8-CD84-44C8-B580-23C8EEF46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E58661-A1FC-4814-B59E-B3FCE676E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461195-4CA5-4D4F-9F8B-D3108116A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FACB3E-7F69-471F-ABB5-5F44F0614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5284D6-2621-45F5-94F5-E1D6989365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BB51-920C-4C25-9827-408E8FAC5A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0904-8BD0-43BD-A0A1-300F273709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bs/hospitals_guidelines.Neonatal.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9A43-BA07-48EB-BB0D-D79529ABF6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CC64-BF48-42F7-8805-8BAD75090F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8F59-94DF-4A8C-B567-F8B63985F5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B5E0-21F4-4BAF-81E1-870041CB22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0" name="Picture 4" descr="fig4"/>
          <p:cNvPicPr/>
          <p:nvPr/>
        </p:nvPicPr>
        <p:blipFill>
          <a:blip r:embed="rId1">
            <a:lum bright="-18000"/>
          </a:blip>
          <a:srcRect l="0" t="13996" r="0" b="38027"/>
          <a:stretch/>
        </p:blipFill>
        <p:spPr>
          <a:xfrm>
            <a:off x="1771560" y="1219320"/>
            <a:ext cx="5958000" cy="55260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C717-E64E-4035-B43D-302CF1ABBB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3" name="Picture 4" descr="fig4"/>
          <p:cNvPicPr/>
          <p:nvPr/>
        </p:nvPicPr>
        <p:blipFill>
          <a:blip r:embed="rId1"/>
          <a:srcRect l="0" t="61979" r="0" b="0"/>
          <a:stretch/>
        </p:blipFill>
        <p:spPr>
          <a:xfrm>
            <a:off x="1257480" y="1523880"/>
            <a:ext cx="72547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9D22-B345-432D-A9E6-4401BA4DFD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6"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8BAD-0F6B-47AD-A547-5E4441A512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20D9-5C27-4FBC-9686-12508A615B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2"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634E-1C80-4668-ACC9-D08078BAFF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5"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C658-C886-4433-8B09-328DE9EB91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E7AB-F119-4D6F-A59B-605A1C966C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8,000 cases/year or 2/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600 cases/year or 0.6/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C9B4-99EF-48A4-9B4C-42B703A7E6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bs/hospitals_guidelines.Neonatal.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EB7C-2039-46D5-ACC8-BE2322E68B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540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328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9DDF-F88A-4B77-83ED-D5C379E63F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6FC3-EC71-4599-9C1C-1363051166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A768-5850-43CB-8931-2CBD98219D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562F-DF4F-4172-960D-89F50D27E5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368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9617-2A2A-461A-861D-E81036C7A7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1274-DEC8-45C1-92A9-F49B82C762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 chou</cp:lastModifiedBy>
  <dcterms:modified xsi:type="dcterms:W3CDTF">2010-06-20T21:21:25Z</dcterms:modified>
  <cp:revision>57</cp:revision>
  <dc:subject/>
  <dc:title>Group B Streptococcal Infections</dc:title>
</cp:coreProperties>
</file>