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0544-69D2-4F78-AF46-2C2BCE7D9FB7}"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B70A-E9B8-48B1-9469-65771E58180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NAL-TO-INFANT TRANSMISS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group B streptococcal disease cases among newborns result from mother-to-infant transmission during labor and delivery.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women are asymptomatically colonized by group B streptococcus in the genital and gastrointestinal tract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nization is not altered by or dependent on pregnanc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half the infants born to colonized mothers are themselves colonized on the skin and mucosal surfaces as a result of passage through the birth canal or as a result of GBS ascending into the amniotic flui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ity of colonized infants, 98%, are asymptomati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2% will develop early-onset disease, presenting with sepsis, pneumonia or meningitis in the first few days of life.</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B25DF-7FAE-438B-8F2D-CA95F7D68EC8}"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ES OF EARLY-ONSET GBS DISEASE BY PRENATAL COLONIZATION &amp; RISK FACTO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in consideration in development of prevention guidelines was characterizing which women were at risk for delivering infants with early-onset infec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ummarizes data from a prospective study conducted in the early 1980s by Boyer and Gotoff (published in Antibiotics and Chemotherapy in 1985) that assessed nearly 5300 infants born over a three-and-a-half year period, none of whom had received intrapartum antibiotic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hort of deliveries was considered in terms of maternal prenatal colonization with group B streptococcus and the presence of an intrapartum risk factor, either pematurity, prolonged rupture of membranes, or intrapartum fever.</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tack rate was quite high among infants born to colonized mothers with one or more risk factors, 40.8 per 1000 births, or about 1 in 25 infant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colonized mothers without a risk factor had the next highest risk of early onset infants with an attack rate of 5.1 per 1000 birth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mothers with risk factors who were not prenatally colonized and to mothers who were neither colonized nor had risk factors, had very low attack rates of 0.9 per 1000 births and 0.3 per 1000 births, respectively.</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E53A-59B4-4A56-8E57-C770699148C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ST U.S. CONSENSUS RECOMMENDATIONS (CDC ’96, ACOG ’96, AAP ’97)</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6 guidelines were issued by the Centers for Disease Control and Prevention, American College of Obstetricians and Gynecologists, and American Academy of Pediatric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guidelines recommend health care providers and institutions choose between two alternative prevention strategie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ing-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gnant women should be cultured between 35-37 weeks</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partum antibiotic prophylaxis (IAP) should be offered to women identified as GBS carriers and to women of unknown GBS status at the time of labor who are delivering preterm</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P to preterm, membrane rupture from 18 hrs or more, or for an intrapartum fever of 100.4F or more (38C or mor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strategies also give IAP to women with GBS bacteriuria or previous infant with GBS diseas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696E9C-0D90-46B3-AEEE-0FDB7CEF04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5842D2-E4EE-4223-99D7-E553BE28D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AEE87D-BF72-4288-A0ED-34F2D63B93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CA286C-AB45-4AF2-BD78-3384272C6A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2E9D4A-C00F-48FC-9145-17C46D7F79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9E832-28D5-4C12-B4AF-931BD4F40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42E91-12E2-4143-AC6B-E9FEABBFB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2F279-F809-40D1-B92C-92B69E223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7DFAF-13EB-4EC9-AE93-CD155C9AF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A1641-50ED-46A2-96DE-EBD991886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A4783-182F-46F6-8896-CF3189E99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B25132-4E95-4D66-BDDF-CCA42E08B8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C1F0E-3FFC-4E22-BFD4-A03EE86BC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70C24-B300-4627-ABA8-242E3E1E5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3611B-7E52-4750-98B5-4437C4D71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578AD-D3A6-41DA-9283-0291074134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C4E19A-683D-4963-BFF4-4CCA4DF887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C91291-FAC8-44D6-BE21-D7665CB65D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4B73E7-C564-40B4-BFE5-D2DAB6BB6F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B89DA0-20BC-4B84-862D-2BAD3A80A3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AE31C3-7203-46E1-BED0-87E88CDF7A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ED1FAD-AA9C-4A08-8159-4191BDBC88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1D922F-17FB-43D6-BAA2-49565FB5A7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72028B-E2C5-4000-80A6-7ED68D44604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C5955-FD47-42FB-ADDA-6C0DBD2D63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8" descr="logo_01">
            <a:hlinkClick r:id="rId2"/>
          </p:cNvPr>
          <p:cNvPicPr/>
          <p:nvPr/>
        </p:nvPicPr>
        <p:blipFill>
          <a:blip r:embed="rId3"/>
          <a:stretch/>
        </p:blipFill>
        <p:spPr>
          <a:xfrm>
            <a:off x="380880" y="6116760"/>
            <a:ext cx="990720" cy="66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53" descr="logo_01">
            <a:hlinkClick r:id="rId2"/>
          </p:cNvPr>
          <p:cNvPicPr/>
          <p:nvPr/>
        </p:nvPicPr>
        <p:blipFill>
          <a:blip r:embed="rId3"/>
          <a:stretch/>
        </p:blipFill>
        <p:spPr>
          <a:xfrm>
            <a:off x="7086600" y="228600"/>
            <a:ext cx="1771560" cy="119052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7A15-3EEF-4F11-81A7-40F52E7655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dc.gov/groupbstrep/gbs/hospitals_guidelines.Neonatal.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71440" y="1722240"/>
            <a:ext cx="6095880" cy="23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eonatal Group B Streptococcal Infections</a:t>
            </a:r>
            <a:endParaRPr b="0" lang="en-US" sz="3800" spc="-1" strike="noStrike">
              <a:solidFill>
                <a:srgbClr val="000000"/>
              </a:solidFill>
              <a:latin typeface="Arial"/>
            </a:endParaRPr>
          </a:p>
        </p:txBody>
      </p:sp>
      <p:sp>
        <p:nvSpPr>
          <p:cNvPr id="116" name="PlaceHolder 2"/>
          <p:cNvSpPr>
            <a:spLocks noGrp="1"/>
          </p:cNvSpPr>
          <p:nvPr>
            <p:ph type="subTitle"/>
          </p:nvPr>
        </p:nvSpPr>
        <p:spPr>
          <a:xfrm>
            <a:off x="1034640" y="4952520"/>
            <a:ext cx="7086600" cy="17528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inatal CDC Prevention Guidelines</a:t>
            </a:r>
            <a:endParaRPr b="0" lang="en-US" sz="30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scilla Joe, M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D1CD2-95DB-414E-A85B-449596AED7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apartum Prophylaxis: Indications</a:t>
            </a:r>
            <a:endParaRPr b="0" lang="en-US" sz="4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invasive GBS diseas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GBS screening culture during current pregnancy (unless a planned c-section, in the absence of labor or amniotic membrane ruptur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known GBS status AND any of the followin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at &lt; 37 weeks’ gest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iotic membrane rupture &gt;18 hou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partum temperature &gt;38.0°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E5D67-DC49-4D5E-838D-0DDAE276CF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apartum Prophylaxis NOT Indicated</a:t>
            </a:r>
            <a:endParaRPr b="0" lang="en-US" sz="36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pregnancy with a positive GBS screening culture (unless culture positive ALSO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ed c-section performed in the absence of labor or membrane rupture (regardless of maternal GBS culture statu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vaginal and rectal GBS screening culture during the current pregnancy, regardless of intrapartum risk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F0BB-D280-46EF-AD86-2E84857F2F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ernal Antibiotic Prophylaxis</a:t>
            </a:r>
            <a:endParaRPr b="0" lang="en-US" sz="4000" spc="-1" strike="noStrike">
              <a:solidFill>
                <a:srgbClr val="000000"/>
              </a:solidFill>
              <a:latin typeface="Arial"/>
            </a:endParaRPr>
          </a:p>
        </p:txBody>
      </p:sp>
      <p:graphicFrame>
        <p:nvGraphicFramePr>
          <p:cNvPr id="167" name=""/>
          <p:cNvGraphicFramePr/>
          <p:nvPr/>
        </p:nvGraphicFramePr>
        <p:xfrm>
          <a:off x="457200" y="1981080"/>
          <a:ext cx="8229600" cy="3108600"/>
        </p:xfrm>
        <a:graphic>
          <a:graphicData uri="http://schemas.openxmlformats.org/drawingml/2006/table">
            <a:tbl>
              <a:tblPr/>
              <a:tblGrid>
                <a:gridCol w="4114800"/>
                <a:gridCol w="4114800"/>
              </a:tblGrid>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se giv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onatal coloniz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 1 h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 </a:t>
                      </a:r>
                      <a:r>
                        <a:rPr b="0" lang="en-US" sz="2000" spc="-1" strike="noStrike">
                          <a:solidFill>
                            <a:srgbClr val="000000"/>
                          </a:solidFill>
                          <a:latin typeface="Arial"/>
                        </a:rPr>
                        <a:t>similar to no treat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o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FE56-03C8-4374-9160-928B847487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457200" y="68544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pic>
        <p:nvPicPr>
          <p:cNvPr id="170" name="Picture 4" descr="fig4"/>
          <p:cNvPicPr/>
          <p:nvPr/>
        </p:nvPicPr>
        <p:blipFill>
          <a:blip r:embed="rId1">
            <a:lum bright="-18000"/>
          </a:blip>
          <a:srcRect l="0" t="13996" r="0" b="38027"/>
          <a:stretch/>
        </p:blipFill>
        <p:spPr>
          <a:xfrm>
            <a:off x="1771560" y="1219320"/>
            <a:ext cx="5958000" cy="552600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800C-1DFD-4580-958E-5FDE49D54C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457200" y="86472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pic>
        <p:nvPicPr>
          <p:cNvPr id="173" name="Picture 4" descr="fig4"/>
          <p:cNvPicPr/>
          <p:nvPr/>
        </p:nvPicPr>
        <p:blipFill>
          <a:blip r:embed="rId1"/>
          <a:srcRect l="0" t="61979" r="0" b="0"/>
          <a:stretch/>
        </p:blipFill>
        <p:spPr>
          <a:xfrm>
            <a:off x="1257480" y="1523880"/>
            <a:ext cx="725472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BF1B3-ED22-4FD0-9D2A-4DB2D154DC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26964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rly Onset Disease</a:t>
            </a:r>
            <a:endParaRPr b="0" lang="en-US" sz="3600" spc="-1" strike="noStrike">
              <a:solidFill>
                <a:srgbClr val="000000"/>
              </a:solidFill>
              <a:latin typeface="Arial"/>
            </a:endParaRPr>
          </a:p>
        </p:txBody>
      </p:sp>
      <p:sp>
        <p:nvSpPr>
          <p:cNvPr id="176" name="PlaceHolder 2"/>
          <p:cNvSpPr>
            <a:spLocks noGrp="1"/>
          </p:cNvSpPr>
          <p:nvPr>
            <p:ph/>
          </p:nvPr>
        </p:nvSpPr>
        <p:spPr>
          <a:xfrm>
            <a:off x="685440" y="1219320"/>
            <a:ext cx="8458200" cy="5333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sentation within 1</a:t>
            </a:r>
            <a:r>
              <a:rPr b="0" lang="en-US" sz="2800" spc="-1" strike="noStrike" baseline="30000">
                <a:solidFill>
                  <a:srgbClr val="000000"/>
                </a:solidFill>
                <a:latin typeface="Arial"/>
                <a:ea typeface="Times New Roman"/>
              </a:rPr>
              <a:t>st</a:t>
            </a:r>
            <a:r>
              <a:rPr b="0" lang="en-US" sz="2800" spc="-1" strike="noStrike">
                <a:solidFill>
                  <a:srgbClr val="000000"/>
                </a:solidFill>
                <a:latin typeface="Arial"/>
                <a:ea typeface="Times New Roman"/>
              </a:rPr>
              <a:t> 24 hrs, 0 - 6day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75% of cases of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ertical transmiss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epsis 25-4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neumonia 35-5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eningitis 5-1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rtality 5%; higher in preterm infants</a:t>
            </a:r>
            <a:endParaRPr b="0" lang="en-US" sz="2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opsonin deficiency, limited maternal antibody transfer, limited maternal capsular antibod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AA2C-8D3C-4ABD-A466-44E1E1A704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25380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e Onset Disease</a:t>
            </a:r>
            <a:endParaRPr b="0" lang="en-US" sz="36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4 weeks after birth, range 7d-3mo</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rm and preterm infants equally susceptible</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rotype III most common and predominant cause of meningitis</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cteremia and mening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steomyelitis, septic arthritis, and cellul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rizontal transmission (hospital, community, mother)</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idence unchanged with intrapartum prophylax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96F8-04B0-4A4B-9513-CC73241BD3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PlaceHolder 1"/>
          <p:cNvSpPr>
            <a:spLocks noGrp="1"/>
          </p:cNvSpPr>
          <p:nvPr>
            <p:ph type="title"/>
          </p:nvPr>
        </p:nvSpPr>
        <p:spPr>
          <a:xfrm>
            <a:off x="304920" y="83808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Arial"/>
              </a:rPr>
              <a:t>Treatment of Asymptomatic Neonates</a:t>
            </a:r>
            <a:endParaRPr b="0" lang="en-US" sz="3600" spc="-1" strike="noStrike">
              <a:solidFill>
                <a:srgbClr val="000000"/>
              </a:solidFill>
              <a:latin typeface="Arial"/>
            </a:endParaRPr>
          </a:p>
        </p:txBody>
      </p:sp>
      <p:sp>
        <p:nvSpPr>
          <p:cNvPr id="182" name="PlaceHolder 2"/>
          <p:cNvSpPr>
            <a:spLocks noGrp="1"/>
          </p:cNvSpPr>
          <p:nvPr>
            <p:ph/>
          </p:nvPr>
        </p:nvSpPr>
        <p:spPr>
          <a:xfrm>
            <a:off x="609480" y="2307960"/>
            <a:ext cx="7772400" cy="35290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4-48 hr observation period for infants    with pretreated moth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outine use of antibiotics in infants whose mothers received adequate treatment is not indic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35A4-7070-442A-BA8A-BD496EF0CD7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PlaceHolder 1"/>
          <p:cNvSpPr>
            <a:spLocks noGrp="1"/>
          </p:cNvSpPr>
          <p:nvPr>
            <p:ph type="title"/>
          </p:nvPr>
        </p:nvSpPr>
        <p:spPr>
          <a:xfrm>
            <a:off x="244080" y="544680"/>
            <a:ext cx="8637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85" name="PlaceHolder 2"/>
          <p:cNvSpPr>
            <a:spLocks noGrp="1"/>
          </p:cNvSpPr>
          <p:nvPr>
            <p:ph/>
          </p:nvPr>
        </p:nvSpPr>
        <p:spPr>
          <a:xfrm>
            <a:off x="838080" y="1980720"/>
            <a:ext cx="784872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lood, CSF, ETT cx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B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R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X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8992E-7A4D-4FE3-A131-F1803889B7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type="title"/>
          </p:nvPr>
        </p:nvSpPr>
        <p:spPr>
          <a:xfrm>
            <a:off x="664920" y="53316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GBS Disease</a:t>
            </a:r>
            <a:endParaRPr b="0" lang="en-US" sz="40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mpicillin and Gentamic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7-10 days for uncomplicated bacteremi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4 days for uncomplicated mening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1-28 days for meningitis complicated by abscesses, ventricul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4-6 weeks for osteomyelitis or endocardit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4251-81B0-45BB-96E0-6B89658019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e Disease</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cause of early-onset sepsis in U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intrapartum prophylaxis: 8,000 cases/year or 2/1000 live birth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now to 1,600 cases/year or 0.6/1000 live birth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natal GBS disease burd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natal illness/death, long-term disabilit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nal morbid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7717-15B3-46A5-8013-D4786D8605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457200" y="779400"/>
            <a:ext cx="822960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cdc.gov/groupbstrep/gbs/hospitals_guidelines.Neonatal.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80E77-9193-40B9-BA59-584CD73456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her to Infant Transmission</a:t>
            </a:r>
            <a:endParaRPr b="0" lang="en-US" sz="3600" spc="-1" strike="noStrike">
              <a:solidFill>
                <a:srgbClr val="000000"/>
              </a:solidFill>
              <a:latin typeface="Arial"/>
            </a:endParaRPr>
          </a:p>
        </p:txBody>
      </p:sp>
      <p:sp>
        <p:nvSpPr>
          <p:cNvPr id="122" name="Text Box 3"/>
          <p:cNvSpPr/>
          <p:nvPr/>
        </p:nvSpPr>
        <p:spPr>
          <a:xfrm>
            <a:off x="2975400" y="2017800"/>
            <a:ext cx="2908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BS colonized mother</a:t>
            </a:r>
            <a:endParaRPr b="0" lang="en-US" sz="2000" spc="-1" strike="noStrike">
              <a:solidFill>
                <a:srgbClr val="000000"/>
              </a:solidFill>
              <a:latin typeface="Arial"/>
            </a:endParaRPr>
          </a:p>
        </p:txBody>
      </p:sp>
      <p:sp>
        <p:nvSpPr>
          <p:cNvPr id="123" name="Text Box 4"/>
          <p:cNvSpPr/>
          <p:nvPr/>
        </p:nvSpPr>
        <p:spPr>
          <a:xfrm>
            <a:off x="1066680" y="3048120"/>
            <a:ext cx="2133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colonized newborn</a:t>
            </a:r>
            <a:endParaRPr b="0" lang="en-US" sz="2000" spc="-1" strike="noStrike">
              <a:solidFill>
                <a:srgbClr val="000000"/>
              </a:solidFill>
              <a:latin typeface="Arial"/>
            </a:endParaRPr>
          </a:p>
        </p:txBody>
      </p:sp>
      <p:sp>
        <p:nvSpPr>
          <p:cNvPr id="124" name="Text Box 5"/>
          <p:cNvSpPr/>
          <p:nvPr/>
        </p:nvSpPr>
        <p:spPr>
          <a:xfrm>
            <a:off x="5715000" y="3063960"/>
            <a:ext cx="1676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nized newborn</a:t>
            </a:r>
            <a:endParaRPr b="0" lang="en-US" sz="2000" spc="-1" strike="noStrike">
              <a:solidFill>
                <a:srgbClr val="000000"/>
              </a:solidFill>
              <a:latin typeface="Arial"/>
            </a:endParaRPr>
          </a:p>
        </p:txBody>
      </p:sp>
      <p:sp>
        <p:nvSpPr>
          <p:cNvPr id="125" name="Text Box 6"/>
          <p:cNvSpPr/>
          <p:nvPr/>
        </p:nvSpPr>
        <p:spPr>
          <a:xfrm>
            <a:off x="1223280" y="4770360"/>
            <a:ext cx="19350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mptomatic</a:t>
            </a:r>
            <a:endParaRPr b="0" lang="en-US" sz="2000" spc="-1" strike="noStrike">
              <a:solidFill>
                <a:srgbClr val="000000"/>
              </a:solidFill>
              <a:latin typeface="Arial"/>
            </a:endParaRPr>
          </a:p>
        </p:txBody>
      </p:sp>
      <p:sp>
        <p:nvSpPr>
          <p:cNvPr id="126" name="Text Box 7"/>
          <p:cNvSpPr/>
          <p:nvPr/>
        </p:nvSpPr>
        <p:spPr>
          <a:xfrm>
            <a:off x="5257800" y="4587840"/>
            <a:ext cx="3276720" cy="7038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onset sepsis, pneumonia, meningitis</a:t>
            </a:r>
            <a:endParaRPr b="0" lang="en-US" sz="2000" spc="-1" strike="noStrike">
              <a:solidFill>
                <a:srgbClr val="000000"/>
              </a:solidFill>
              <a:latin typeface="Arial"/>
            </a:endParaRPr>
          </a:p>
        </p:txBody>
      </p:sp>
      <p:sp>
        <p:nvSpPr>
          <p:cNvPr id="127" name="Line 8"/>
          <p:cNvSpPr/>
          <p:nvPr/>
        </p:nvSpPr>
        <p:spPr>
          <a:xfrm>
            <a:off x="4419720" y="2438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9"/>
          <p:cNvSpPr/>
          <p:nvPr/>
        </p:nvSpPr>
        <p:spPr>
          <a:xfrm flipH="1">
            <a:off x="3276360" y="2743200"/>
            <a:ext cx="114300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0"/>
          <p:cNvSpPr/>
          <p:nvPr/>
        </p:nvSpPr>
        <p:spPr>
          <a:xfrm>
            <a:off x="4419720" y="2743200"/>
            <a:ext cx="129528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11"/>
          <p:cNvSpPr/>
          <p:nvPr/>
        </p:nvSpPr>
        <p:spPr>
          <a:xfrm>
            <a:off x="579132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Line 12"/>
          <p:cNvSpPr/>
          <p:nvPr/>
        </p:nvSpPr>
        <p:spPr>
          <a:xfrm flipH="1">
            <a:off x="3200040" y="4114800"/>
            <a:ext cx="2590920" cy="609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Line 13"/>
          <p:cNvSpPr/>
          <p:nvPr/>
        </p:nvSpPr>
        <p:spPr>
          <a:xfrm>
            <a:off x="5791320" y="4114800"/>
            <a:ext cx="685800" cy="4572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Text Box 14"/>
          <p:cNvSpPr/>
          <p:nvPr/>
        </p:nvSpPr>
        <p:spPr>
          <a:xfrm>
            <a:off x="1772640" y="26020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4" name="Text Box 15"/>
          <p:cNvSpPr/>
          <p:nvPr/>
        </p:nvSpPr>
        <p:spPr>
          <a:xfrm>
            <a:off x="6096960" y="263700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5" name="Text Box 16"/>
          <p:cNvSpPr/>
          <p:nvPr/>
        </p:nvSpPr>
        <p:spPr>
          <a:xfrm>
            <a:off x="2972880" y="41608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a:t>
            </a:r>
            <a:endParaRPr b="0" lang="en-US" sz="2000" spc="-1" strike="noStrike">
              <a:solidFill>
                <a:srgbClr val="000000"/>
              </a:solidFill>
              <a:latin typeface="Arial"/>
            </a:endParaRPr>
          </a:p>
        </p:txBody>
      </p:sp>
      <p:sp>
        <p:nvSpPr>
          <p:cNvPr id="136" name="Text Box 17"/>
          <p:cNvSpPr/>
          <p:nvPr/>
        </p:nvSpPr>
        <p:spPr>
          <a:xfrm>
            <a:off x="6554520" y="4160880"/>
            <a:ext cx="54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33EF7-2A5C-40D2-8F21-79968D3225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lonization Rates</a:t>
            </a:r>
            <a:endParaRPr b="0" lang="en-US" sz="4400" spc="-1" strike="noStrike">
              <a:solidFill>
                <a:srgbClr val="000000"/>
              </a:solidFill>
              <a:latin typeface="Arial"/>
            </a:endParaRPr>
          </a:p>
        </p:txBody>
      </p:sp>
      <p:sp>
        <p:nvSpPr>
          <p:cNvPr id="139" name="PlaceHolder 2"/>
          <p:cNvSpPr>
            <a:spLocks noGrp="1"/>
          </p:cNvSpPr>
          <p:nvPr>
            <p:ph/>
          </p:nvPr>
        </p:nvSpPr>
        <p:spPr>
          <a:xfrm>
            <a:off x="457200" y="1676520"/>
            <a:ext cx="8229600" cy="441936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Carrie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 30% of women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 African Americans and nonsmoke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signs not predictiv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conditio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factor for early-onset disease:  GBS colonization at deliver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natal cultures late in pregnancy predict delivery sta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6CF5-98C7-4B36-97D8-4256359AAD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Risk Factors for</a:t>
            </a:r>
            <a:br>
              <a:rPr sz="3600"/>
            </a:br>
            <a:r>
              <a:rPr b="0" lang="en-US" sz="3600" spc="-1" strike="noStrike">
                <a:solidFill>
                  <a:srgbClr val="000000"/>
                </a:solidFill>
                <a:latin typeface="Arial"/>
              </a:rPr>
              <a:t>Early-Onset GBS Disease</a:t>
            </a:r>
            <a:endParaRPr b="0" lang="en-US" sz="36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etric: prolonged rupture of membranes, preterm delivery, intrapartum fev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African American, young 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ologic (low antibody to GBS capsular polysaccha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25CC9-0AA4-4FAA-8814-397C7A65E1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vention of Perinatal GBS Disease</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partum antibiotic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effective at preventing early-onset disease in women at risk for transmission of GBS to their newbor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How best to identify women a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B2B7-D662-4082-9E90-E87AA919C5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s of Early-Onset GBS Disease by Prenatal Colonization &amp; Risk Factors</a:t>
            </a:r>
            <a:endParaRPr b="0" lang="en-US" sz="3200" spc="-1" strike="noStrike">
              <a:solidFill>
                <a:srgbClr val="000000"/>
              </a:solidFill>
              <a:latin typeface="Arial"/>
            </a:endParaRPr>
          </a:p>
        </p:txBody>
      </p:sp>
      <p:graphicFrame>
        <p:nvGraphicFramePr>
          <p:cNvPr id="148" name="Object 3"/>
          <p:cNvGraphicFramePr/>
          <p:nvPr/>
        </p:nvGraphicFramePr>
        <p:xfrm>
          <a:off x="685800" y="2111400"/>
          <a:ext cx="7770960" cy="3530520"/>
        </p:xfrm>
        <a:graphic>
          <a:graphicData uri="http://schemas.openxmlformats.org/presentationml/2006/ole">
            <p:oleObj r:id="rId1" spid="">
              <p:embed/>
              <p:pic>
                <p:nvPicPr>
                  <p:cNvPr id="149" name="Object 3" descr=""/>
                  <p:cNvPicPr/>
                  <p:nvPr/>
                </p:nvPicPr>
                <p:blipFill>
                  <a:blip r:embed="rId2"/>
                  <a:stretch/>
                </p:blipFill>
                <p:spPr>
                  <a:xfrm>
                    <a:off x="685800" y="2111400"/>
                    <a:ext cx="7770960" cy="3530520"/>
                  </a:xfrm>
                  <a:prstGeom prst="rect">
                    <a:avLst/>
                  </a:prstGeom>
                  <a:ln w="0">
                    <a:noFill/>
                  </a:ln>
                </p:spPr>
              </p:pic>
            </p:oleObj>
          </a:graphicData>
        </a:graphic>
      </p:graphicFrame>
      <p:sp>
        <p:nvSpPr>
          <p:cNvPr id="150" name="Text Box 4"/>
          <p:cNvSpPr/>
          <p:nvPr/>
        </p:nvSpPr>
        <p:spPr>
          <a:xfrm>
            <a:off x="3429000" y="2327400"/>
            <a:ext cx="49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 prenatal vag/rect cul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 risk factors (gest. &lt;37 wks,    ROM &gt;18 hr, fever &gt; 37.5</a:t>
            </a:r>
            <a:r>
              <a:rPr b="1" lang="en-US" sz="2400" spc="-1" strike="noStrike">
                <a:solidFill>
                  <a:srgbClr val="000000"/>
                </a:solidFill>
                <a:latin typeface="Arial"/>
                <a:ea typeface="Arial"/>
              </a:rPr>
              <a:t>°</a:t>
            </a: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51" name="Text Box 5"/>
          <p:cNvSpPr/>
          <p:nvPr/>
        </p:nvSpPr>
        <p:spPr>
          <a:xfrm>
            <a:off x="1453680" y="5662440"/>
            <a:ext cx="392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yer &amp; Gotoff, Antibiot Chemother 198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6FA83-81CD-41CB-9502-7428A39861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U.S. Consensus  Recommendations</a:t>
            </a:r>
            <a:br>
              <a:rPr sz="3200"/>
            </a:br>
            <a:r>
              <a:rPr b="0" lang="en-US" sz="2000" spc="-1" strike="noStrike">
                <a:solidFill>
                  <a:srgbClr val="000000"/>
                </a:solidFill>
                <a:latin typeface="Arial"/>
              </a:rPr>
              <a:t>(CDC '96, ACOG '96, AAP '97)</a:t>
            </a:r>
            <a:br>
              <a:rPr sz="2000"/>
            </a:br>
            <a:endParaRPr b="0" lang="en-US" sz="2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ing-based approach: </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37 wks culture, offer intrapartum antibiotic prophylaxis (IAP) to GBS carriers and to preterm unless neg. culture result available, </a:t>
            </a:r>
            <a:r>
              <a:rPr b="0" lang="en-US" sz="2400" spc="-1" strike="noStrike">
                <a:solidFill>
                  <a:srgbClr val="000000"/>
                </a:solidFill>
                <a:latin typeface="Arial"/>
              </a:rPr>
              <a:t>or</a:t>
            </a:r>
            <a:endParaRPr b="0" lang="en-US" sz="2400" spc="-1" strike="noStrike">
              <a:solidFill>
                <a:srgbClr val="000000"/>
              </a:solidFill>
              <a:latin typeface="Arial"/>
            </a:endParaRPr>
          </a:p>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based approach:</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P to preterm, membrane rupture</a:t>
            </a:r>
            <a:r>
              <a:rPr b="0" lang="en-US" sz="2400" spc="-1" strike="noStrike" u="sng">
                <a:solidFill>
                  <a:srgbClr val="000000"/>
                </a:solidFill>
                <a:uFillTx/>
                <a:latin typeface="Arial"/>
              </a:rPr>
              <a:t>&gt;</a:t>
            </a:r>
            <a:r>
              <a:rPr b="0" lang="en-US" sz="2400" spc="-1" strike="noStrike">
                <a:solidFill>
                  <a:srgbClr val="000000"/>
                </a:solidFill>
                <a:latin typeface="Arial"/>
              </a:rPr>
              <a:t>18 hours, or intrapartum fever (T</a:t>
            </a:r>
            <a:r>
              <a:rPr b="0" lang="en-US" sz="2400" spc="-1" strike="noStrike" u="sng">
                <a:solidFill>
                  <a:srgbClr val="000000"/>
                </a:solidFill>
                <a:uFillTx/>
                <a:latin typeface="Arial"/>
              </a:rPr>
              <a:t>&gt;</a:t>
            </a:r>
            <a:r>
              <a:rPr b="0" lang="en-US" sz="2400" spc="-1" strike="noStrike">
                <a:solidFill>
                  <a:srgbClr val="000000"/>
                </a:solidFill>
                <a:latin typeface="Arial"/>
              </a:rPr>
              <a:t>38</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oth strategies also give IAP to women with GBS bacteriuria, or previous infant with GBS disease</a:t>
            </a: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1E42-87C0-45E5-ABD6-3E6B7FEDF9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is screening more protective than the risk-based approach?</a:t>
            </a:r>
            <a:endParaRPr b="0" lang="en-US" sz="36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er coverage of at-risk popul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s colonized women without obstetric risk factors (18% of all deliveri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biotic effectiveness in this cohort, based on birth survey data:  89% (64-97%)</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Text Box 4"/>
          <p:cNvSpPr/>
          <p:nvPr/>
        </p:nvSpPr>
        <p:spPr>
          <a:xfrm>
            <a:off x="685800" y="48006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rag et al, NEJM 2002, 347:23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2:20:01Z</dcterms:created>
  <dc:creator>NeoGuest</dc:creator>
  <dc:description/>
  <dc:language>en-US</dc:language>
  <cp:lastModifiedBy>cinnie chou</cp:lastModifiedBy>
  <dcterms:modified xsi:type="dcterms:W3CDTF">2010-06-20T21:21:25Z</dcterms:modified>
  <cp:revision>57</cp:revision>
  <dc:subject/>
  <dc:title>Group B Streptococcal Infections</dc:title>
</cp:coreProperties>
</file>