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961A-7D02-4E58-B7AD-A920B6CAB9A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E7F2-A8A1-43B9-A293-792059EBEBE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9B50-CBA7-4F4E-9AC9-B5483BA1ED6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F3A6-BCA0-41FF-842A-9B34DD90149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1A88DF-DA34-46CA-950F-E04C1AF49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C603FA-98DB-4264-A5B7-809AD439E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ECACA8-2135-4584-A808-D46FD1C4E3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56769B-E2F1-450F-A2B9-B1B47BCBF1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00023-7D04-4DDD-B953-F06890C5F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966A3-AB7B-46A3-A573-2E36B4741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A87B2-03E1-4191-8175-8FD71DC66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2A8D3-4962-4081-B55E-DAD23AD70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61973-CA58-4AA3-BD11-74A94F36C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DE3DF-7F8E-47B6-897F-C5A888981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99EAB-BF6F-49C1-BBE2-CE0E3D0FD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10EEEA-65AA-4E85-916F-E16AFAFEE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3EE03-A880-4022-9086-9E8707BD2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EE44C-D26D-4296-BF0F-F8D6CB0AF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21EAE-B3AA-4B2B-A4E2-CF7804E49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B4FCB-E5A6-481C-9610-E7FCC49AA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32E38-8397-4B68-B1AA-F2A81EDA9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9DCBC0-7EAB-49D7-8B89-44966977E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BE3DEF-3137-4A4F-9830-2343A5D2B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037CB3-36EE-4A11-A4E4-69E122C2D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DE203A-E849-4A13-B90B-524F866EF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422179-0C72-4778-84A4-21C1CF8E0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9916A-2F47-451B-B6B0-3DFDD2685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BD4C45-2A48-4B8E-87D9-CFCC4F010C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4195-FF14-49F1-893E-061FDD7829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4CDC-7043-4391-A210-9450CFA810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bs/hospitals_guidelines.Neonatal.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51FA-F0F7-4E8D-BA4B-D687346BE0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F204-D69D-4313-83B6-73B0D95AA9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0AE4-B532-42A0-9F89-76AE3B3449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28A7-D066-4F9C-8CD9-369EF4A896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0" name="Picture 4" descr="fig4"/>
          <p:cNvPicPr/>
          <p:nvPr/>
        </p:nvPicPr>
        <p:blipFill>
          <a:blip r:embed="rId1">
            <a:lum bright="-18000"/>
          </a:blip>
          <a:srcRect l="0" t="13996" r="0" b="38027"/>
          <a:stretch/>
        </p:blipFill>
        <p:spPr>
          <a:xfrm>
            <a:off x="1771560" y="1219320"/>
            <a:ext cx="5958000" cy="552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F637-4D98-4BF4-A2A3-F0A77ED8F7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3" name="Picture 4" descr="fig4"/>
          <p:cNvPicPr/>
          <p:nvPr/>
        </p:nvPicPr>
        <p:blipFill>
          <a:blip r:embed="rId1"/>
          <a:srcRect l="0" t="61979" r="0" b="0"/>
          <a:stretch/>
        </p:blipFill>
        <p:spPr>
          <a:xfrm>
            <a:off x="1257480" y="1523880"/>
            <a:ext cx="72547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D509-BB9D-4001-9531-3B9BF709C9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6"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75FF-ED0F-4BD6-8AB4-917BD4ED37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FF7C-9B47-4189-B404-77CAF3BA16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2"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4F15-896E-420F-9F12-123A67B9BB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5"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0625-7D36-43A5-BF4A-352052B851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B60B-E1CA-46C7-90FE-BD7DDC9295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8,000 cases/year or 2/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600 cases/year or 0.6/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2139-BE98-47A1-AB8E-116659AB52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bs/hospitals_guidelines.Neonatal.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4CEF-2950-4F49-BC4A-A115C62E29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540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328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2DAA-4642-4836-91D1-B3AE0CAA9B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0F8E-B2F3-4413-8020-8231ECDA45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E0FD-425A-4E2F-BA35-A93FCB3755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931A-5B73-447E-B1C7-6B8CC74B88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368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7648-7D8F-479B-B004-421AEABE8D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2F30-3300-475B-9019-1189358368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 chou</cp:lastModifiedBy>
  <dcterms:modified xsi:type="dcterms:W3CDTF">2010-06-20T21:21:25Z</dcterms:modified>
  <cp:revision>57</cp:revision>
  <dc:subject/>
  <dc:title>Group B Streptococcal Infections</dc:title>
</cp:coreProperties>
</file>