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4B5D-F124-45C7-96B9-9E1CE7DF0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91B1-9C4C-4CC2-8070-A05C008C22C6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18E2-25A0-4FBD-B58F-64FCC9531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846E-2BB9-4CCE-81FB-20775E5C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6DF8-3106-4E32-ADF0-677D6ABA9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C4C3-033B-402F-B870-47CC82435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B12A-6A65-4DEA-B249-6CB2C49CB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D901-0E21-4F40-96AA-2B671E2B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D2DE-4840-4174-9B19-41795E5C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872F-1A16-44C6-86D0-81212DDB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8704-0199-4372-B358-B8E82D5F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D1E1-DE39-46FC-8D90-951DDAB3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DEF7-556F-4B21-A556-6177246C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3C0B-D9D9-4020-A2D0-909E8813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E51B-8ECF-46FB-99F3-10FB1139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4826-598A-4AAB-90B7-BB7E997B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21DD-9C12-476A-A906-E4A1D9CA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816E-2616-49A1-9B71-FB0298CD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C0E0-1A77-47FC-89DD-F481DADE2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3237-3024-47E3-9C56-65321682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BEF3-5CFD-42D0-A103-E17DF08C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4158-0712-41C9-A001-B77071D2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1DC6-3D84-4028-AF51-A0D6A08B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20CA-44DD-4AC0-BE9E-B9825B0E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3F93-E5C2-4AD1-9480-C8BC83C7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959C-311C-4709-A1E8-C256CFB9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33A6-211E-4ED7-ADA2-5B5D1C9F200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C337-9EFA-4C04-A4C6-BFFA2728F9F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653B-2923-4E90-BC8A-D87B38903087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C010-30EB-4C4F-AE0E-AB46EE049EB1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3CC3-213C-469D-8AB5-2B15DF70D326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5626-29D8-4B34-B79B-B82AA217BADF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Health Issues for Children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in Foster Car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0" y="3492000"/>
            <a:ext cx="6502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braham Rice, M.D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ster Care Clinic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dical Directo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ntra Costa Regional Medical Cen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b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y foster children are at ris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fancy and early childhood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re critical periods during which the foundations for trust,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lf-esteem, conscience, empathy, problem solving, focused learning,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d impulse control are laid dow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966F-6B26-404E-989A-03BFC88EAD26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4B88-491C-4B42-9B1B-6BD915D18A2D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C2D0-E9E6-41D6-99B1-B03F74100A40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596A-2316-4259-BE67-23C05A5D1E5C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ong Term Effects Adverse Childhood Even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hildren living in a home with domestic violence are more likely 50 years later to have stroke, myocardial infarction, suicide attempt, substance abuse problems and be incarcerated, COPD, heart diseas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Adverse Childhood Events (ACE) Study, Kaiser Permanente/CDC/USDHHS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oster Care Children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ARE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hildren with special health care need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nd should have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ccess to a medical home designed to meet those need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32BF-9EF2-4955-99B2-1779B4603A55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C007-EDFD-4180-9A27-0F41866F8D87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7160" y="722160"/>
            <a:ext cx="863748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le of provider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AP recommendation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Fostering Health:</a:t>
            </a:r>
            <a:r>
              <a:rPr b="0" i="1" lang="en-US" sz="28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Health Care for Children in Foster Care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, second edition, 2005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D632-576A-4A69-B091-4AFA1DF02250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59A1-81F6-4FD8-B1CA-21526F58BD0B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le of provider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inimize the trauma of placement separation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mprove the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hild’s health and development during the period of foster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dvocate for child with child welfare agencies, foster families, birth families, schools, and courts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1C04-6008-41F4-BC37-188392A1BA9A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5427-3EAD-41BD-963F-DED42CCB3111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le of provider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ill require extended time and frequent follow up visi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ovide care with minimal inform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dentify physical, emotional, behavioral, psychosocial and developmental problem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343A-4DDB-42A9-A439-6CA507A9B370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418D-1667-452C-A8E3-9E5C84AF2841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le of provider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ssist social worker and parents additional forms of evaluations, care and community services the child requir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Advocate for child’s best interes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ith worker, foster parent, courts, schoo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5A16-C0E0-4086-804C-B567A3DF6BBE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EEB2-0B46-466F-873E-B7EEBF72C2A2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ovide access to a medical home, defined as care that i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ccessible, comprehensive, continuous, coordinated, compassionate and family center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7BD1-387B-4121-9E65-97DF55C54B5F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7118-75DE-466F-A650-A49F53F8DF19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Health Care Componen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itial health screen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prehensive health assess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velopmental and mental health evaluat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imary care / health care maintenan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9927-DB2C-4D74-8A4E-434B313BA68D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5D27-4A77-45B0-A71B-66B603B63191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itfalls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28240" y="19810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ail to ID as foster chil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Kinship foster child is a foster chil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ail to collect adequate inform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cial worker / foster family / bio fami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dical histor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ail to give adequate tim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F306-0EBE-4360-8F6E-9666B5D26E8C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61E1-22A3-45F4-921C-862967288F77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ake Home Messages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eing in Foster Care has profound consequences on childre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Especially younger childre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hildren in Foster Care are children with special health care needs and need access to a medical hom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5512-C836-495E-88DA-591BE3687C40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BABA-E1DC-4B9B-B159-7C9EE3A5E551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itfalls (cont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n’t ask why child remov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n’t assess how is doing in new hom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ail to screen adequately for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v delays / abuse / chronic illness / behavioral and emotional problem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municate concer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o foster parent AND worker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CDF9-B2DA-4E98-A6C8-1F6A705A6EDF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7187-6871-4911-A7F5-FE98563C6A70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itfalls (cont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ail to schedule adequate follow up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ail to make appropriate delay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n’t follow up on concern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eight, poor match between home and chil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123D-7A3B-4027-BA8B-DF2700B71EC3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8E83-10F1-4280-A11B-922E4F8AE187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itial health screenin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dentify any immediate medical, urgent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ntal health, or dental need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ealth conditions of which the foster parents and caseworker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hould be awa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dicatio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irect communication with foster parents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rovid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679F-A16D-4F04-AEB0-3B0514CFA6A3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97CE-2A5D-4E29-82F1-CE3DEE4E7D4A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itial health screenin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eight / Weight / Head Circumferen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ead to toe exam, including genital exam and workup as appropriate for concerns of abuse or other concer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5B02-B747-4BAE-9377-707A180FC66C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9D30-57BE-46BB-B618-ED9D06508354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cc00"/>
                </a:solidFill>
                <a:latin typeface="Arial"/>
              </a:rPr>
              <a:t>Comprehensive Health Assessment</a:t>
            </a:r>
            <a:endParaRPr b="0" lang="en-US" sz="41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seworker and foster parents pres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ealth Education Passport (HEP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tain information from birth parents and keep involved whenever possib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70F0-EAD5-498A-9A49-4969F8E83105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6139-155B-40BC-A0CF-96E1DC5D1A5A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cc00"/>
                </a:solidFill>
                <a:latin typeface="Arial"/>
              </a:rPr>
              <a:t>Comprehensive Health Assessment</a:t>
            </a:r>
            <a:endParaRPr b="0" lang="en-US" sz="41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historical review should include: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circumstances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at led to placement the child’s adjustment to separation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rom the birth fami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daptation to the foster home developmental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r school progres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gency’s plans for permanenc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7935-4094-4D72-8C4D-EC17521E9076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C19B-754A-4C7B-B2E8-794B3666A36A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cc00"/>
                </a:solidFill>
                <a:latin typeface="Arial"/>
              </a:rPr>
              <a:t>Comprehensive Health Assessment</a:t>
            </a:r>
            <a:endParaRPr b="0" lang="en-US" sz="41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mmunizat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ntal evalu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clude scheduling follow up visi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AACC-5F2B-4504-8D33-22675D246A55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DE44-CBC5-40C1-8D4A-CD0EE61A0F94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velopment &amp; mental health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82880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terview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ster parent, casework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andardized tes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view of educational evaluat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8733-B6A0-4680-B13C-DA0B9632BB1B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4C47-CD9C-432E-ADA8-2344F50E3931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velopmental and Education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ocal consultants and community-based intervention program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upplemental Nutrition Program for Women,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fants, and Children [WIC] and Head Start, Regional center,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pecial education (IEP), early intervention, CCS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2341-177F-4221-8BF2-ACBD7DB42F0F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72B5-28A6-48DC-9232-C0BC28E2FB85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ubspecialty support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ntal healt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rapy, psychiatr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hild Development Clinic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gional Cent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urology / Neurosurge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4D2F-E51D-4495-9F61-E33E719C1C97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5A0E-A090-4AE5-8B73-68B2FF1079C0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oster children at risk fo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hysical problem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motional and behavioral problem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velopmental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lay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cademic problem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2DCC-6528-45FD-9BD9-2C4A0C146AAB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14A5-ED16-4138-9EB0-28FA52BE2D30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reatm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ll treatment recommendations and plans should be part of court approved social services pla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ltimately is the agency / social worker’s responsibility to see the implementation of medical care pla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65B3-9A2E-417B-9C48-CB17C153062D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F5B4-46DE-402D-BD43-D91CEAC9C4DE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rimary care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hould assess physical and emotional health and developmental status of child at every visi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t risk for emotional problems / abu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specially at times of transi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ccess to medical hom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248F-535E-49FC-81DB-2F735F2F2335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5FEE-CA8B-4305-8948-5E51733563F6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ngoing car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requent routine evaluat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nthly until 6 months of ag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very 2 months until 1 year of ag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very 3 months until 2 years of ag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very 6 months after 2 years of ag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t times of transi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ntinuity of medical care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E2EA-22FD-4342-A987-BD6ADDA9475F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09AE-00E1-408C-A742-7A402789F20F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minde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Advocate for child’s best interes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ith worker, foster parent, courts, schoo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4DA7-DA1B-44D3-B3F1-60E0EBE6342B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4692-AEB4-4DF6-8B5A-CF3E9275ADB4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F7D9-508A-4B98-8C3C-6ACC6721E488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48C1-73E4-4C91-AD1A-6398221DC2EE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2417760" y="1941480"/>
            <a:ext cx="4029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28680" y="1941480"/>
            <a:ext cx="8208720" cy="4114800"/>
          </a:xfrm>
          <a:prstGeom prst="rect">
            <a:avLst/>
          </a:prstGeom>
          <a:ln w="0">
            <a:noFill/>
          </a:ln>
        </p:spPr>
      </p:pic>
      <p:sp>
        <p:nvSpPr>
          <p:cNvPr id="233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0153-F011-4867-853A-07B9098ED184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D287-B484-4A0B-A470-F459ADDD27B0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28680" y="1941480"/>
            <a:ext cx="8208720" cy="4114800"/>
          </a:xfrm>
          <a:prstGeom prst="rect">
            <a:avLst/>
          </a:prstGeom>
          <a:ln w="0">
            <a:noFill/>
          </a:ln>
        </p:spPr>
      </p:pic>
      <p:sp>
        <p:nvSpPr>
          <p:cNvPr id="237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BE17-75EF-4485-979A-93344CC7F53B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3035-D983-4376-8FD5-0D5542228F6B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28680" y="1941480"/>
            <a:ext cx="8208720" cy="4114800"/>
          </a:xfrm>
          <a:prstGeom prst="rect">
            <a:avLst/>
          </a:prstGeom>
          <a:ln w="0">
            <a:noFill/>
          </a:ln>
        </p:spPr>
      </p:pic>
      <p:sp>
        <p:nvSpPr>
          <p:cNvPr id="241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04B9-67E0-4DAD-9CC5-BC4CA6656F7A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F3D1-2003-4CB6-8C78-27ABD82238FC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22160"/>
            <a:ext cx="863748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hysical problems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hysical and sexual abu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sthm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eadach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astrointestinal problem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6EFB-F31A-4B7B-B7F4-C8C753FFE4B9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C39D-4929-4F1A-BB73-3823C0D7C8C8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motional / behavioral problems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itnessing domestic violen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esent based on developmental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TS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DH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ggressive / withdraw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pression / anxiet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nduct disorders / truanc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5397-C924-424F-9271-39E20E64760C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AE48-D6DB-48FF-9792-83D1475F1674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velopmental delay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cial / emotional delay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nguage delay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ne motor / gross moto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E98B-6C66-4DA0-B03A-779FDA2F1F8C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F4D1-0EB4-4E9C-92FF-5A99FFF695EA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722160"/>
            <a:ext cx="863748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ttachment system theory of developm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rmal development is absolutely dependent on a bond with a loving caregiv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ffect regulation may be the most essential aspect of a child’s develop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2F26-8405-4861-A244-554578F638AA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A173-1204-4E0E-931F-E6C04978D4C0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(but wait, there's more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, foster children at much greater risk for serious adverse health outcome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orse still………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A512-BFD2-41D3-A0F0-9BE3AAD8EFF7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4469-5C7E-4DD2-9FD9-F907BDC0614F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ccess to poor health car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sufficient fund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ck of acces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olonged waits for medical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d mental health servic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ck of coordination of servic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2B67-335D-4E36-8124-4066DF07888E}" type="datetime">
              <a:rPr b="0" lang="en-US" sz="1400" spc="-1" strike="noStrike">
                <a:solidFill>
                  <a:srgbClr val="ffffcc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53E3-D75C-4397-B184-E8895F607C29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be</dc:creator>
  <dc:description/>
  <dc:language>en-US</dc:language>
  <cp:lastModifiedBy>Abe</cp:lastModifiedBy>
  <dcterms:modified xsi:type="dcterms:W3CDTF">2009-04-15T14:38:04Z</dcterms:modified>
  <cp:revision>41</cp:revision>
  <dc:subject/>
  <dc:title>PowerPoint Presentation</dc:title>
</cp:coreProperties>
</file>