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09B4-D411-4543-A50B-69C3A97DB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3DFE-9281-46B1-B0BD-884A2E857A8D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D69D-F88A-46BC-A5BC-7793ECCC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361-8F87-438A-A978-58C435E8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496-0B9B-416F-86C3-9744766D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85DF-3390-4C91-BCB9-4995E969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434D-88B6-4E9B-A91C-9BB6A2FE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BCA8-8E18-4DBC-90A4-F3A05C01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0861-AD8D-46C5-ADDC-F38818B1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A3C4-2909-482B-95AA-7267F994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81E7-91A8-4D43-8FDF-ABCE4E22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DC34-C733-46E1-9019-C987C378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5DB5-5EB0-45D5-BEA6-5D24E727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334-276C-48AE-ADA4-B0FB01A2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3CB1-D9DB-4330-9B98-3620431B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7331-929C-4697-8E85-CA898345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6868-E511-4C89-B814-9325E74E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0DB0-E216-48B6-8FD2-E48CC104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DCF4-34C1-4156-BE84-100DC00D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E581-EBCE-46CD-8746-EB9CF944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A850-BCD1-4810-AE77-9156C7B9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364-01FB-4F95-A787-83F84492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BC2-1046-4933-8BFF-473F893F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765-53FD-43DA-9A7E-DA4436EE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F09-3671-4DFB-B4A0-3F456458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14D-F6F8-4CA8-BF7F-7265629F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EC3F-B5A4-4DF3-9AFF-B9A09B3A7F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73CC-689F-418C-956F-125270DCF2A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4ED2-DDED-454B-BFEF-639F4732DD69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6C3F-D091-40A3-B892-09702AD201C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6DC0-636F-4180-8370-A2760446E694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169C-1027-4A0D-A5BC-619B9E1FF20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alth Issues for Children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in Foster Ca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3492000"/>
            <a:ext cx="6502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braham Rice, M.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ster Care Clinic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dical Direct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ra Costa Regional Medical Cen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b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y foster children are at ris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fancy and early childhoo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e critical periods during which the foundations for trust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lf-esteem, conscience, empathy, problem solving, focused learning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impulse control are laid dow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D2B7-118D-4E9E-80AB-2F7916039405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CCD9-2B03-4FA6-B21B-232CAC3F91A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2DB1-2B2C-40CA-A847-85302BF1D47A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98C9-C531-4DCE-95DE-70DFD93DBEF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ng Term Effects Adverse Childhood Eve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ren living in a home with domestic violence are more likely 50 years later to have stroke, myocardial infarction, suicide attempt, substance abuse problems and be incarcerated, COPD, heart diseas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Adverse Childhood Events (ACE) Study, Kaiser Permanente/CDC/USDHH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oster Care Children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ARE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ren with special health care nee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d should hav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cess to a medical home designed to meet those nee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1DEC-5E11-4660-A798-A935518F9E05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0493-9260-4A18-8011-DFE9EA7CEDC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72216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AP recommendation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Fostering Health:</a:t>
            </a:r>
            <a:r>
              <a:rPr b="0" i="1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Health Care for Children in Foster Car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second edition, 2005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3D82-7FCD-4317-A234-9B90CD88D4DD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E2A6-4311-4C17-ACF1-9FF96B92FAD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inimize the trauma of placement separation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mprove the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’s health and development during the period of foster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dvocate for child with child welfare agencies, foster families, birth families, schools, and courts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85DA-0C4E-4CEC-A348-A1BFD3000A1A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37A5-1D9D-41FF-9F85-8A0900D8DDC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ill require extended time and frequent follow up visi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vide care with minimal inform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dentify physical, emotional, behavioral, psychosocial and development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E41A-C8F5-4670-B6B8-947032D7238C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AF56-41E6-4BD8-A37B-45606521500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ssist social worker and parents additional forms of evaluations, care and community services the child requi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Advocate for child’s best intere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th worker, foster parent, courts, schoo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47FC-2673-46C7-A2AD-B2688950A13E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4033-451F-410D-823C-E34E4118C19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vide access to a medical home, defined as care that i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cessible, comprehensive, continuous, coordinated, compassionate and family center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7AED-339E-486A-B2A9-9BBEC25E7839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36FE-B117-4BF0-904E-921D7DE6269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alth Care Compone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itial health screen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rehensive health assess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velopmental and mental health evalu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imary care / health care mainten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392F-6DF0-4B56-823D-13E4BA8A6F6E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D405-9B10-42B5-8A4A-F8858C1AEFF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fall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240" y="19810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ID as foster chil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Kinship foster child is a foster chil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collect adequate inform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cial worker / foster family / bio fami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dical histor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give adequate ti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BA0D-6E51-4259-8BB6-75F400A43BAC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D3FE-3CF8-4DB8-A6ED-9ADA360122B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ake Home Message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eing in Foster Care has profound consequences on childre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Especially younger childr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ren in Foster Care are children with special health care needs and need access to a medical ho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AF38-0E11-4A3E-9E3E-D27DF169CDBA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01A2-AF13-4D83-AE6B-626689DE576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falls (cont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ask why child remov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assess how is doing in new ho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screen adequately fo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v delays / abuse / chronic illness / behavioral and emotional proble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municate concer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foster parent AND worke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3307-D45A-49B1-B16E-0EF97590375E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4AFF-009B-4920-B91A-BEA6BB6829F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falls (cont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schedule adequate follow u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make appropriate 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follow up on concern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eight, poor match between home and chil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3F38-E9DD-416B-8057-55204049DDBF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B3FE-C8D6-4656-B7F9-011A6DBB16F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itial health screen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dentify any immediate medical, urgent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ntal health, or dental need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lth conditions of which the foster parents and caseworker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uld be awa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dic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rect communication with foster parents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ovid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7098-C863-4F72-8BE3-06905DE7B3AB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E537-0A4A-41F9-9302-28792E1B6BB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itial health screen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ight / Weight / Head Circumfere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d to toe exam, including genital exam and workup as appropriate for concerns of abuse or other concer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48D8-7497-4ACE-8320-0FE18AE4D959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B595-24BB-4F04-BC94-A9FAC4D7967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Arial"/>
              </a:rPr>
              <a:t>Comprehensive Health Assessment</a:t>
            </a:r>
            <a:endParaRPr b="0" lang="en-US" sz="41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seworker and foster parents pres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lth Education Passport (HEP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tain information from birth parents and keep involved whenever possib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AC72-35A2-4C7D-A716-3225BAA464E1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D897-921B-47FE-81FE-D3E8B6563D1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Arial"/>
              </a:rPr>
              <a:t>Comprehensive Health Assessment</a:t>
            </a:r>
            <a:endParaRPr b="0" lang="en-US" sz="41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historical review should include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circumstances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at led to placement the child’s adjustment to separation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om the birth fami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daptation to the foster home developmental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r school progr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gency’s plans for permanenc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0D05-6598-4227-8B7A-9C80C22162FC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0A48-BFE7-4C50-B7AA-C51AE950457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Arial"/>
              </a:rPr>
              <a:t>Comprehensive Health Assessment</a:t>
            </a:r>
            <a:endParaRPr b="0" lang="en-US" sz="41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mmuniz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ntal evalu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clude scheduling follow up vis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7D17-8D87-4E0B-A3F1-9D18121B62F4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2857-FBDC-4AAF-87A7-D36E5CCA016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velopment &amp; mental heal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8288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terview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ster parent, casework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andardized te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view of educational evalu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A9D5-CEEE-4FBD-BD63-310ED90893B0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006D-73AE-4019-BDDA-5D801720179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velopmental and Education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cal consultants and community-based intervention progra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upplemental Nutrition Program for Women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fants, and Children [WIC] and Head Start, Regional center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pecial education (IEP), early intervention, CCS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7C0D-6DE6-4323-9163-5ED835ECFAA4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739E-3414-420F-95B7-31643B8CD0A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bspecialty support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ntal heal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rapy, psychiatr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 Development Clini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gional Cen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urology / Neurosurge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61DC-503E-400F-924C-F2FE2ADEDFD0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E223-2D78-44C8-8F3F-F04932CC05C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oster children at risk fo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hysic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motional and behavior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velopmenta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ademic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69D3-2888-41FB-B82A-464D3B5C3B80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F642-3D49-453B-8895-28B5079BB63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l treatment recommendations and plans should be part of court approved social services pla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ltimately is the agency / social worker’s responsibility to see the implementation of medical care pla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2E1E-AEDD-43CE-A7F2-CE3C82AFFD1D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0E8C-E2A2-4EED-A123-570D3955860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imary care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uld assess physical and emotional health and developmental status of child at every vis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 risk for emotional problems / abu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specially at times of transi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cess to medical ho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9219-1E83-44B9-A352-04815BA9E5DC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B234-9187-4970-B7D0-1F2E118E408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ngoing ca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equent routine evalu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nthly until 6 months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2 months until 1 year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3 months until 2 years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6 months after 2 years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t times of transi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inuity of medical car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7DD5-0E80-44E1-8721-7926D8403E9F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000F-EDC8-47FE-941B-06993D40205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minde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Advocate for child’s best intere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th worker, foster parent, courts, schoo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D292-C108-46D1-9DF6-622557B7EFFD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058D-5FC1-45D8-8AF4-2158603F4BA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4740-25C4-4DA5-B581-22FD3A273A48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EA3D-9850-4FED-A46D-59C292478C2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2417760" y="1941480"/>
            <a:ext cx="402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23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FCC3-B60E-4C07-A359-4C977587E204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0DFC-25EC-43D4-96B6-FEB80E41AAD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23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9A61-3F39-4C70-81D4-E97D44001023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232B-16B1-493E-AEDF-F75967D6612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24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EC20-0CCC-4310-8E66-1DD59BD8622A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6182-C357-4389-B258-DC1ADC366A3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2216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hysical problem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hysical and sexual abu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sth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dach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astrointestin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002F-192C-4549-A835-435C635F0077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AB7C-907F-4C42-B8EF-2BF22D39197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motional / behavioral problem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itnessing domestic viole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sent based on developmental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TS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DH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ggressive / withdraw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pression / anxie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duct disorders / truanc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8535-1A4D-4443-9F2A-BCAAFE08B512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2767-BD02-4961-9B8E-2B1E143B0CC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velopmental delay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cial / emotional 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nguage 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ne motor / gross mo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45DF-1B41-4625-A75B-82D43F5D0C6F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D21C-A8D7-44E7-BAF9-0BE58C6AD53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2216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ttachment system theory of develop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rmal development is absolutely dependent on a bond with a loving caregiv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ffect regulation may be the most essential aspect of a child’s develop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576F-5A64-43A2-B254-7EA680231524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B8EF-AB7B-4532-9892-F521531EA94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(but wait, there's mor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, foster children at much greater risk for serious adverse health outcom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orse still……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CB70-966B-4489-983A-2B5ECC812B22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F4FC-52AC-4CAA-B501-C03020AE9D7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ccess to poor health ca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sufficient fun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k of acce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longed waits for medica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mental health servi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k of coordination of servi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8313-9504-4378-B9ED-CA058C299180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0FD1-80C3-4052-8FEB-273BB0B460B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e</dc:creator>
  <dc:description/>
  <dc:language>en-US</dc:language>
  <cp:lastModifiedBy>Abe</cp:lastModifiedBy>
  <dcterms:modified xsi:type="dcterms:W3CDTF">2009-04-15T14:38:04Z</dcterms:modified>
  <cp:revision>41</cp:revision>
  <dc:subject/>
  <dc:title>PowerPoint Presentation</dc:title>
</cp:coreProperties>
</file>