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C68-FF1D-47C9-9C44-9FBBD379F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2CF0-6290-4F41-B361-948490A8CAA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33D-2177-4481-88AC-886F5DCC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A8C-F59A-4348-AA3E-29FE42C7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EC7-7AA6-45F8-8F19-6803A8C3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EF4-7264-4880-B458-73FFEA49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9877-50EA-43A3-A56F-9FEE20B0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EC2C-AA97-4DC0-8A1A-A33379A4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AE88-2AE9-4EC0-9D00-99E3162B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41DF-D8AF-4362-8719-32892572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B1A3-2303-447E-91E0-384C65D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034D-9280-4390-8A5D-A287F9CA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1B43-F8C8-4650-AAF3-D9EACD6A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6C1-2330-4836-BE88-D4073597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C38C-8271-4846-AFC8-EA7FCCA5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B6B3-A618-4C53-AC37-7776C909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4FFF-FFE9-43AC-8C2C-CCDEB0D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2FBD-5570-4A60-BA90-9DE90FD2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BE31-BFBD-40BF-B7EA-DA621FE7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07F-650E-4038-A8C3-DA3D5B86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FEB-5DE5-45F1-8D48-70E02DB5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EA8-C9AE-4CEC-84BF-9ED69E0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206-0CB9-4839-8670-DEE22678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E3D-AB82-4923-966D-D95C961B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291-E683-4F7C-BF51-98FDC57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D3D-A09C-46BA-A74B-273C813A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282C-20A5-47D3-9E32-BD90BC4548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5257-35B2-41D7-BD65-7CA5128DEC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010-D96E-42DD-A0C7-2D54D0B2AB2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37CF-19E4-4AF1-B8C6-F775E6CFCED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73A7-0477-4044-88AC-A2DD9D2EDDB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B973-0056-4AA9-B4D5-8FB4E46864E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Issues for Childre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Foster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3492000"/>
            <a:ext cx="650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raham Rice, M.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Care Clinic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foster children are at ris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cy and early childhoo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e critical periods during which the foundations for trust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f-esteem, conscience, empathy, problem solving, focused learning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impulse control are laid dow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8E6-3418-4847-A9F1-A0B29079756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D8AF-DD49-4859-86B2-04E9901A424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5990-119A-4B26-A7EC-4CD05776FC9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DA1C-44F1-44C5-A953-D85147E9D0D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ng Term Effects Adverse Childhood Ev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living in a home with domestic violence are more likely 50 years later to have stroke, myocardial infarction, suicide attempt, substance abuse problems and be incarcerated, COPD, heart diseas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Adverse Childhood Events (ACE) Study, Kaiser Permanente/CDC/USDHH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are Children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with special health car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should ha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a medical home designed to meet thos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C62F-8B86-412A-9F91-CC3A37669A0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2B84-94B1-43B1-85D1-8B8E587D1D2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AP recommendation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Fostering Health: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Health Care for Children in Foster Car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econd edition, 200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84DF-F761-44C4-9A8E-11BBE6574DC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AA94-28DB-42A1-8F54-C0F2AC3275B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nimize the trauma of placement separ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 th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’s health and development during the period of fost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ocate for child with child welfare agencies, foster families, birth families, schools, and court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D327-613A-48EA-85A2-2193606E416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0FC-83B6-4EC6-BD10-2242BD29C26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l require extended time and frequent follow up visi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care with minimal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physical, emotional, behavioral, psychosocial and development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6B01-B12D-41D3-AB13-CBF4CA5A566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EE77-724F-4B5A-91AB-908130677F2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ist social worker and parents additional forms of evaluations, care and community services the child requi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6E7B-1851-4134-B7FD-F8B427F170A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4C05-8A73-40A2-99EE-614D076B2A2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access to a medical home, defined as care that 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ssible, comprehensive, continuous, coordinated, compassionate and family cente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473A-40F5-49DB-A7FA-EB4D74524B6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39F8-10EB-455C-89B7-9763F583556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Care Compon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itial health scre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rehensive health assess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 and mental health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mary care / health care mainten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7556-5BBF-497B-9458-5FBED1F3E931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4AE5-21BB-4D99-A8ED-D9D48B511FD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ID as foster chil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inship foster child is a foster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collect adequate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cial worker / foster family / bio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his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give adequat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9902-9183-4F68-8E9A-B3F8069DA1A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CEC4-3BF2-4C3D-99C3-2C8C23A5CF6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Message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ing in Foster Care has profound consequences on childr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pecially younger childr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in Foster Care are children with special health care needs and need access to a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9D2A-BF72-475B-AC49-F42F6F1F9B3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81AF-3C02-4C49-BADE-6658952036D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k why child remov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sess how is doing in new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reen adequately fo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 delays / abuse / chronic illness / behavioral and emotional probl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cate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foster parent AND work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F7F-0190-4E64-A1D4-FA74A09DFE6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EE3D-3DC9-46B6-99B9-FE86B1D4E78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hedule adequate follow 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make appropriat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follow up on concer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ight, poor match between home and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D70F-346D-4364-8276-614BB495CC7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73D-D54B-4DD6-99EE-B0431406CD7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any immediate medical, urgent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, or dental need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conditions of which the foster parents and casework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be aw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rect communication with foster parents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060D-B398-4B20-BE68-9674C70BC3C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B66F-B99D-426E-B03E-F43F917FB76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ight / Weight / Head Circumfer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to toe exam, including genital exam and workup as appropriate for concerns of abuse or other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182F-5570-446B-8C65-A365FCE843F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258B-E829-4619-A511-03BA86473C1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eworker and foster parents pres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Education Passport (H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information from birth parents and keep involved whenever possi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DC2-00EA-4FD9-AB3D-C2B17ED0B75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BFB5-172A-43A7-B4E8-0F57ACF8C4C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historical review should include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ircumstance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at led to placement the child’s adjustment to separatio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om the birth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aptation to the foster home developmental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 school progr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ency’s plans for permane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C38A-BA1E-473F-9BFF-4050382CA89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1EDF-C586-4215-B1A4-8E8E9C9A480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muniz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ntal evalu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clude scheduling follow up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DFE-F050-4BBE-9689-C25482BD451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872D-CDF9-41A3-AEB8-2DB8E4A1B1C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&amp; mental heal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8288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parent, casework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ndardized t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view of educational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E8F-42FF-4E46-B20B-031FCA8749A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A3B3-7E66-4299-8637-0680E33B070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and Educat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cal consultants and community-based intervention pro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pplemental Nutrition Program for Women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ts, and Children [WIC] and Head Start, Regional center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education (IEP), early intervention, CC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E856-B735-4D61-A703-25D34E008D2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BC99-492F-417A-9A6C-E76D61CCFB2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bspecialty support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apy, psychiat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 Development Clini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logy / Neurosurg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EC98-0E60-4E82-81BE-5B711824CDD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2A4-475C-4A49-9A73-E0CE513079E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hildren at risk f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motional and behavior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ademic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9DA7-15DB-4325-AC9D-ABE42F072D8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6178-E028-4AAC-8AD5-5B5DD7A096F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treatment recommendations and plans should be part of court approved social services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timately is the agency / social worker’s responsibility to see the implementation of medical care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7F84-DC6F-4A47-A82E-3ADF6BCE7DC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5ADB-28B8-4DC4-907B-9B47D7EF3DD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mary c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assess physical and emotional health and developmental status of child at every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 risk for emotional problems / abu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specially at times of transi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07CC-3657-4D62-8658-06B750A9F68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A677-D0BB-44B1-883B-443FFED5AC3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ngoing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t routine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thly until 6 month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2 months until 1 year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3 months until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6 months after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 times of transi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inuity of medical car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DEB0-DB3D-4920-A45C-4FC4C1A8740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8E98-CED5-4880-A9D3-9CE0874A9D3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13D7-73C5-4BA4-876B-E3333DF08C8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0023-45D6-41CD-B95B-D9A7564CA86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AE30-9D0C-4747-A0F0-58B86FE99DD2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F995-C688-4EAF-A8F1-7816742F008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417760" y="1941480"/>
            <a:ext cx="40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C3D6-7A6C-4392-8CD8-27FA6A47329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E07B-0D5F-4CC1-A4D0-7CC7F5450D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73CD-4E31-4772-8223-2CFAE10D164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788-DE5C-4BF8-9E25-B8531A4147D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4FBA-1972-42CC-A514-CF7437E34D81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D422-24E4-44DD-8EAB-5155AEE1771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hysic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and sexual abu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ach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strointestin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47A6-DDA2-4E03-876C-B05370AFF13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0719-9937-4EA9-848B-F41C8751C05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motional / behavior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tnessing domestic viol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t based on developmental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TS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H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gressive / withdraw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pression / anxie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duct disorders / trua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A5D7-0519-41E8-A179-55B5E16AD751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2045-1457-402F-AD8F-8D96756330C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delay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cial / emotional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nguag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e motor / gross mo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F7FF-ACD6-452B-B8A7-DDD4999083F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4994-FD4C-434B-B14A-65266821E80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achment system theory of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mal development is absolutely dependent on a bond with a loving caregi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fect regulation may be the most essential aspect of a child’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4686-EB8A-46FD-9FAE-57BB97331BC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246F-BCB8-49B0-97AB-94357210CB0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but wait, there's mor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, foster children at much greater risk for serious adverse health outcom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orse still……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A3C-1ECC-49C3-A2EC-2E517699CED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9145-FA71-4772-A1C9-CCFC3C87BD0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cess to poor health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ufficient f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ac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longed waits for medic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mental health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coordination of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B419-1864-4033-964D-F7A6970F30B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217D-69BB-448E-BBA1-A37990E92C3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</dc:creator>
  <dc:description/>
  <dc:language>en-US</dc:language>
  <cp:lastModifiedBy>Abe</cp:lastModifiedBy>
  <dcterms:modified xsi:type="dcterms:W3CDTF">2009-04-15T14:38:04Z</dcterms:modified>
  <cp:revision>41</cp:revision>
  <dc:subject/>
  <dc:title>PowerPoint Presentation</dc:title>
</cp:coreProperties>
</file>