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6.wmf" ContentType="image/x-wmf"/>
  <Override PartName="/ppt/media/image7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863640" y="691920"/>
            <a:ext cx="5130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6102360" y="8750160"/>
            <a:ext cx="99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A483-F179-4D50-B357-40A36D932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pus - hypercoagulable, steroids, inflam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with SLE have 7-50 fold increased risk of CHD, greatest in young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with RA have 1.13 - 5.25 fold increase in risk of CH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on HAART - not all accounted for by induced hyperlipid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ermark sign - a dilatation of the pulmonary vessels proximal to an embolism along with collapse of distal vessels - R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atients develop atelectasis that may progress to small pl eff and elevated hemidiaphra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24-72 hours 1/3 of patients develop focal infiltrates indistinguishable from pneu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mpton hump, a triangular or rounded pleural-based infiltrate with the apex pointed toward the hilum, frequently located adjacent to the diaphragm – LATE and R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8713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6600" y="4289400"/>
            <a:ext cx="8713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660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204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88720" y="198072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6600" y="428940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428940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88720" y="428940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04480" y="228600"/>
            <a:ext cx="8224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660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204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6600" y="4289400"/>
            <a:ext cx="8713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1143000"/>
            <a:ext cx="10274400" cy="152280"/>
            <a:chOff x="0" y="1143000"/>
            <a:chExt cx="10274400" cy="152280"/>
          </a:xfrm>
        </p:grpSpPr>
        <p:sp>
          <p:nvSpPr>
            <p:cNvPr id="1" name="Rectangle 2"/>
            <p:cNvSpPr/>
            <p:nvPr/>
          </p:nvSpPr>
          <p:spPr>
            <a:xfrm>
              <a:off x="0" y="1143000"/>
              <a:ext cx="10274400" cy="74520"/>
            </a:xfrm>
            <a:prstGeom prst="rect">
              <a:avLst/>
            </a:prstGeom>
            <a:gradFill rotWithShape="0">
              <a:gsLst>
                <a:gs pos="0">
                  <a:srgbClr val="006f65"/>
                </a:gs>
                <a:gs pos="50000">
                  <a:srgbClr val="00dfca"/>
                </a:gs>
                <a:gs pos="100000">
                  <a:srgbClr val="006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1257480"/>
              <a:ext cx="10274400" cy="37800"/>
            </a:xfrm>
            <a:prstGeom prst="rect">
              <a:avLst/>
            </a:prstGeom>
            <a:gradFill rotWithShape="0">
              <a:gsLst>
                <a:gs pos="0">
                  <a:srgbClr val="976080"/>
                </a:gs>
                <a:gs pos="50000">
                  <a:srgbClr val="d989b8"/>
                </a:gs>
                <a:gs pos="100000">
                  <a:srgbClr val="976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8f97d5"/>
              </a:buClr>
              <a:buSzPct val="79000"/>
              <a:buFont typeface="Arial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77920" indent="-276120">
              <a:spcBef>
                <a:spcPts val="799"/>
              </a:spcBef>
              <a:buClr>
                <a:srgbClr val="8cf4ea"/>
              </a:buClr>
              <a:buSzPct val="79000"/>
              <a:buFont typeface="Arial"/>
              <a:buChar char="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0840" indent="-298440">
              <a:spcBef>
                <a:spcPts val="799"/>
              </a:spcBef>
              <a:buClr>
                <a:srgbClr val="8f97d5"/>
              </a:buClr>
              <a:buSzPct val="79000"/>
              <a:buFont typeface="Arial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5880" indent="-250920">
              <a:spcBef>
                <a:spcPts val="799"/>
              </a:spcBef>
              <a:buClr>
                <a:srgbClr val="00689d"/>
              </a:buClr>
              <a:buSzPct val="79000"/>
              <a:buFont typeface="Arial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5880" indent="-250920">
              <a:spcBef>
                <a:spcPts val="799"/>
              </a:spcBef>
              <a:buClr>
                <a:srgbClr val="000000"/>
              </a:buClr>
              <a:buSzPct val="79000"/>
              <a:buFont typeface="Arial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5880" indent="-250920">
              <a:spcBef>
                <a:spcPts val="799"/>
              </a:spcBef>
              <a:buClr>
                <a:srgbClr val="000000"/>
              </a:buClr>
              <a:buSzPct val="79000"/>
              <a:buFont typeface="Arial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Evaluation of Chest Pain in the Emergency Department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6109200" y="4302000"/>
            <a:ext cx="366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hel Steinhart, MD, M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RMC Emergency De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1-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7627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Nitroglycerine in ER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066680" y="1752480"/>
            <a:ext cx="823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als of Internal Medicine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 in chest pain with nitroglycerine prov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% Sen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%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993600" y="3962520"/>
            <a:ext cx="7678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adian Journal of Emergency Medicine 2006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provement in chest pain with nitroglycerine proved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% Sensitiv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7% Specifi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5384880" y="3156120"/>
            <a:ext cx="40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 Intern Med. 2003;139:979-9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5411880" y="5445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J Emerg M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6;8(3):164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PMH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9802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D - self or fami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erten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ent surgery, tra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stance abuse - alcohol, cigarettes, meth/cok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VT/PE/Aortic dissection - self or fami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p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fan’s/connective tissue dz - self or fami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cations - HAART, estrog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343400" y="5943600"/>
            <a:ext cx="46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 Rheum D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0;59;321-3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Engl J Med 2007 Apr 26;356(17):1723-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Physical Exam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92962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tal signs - Hypoxia? Tachycardia? Hypertens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 appearance - Marfanoid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otids and JVP, check neck for crepit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diac ex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racic cage - Trauma? Pectus excavatum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dominal exam - Hepatomegal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iphery - symmetric pulses? edema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in - dermatomal ras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Physical Signs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pic>
        <p:nvPicPr>
          <p:cNvPr id="103" name="Object 18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1974600" cy="2057400"/>
          </a:xfrm>
          <a:prstGeom prst="rect">
            <a:avLst/>
          </a:prstGeom>
          <a:ln w="0">
            <a:noFill/>
          </a:ln>
        </p:spPr>
      </p:pic>
      <p:pic>
        <p:nvPicPr>
          <p:cNvPr id="104" name="Object 20" descr=""/>
          <p:cNvPicPr/>
          <p:nvPr/>
        </p:nvPicPr>
        <p:blipFill>
          <a:blip r:embed="rId2"/>
          <a:stretch/>
        </p:blipFill>
        <p:spPr>
          <a:xfrm>
            <a:off x="380880" y="3733920"/>
            <a:ext cx="1522440" cy="2819160"/>
          </a:xfrm>
          <a:prstGeom prst="rect">
            <a:avLst/>
          </a:prstGeom>
          <a:ln w="0">
            <a:noFill/>
          </a:ln>
        </p:spPr>
      </p:pic>
      <p:pic>
        <p:nvPicPr>
          <p:cNvPr id="105" name="Object 21" descr=""/>
          <p:cNvPicPr/>
          <p:nvPr/>
        </p:nvPicPr>
        <p:blipFill>
          <a:blip r:embed="rId3"/>
          <a:stretch/>
        </p:blipFill>
        <p:spPr>
          <a:xfrm>
            <a:off x="2895480" y="1447920"/>
            <a:ext cx="3353040" cy="2108160"/>
          </a:xfrm>
          <a:prstGeom prst="rect">
            <a:avLst/>
          </a:prstGeom>
          <a:ln w="0">
            <a:noFill/>
          </a:ln>
        </p:spPr>
      </p:pic>
      <p:pic>
        <p:nvPicPr>
          <p:cNvPr id="106" name="Object 22" descr=""/>
          <p:cNvPicPr/>
          <p:nvPr/>
        </p:nvPicPr>
        <p:blipFill>
          <a:blip r:embed="rId4"/>
          <a:stretch/>
        </p:blipFill>
        <p:spPr>
          <a:xfrm>
            <a:off x="7162920" y="1486080"/>
            <a:ext cx="2819160" cy="2341440"/>
          </a:xfrm>
          <a:prstGeom prst="rect">
            <a:avLst/>
          </a:prstGeom>
          <a:ln w="0">
            <a:noFill/>
          </a:ln>
        </p:spPr>
      </p:pic>
      <p:pic>
        <p:nvPicPr>
          <p:cNvPr id="107" name="Object 25" descr=""/>
          <p:cNvPicPr/>
          <p:nvPr/>
        </p:nvPicPr>
        <p:blipFill>
          <a:blip r:embed="rId5"/>
          <a:stretch/>
        </p:blipFill>
        <p:spPr>
          <a:xfrm>
            <a:off x="3200400" y="3733920"/>
            <a:ext cx="2392200" cy="2895480"/>
          </a:xfrm>
          <a:prstGeom prst="rect">
            <a:avLst/>
          </a:prstGeom>
          <a:ln w="0">
            <a:noFill/>
          </a:ln>
        </p:spPr>
      </p:pic>
      <p:pic>
        <p:nvPicPr>
          <p:cNvPr id="108" name="Object 26" descr=""/>
          <p:cNvPicPr/>
          <p:nvPr/>
        </p:nvPicPr>
        <p:blipFill>
          <a:blip r:embed="rId6"/>
          <a:stretch/>
        </p:blipFill>
        <p:spPr>
          <a:xfrm>
            <a:off x="6858000" y="4114800"/>
            <a:ext cx="281952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Laboratory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KG - seri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st x-r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od stud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B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diac enzy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ver fun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p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-Dim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N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ing: Ultrasound, CT, Nuclear Stud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7a5"/>
                </a:solidFill>
                <a:latin typeface="Arial"/>
              </a:rPr>
              <a:t>EKG Findings in Adult Patients with Chest Pain: Association with Ischemic Events</a:t>
            </a:r>
            <a:endParaRPr b="1" lang="en-US" sz="3000" spc="-1" strike="noStrike">
              <a:solidFill>
                <a:srgbClr val="00b7a5"/>
              </a:solidFill>
              <a:latin typeface="Arial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219320" y="2057400"/>
          <a:ext cx="7665840" cy="400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766584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b7a5"/>
                </a:solidFill>
                <a:latin typeface="Arial"/>
              </a:rPr>
              <a:t>Adverse Cardiac Events</a:t>
            </a: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b7a5"/>
                </a:solidFill>
                <a:latin typeface="Arial"/>
              </a:rPr>
              <a:t>(12 mo out)</a:t>
            </a: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533520" y="1523880"/>
            <a:ext cx="944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7a5"/>
                </a:solidFill>
                <a:latin typeface="Arial"/>
              </a:rPr>
              <a:t>Patients discharged with chest pain of unclear orig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066680" y="2590920"/>
            <a:ext cx="838224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Abnormal ECG 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OR 9.5 (2.0 - 45.8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Preexisting DM 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OR 7.1 (1.8 - 27.2)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Preexisting CAD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OR 28.4 (3.5 - 229.0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5257800" y="59436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 Emerg Med. 2004 Jan;43(1):59-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7a5"/>
                </a:solidFill>
                <a:latin typeface="Arial"/>
              </a:rPr>
              <a:t>Potential Underlying Causes of ACS</a:t>
            </a:r>
            <a:endParaRPr b="1" lang="en-US" sz="36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837000" y="1701720"/>
            <a:ext cx="776232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chyarrhythm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vere anemia/acute hemorrh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dication withdraw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ulant substance ab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yperthyroid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p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ypoten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Post-op Chest Pain and SOB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96960" y="1981080"/>
            <a:ext cx="42796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 yo man 10 days following CAB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d acute dyspnea and right-sided chest pain on 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 revealed tachypnea, tachycardia, and hypox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nmlcxr"/>
          <p:cNvPicPr/>
          <p:nvPr/>
        </p:nvPicPr>
        <p:blipFill>
          <a:blip r:embed="rId1"/>
          <a:stretch/>
        </p:blipFill>
        <p:spPr>
          <a:xfrm>
            <a:off x="5943600" y="1447920"/>
            <a:ext cx="2438280" cy="2265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3" name="Picture 6" descr="cabgpna"/>
          <p:cNvPicPr/>
          <p:nvPr/>
        </p:nvPicPr>
        <p:blipFill>
          <a:blip r:embed="rId2"/>
          <a:stretch/>
        </p:blipFill>
        <p:spPr>
          <a:xfrm>
            <a:off x="6019920" y="4038480"/>
            <a:ext cx="2290680" cy="2438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4" name="Rectangle 7"/>
          <p:cNvSpPr/>
          <p:nvPr/>
        </p:nvSpPr>
        <p:spPr>
          <a:xfrm>
            <a:off x="8840160" y="220968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8711640" y="4486320"/>
            <a:ext cx="102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L p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 pl e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Studies in suspected PE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5029200" y="4038480"/>
            <a:ext cx="495288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KG Evidenc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chycardia - sinus, afib or aflutt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V Strai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1, Q3, T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oor R wave prog + TWI V1-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4"/>
          <p:cNvSpPr/>
          <p:nvPr/>
        </p:nvSpPr>
        <p:spPr>
          <a:xfrm>
            <a:off x="5029200" y="5638680"/>
            <a:ext cx="495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-Dim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useful 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ule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226080" y="1371600"/>
            <a:ext cx="43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 CXR in PE virtually always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stermark sign - R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375480" y="4876920"/>
            <a:ext cx="4109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electasis, small pleural effusion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vated hemidiaphragm may devel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4-72 hours – focal infilt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7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2819520" cy="2114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aphicFrame>
        <p:nvGraphicFramePr>
          <p:cNvPr id="132" name="Object 28"/>
          <p:cNvGraphicFramePr/>
          <p:nvPr/>
        </p:nvGraphicFramePr>
        <p:xfrm>
          <a:off x="6553080" y="2057400"/>
          <a:ext cx="1314720" cy="17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2057400"/>
                    <a:ext cx="1314720" cy="17524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4" name="Rectangle 29"/>
          <p:cNvSpPr/>
          <p:nvPr/>
        </p:nvSpPr>
        <p:spPr>
          <a:xfrm>
            <a:off x="5557320" y="1523880"/>
            <a:ext cx="36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mpton hump – LATE &amp; R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922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 in the ED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8" name="Rectangle 91"/>
          <p:cNvSpPr/>
          <p:nvPr/>
        </p:nvSpPr>
        <p:spPr>
          <a:xfrm>
            <a:off x="4114800" y="5943600"/>
            <a:ext cx="59086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92"/>
          <p:cNvSpPr/>
          <p:nvPr/>
        </p:nvSpPr>
        <p:spPr>
          <a:xfrm>
            <a:off x="1523880" y="1905120"/>
            <a:ext cx="739152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n estimat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6 m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nual 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s for “non-traumatic chest pain” by adul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≥25 in the 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.7 visits per 1,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sons ann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cute Cardiac Insufficienc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is estimated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 account for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1%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of these non-traumatic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est pain visits*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3"/>
          <p:cNvSpPr/>
          <p:nvPr/>
        </p:nvSpPr>
        <p:spPr>
          <a:xfrm>
            <a:off x="4648320" y="57913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95"/>
          <p:cNvSpPr/>
          <p:nvPr/>
        </p:nvSpPr>
        <p:spPr>
          <a:xfrm>
            <a:off x="4649760" y="5943600"/>
            <a:ext cx="5016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700" spc="-1" strike="noStrike">
                <a:solidFill>
                  <a:srgbClr val="030303"/>
                </a:solidFill>
                <a:latin typeface="Arial"/>
                <a:ea typeface="Times New Roman"/>
              </a:rPr>
              <a:t>Burt CW. Am J Emerg Med. 1999 Oct;17(6):552-9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cute Upper Back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8680" y="1676520"/>
            <a:ext cx="428004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9 yo man with long standing hyperten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dden mid back and interscapular p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ociated with nausea and swea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relieved by change of pos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radiation toward the left ch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Object 23" descr=""/>
          <p:cNvPicPr/>
          <p:nvPr/>
        </p:nvPicPr>
        <p:blipFill>
          <a:blip r:embed="rId1"/>
          <a:stretch/>
        </p:blipFill>
        <p:spPr>
          <a:xfrm>
            <a:off x="5791320" y="1905120"/>
            <a:ext cx="3657600" cy="3251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8" name="Rectangle 24"/>
          <p:cNvSpPr/>
          <p:nvPr/>
        </p:nvSpPr>
        <p:spPr>
          <a:xfrm>
            <a:off x="5699520" y="5473800"/>
            <a:ext cx="40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e mediastinum - Dis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838080" y="1752480"/>
            <a:ext cx="830592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dden severe pai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grating pain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ring pa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9% (spec. 9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ypertensio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9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astolic murmu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ulse deficits or BP differential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cal neurologic deficit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yncop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CG criteria for AMI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7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114800" y="5791320"/>
            <a:ext cx="56386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lompas et al, JAMA 2002; 287:2262-227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llamothy et al, Am J Med 2002; 113:468-47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b7a5"/>
                </a:solidFill>
                <a:latin typeface="Arial"/>
              </a:rPr>
              <a:t>Aortic Dissection: clinical presentation</a:t>
            </a:r>
            <a:endParaRPr b="1" lang="en-US" sz="3400" spc="-1" strike="noStrike">
              <a:solidFill>
                <a:srgbClr val="00b7a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ortic Dissection: etiology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valence of major risk factors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ertens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-90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cuspid Ao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-13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fan syndro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-5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2"/>
          <p:cNvSpPr/>
          <p:nvPr/>
        </p:nvSpPr>
        <p:spPr>
          <a:xfrm>
            <a:off x="1066680" y="304920"/>
            <a:ext cx="8224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b7a5"/>
                </a:solidFill>
                <a:latin typeface="Arial"/>
              </a:rPr>
              <a:t>Radiographic Signs of Thoracic Aortic Disse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61760" y="15235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99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ies suggest up to 90% of patients will have “abnormal” CXR*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dened mediastinum (&gt;8cm on AP film) [50-65%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 pleural effusion (hemothora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ng Sign (displaced intimal calcification &gt;5m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rred aortic kno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heal deviation to the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ophageal deviation to the Right (seen via NG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 apical c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ressed Left mainstem bronch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s of paratracheal stri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2516400" y="6019920"/>
            <a:ext cx="728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Hogg K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nsitivity of a normal chest radiograph in ruling out aortic disse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t Evidence Topics. 9 March 200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ortic Dissectio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pic>
        <p:nvPicPr>
          <p:cNvPr id="148" name="Picture 8" descr=""/>
          <p:cNvPicPr/>
          <p:nvPr/>
        </p:nvPicPr>
        <p:blipFill>
          <a:blip r:embed="rId1"/>
          <a:stretch/>
        </p:blipFill>
        <p:spPr>
          <a:xfrm>
            <a:off x="2930400" y="1523880"/>
            <a:ext cx="43754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Wrestler with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42800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 yo high school wrestler develops right-sided chest pain while pinning his oppone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4800600" y="1371600"/>
            <a:ext cx="5168880" cy="4648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52" name="Rectangle 5"/>
          <p:cNvSpPr/>
          <p:nvPr/>
        </p:nvSpPr>
        <p:spPr>
          <a:xfrm>
            <a:off x="6172560" y="61722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eumothor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10287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lcoholic with Chest Pain and Cough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35816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5 yo alcoholic man with fever, chills and productive cough over two d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6"/>
          <p:cNvGrpSpPr/>
          <p:nvPr/>
        </p:nvGrpSpPr>
        <p:grpSpPr>
          <a:xfrm>
            <a:off x="4572000" y="1523880"/>
            <a:ext cx="4952880" cy="4572000"/>
            <a:chOff x="4572000" y="1523880"/>
            <a:chExt cx="4952880" cy="4572000"/>
          </a:xfrm>
        </p:grpSpPr>
        <p:pic>
          <p:nvPicPr>
            <p:cNvPr id="156" name="Picture 4" descr=""/>
            <p:cNvPicPr/>
            <p:nvPr/>
          </p:nvPicPr>
          <p:blipFill>
            <a:blip r:embed="rId1"/>
            <a:stretch/>
          </p:blipFill>
          <p:spPr>
            <a:xfrm>
              <a:off x="4572000" y="1523880"/>
              <a:ext cx="49528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Rectangle 5"/>
            <p:cNvSpPr/>
            <p:nvPr/>
          </p:nvSpPr>
          <p:spPr>
            <a:xfrm>
              <a:off x="4658040" y="1563840"/>
              <a:ext cx="4768200" cy="448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Rectangle 7"/>
          <p:cNvSpPr/>
          <p:nvPr/>
        </p:nvSpPr>
        <p:spPr>
          <a:xfrm>
            <a:off x="6197760" y="610092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 Pneu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Hyperemesis with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42562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yo G1P0 at 10wks presents with 4 days refractory emesis and 12 hours progressive, severe substernal chest p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ject 13" descr=""/>
          <p:cNvPicPr/>
          <p:nvPr/>
        </p:nvPicPr>
        <p:blipFill>
          <a:blip r:embed="rId1"/>
          <a:stretch/>
        </p:blipFill>
        <p:spPr>
          <a:xfrm>
            <a:off x="5257800" y="1828800"/>
            <a:ext cx="3809880" cy="4086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62" name="Rectangle 14"/>
          <p:cNvSpPr/>
          <p:nvPr/>
        </p:nvSpPr>
        <p:spPr>
          <a:xfrm>
            <a:off x="4875120" y="6095880"/>
            <a:ext cx="45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eumomediastinum - Boerhaave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Smoker with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980720"/>
            <a:ext cx="42796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8 yo former smoker with persistant, non-exertional, left substernal and left shoulder p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10"/>
          <p:cNvGraphicFramePr/>
          <p:nvPr/>
        </p:nvGraphicFramePr>
        <p:xfrm>
          <a:off x="5334120" y="1676520"/>
          <a:ext cx="4047840" cy="36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676520"/>
                    <a:ext cx="404784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980720"/>
            <a:ext cx="898056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st pain in the ED differs from chest pain in primary c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all serious chest pain is A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nosis of chest pain in the ED is rarely straight forwa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st pain in the ED is a high-stakes evalu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 in the ED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830600" y="21034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295280" y="1447920"/>
            <a:ext cx="746784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SFGH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5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ll visits in patients &gt;3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for “non-traumatic chest pain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s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7.6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re hospitalized, 45%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m received significant diagnos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7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.5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A or Stable 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2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ous Pulmonary Et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rtic Dis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monary Em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801680" y="6172200"/>
            <a:ext cx="4958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700" spc="-1" strike="noStrike">
                <a:solidFill>
                  <a:srgbClr val="030303"/>
                </a:solidFill>
                <a:latin typeface="Arial"/>
                <a:ea typeface="Times New Roman"/>
              </a:rPr>
              <a:t>Kohn MA, et al. J Emerg Med. 2005;29(4):383-90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1145520" y="5486400"/>
            <a:ext cx="8750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, approximate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visits with serious et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Calcula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Parting Words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23600" y="159984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ither NTG nor GI cocktail response, nor reproducibility on palpation are diagnost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-prandial pain may be ischem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caution when diagnosing “non-cardiac” chest pain in patients with CAD ris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ypical may be typical of something el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eful history and physical are imper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servation can be ke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 in the ED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3667320" y="1523880"/>
            <a:ext cx="269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ti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447920" y="2666880"/>
            <a:ext cx="7391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ed myocardial infarction represen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ly 10% of malpractice suits fi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ed myocardial infarction repres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ly 30% of the dollars paid out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practice cla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5567400" y="609588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erg Med News. 2006: 28(2); 20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b7a5"/>
                </a:solidFill>
                <a:latin typeface="Arial"/>
              </a:rPr>
              <a:t>Proportion of final diagnoses in patients presenting with CP</a:t>
            </a:r>
            <a:endParaRPr b="1" lang="en-US" sz="31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691080" y="2793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5"/>
          <p:cNvGraphicFramePr/>
          <p:nvPr/>
        </p:nvGraphicFramePr>
        <p:xfrm>
          <a:off x="2736720" y="1371600"/>
          <a:ext cx="4361040" cy="49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6720" y="1371600"/>
                    <a:ext cx="436104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Rectangle 6"/>
          <p:cNvSpPr/>
          <p:nvPr/>
        </p:nvSpPr>
        <p:spPr>
          <a:xfrm>
            <a:off x="6858000" y="6324480"/>
            <a:ext cx="321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amily Practice.  2001;18(6):586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HPI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: pattern (temporal sequenc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 associated featur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B, N/V, diaphore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ver, cough, chi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rologic sympto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:  initiation and improv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: nature (qualit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Locatio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grpSp>
        <p:nvGrpSpPr>
          <p:cNvPr id="69" name="Group 6"/>
          <p:cNvGrpSpPr/>
          <p:nvPr/>
        </p:nvGrpSpPr>
        <p:grpSpPr>
          <a:xfrm>
            <a:off x="3276720" y="1676520"/>
            <a:ext cx="3949560" cy="4432320"/>
            <a:chOff x="3276720" y="1676520"/>
            <a:chExt cx="3949560" cy="4432320"/>
          </a:xfrm>
        </p:grpSpPr>
        <p:pic>
          <p:nvPicPr>
            <p:cNvPr id="70" name="Picture 4" descr=""/>
            <p:cNvPicPr/>
            <p:nvPr/>
          </p:nvPicPr>
          <p:blipFill>
            <a:blip r:embed="rId1"/>
            <a:stretch/>
          </p:blipFill>
          <p:spPr>
            <a:xfrm>
              <a:off x="3276720" y="1676520"/>
              <a:ext cx="394956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5"/>
            <p:cNvSpPr/>
            <p:nvPr/>
          </p:nvSpPr>
          <p:spPr>
            <a:xfrm>
              <a:off x="3367080" y="1720800"/>
              <a:ext cx="3755880" cy="433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Rectangle 7"/>
          <p:cNvSpPr/>
          <p:nvPr/>
        </p:nvSpPr>
        <p:spPr>
          <a:xfrm>
            <a:off x="7467480" y="1371600"/>
            <a:ext cx="2727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-peritoneal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card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euri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8"/>
          <p:cNvSpPr/>
          <p:nvPr/>
        </p:nvSpPr>
        <p:spPr>
          <a:xfrm flipH="1">
            <a:off x="6478200" y="1830240"/>
            <a:ext cx="988920" cy="53208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7390080" y="2971800"/>
            <a:ext cx="26686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rvical sp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racic out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0"/>
          <p:cNvSpPr/>
          <p:nvPr/>
        </p:nvSpPr>
        <p:spPr>
          <a:xfrm flipH="1">
            <a:off x="7012080" y="3430440"/>
            <a:ext cx="379440" cy="37944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7314840" y="4572000"/>
            <a:ext cx="27507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lmonary embo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neumo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lenic infar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peritoneal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2"/>
          <p:cNvSpPr/>
          <p:nvPr/>
        </p:nvSpPr>
        <p:spPr>
          <a:xfrm flipH="1" flipV="1">
            <a:off x="5944680" y="4954320"/>
            <a:ext cx="1141560" cy="53172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380520" y="1447920"/>
            <a:ext cx="275076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ortic dissec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rhave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lmonary embo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card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4"/>
          <p:cNvSpPr/>
          <p:nvPr/>
        </p:nvSpPr>
        <p:spPr>
          <a:xfrm>
            <a:off x="2973240" y="2211480"/>
            <a:ext cx="2360880" cy="152244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5"/>
          <p:cNvSpPr/>
          <p:nvPr/>
        </p:nvSpPr>
        <p:spPr>
          <a:xfrm>
            <a:off x="532440" y="4114800"/>
            <a:ext cx="273888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ncreat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lecyst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ptic dis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6"/>
          <p:cNvSpPr/>
          <p:nvPr/>
        </p:nvSpPr>
        <p:spPr>
          <a:xfrm flipV="1">
            <a:off x="2973240" y="4726080"/>
            <a:ext cx="1598760" cy="22680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7"/>
          <p:cNvSpPr/>
          <p:nvPr/>
        </p:nvSpPr>
        <p:spPr>
          <a:xfrm>
            <a:off x="3659040" y="4876920"/>
            <a:ext cx="1598760" cy="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796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lear cut alternative diagnosis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6960" y="1980720"/>
            <a:ext cx="84470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ients given a clear-cut alternative non-cardiac diagnosi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00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significantly lower risk of revascularization, MI or death in the subsequent 30 d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ill with 4% event rate at 30 d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5265360" y="5965920"/>
            <a:ext cx="4698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cad Emerg Med. 2007 Mar; 14(3):210-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aracter of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graphicFrame>
        <p:nvGraphicFramePr>
          <p:cNvPr id="87" name="Object 293"/>
          <p:cNvGraphicFramePr/>
          <p:nvPr/>
        </p:nvGraphicFramePr>
        <p:xfrm>
          <a:off x="2286000" y="1703520"/>
          <a:ext cx="5683320" cy="460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Object 29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703520"/>
                    <a:ext cx="5683320" cy="46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294"/>
          <p:cNvSpPr/>
          <p:nvPr/>
        </p:nvSpPr>
        <p:spPr>
          <a:xfrm>
            <a:off x="7238880" y="640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95"/>
          <p:cNvSpPr/>
          <p:nvPr/>
        </p:nvSpPr>
        <p:spPr>
          <a:xfrm>
            <a:off x="6964200" y="632448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AMA 2005; 294:262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296"/>
          <p:cNvSpPr/>
          <p:nvPr/>
        </p:nvSpPr>
        <p:spPr>
          <a:xfrm>
            <a:off x="657360" y="27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Rachel Steinhart</dc:creator>
  <dc:description/>
  <cp:keywords/>
  <dc:language>en-US</dc:language>
  <cp:lastModifiedBy>HCMARTINEZ</cp:lastModifiedBy>
  <cp:lastPrinted>2009-10-01T01:13:32Z</cp:lastPrinted>
  <dcterms:modified xsi:type="dcterms:W3CDTF">2009-10-01T18:54:45Z</dcterms:modified>
  <cp:revision>70</cp:revision>
  <dc:subject/>
  <dc:title>Evaluation of Chest Pain</dc:title>
</cp:coreProperties>
</file>