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9FAD-0BA0-4001-9BA6-E1773BB0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HCMARTINEZ</cp:lastModifiedBy>
  <cp:lastPrinted>2009-10-01T01:13:32Z</cp:lastPrinted>
  <dcterms:modified xsi:type="dcterms:W3CDTF">2009-10-01T18:54:45Z</dcterms:modified>
  <cp:revision>70</cp:revision>
  <dc:subject/>
  <dc:title>Evaluation of Chest Pain</dc:title>
</cp:coreProperties>
</file>