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863640" y="691920"/>
            <a:ext cx="5130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102360" y="875016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4078-7B68-4CF6-A0F3-3C5777892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- hypercoagulable, steroids, inflam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ith SLE have 7-50 fold increased risk of CHD, greatest in young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with RA have 1.13 - 5.25 fold increase in risk of C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on HAART - not all accounted for by induced hyperlipi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mark sign - a dilatation of the pulmonary vessels proximal to an embolism along with collapse of distal vessels - R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atients develop atelectasis that may progress to small pl eff and elevated hemi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4-72 hours 1/3 of patients develop focal infiltrates indistinguishable from pneu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pton hump, a triangular or rounded pleural-based infiltrate with the apex pointed toward the hilum, frequently located adjacent to the diaphragm – LATE and R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6600" y="428940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204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8872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660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8872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04480" y="228600"/>
            <a:ext cx="8224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204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1143000"/>
            <a:ext cx="10274400" cy="152280"/>
            <a:chOff x="0" y="1143000"/>
            <a:chExt cx="10274400" cy="152280"/>
          </a:xfrm>
        </p:grpSpPr>
        <p:sp>
          <p:nvSpPr>
            <p:cNvPr id="1" name="Rectangle 2"/>
            <p:cNvSpPr/>
            <p:nvPr/>
          </p:nvSpPr>
          <p:spPr>
            <a:xfrm>
              <a:off x="0" y="1143000"/>
              <a:ext cx="1027440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1257480"/>
              <a:ext cx="10274400" cy="37800"/>
            </a:xfrm>
            <a:prstGeom prst="rect">
              <a:avLst/>
            </a:prstGeom>
            <a:gradFill rotWithShape="0">
              <a:gsLst>
                <a:gs pos="0">
                  <a:srgbClr val="976080"/>
                </a:gs>
                <a:gs pos="50000">
                  <a:srgbClr val="d989b8"/>
                </a:gs>
                <a:gs pos="100000">
                  <a:srgbClr val="976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79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276120">
              <a:spcBef>
                <a:spcPts val="799"/>
              </a:spcBef>
              <a:buClr>
                <a:srgbClr val="8cf4ea"/>
              </a:buClr>
              <a:buSzPct val="79000"/>
              <a:buFont typeface="Arial"/>
              <a:buChar char="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0840" indent="-298440">
              <a:spcBef>
                <a:spcPts val="799"/>
              </a:spcBef>
              <a:buClr>
                <a:srgbClr val="8f97d5"/>
              </a:buClr>
              <a:buSzPct val="79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5880" indent="-250920">
              <a:spcBef>
                <a:spcPts val="799"/>
              </a:spcBef>
              <a:buClr>
                <a:srgbClr val="00689d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5880" indent="-250920">
              <a:spcBef>
                <a:spcPts val="799"/>
              </a:spcBef>
              <a:buClr>
                <a:srgbClr val="000000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5880" indent="-250920">
              <a:spcBef>
                <a:spcPts val="799"/>
              </a:spcBef>
              <a:buClr>
                <a:srgbClr val="000000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Evaluation of Chest Pain in the Emergency Department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109200" y="4302000"/>
            <a:ext cx="36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hel Steinhart, MD, M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RMC Emergency D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1-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762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Nitroglycerine in ER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066680" y="1752480"/>
            <a:ext cx="823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als of Internal Medici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in chest pain with nitroglycerine prov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% Se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%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993600" y="3962520"/>
            <a:ext cx="7678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adian Journal of Emergency Medicine 2006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rovement in chest pain with nitroglycerine prove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% Sensit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7% Specifi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5384880" y="315612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Intern Med. 2003;139:979-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5411880" y="5445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J Emerg M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6;8(3):164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PMH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9802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D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nt surgery, tra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tance abuse - alcohol, cigarettes, meth/cok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VT/PE/Aortic dissection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p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fan’s/connective tissue dz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tions - HAART, estro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343400" y="5943600"/>
            <a:ext cx="46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Rheum D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0;59;321-3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Engl J Med 2007 Apr 26;356(17):1723-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Physical Exam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92962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tal signs - Hypoxia? Tachycardia? Hyperten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appearance - Marfanoi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otids and JVP, check neck for crepit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ex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racic cage - Trauma? Pectus excavatu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dominal exam - Hepatomegal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phery - symmetric pulses? edem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n - dermatomal ras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hysical Sign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pic>
        <p:nvPicPr>
          <p:cNvPr id="103" name="Object 18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1974600" cy="2057400"/>
          </a:xfrm>
          <a:prstGeom prst="rect">
            <a:avLst/>
          </a:prstGeom>
          <a:ln w="0">
            <a:noFill/>
          </a:ln>
        </p:spPr>
      </p:pic>
      <p:pic>
        <p:nvPicPr>
          <p:cNvPr id="104" name="Object 20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1522440" cy="2819160"/>
          </a:xfrm>
          <a:prstGeom prst="rect">
            <a:avLst/>
          </a:prstGeom>
          <a:ln w="0">
            <a:noFill/>
          </a:ln>
        </p:spPr>
      </p:pic>
      <p:pic>
        <p:nvPicPr>
          <p:cNvPr id="105" name="Object 21" descr=""/>
          <p:cNvPicPr/>
          <p:nvPr/>
        </p:nvPicPr>
        <p:blipFill>
          <a:blip r:embed="rId3"/>
          <a:stretch/>
        </p:blipFill>
        <p:spPr>
          <a:xfrm>
            <a:off x="2895480" y="1447920"/>
            <a:ext cx="3353040" cy="210816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22" descr=""/>
          <p:cNvPicPr/>
          <p:nvPr/>
        </p:nvPicPr>
        <p:blipFill>
          <a:blip r:embed="rId4"/>
          <a:stretch/>
        </p:blipFill>
        <p:spPr>
          <a:xfrm>
            <a:off x="7162920" y="1486080"/>
            <a:ext cx="2819160" cy="2341440"/>
          </a:xfrm>
          <a:prstGeom prst="rect">
            <a:avLst/>
          </a:prstGeom>
          <a:ln w="0">
            <a:noFill/>
          </a:ln>
        </p:spPr>
      </p:pic>
      <p:pic>
        <p:nvPicPr>
          <p:cNvPr id="107" name="Object 25" descr=""/>
          <p:cNvPicPr/>
          <p:nvPr/>
        </p:nvPicPr>
        <p:blipFill>
          <a:blip r:embed="rId5"/>
          <a:stretch/>
        </p:blipFill>
        <p:spPr>
          <a:xfrm>
            <a:off x="3200400" y="3733920"/>
            <a:ext cx="2392200" cy="2895480"/>
          </a:xfrm>
          <a:prstGeom prst="rect">
            <a:avLst/>
          </a:prstGeom>
          <a:ln w="0">
            <a:noFill/>
          </a:ln>
        </p:spPr>
      </p:pic>
      <p:pic>
        <p:nvPicPr>
          <p:cNvPr id="108" name="Object 26" descr=""/>
          <p:cNvPicPr/>
          <p:nvPr/>
        </p:nvPicPr>
        <p:blipFill>
          <a:blip r:embed="rId6"/>
          <a:stretch/>
        </p:blipFill>
        <p:spPr>
          <a:xfrm>
            <a:off x="6858000" y="4114800"/>
            <a:ext cx="28195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Laborator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KG - seri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st x-r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od stud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enzy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ver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p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-Dim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N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ing: Ultrasound, CT, Nuclear Stu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7a5"/>
                </a:solidFill>
                <a:latin typeface="Arial"/>
              </a:rPr>
              <a:t>EKG Findings in Adult Patients with Chest Pain: Association with Ischemic Events</a:t>
            </a:r>
            <a:endParaRPr b="1" lang="en-US" sz="3000" spc="-1" strike="noStrike">
              <a:solidFill>
                <a:srgbClr val="00b7a5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219320" y="2057400"/>
          <a:ext cx="7665840" cy="400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766584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b7a5"/>
                </a:solidFill>
                <a:latin typeface="Arial"/>
              </a:rPr>
              <a:t>Adverse Cardiac Events</a:t>
            </a: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b7a5"/>
                </a:solidFill>
                <a:latin typeface="Arial"/>
              </a:rPr>
              <a:t>(12 mo out)</a:t>
            </a: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33520" y="1523880"/>
            <a:ext cx="94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7a5"/>
                </a:solidFill>
                <a:latin typeface="Arial"/>
              </a:rPr>
              <a:t>Patients discharged with chest pain of unclear orig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066680" y="2590920"/>
            <a:ext cx="83822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Abnormal ECG 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9.5 (2.0 - 45.8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Preexisting DM 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7.1 (1.8 - 27.2)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Preexisting CAD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28.4 (3.5 - 229.0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5257800" y="59436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Emerg Med. 2004 Jan;43(1):59-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Arial"/>
              </a:rPr>
              <a:t>Potential Underlying Causes of ACS</a:t>
            </a:r>
            <a:endParaRPr b="1" lang="en-US" sz="36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37000" y="1701720"/>
            <a:ext cx="776232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chyarrhythm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re anemia/acute hemorrh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cation withdraw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ulant substance ab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erthyroid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p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ost-op Chest Pain and SOB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96960" y="1981080"/>
            <a:ext cx="4279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 yo man 10 days following CAB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d acute dyspnea and right-sided chest pain on 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 revealed tachypnea, tachycardia, and hypox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nmlcxr"/>
          <p:cNvPicPr/>
          <p:nvPr/>
        </p:nvPicPr>
        <p:blipFill>
          <a:blip r:embed="rId1"/>
          <a:stretch/>
        </p:blipFill>
        <p:spPr>
          <a:xfrm>
            <a:off x="5943600" y="1447920"/>
            <a:ext cx="2438280" cy="226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3" name="Picture 6" descr="cabgpna"/>
          <p:cNvPicPr/>
          <p:nvPr/>
        </p:nvPicPr>
        <p:blipFill>
          <a:blip r:embed="rId2"/>
          <a:stretch/>
        </p:blipFill>
        <p:spPr>
          <a:xfrm>
            <a:off x="6019920" y="4038480"/>
            <a:ext cx="2290680" cy="243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4" name="Rectangle 7"/>
          <p:cNvSpPr/>
          <p:nvPr/>
        </p:nvSpPr>
        <p:spPr>
          <a:xfrm>
            <a:off x="8840160" y="220968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8711640" y="4486320"/>
            <a:ext cx="102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 p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pl e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tudies in suspected PE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5029200" y="4038480"/>
            <a:ext cx="495288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KG Evidenc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chycardia - sinus, afib or aflut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V Strai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1, Q3, T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or R wave prog + TWI V1-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5029200" y="5638680"/>
            <a:ext cx="495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Di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useful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ule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226080" y="1371600"/>
            <a:ext cx="43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CXR in PE virtually always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stermark sign - R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75480" y="4876920"/>
            <a:ext cx="410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electasis, small pleural effusion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ted hemidiaphragm may deve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-72 hours – focal infilt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7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2819520" cy="211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132" name="Object 28"/>
          <p:cNvGraphicFramePr/>
          <p:nvPr/>
        </p:nvGraphicFramePr>
        <p:xfrm>
          <a:off x="6553080" y="2057400"/>
          <a:ext cx="131472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2057400"/>
                    <a:ext cx="1314720" cy="1752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" name="Rectangle 29"/>
          <p:cNvSpPr/>
          <p:nvPr/>
        </p:nvSpPr>
        <p:spPr>
          <a:xfrm>
            <a:off x="5557320" y="1523880"/>
            <a:ext cx="36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mpton hump – LATE &amp; R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922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8" name="Rectangle 91"/>
          <p:cNvSpPr/>
          <p:nvPr/>
        </p:nvSpPr>
        <p:spPr>
          <a:xfrm>
            <a:off x="4114800" y="5943600"/>
            <a:ext cx="59086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2"/>
          <p:cNvSpPr/>
          <p:nvPr/>
        </p:nvSpPr>
        <p:spPr>
          <a:xfrm>
            <a:off x="1523880" y="1905120"/>
            <a:ext cx="739152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n estima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6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nual 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s for “non-traumatic chest pain” by adul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≥25 in the 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.7 visits per 1,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s an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cute Cardiac Insufficienc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is estimated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account for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1%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of these non-traumatic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est pain visits*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3"/>
          <p:cNvSpPr/>
          <p:nvPr/>
        </p:nvSpPr>
        <p:spPr>
          <a:xfrm>
            <a:off x="4648320" y="57913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5"/>
          <p:cNvSpPr/>
          <p:nvPr/>
        </p:nvSpPr>
        <p:spPr>
          <a:xfrm>
            <a:off x="4649760" y="5943600"/>
            <a:ext cx="5016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030303"/>
                </a:solidFill>
                <a:latin typeface="Arial"/>
                <a:ea typeface="Times New Roman"/>
              </a:rPr>
              <a:t>Burt CW. Am J Emerg Med. 1999 Oct;17(6):552-9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cute Upper Back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8680" y="1676520"/>
            <a:ext cx="42800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9 yo man with long standing hypert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dden mid back and interscapular p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ociated with nausea and swe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relieved by change of 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radiation toward the left ch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ject 23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3657600" cy="3251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8" name="Rectangle 24"/>
          <p:cNvSpPr/>
          <p:nvPr/>
        </p:nvSpPr>
        <p:spPr>
          <a:xfrm>
            <a:off x="5699520" y="547380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 mediastinum -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838080" y="1752480"/>
            <a:ext cx="83059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dden severe pa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rating pain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ring p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9% (spec. 9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ypertensio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astolic murmu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lse deficits or BP differential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cal neurologic defici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ncop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CG criteria for AMI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7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114800" y="5791320"/>
            <a:ext cx="56386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lompas et al, JAMA 2002; 287:2262-227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llamothy et al, Am J Med 2002; 113:468-47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b7a5"/>
                </a:solidFill>
                <a:latin typeface="Arial"/>
              </a:rPr>
              <a:t>Aortic Dissection: clinical presentation</a:t>
            </a:r>
            <a:endParaRPr b="1" lang="en-US" sz="3400" spc="-1" strike="noStrike">
              <a:solidFill>
                <a:srgbClr val="00b7a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ortic Dissection: etiolog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alence of major risk factors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tens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-9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cuspid Ao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-13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fan syndr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5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2"/>
          <p:cNvSpPr/>
          <p:nvPr/>
        </p:nvSpPr>
        <p:spPr>
          <a:xfrm>
            <a:off x="1066680" y="304920"/>
            <a:ext cx="8224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7a5"/>
                </a:solidFill>
                <a:latin typeface="Arial"/>
              </a:rPr>
              <a:t>Radiographic Signs of Thoracic Aortic Disse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ies suggest up to 90% of patients will have “abnormal” CXR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ned mediastinum (&gt;8cm on AP film) [50-65%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pleural effusion (hemothora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 Sign (displaced intimal calcification &gt;5m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rred aortic kno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heal deviation to the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ophageal deviation to the Right (seen via NG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apical c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ressed Left mainstem bronch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s of paratracheal stri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2516400" y="6019920"/>
            <a:ext cx="728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Hogg K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nsitivity of a normal chest radiograph in ruling out aortic diss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 Evidence Topics. 9 March 200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ortic Dissectio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2930400" y="1523880"/>
            <a:ext cx="4375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Wrestler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280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yo high school wrestler develops right-sided chest pain while pinning his oppon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5168880" cy="464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2" name="Rectangle 5"/>
          <p:cNvSpPr/>
          <p:nvPr/>
        </p:nvSpPr>
        <p:spPr>
          <a:xfrm>
            <a:off x="6172560" y="61722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othor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10287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lcoholic with Chest Pain and Cough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 yo alcoholic man with fever, chills and productive cough over two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6"/>
          <p:cNvGrpSpPr/>
          <p:nvPr/>
        </p:nvGrpSpPr>
        <p:grpSpPr>
          <a:xfrm>
            <a:off x="4572000" y="1523880"/>
            <a:ext cx="4952880" cy="4572000"/>
            <a:chOff x="4572000" y="1523880"/>
            <a:chExt cx="4952880" cy="4572000"/>
          </a:xfrm>
        </p:grpSpPr>
        <p:pic>
          <p:nvPicPr>
            <p:cNvPr id="156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0" y="1523880"/>
              <a:ext cx="49528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5"/>
            <p:cNvSpPr/>
            <p:nvPr/>
          </p:nvSpPr>
          <p:spPr>
            <a:xfrm>
              <a:off x="4658040" y="1563840"/>
              <a:ext cx="4768200" cy="44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7"/>
          <p:cNvSpPr/>
          <p:nvPr/>
        </p:nvSpPr>
        <p:spPr>
          <a:xfrm>
            <a:off x="6197760" y="61009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Hyperemesis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2562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yo G1P0 at 10wks presents with 4 days refractory emesis and 12 hours progressive, severe substernal chest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ject 13" descr=""/>
          <p:cNvPicPr/>
          <p:nvPr/>
        </p:nvPicPr>
        <p:blipFill>
          <a:blip r:embed="rId1"/>
          <a:stretch/>
        </p:blipFill>
        <p:spPr>
          <a:xfrm>
            <a:off x="5257800" y="1828800"/>
            <a:ext cx="3809880" cy="408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2" name="Rectangle 14"/>
          <p:cNvSpPr/>
          <p:nvPr/>
        </p:nvSpPr>
        <p:spPr>
          <a:xfrm>
            <a:off x="4875120" y="609588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omediastinum - Boerhaav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moker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4279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8 yo former smoker with persistant, non-exertional, left substernal and left shoulder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10"/>
          <p:cNvGraphicFramePr/>
          <p:nvPr/>
        </p:nvGraphicFramePr>
        <p:xfrm>
          <a:off x="5334120" y="1676520"/>
          <a:ext cx="404784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676520"/>
                    <a:ext cx="404784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89805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st pain in the ED differs from chest pain in primary c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all serious chest pain is A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nosis of chest pain in the ED is rarely straight forw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st pain in the ED is a high-stakes evalu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830600" y="2103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295280" y="1447920"/>
            <a:ext cx="74678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SFGH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ll visits in patients &gt;3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or “non-traumatic chest pain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s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.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re hospitalized, 45%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m received significant diagno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 or Stable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2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ous Pulmonary Et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rtic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801680" y="6172200"/>
            <a:ext cx="4958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030303"/>
                </a:solidFill>
                <a:latin typeface="Arial"/>
                <a:ea typeface="Times New Roman"/>
              </a:rPr>
              <a:t>Kohn MA, et al. J Emerg Med. 2005;29(4):383-90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145520" y="5486400"/>
            <a:ext cx="8750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, approximate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visits with serious et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Calcula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arting Word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59984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ither NTG nor GI cocktail response, nor reproducibility on palpation are diagnos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prandial pain may be ischem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caution when diagnosing “non-cardiac” chest pain in patients with CAD ri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ypical may be typical of something el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ful history and physical are imper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ation can be k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667320" y="1523880"/>
            <a:ext cx="26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447920" y="2666880"/>
            <a:ext cx="73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d myocardial infarction represe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10% of malpractice suits fi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d myocardial infarction repres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30% of the dollars paid out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practice cla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5567400" y="609588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erg Med News. 2006: 28(2); 20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b7a5"/>
                </a:solidFill>
                <a:latin typeface="Arial"/>
              </a:rPr>
              <a:t>Proportion of final diagnoses in patients presenting with CP</a:t>
            </a:r>
            <a:endParaRPr b="1" lang="en-US" sz="31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691080" y="2793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5"/>
          <p:cNvGraphicFramePr/>
          <p:nvPr/>
        </p:nvGraphicFramePr>
        <p:xfrm>
          <a:off x="2736720" y="1371600"/>
          <a:ext cx="436104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6720" y="1371600"/>
                    <a:ext cx="436104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6"/>
          <p:cNvSpPr/>
          <p:nvPr/>
        </p:nvSpPr>
        <p:spPr>
          <a:xfrm>
            <a:off x="6858000" y="6324480"/>
            <a:ext cx="321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amily Practice.  2001;18(6):586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HPI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: pattern (temporal sequenc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associated featur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B, N/V, diaphore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ver, cough, chi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logic sympto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:  initiation and improv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: nature (qualit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Locatio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grpSp>
        <p:nvGrpSpPr>
          <p:cNvPr id="69" name="Group 6"/>
          <p:cNvGrpSpPr/>
          <p:nvPr/>
        </p:nvGrpSpPr>
        <p:grpSpPr>
          <a:xfrm>
            <a:off x="3276720" y="1676520"/>
            <a:ext cx="3949560" cy="4432320"/>
            <a:chOff x="3276720" y="1676520"/>
            <a:chExt cx="3949560" cy="4432320"/>
          </a:xfrm>
        </p:grpSpPr>
        <p:pic>
          <p:nvPicPr>
            <p:cNvPr id="70" name="Picture 4" descr=""/>
            <p:cNvPicPr/>
            <p:nvPr/>
          </p:nvPicPr>
          <p:blipFill>
            <a:blip r:embed="rId1"/>
            <a:stretch/>
          </p:blipFill>
          <p:spPr>
            <a:xfrm>
              <a:off x="3276720" y="1676520"/>
              <a:ext cx="394956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5"/>
            <p:cNvSpPr/>
            <p:nvPr/>
          </p:nvSpPr>
          <p:spPr>
            <a:xfrm>
              <a:off x="3367080" y="1720800"/>
              <a:ext cx="3755880" cy="43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Rectangle 7"/>
          <p:cNvSpPr/>
          <p:nvPr/>
        </p:nvSpPr>
        <p:spPr>
          <a:xfrm>
            <a:off x="7467480" y="1371600"/>
            <a:ext cx="2727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-peritone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euri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8"/>
          <p:cNvSpPr/>
          <p:nvPr/>
        </p:nvSpPr>
        <p:spPr>
          <a:xfrm flipH="1">
            <a:off x="6478200" y="1830240"/>
            <a:ext cx="988920" cy="53208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7390080" y="2971800"/>
            <a:ext cx="26686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rvical sp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racic out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0"/>
          <p:cNvSpPr/>
          <p:nvPr/>
        </p:nvSpPr>
        <p:spPr>
          <a:xfrm flipH="1">
            <a:off x="7012080" y="3430440"/>
            <a:ext cx="379440" cy="37944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314840" y="4572000"/>
            <a:ext cx="27507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neu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lenic infar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peritone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2"/>
          <p:cNvSpPr/>
          <p:nvPr/>
        </p:nvSpPr>
        <p:spPr>
          <a:xfrm flipH="1" flipV="1">
            <a:off x="5944680" y="4954320"/>
            <a:ext cx="1141560" cy="53172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380520" y="1447920"/>
            <a:ext cx="275076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rtic dissec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rhave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2973240" y="2211480"/>
            <a:ext cx="2360880" cy="152244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532440" y="4114800"/>
            <a:ext cx="27388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ncreat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lecyst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ptic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"/>
          <p:cNvSpPr/>
          <p:nvPr/>
        </p:nvSpPr>
        <p:spPr>
          <a:xfrm flipV="1">
            <a:off x="2973240" y="4726080"/>
            <a:ext cx="1598760" cy="22680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3659040" y="4876920"/>
            <a:ext cx="1598760" cy="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796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ear cut alternative diagnosi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84470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ients given a clear-cut alternative non-cardiac diagnosi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00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significantly lower risk of revascularization, MI or death in the subsequent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ill with 4% event rate at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5265360" y="5965920"/>
            <a:ext cx="4698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cad Emerg Med. 2007 Mar; 14(3):210-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aracter of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graphicFrame>
        <p:nvGraphicFramePr>
          <p:cNvPr id="87" name="Object 293"/>
          <p:cNvGraphicFramePr/>
          <p:nvPr/>
        </p:nvGraphicFramePr>
        <p:xfrm>
          <a:off x="2286000" y="1703520"/>
          <a:ext cx="5683320" cy="460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Object 29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703520"/>
                    <a:ext cx="5683320" cy="46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294"/>
          <p:cNvSpPr/>
          <p:nvPr/>
        </p:nvSpPr>
        <p:spPr>
          <a:xfrm>
            <a:off x="723888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95"/>
          <p:cNvSpPr/>
          <p:nvPr/>
        </p:nvSpPr>
        <p:spPr>
          <a:xfrm>
            <a:off x="6964200" y="632448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AMA 2005; 294:262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296"/>
          <p:cNvSpPr/>
          <p:nvPr/>
        </p:nvSpPr>
        <p:spPr>
          <a:xfrm>
            <a:off x="657360" y="27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Rachel Steinhart</dc:creator>
  <dc:description/>
  <cp:keywords/>
  <dc:language>en-US</dc:language>
  <cp:lastModifiedBy>HCMARTINEZ</cp:lastModifiedBy>
  <cp:lastPrinted>2009-10-01T01:13:32Z</cp:lastPrinted>
  <dcterms:modified xsi:type="dcterms:W3CDTF">2009-10-01T18:54:45Z</dcterms:modified>
  <cp:revision>70</cp:revision>
  <dc:subject/>
  <dc:title>Evaluation of Chest Pain</dc:title>
</cp:coreProperties>
</file>