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9FEB18-A649-4E99-A3FD-A719CAE62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129F45-7CA4-4D83-A56E-3F360E9AFC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ed outcomes – cross-site study U of Illinoi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of sobriety, reduced relapse and hospitalization, safe reunification with children, reduced domestic violence, children under 5 attaining normal developmental milestones (with 50% develop delay initial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 for other programs – anecdot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Services/SPMI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d many people homeless and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ospitalizations – for psych and non-ps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social learning community – peer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ver 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chances of appropriate school 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n aggressive behavior and act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ed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DE4DE3-F2FE-4727-B2C5-9F054D1428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 development -- jiust as school is a social/group learn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9BD52F-ED65-4640-A3BF-FC7B397B05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 in NYS training Family Practitioners – fulcrum nature intellectually of the practice – with may who by nature and exposure become passionate advocates for rationale resource allocation for their patients – much as more evidenced by all here in Contra Costa:  from my first exposure to Priscilla Hinman, Chris Farnitano, Steve Tremain, Bill Walk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L work -- John Echols, within CCRMC, AmCare -- Priscilla Hinman, Chris Farnitano, Bill Serbin, and several newer psychiatrists -- Renee Cloud, Uzma Anwer, Halla Fattah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ps catalyze and reinforce social and emotional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idenced-based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8542F6-A476-4139-A9B2-70721A2DA0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– several things lear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Unusual caliber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Considerable differences between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st useful to pres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rk came into b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esigned to ach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s paradigm and services– with 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on Center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raised as result of the work that may be useful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85F2C5-0BB8-4687-8DCF-7F698D4317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ences often lasting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ed, overlapping, ineffe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rotating through systems -- adult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B1C949-A148-48C2-9E45-09D20CB57F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affects all members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– impact on kjds and ad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Washington, D.C. when family work bega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ght of crack epidemic; bifurcated City; more than 65% living in poverty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astation of family bulwark in poor, largely A.A. community – families as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ignificant violence within community --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ly institutional system in D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overwhel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d 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coming to CMH – organizn I inherited/invitation by City’s Office of Health Care Fin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47CC41-7189-48EB-81C3-36C537937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6E19C2-27B7-41FB-8E7B-DA51D7A961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Population at CMH had been over 2,000 initially – with about 30% SPMI and 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ructured in years from 1990-1994:  increased percentage SPMI, DD; work with grandparents/extended care g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noted is that family centered work initially begun with parents and children (1990-94)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ly diagnosed – mainly mothers an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SPMI by 1998 through separate track – using several of principles – member council; family supports; Psyhciatric Rehab Model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with life skills, but increased emphasis throughout CMH on s-e skills woven in due to gaps in this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B1F7AE-A5BF-4A4F-937E-B77CAB4667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al gaps in social and emotional skills pivotal however – as without adequate intervention – this follows these kids into adulthood – and same gaps become barriers for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hood alone – these gaps prevent kids from being ready to learn in a social, group context – I.e. what school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why so many schools overwhel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, much of work requires similar skill s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2CDF4E-7AC3-4E12-AE5A-1DC551D0FD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ement through outreach and cultural competence of staff -- significant community members, respite/SOFA; 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surrogate family – unabashed use of staff within milieu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ene at the earliest possible point -- from infancy onw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y oriented –  not  illness alone – part of recovery requires sense of belonging; indiv as social being -- arts, dance, music,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– self within larger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ing developmental gaps 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 at CMH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more concrete services and lin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R issues/ violence in community/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Devel. Associates spec. trained by doctoral level staff; adaptation of Rehab curricu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8A8E98-90A5-4E6B-89DE-C4C0CA631B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barriers to eng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, child care, outr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eu – social glue – sense of community – surrogate family, reparenting without patro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s of Attiba – dealt with emotional issues explosive in former lives -- within safe, reflectiv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 reflect 7 programs tailored to age and function – linkages across programs to work with family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CB2-D6F2-4EBD-B251-E9125BB4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C5B-19CB-49CC-A948-3031E598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258-32C2-445C-98C2-938FBB37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565-5159-4DF5-B881-A42C125A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7D0B-8686-4762-A919-8B6E7F24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FA1A-3DD2-4D86-A38B-19BCBD1E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102C-F5A8-411C-9CF5-58E957AC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CEE-3751-45CE-BEB7-F79B508E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3EA2-8CA4-40EE-97F2-75E7E335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4F22-F109-4B40-9CC7-9BECD73B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3F0D-C8AE-4DEA-B07F-E089A89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C95-0014-49C5-8AC9-DE0F07D0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7230-B502-40A6-AC7F-8F3382B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791C-61E6-44DA-BF38-254CF8A4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CE00-E10E-4181-82CD-2501E32A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CA30-7849-4D32-A1D1-6B7A0FAD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3028-D0B1-498E-A840-7ECF0F83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EA1-2A97-4A0C-B59C-29646892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DDD-0662-4154-86E3-E07E6EBC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275-42D7-4993-8D02-73FDA6AE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822-A6DF-4E46-AF9D-468B146E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424-00C5-4ECD-828D-BFA8F04B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6D6-28C2-4DE1-AB3B-8C6F28DE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49A-E121-4646-B8F0-CF931532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0F22-D469-46CE-B804-CD85C34F4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2C76-4ABA-4B4E-817E-30BCCAEAA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eaking the Disability- Poverty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040" y="35809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Intervention in Behavioral Heal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8796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066680" y="603576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ample Mean of Family Treatment Goal Attain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5238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124080" y="56386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8006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t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00800" y="56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212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iversity of Illinois Outcome Study (1996-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137160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omen MH Consumers &amp; Thei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2" descr="U of I Chart"/>
          <p:cNvPicPr/>
          <p:nvPr/>
        </p:nvPicPr>
        <p:blipFill>
          <a:blip r:embed="rId2"/>
          <a:stretch/>
        </p:blipFill>
        <p:spPr>
          <a:xfrm>
            <a:off x="838080" y="1371600"/>
            <a:ext cx="7391520" cy="4237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429000" y="-426708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come data: Changing Pro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What did we learn from this integrative work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Family as central to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-e skills,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Helvetica CE"/>
              </a:rPr>
              <a:t>Early 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UC Davis and other cen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Helvetica CE"/>
              </a:rPr>
              <a:t>Integrate</a:t>
            </a:r>
            <a:r>
              <a:rPr b="1" lang="en-US" sz="3200" spc="-1" strike="noStrike">
                <a:solidFill>
                  <a:srgbClr val="ffcc66"/>
                </a:solidFill>
                <a:latin typeface="Helvetica 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H/SA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ntensity of each drives s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CC -- Strengths to build on:-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amily  Practice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ic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Magnet for Chan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ntegrative Medicine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Groups 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ront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-L work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CCRM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mbulatory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x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532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n Integrated, Family-Centered Approach to Working with High-Risk Popul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560" y="31240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undertaken at the Center for Mental Health, Inc in Washington, D.C. between 1990-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at the Invitation of Karen Burt, M.D., Director of Integrative Health -- to the Family Practice Residents, Tuesday March 24, 2009 – by Johanna Ferman, M.D., Medical Director, Adult System of Care, Mental Health Division, D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71600" y="2286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ognosis &amp; The Fault 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9080" y="4757760"/>
            <a:ext cx="5429160" cy="208116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591080" y="4718160"/>
            <a:ext cx="4629240" cy="95868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9040" y="54864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Fault Line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Untreated Addiction and Mental Il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4591080" y="5715000"/>
            <a:ext cx="57240" cy="19080"/>
          </a:xfrm>
          <a:prstGeom prst="pi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743360" y="5962680"/>
            <a:ext cx="990720" cy="914400"/>
          </a:xfrm>
          <a:prstGeom prst="pie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533520" y="6400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0" descr="Telephant3"/>
          <p:cNvPicPr/>
          <p:nvPr/>
        </p:nvPicPr>
        <p:blipFill>
          <a:blip r:embed="rId2"/>
          <a:stretch/>
        </p:blipFill>
        <p:spPr>
          <a:xfrm>
            <a:off x="380880" y="838080"/>
            <a:ext cx="7772400" cy="4619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2209680" y="220968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038480" y="198108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905120" y="20574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04812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minal Just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038480" y="19051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sfunctional School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791320" y="228600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ionalization Of Children &amp; Ad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752480" y="29718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estic Viol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819520" y="304812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ken Chil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fare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648320" y="28954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sis and Emergency Room Vis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6705720" y="4114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1981080" y="4114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o-Natology and High Risk Inf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648320" y="441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less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3716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nosis and The Elepha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Oval 2"/>
          <p:cNvSpPr/>
          <p:nvPr/>
        </p:nvSpPr>
        <p:spPr>
          <a:xfrm>
            <a:off x="1676520" y="685800"/>
            <a:ext cx="5715000" cy="548640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362320"/>
          <a:ext cx="1714320" cy="6397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earning Disabil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9"/>
          <p:cNvSpPr/>
          <p:nvPr/>
        </p:nvSpPr>
        <p:spPr>
          <a:xfrm>
            <a:off x="3886200" y="228600"/>
            <a:ext cx="1371600" cy="1223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Out of home pla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480" y="914400"/>
            <a:ext cx="1905120" cy="1180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moti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velop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l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352680" y="5715000"/>
            <a:ext cx="205740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ntre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ddiction &amp; men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lln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28600" y="3581280"/>
            <a:ext cx="2743200" cy="126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isruption of fami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as “developmental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57200" y="5181480"/>
            <a:ext cx="2819520" cy="99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In utero” exposure to alcohol and drugs – multiple sequel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228600"/>
            <a:ext cx="205740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oc/Emotional Difficul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Depression, Aggressio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638680" y="1066680"/>
            <a:ext cx="32004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School failure- Drop 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6553080" y="2286000"/>
            <a:ext cx="13716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Early Pregna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553080" y="3733920"/>
            <a:ext cx="15242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Gang a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791320" y="4876920"/>
            <a:ext cx="2057400" cy="1202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Use of alcohol/drugs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Medicate underly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probl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20"/>
          <p:cNvSpPr/>
          <p:nvPr/>
        </p:nvSpPr>
        <p:spPr>
          <a:xfrm rot="7792800">
            <a:off x="5867280" y="990360"/>
            <a:ext cx="152280" cy="152640"/>
          </a:xfrm>
          <a:prstGeom prst="triangle">
            <a:avLst>
              <a:gd name="adj" fmla="val 4759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 flipH="1" rot="2076600">
            <a:off x="2133720" y="1752120"/>
            <a:ext cx="163440" cy="1638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1600200" y="28954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 rot="18097800">
            <a:off x="2819520" y="54860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 rot="8862000">
            <a:off x="7003440" y="2195280"/>
            <a:ext cx="228600" cy="12852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 rot="13556400">
            <a:off x="5486040" y="5942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 flipV="1" rot="15234600">
            <a:off x="3885480" y="685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 rot="19363200">
            <a:off x="1981080" y="4724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28"/>
          <p:cNvSpPr/>
          <p:nvPr/>
        </p:nvSpPr>
        <p:spPr>
          <a:xfrm rot="11832000">
            <a:off x="6933960" y="472392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9"/>
          <p:cNvSpPr/>
          <p:nvPr/>
        </p:nvSpPr>
        <p:spPr>
          <a:xfrm rot="11126400">
            <a:off x="7314840" y="365688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30"/>
          <p:cNvSpPr/>
          <p:nvPr/>
        </p:nvSpPr>
        <p:spPr>
          <a:xfrm>
            <a:off x="990720" y="1219320"/>
            <a:ext cx="457200" cy="106668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31"/>
          <p:cNvSpPr/>
          <p:nvPr/>
        </p:nvSpPr>
        <p:spPr>
          <a:xfrm flipH="1" flipV="1">
            <a:off x="762120" y="1218960"/>
            <a:ext cx="457200" cy="1143000"/>
          </a:xfrm>
          <a:prstGeom prst="line">
            <a:avLst/>
          </a:prstGeom>
          <a:ln w="93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32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3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ycl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isability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overty &amp;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opelessnes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8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9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143000" y="1676520"/>
            <a:ext cx="66294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break the cycle of disability, poverty and hopelessness due to untreated mental illness and addiction..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ssion at CM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Adult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ual Dx MI/SA(10 yrs+)  and SPM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Dissociative Disor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TS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ultiple Axis II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igh-ris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- Social-emotional skills ga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s this famili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236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rget Population:  Childr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2670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irth through 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Family history of MI and addi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n utero/later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evelopmental Del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peech, language, 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-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oss, trauma, ab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lso famili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0" y="63244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80880" y="6583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76920" y="1828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295280" y="1295280"/>
            <a:ext cx="5486400" cy="4114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b63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2971800" y="1676520"/>
            <a:ext cx="228600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62520" y="3048120"/>
            <a:ext cx="2209680" cy="1752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828800" y="2971800"/>
            <a:ext cx="2362320" cy="1828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1280" y="18288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 &amp; Fam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33720" y="35812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24280" y="3657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ubstance Ab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124080" y="2666880"/>
            <a:ext cx="1828800" cy="1447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657600" y="2819520"/>
            <a:ext cx="10666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Intak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Evalu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&amp; Treat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Tes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Case Mgmt.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181160" y="54864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                                         </a:t>
            </a:r>
            <a:r>
              <a:rPr b="1" lang="en-US" sz="1400" spc="-1" strike="noStrike">
                <a:solidFill>
                  <a:srgbClr val="ffcc66"/>
                </a:solidFill>
                <a:latin typeface="Times New Roman"/>
              </a:rPr>
              <a:t>Case Management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028880" y="54864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90720" y="228600"/>
            <a:ext cx="71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hysical Medicine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cb63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sychia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990720" y="228600"/>
            <a:ext cx="7086600" cy="30492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962520" y="762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3581280" y="533520"/>
            <a:ext cx="990720" cy="6094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657600" y="685800"/>
            <a:ext cx="914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Un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6400800" y="914400"/>
            <a:ext cx="19051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457200" y="914400"/>
            <a:ext cx="121932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0" y="3048120"/>
            <a:ext cx="1066680" cy="99036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304920" y="4572000"/>
            <a:ext cx="1371600" cy="7621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3520" y="1143000"/>
            <a:ext cx="1143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Grassro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ommunity Ag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6477120" y="1143000"/>
            <a:ext cx="1752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rimary health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152280" y="3352680"/>
            <a:ext cx="838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Ho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533520" y="4724280"/>
            <a:ext cx="8380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ven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Jus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7086600" y="2895480"/>
            <a:ext cx="1219320" cy="99072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7302600" y="3200400"/>
            <a:ext cx="7873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Chil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b63"/>
                </a:solidFill>
                <a:latin typeface="Times New Roman"/>
              </a:rPr>
              <a:t>Welf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6934320" y="4419720"/>
            <a:ext cx="1143000" cy="838080"/>
          </a:xfrm>
          <a:prstGeom prst="ellipse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7162920" y="4724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523880" y="1676520"/>
            <a:ext cx="304920" cy="38088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1676520" y="4724280"/>
            <a:ext cx="304560" cy="15264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 flipH="1">
            <a:off x="6781320" y="3429000"/>
            <a:ext cx="304920" cy="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 flipH="1" flipV="1">
            <a:off x="6400800" y="4419720"/>
            <a:ext cx="533520" cy="30456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6172200" y="1676520"/>
            <a:ext cx="457200" cy="457200"/>
          </a:xfrm>
          <a:prstGeom prst="line">
            <a:avLst/>
          </a:prstGeom>
          <a:ln w="9360">
            <a:solidFill>
              <a:srgbClr val="ffcb6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1447920" y="5595840"/>
            <a:ext cx="350496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Social-emotional  skil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Food/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b63"/>
                </a:solidFill>
                <a:latin typeface="Times New Roman"/>
              </a:rPr>
              <a:t>Pre-Vocational preparation and job plac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8" descr="logo"/>
          <p:cNvPicPr/>
          <p:nvPr/>
        </p:nvPicPr>
        <p:blipFill>
          <a:blip r:embed="rId1"/>
          <a:stretch/>
        </p:blipFill>
        <p:spPr>
          <a:xfrm>
            <a:off x="228600" y="617220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9"/>
          <p:cNvSpPr/>
          <p:nvPr/>
        </p:nvSpPr>
        <p:spPr>
          <a:xfrm>
            <a:off x="53352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4876920" y="59436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MH’s Family Health Model:                         A Developmental  Paradi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mily Health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Line 45"/>
          <p:cNvSpPr/>
          <p:nvPr/>
        </p:nvSpPr>
        <p:spPr>
          <a:xfrm>
            <a:off x="4419720" y="3808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46"/>
          <p:cNvSpPr/>
          <p:nvPr/>
        </p:nvSpPr>
        <p:spPr>
          <a:xfrm flipH="1">
            <a:off x="2666880" y="380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TEGRATED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RVIC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valn and Rx Pl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uce barriers to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ug/alc testing;  sobriety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training and  linkage; Prena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p,ind, fam therap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dicn mang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ily living skills including s-e ski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uilding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lieu/member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4304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s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ent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ts/music/dance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nkages, legal, AA/NA/Chur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aduation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iritu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logo"/>
          <p:cNvPicPr/>
          <p:nvPr/>
        </p:nvPicPr>
        <p:blipFill>
          <a:blip r:embed="rId1"/>
          <a:stretch/>
        </p:blipFill>
        <p:spPr>
          <a:xfrm>
            <a:off x="152280" y="6172200"/>
            <a:ext cx="40032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57200" y="6477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M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8:07:50Z</dcterms:created>
  <dc:creator>default</dc:creator>
  <dc:description/>
  <dc:language>en-US</dc:language>
  <cp:lastModifiedBy>HCMARTINEZ</cp:lastModifiedBy>
  <cp:lastPrinted>2009-03-24T03:23:12Z</cp:lastPrinted>
  <dcterms:modified xsi:type="dcterms:W3CDTF">2009-03-24T18:52:51Z</dcterms:modified>
  <cp:revision>44</cp:revision>
  <dc:subject/>
  <dc:title>Welcome to The Center for Mental Health</dc:title>
</cp:coreProperties>
</file>