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whoo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6BD4FBE-0824-462D-A81F-58620ABEC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1870D82-00E1-4ED6-AAC8-DD0F6E3400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ed outcomes – cross-site study U of Illinoi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of sobriety, reduced relapse and hospitalization, safe reunification with children, reduced domestic violence, children under 5 attaining normal developmental milestones (with 50% develop delay initial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comes for other programs – anecdota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ult Services/SPMI 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aged many people homeless and iso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hospitalizations – for psych and non-ps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social learning community – peer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over 6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ed chances of appropriate school plac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in aggressive behavior and acting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ed problem-solving sk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0AED71A-16EE-4485-A38E-2A60C3980F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s catalyze and reinforce social and emotional skills development -- jiust as school is a social/group learn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FE2FD50-ED84-4BE2-A807-71EAA8D7DC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experience in NYS training Family Practitioners – fulcrum nature intellectually of the practice – with may who by nature and exposure become passionate advocates for rationale resource allocation for their patients – much as more evidenced by all here in Contra Costa:  from my first exposure to Priscilla Hinman, Chris Farnitano, Steve Tremain, Bill Walker 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L work -- John Echols, within CCRMC, AmCare -- Priscilla Hinman, Chris Farnitano, Bill Serbin, and several newer psychiatrists -- Renee Cloud, Uzma Anwer, Halla Fattah 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oups catalyze and reinforce social and emotional ski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videnced-based 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A07F805-0F5D-413A-9CD5-783DA257DF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 – several things learn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Web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Unusual caliber of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Considerable differences between commun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st useful to pres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ork came into be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esigned to achie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as paradigm and services– with som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on Center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raised as result of the work that may be useful to 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9AA39A2-9B36-4933-8A7A-6437E4AC59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experiences often lasting imp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gmented, overlapping, ineffective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ies rotating through systems -- adults and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2A1064E-0062-49A9-985E-06C86460CD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e affects all members of 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al gaps – impact on kjds and ad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 in Washington, D.C. when family work began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ight of crack epidemic; bifurcated City; more than 65% living in poverty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astation of family bulwark in poor, largely A.A. community – families as immune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ignificant violence within community -- fac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ly institutional system in D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s overwhel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d c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coming to CMH – organizn I inherited/invitation by City’s Office of Health Care Fin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EEFD99E-FD83-4217-AFF8-4987F475C2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2DB77A0-B504-4DA0-8D6E-44A0FA0BA6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ult Population at CMH had been over 2,000 initially – with about 30% SPMI and 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ructured in years from 1990-1994:  increased percentage SPMI, DD; work with grandparents/extended care g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noted is that family centered work initially begun with parents and children (1990-94)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ly diagnosed – mainly mothers and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ed SPMI by 1998 through separate track – using several of principles – member council; family supports; Psyhciatric Rehab Model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hony with life skills, but increased emphasis throughout CMH on s-e skills woven in due to gaps in this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38B60E8-D279-4973-8CBD-893E0E1AF8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al gaps in social and emotional skills pivotal however – as without adequate intervention – this follows these kids into adulthood – and same gaps become barriers for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hildhood alone – these gaps prevent kids from being ready to learn in a social, group context – I.e. what school 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why so many schools overwhel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ly, much of work requires similar skill se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5506769-B5CC-478B-8464-950BE6ADE7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agement through outreach and cultural competence of staff -- significant community members, respite/SOFA; transpor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surrogate family – unabashed use of staff within milieu 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vene at the earliest possible point -- from infancy onwa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very oriented –  not  illness alone – part of recovery requires sense of belonging; indiv as social being -- arts, dance, music,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 – self within larger con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ressing developmental gaps cri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M at CMH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d more concrete services and link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R issues/ violence in community/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Devel. Associates spec. trained by doctoral level staff; adaptation of Rehab curricul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24898E9-AB16-4047-B29F-C853450AAB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ing barriers to eng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ation, child care, outre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u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ieu – social glue – sense of community – surrogate family, reparenting without patron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s of Attiba – dealt with emotional issues explosive in former lives -- within safe, reflective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ices reflect 7 programs tailored to age and function – linkages across programs to work with family me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2968-C47B-4D1D-A05D-3E02503A6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DA85-C711-419A-9124-3BE8E44D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F1DF-869D-48BD-9E69-A90224D16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F356-2EDA-4619-A542-0DDF8C89D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3E51-3F68-4A9C-8266-04BF3E209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B49B5-EAC1-4A97-A87B-EBEA0002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4450-C564-48DA-A0F9-1B54106D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098A-0A80-4729-864E-2D6F168F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E4C3-F6A7-409F-96C6-C1A6BE16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5320-CCCE-4784-9311-7E2BF0C4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17FB-3F5E-447A-8FE5-453068FF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1CA0-6E07-4817-979A-E159437C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C8E3-79C2-4CB4-AD03-7FEF05F5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48CFE-4C4D-466F-8824-AC56AC39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95C5-B1C8-40F3-9DEC-01D87BCE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2518C-F904-4C9C-9F73-F6ED546B9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4EBD7-038A-4B8A-B8DE-1524F2638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4769-BC3F-4629-9758-A6F3AD4B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C911-9894-45EB-8278-99267B2A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1D93-A879-49C3-BE40-07045C0B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9538-12ED-42D1-9ACE-C031B3DE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A91F-70B1-4566-8E41-E63B7808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0BCC-9415-4F5B-813E-3C4E8D40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7C36-A920-4FC2-BF3D-0E76BBFF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E9A4-4FCC-42C8-A844-0C1117384A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2514-45E9-4803-8705-8C653B912E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reaking the Disability- Poverty Cyc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040" y="3580920"/>
            <a:ext cx="579132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ly Intervention in Behavioral Health C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2879640" y="87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Picture 3" descr="logo"/>
          <p:cNvPicPr/>
          <p:nvPr/>
        </p:nvPicPr>
        <p:blipFill>
          <a:blip r:embed="rId1"/>
          <a:stretch/>
        </p:blipFill>
        <p:spPr>
          <a:xfrm>
            <a:off x="152280" y="6172200"/>
            <a:ext cx="400320" cy="53352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4"/>
          <p:cNvSpPr/>
          <p:nvPr/>
        </p:nvSpPr>
        <p:spPr>
          <a:xfrm>
            <a:off x="457200" y="64771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M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1066680" y="603576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ample Mean of Family Treatment Goal Attainme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1523880" y="563868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ite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3124080" y="563868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ite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4800600" y="56386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ite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6400800" y="56386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M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762120" y="2286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iversity of Illinois Outcome Study (1996-2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1371600" y="7621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omen MH Consumers &amp; Their 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12" descr="U of I Chart"/>
          <p:cNvPicPr/>
          <p:nvPr/>
        </p:nvPicPr>
        <p:blipFill>
          <a:blip r:embed="rId2"/>
          <a:stretch/>
        </p:blipFill>
        <p:spPr>
          <a:xfrm>
            <a:off x="838080" y="1371600"/>
            <a:ext cx="7391520" cy="42372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429000" y="-426708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come data: Changing Progno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What did we learn from this integrative work?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Helvetica CE"/>
              </a:rPr>
              <a:t>Family as central to sup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S-e skills, grou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Helvetica CE"/>
              </a:rPr>
              <a:t>Eng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Helvetica CE"/>
              </a:rPr>
              <a:t>Early interv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Public heal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UC Davis and other center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Helvetica CE"/>
              </a:rPr>
              <a:t>Integrate</a:t>
            </a:r>
            <a:r>
              <a:rPr b="1" lang="en-US" sz="3200" spc="-1" strike="noStrike">
                <a:solidFill>
                  <a:srgbClr val="ffcc66"/>
                </a:solidFill>
                <a:latin typeface="Helvetica C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MH/SA/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Intensity of each drives set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CC -- Strengths to build on:-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amily  Practice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ddiction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A Magnet for Chang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ntegrative Medicine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: 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DAP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Groups 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Front e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MPA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-L work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CCRM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Ambulatory c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x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53272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An Integrated, Family-Centered Approach to Working with High-Risk Population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47560" y="3124080"/>
            <a:ext cx="746748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 undertaken at the Center for Mental Health, Inc in Washington, D.C. between 1990-200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ented at the Invitation of Karen Burt, M.D., Director of Integrative Health -- to the Family Practice Residents, Tuesday March 24, 2009 – by Johanna Ferman, M.D., Medical Director, Adult System of Care, Mental Health Division, D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371600" y="2286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Prognosis &amp; The Fault L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Freeform 3"/>
          <p:cNvSpPr/>
          <p:nvPr/>
        </p:nvSpPr>
        <p:spPr>
          <a:xfrm>
            <a:off x="19080" y="4757760"/>
            <a:ext cx="5429160" cy="2081160"/>
          </a:xfrm>
          <a:prstGeom prst="pie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Freeform 4"/>
          <p:cNvSpPr/>
          <p:nvPr/>
        </p:nvSpPr>
        <p:spPr>
          <a:xfrm>
            <a:off x="4591080" y="4718160"/>
            <a:ext cx="4629240" cy="958680"/>
          </a:xfrm>
          <a:prstGeom prst="pie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419040" y="5486400"/>
            <a:ext cx="8305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The Fault Line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Untreated Addiction and Mental Ill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4591080" y="5715000"/>
            <a:ext cx="57240" cy="19080"/>
          </a:xfrm>
          <a:prstGeom prst="pie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360" bIns="-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743360" y="5962680"/>
            <a:ext cx="990720" cy="914400"/>
          </a:xfrm>
          <a:prstGeom prst="pie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8" descr="logo"/>
          <p:cNvPicPr/>
          <p:nvPr/>
        </p:nvPicPr>
        <p:blipFill>
          <a:blip r:embed="rId1"/>
          <a:stretch/>
        </p:blipFill>
        <p:spPr>
          <a:xfrm>
            <a:off x="228600" y="6172200"/>
            <a:ext cx="399960" cy="5335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9"/>
          <p:cNvSpPr/>
          <p:nvPr/>
        </p:nvSpPr>
        <p:spPr>
          <a:xfrm>
            <a:off x="533520" y="64008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M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10" descr="Telephant3"/>
          <p:cNvPicPr/>
          <p:nvPr/>
        </p:nvPicPr>
        <p:blipFill>
          <a:blip r:embed="rId2"/>
          <a:stretch/>
        </p:blipFill>
        <p:spPr>
          <a:xfrm>
            <a:off x="380880" y="838080"/>
            <a:ext cx="7772400" cy="46198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1"/>
          <p:cNvSpPr/>
          <p:nvPr/>
        </p:nvSpPr>
        <p:spPr>
          <a:xfrm>
            <a:off x="2209680" y="220968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4038480" y="1981080"/>
            <a:ext cx="1371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1905120" y="20574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r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3048120" y="18288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iminal Justi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4038480" y="190512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ysfunctional School Syste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5791320" y="2286000"/>
            <a:ext cx="1676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itutionalization Of Children &amp; Ad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1752480" y="29718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mestic Viole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2819520" y="3048120"/>
            <a:ext cx="1676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oken Chil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lfare Syste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4648320" y="2895480"/>
            <a:ext cx="144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isis and Emergency Room Visi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20"/>
          <p:cNvSpPr/>
          <p:nvPr/>
        </p:nvSpPr>
        <p:spPr>
          <a:xfrm>
            <a:off x="6705720" y="41148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21"/>
          <p:cNvSpPr/>
          <p:nvPr/>
        </p:nvSpPr>
        <p:spPr>
          <a:xfrm>
            <a:off x="1981080" y="411480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o-Natology and High Risk Infa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22"/>
          <p:cNvSpPr/>
          <p:nvPr/>
        </p:nvSpPr>
        <p:spPr>
          <a:xfrm>
            <a:off x="4648320" y="441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melessn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37160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gnosis and The Elepha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10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2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3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3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Oval 2"/>
          <p:cNvSpPr/>
          <p:nvPr/>
        </p:nvSpPr>
        <p:spPr>
          <a:xfrm>
            <a:off x="1676520" y="685800"/>
            <a:ext cx="5715000" cy="5486400"/>
          </a:xfrm>
          <a:prstGeom prst="ellipse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33520" y="2362320"/>
          <a:ext cx="1714320" cy="6397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Learning Disabilit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sp>
        <p:nvSpPr>
          <p:cNvPr id="124" name="Text Box 9"/>
          <p:cNvSpPr/>
          <p:nvPr/>
        </p:nvSpPr>
        <p:spPr>
          <a:xfrm>
            <a:off x="3886200" y="228600"/>
            <a:ext cx="1371600" cy="1223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Out of home plac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752480" y="914400"/>
            <a:ext cx="1905120" cy="1180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Soc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Emotion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Development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Delay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3352680" y="5715000"/>
            <a:ext cx="205740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Untre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Addiction &amp; ment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Illnes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228600" y="3581280"/>
            <a:ext cx="2743200" cy="1269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Disruption of fami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as “developmental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environ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457200" y="5181480"/>
            <a:ext cx="2819520" cy="99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In utero” exposure to alcohol and drugs – multiple sequela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28600" y="228600"/>
            <a:ext cx="205740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Soc/Emotional Difficul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Depression, Aggression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5638680" y="1066680"/>
            <a:ext cx="320040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School failure- Drop o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16"/>
          <p:cNvSpPr/>
          <p:nvPr/>
        </p:nvSpPr>
        <p:spPr>
          <a:xfrm>
            <a:off x="6553080" y="2286000"/>
            <a:ext cx="137160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Early Pregnanc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6553080" y="3733920"/>
            <a:ext cx="1524240" cy="337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imes New Roman"/>
              </a:rPr>
              <a:t>Gang activ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5791320" y="4876920"/>
            <a:ext cx="2057400" cy="1202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Use of alcohol/drugs 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Medicate underly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probl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AutoShape 20"/>
          <p:cNvSpPr/>
          <p:nvPr/>
        </p:nvSpPr>
        <p:spPr>
          <a:xfrm rot="7792800">
            <a:off x="5867280" y="990360"/>
            <a:ext cx="152280" cy="152640"/>
          </a:xfrm>
          <a:prstGeom prst="triangle">
            <a:avLst>
              <a:gd name="adj" fmla="val 4759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AutoShape 21"/>
          <p:cNvSpPr/>
          <p:nvPr/>
        </p:nvSpPr>
        <p:spPr>
          <a:xfrm flipH="1" rot="2076600">
            <a:off x="2133720" y="1752120"/>
            <a:ext cx="163440" cy="16380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AutoShape 22"/>
          <p:cNvSpPr/>
          <p:nvPr/>
        </p:nvSpPr>
        <p:spPr>
          <a:xfrm>
            <a:off x="1600200" y="28954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AutoShape 23"/>
          <p:cNvSpPr/>
          <p:nvPr/>
        </p:nvSpPr>
        <p:spPr>
          <a:xfrm rot="18097800">
            <a:off x="2819520" y="548604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24"/>
          <p:cNvSpPr/>
          <p:nvPr/>
        </p:nvSpPr>
        <p:spPr>
          <a:xfrm rot="8862000">
            <a:off x="7003440" y="2195280"/>
            <a:ext cx="228600" cy="12852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AutoShape 25"/>
          <p:cNvSpPr/>
          <p:nvPr/>
        </p:nvSpPr>
        <p:spPr>
          <a:xfrm rot="13556400">
            <a:off x="5486040" y="594288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26"/>
          <p:cNvSpPr/>
          <p:nvPr/>
        </p:nvSpPr>
        <p:spPr>
          <a:xfrm flipV="1" rot="15234600">
            <a:off x="3885480" y="68580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AutoShape 27"/>
          <p:cNvSpPr/>
          <p:nvPr/>
        </p:nvSpPr>
        <p:spPr>
          <a:xfrm rot="19363200">
            <a:off x="1981080" y="47242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28"/>
          <p:cNvSpPr/>
          <p:nvPr/>
        </p:nvSpPr>
        <p:spPr>
          <a:xfrm rot="11832000">
            <a:off x="6933960" y="472392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AutoShape 29"/>
          <p:cNvSpPr/>
          <p:nvPr/>
        </p:nvSpPr>
        <p:spPr>
          <a:xfrm rot="11126400">
            <a:off x="7314840" y="365688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Line 30"/>
          <p:cNvSpPr/>
          <p:nvPr/>
        </p:nvSpPr>
        <p:spPr>
          <a:xfrm>
            <a:off x="990720" y="1219320"/>
            <a:ext cx="457200" cy="1066680"/>
          </a:xfrm>
          <a:prstGeom prst="line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31"/>
          <p:cNvSpPr/>
          <p:nvPr/>
        </p:nvSpPr>
        <p:spPr>
          <a:xfrm flipH="1" flipV="1">
            <a:off x="762120" y="1218960"/>
            <a:ext cx="457200" cy="1143000"/>
          </a:xfrm>
          <a:prstGeom prst="line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32" descr="logo"/>
          <p:cNvPicPr/>
          <p:nvPr/>
        </p:nvPicPr>
        <p:blipFill>
          <a:blip r:embed="rId1"/>
          <a:stretch/>
        </p:blipFill>
        <p:spPr>
          <a:xfrm>
            <a:off x="152280" y="6172200"/>
            <a:ext cx="400320" cy="5335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3"/>
          <p:cNvSpPr/>
          <p:nvPr/>
        </p:nvSpPr>
        <p:spPr>
          <a:xfrm>
            <a:off x="457200" y="64771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M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Cycle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of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Disability 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Poverty &amp;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Hopelessness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6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70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75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80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85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90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95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700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05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1143000" y="1676520"/>
            <a:ext cx="66294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“…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o break the cycle of disability, poverty and hopelessness due to untreated mental illness and addiction...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ission at CMH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arget Population:  Adults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Dual Dx MI/SA(10 yrs+)  and SPM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Dissociative Disord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PTS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Multiple Axis III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High-risk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-- Social-emotional skills ga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Is this familia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4" descr="logo"/>
          <p:cNvPicPr/>
          <p:nvPr/>
        </p:nvPicPr>
        <p:blipFill>
          <a:blip r:embed="rId1"/>
          <a:stretch/>
        </p:blipFill>
        <p:spPr>
          <a:xfrm>
            <a:off x="0" y="6324480"/>
            <a:ext cx="399960" cy="5335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380880" y="65833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M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82368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arget Population:  Childre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26708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Birth through 2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Family history of MI and addic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In utero/later expos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Developmental Dela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Speech, language, mo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S-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Loss, trauma, ab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Also familia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4" descr="logo"/>
          <p:cNvPicPr/>
          <p:nvPr/>
        </p:nvPicPr>
        <p:blipFill>
          <a:blip r:embed="rId1"/>
          <a:stretch/>
        </p:blipFill>
        <p:spPr>
          <a:xfrm>
            <a:off x="0" y="6324480"/>
            <a:ext cx="399960" cy="5335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380880" y="65833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M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4876920" y="18288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Oval 2"/>
          <p:cNvSpPr/>
          <p:nvPr/>
        </p:nvSpPr>
        <p:spPr>
          <a:xfrm>
            <a:off x="1295280" y="1295280"/>
            <a:ext cx="5486400" cy="4114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b63"/>
              </a:gs>
            </a:gsLst>
            <a:lin ang="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Oval 3"/>
          <p:cNvSpPr/>
          <p:nvPr/>
        </p:nvSpPr>
        <p:spPr>
          <a:xfrm>
            <a:off x="2971800" y="1676520"/>
            <a:ext cx="2286000" cy="1752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Oval 4"/>
          <p:cNvSpPr/>
          <p:nvPr/>
        </p:nvSpPr>
        <p:spPr>
          <a:xfrm>
            <a:off x="3962520" y="3048120"/>
            <a:ext cx="2209680" cy="1752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1828800" y="2971800"/>
            <a:ext cx="2362320" cy="18288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3581280" y="18288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hild &amp; Fami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2133720" y="358128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ental Heal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724280" y="365760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ubstance Ab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Oval 9"/>
          <p:cNvSpPr/>
          <p:nvPr/>
        </p:nvSpPr>
        <p:spPr>
          <a:xfrm>
            <a:off x="3124080" y="2666880"/>
            <a:ext cx="1828800" cy="1447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3657600" y="2819520"/>
            <a:ext cx="106668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Intak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Evalu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&amp; Treat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Tes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Plann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Case Mgmt.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1181160" y="5486400"/>
            <a:ext cx="67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Times New Roman"/>
              </a:rPr>
              <a:t>                                         </a:t>
            </a:r>
            <a:r>
              <a:rPr b="1" lang="en-US" sz="1400" spc="-1" strike="noStrike">
                <a:solidFill>
                  <a:srgbClr val="ffcc66"/>
                </a:solidFill>
                <a:latin typeface="Times New Roman"/>
              </a:rPr>
              <a:t>Case Management 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1028880" y="5486400"/>
            <a:ext cx="7086600" cy="30492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990720" y="228600"/>
            <a:ext cx="716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b63"/>
                </a:solidFill>
                <a:latin typeface="Times New Roman"/>
              </a:rPr>
              <a:t>Physical Medicine</a:t>
            </a:r>
            <a:r>
              <a:rPr b="0" lang="en-US" sz="1400" spc="-1" strike="noStrike">
                <a:solidFill>
                  <a:srgbClr val="ffcb63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cb63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cb63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cb63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cb63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cb63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ffcb63"/>
                </a:solidFill>
                <a:latin typeface="Times New Roman"/>
              </a:rPr>
              <a:t>Psychia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990720" y="228600"/>
            <a:ext cx="7086600" cy="30492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3962520" y="7621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Oval 16"/>
          <p:cNvSpPr/>
          <p:nvPr/>
        </p:nvSpPr>
        <p:spPr>
          <a:xfrm>
            <a:off x="3581280" y="533520"/>
            <a:ext cx="990720" cy="609480"/>
          </a:xfrm>
          <a:prstGeom prst="ellipse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3657600" y="685800"/>
            <a:ext cx="9144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Busines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Un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4038480" y="1143000"/>
            <a:ext cx="0" cy="304920"/>
          </a:xfrm>
          <a:prstGeom prst="line">
            <a:avLst/>
          </a:prstGeom>
          <a:ln w="936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Oval 19"/>
          <p:cNvSpPr/>
          <p:nvPr/>
        </p:nvSpPr>
        <p:spPr>
          <a:xfrm>
            <a:off x="6400800" y="914400"/>
            <a:ext cx="1905120" cy="838080"/>
          </a:xfrm>
          <a:prstGeom prst="ellipse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Oval 20"/>
          <p:cNvSpPr/>
          <p:nvPr/>
        </p:nvSpPr>
        <p:spPr>
          <a:xfrm>
            <a:off x="457200" y="914400"/>
            <a:ext cx="1219320" cy="838080"/>
          </a:xfrm>
          <a:prstGeom prst="ellipse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Oval 21"/>
          <p:cNvSpPr/>
          <p:nvPr/>
        </p:nvSpPr>
        <p:spPr>
          <a:xfrm>
            <a:off x="0" y="3048120"/>
            <a:ext cx="1066680" cy="990360"/>
          </a:xfrm>
          <a:prstGeom prst="ellipse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Oval 22"/>
          <p:cNvSpPr/>
          <p:nvPr/>
        </p:nvSpPr>
        <p:spPr>
          <a:xfrm>
            <a:off x="304920" y="4572000"/>
            <a:ext cx="1371600" cy="762120"/>
          </a:xfrm>
          <a:prstGeom prst="ellipse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23"/>
          <p:cNvSpPr/>
          <p:nvPr/>
        </p:nvSpPr>
        <p:spPr>
          <a:xfrm>
            <a:off x="533520" y="1143000"/>
            <a:ext cx="1143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Grassroo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Community Agenc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24"/>
          <p:cNvSpPr/>
          <p:nvPr/>
        </p:nvSpPr>
        <p:spPr>
          <a:xfrm>
            <a:off x="6477120" y="1143000"/>
            <a:ext cx="17524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Primary healthc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25"/>
          <p:cNvSpPr/>
          <p:nvPr/>
        </p:nvSpPr>
        <p:spPr>
          <a:xfrm>
            <a:off x="152280" y="3352680"/>
            <a:ext cx="8384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Publ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Hou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26"/>
          <p:cNvSpPr/>
          <p:nvPr/>
        </p:nvSpPr>
        <p:spPr>
          <a:xfrm>
            <a:off x="533520" y="4724280"/>
            <a:ext cx="8380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Juveni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Just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Oval 27"/>
          <p:cNvSpPr/>
          <p:nvPr/>
        </p:nvSpPr>
        <p:spPr>
          <a:xfrm>
            <a:off x="7086600" y="2895480"/>
            <a:ext cx="1219320" cy="990720"/>
          </a:xfrm>
          <a:prstGeom prst="ellipse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28"/>
          <p:cNvSpPr/>
          <p:nvPr/>
        </p:nvSpPr>
        <p:spPr>
          <a:xfrm>
            <a:off x="7302600" y="3200400"/>
            <a:ext cx="7873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Chil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Welf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Oval 29"/>
          <p:cNvSpPr/>
          <p:nvPr/>
        </p:nvSpPr>
        <p:spPr>
          <a:xfrm>
            <a:off x="6934320" y="4419720"/>
            <a:ext cx="1143000" cy="838080"/>
          </a:xfrm>
          <a:prstGeom prst="ellipse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30"/>
          <p:cNvSpPr/>
          <p:nvPr/>
        </p:nvSpPr>
        <p:spPr>
          <a:xfrm>
            <a:off x="7162920" y="47242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Schoo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31"/>
          <p:cNvSpPr/>
          <p:nvPr/>
        </p:nvSpPr>
        <p:spPr>
          <a:xfrm>
            <a:off x="1523880" y="1676520"/>
            <a:ext cx="304920" cy="380880"/>
          </a:xfrm>
          <a:prstGeom prst="line">
            <a:avLst/>
          </a:prstGeom>
          <a:ln w="936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32"/>
          <p:cNvSpPr/>
          <p:nvPr/>
        </p:nvSpPr>
        <p:spPr>
          <a:xfrm>
            <a:off x="1066680" y="3505320"/>
            <a:ext cx="304920" cy="0"/>
          </a:xfrm>
          <a:prstGeom prst="line">
            <a:avLst/>
          </a:prstGeom>
          <a:ln w="936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33"/>
          <p:cNvSpPr/>
          <p:nvPr/>
        </p:nvSpPr>
        <p:spPr>
          <a:xfrm flipV="1">
            <a:off x="1676520" y="4724280"/>
            <a:ext cx="304560" cy="152640"/>
          </a:xfrm>
          <a:prstGeom prst="line">
            <a:avLst/>
          </a:prstGeom>
          <a:ln w="936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Line 34"/>
          <p:cNvSpPr/>
          <p:nvPr/>
        </p:nvSpPr>
        <p:spPr>
          <a:xfrm flipH="1">
            <a:off x="6781320" y="3429000"/>
            <a:ext cx="304920" cy="0"/>
          </a:xfrm>
          <a:prstGeom prst="line">
            <a:avLst/>
          </a:prstGeom>
          <a:ln w="9360">
            <a:solidFill>
              <a:srgbClr val="ffcb6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Line 35"/>
          <p:cNvSpPr/>
          <p:nvPr/>
        </p:nvSpPr>
        <p:spPr>
          <a:xfrm flipH="1" flipV="1">
            <a:off x="6400800" y="4419720"/>
            <a:ext cx="533520" cy="304560"/>
          </a:xfrm>
          <a:prstGeom prst="line">
            <a:avLst/>
          </a:prstGeom>
          <a:ln w="9360">
            <a:solidFill>
              <a:srgbClr val="ffcb6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Line 36"/>
          <p:cNvSpPr/>
          <p:nvPr/>
        </p:nvSpPr>
        <p:spPr>
          <a:xfrm flipH="1">
            <a:off x="6172200" y="1676520"/>
            <a:ext cx="457200" cy="457200"/>
          </a:xfrm>
          <a:prstGeom prst="line">
            <a:avLst/>
          </a:prstGeom>
          <a:ln w="9360">
            <a:solidFill>
              <a:srgbClr val="ffcb6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37"/>
          <p:cNvSpPr/>
          <p:nvPr/>
        </p:nvSpPr>
        <p:spPr>
          <a:xfrm>
            <a:off x="1447920" y="5595840"/>
            <a:ext cx="350496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b63"/>
                </a:solidFill>
                <a:latin typeface="Times New Roman"/>
              </a:rPr>
              <a:t>Social-emotional  skil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b63"/>
                </a:solidFill>
                <a:latin typeface="Times New Roman"/>
              </a:rPr>
              <a:t>Food/cloth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b63"/>
                </a:solidFill>
                <a:latin typeface="Times New Roman"/>
              </a:rPr>
              <a:t>Transport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b63"/>
                </a:solidFill>
                <a:latin typeface="Times New Roman"/>
              </a:rPr>
              <a:t>Pre-Vocational preparation and job plac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38" descr="logo"/>
          <p:cNvPicPr/>
          <p:nvPr/>
        </p:nvPicPr>
        <p:blipFill>
          <a:blip r:embed="rId1"/>
          <a:stretch/>
        </p:blipFill>
        <p:spPr>
          <a:xfrm>
            <a:off x="228600" y="6172200"/>
            <a:ext cx="399960" cy="5335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39"/>
          <p:cNvSpPr/>
          <p:nvPr/>
        </p:nvSpPr>
        <p:spPr>
          <a:xfrm>
            <a:off x="533520" y="64771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M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42"/>
          <p:cNvSpPr/>
          <p:nvPr/>
        </p:nvSpPr>
        <p:spPr>
          <a:xfrm>
            <a:off x="4876920" y="5943600"/>
            <a:ext cx="4038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MH’s Family Health Model:                         A Developmental  Paradi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8088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amily Health Mode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Line 45"/>
          <p:cNvSpPr/>
          <p:nvPr/>
        </p:nvSpPr>
        <p:spPr>
          <a:xfrm>
            <a:off x="4419720" y="38088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Line 46"/>
          <p:cNvSpPr/>
          <p:nvPr/>
        </p:nvSpPr>
        <p:spPr>
          <a:xfrm flipH="1">
            <a:off x="2666880" y="38088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900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9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10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150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NTEGRATED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ERVICE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valn and Rx Pl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duce barriers to c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rug/alc testing;  sobriety pl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ealth training and  linkage; Prenat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rp,ind, fam therap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edicn mang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aily living skills including s-e skill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uilding commun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ilieu/member counc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343040" y="167652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ase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arenting ski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rts/music/dance/wri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inkages, legal, AA/NA/Church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Graduation Plan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piritual compon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Picture 5" descr="logo"/>
          <p:cNvPicPr/>
          <p:nvPr/>
        </p:nvPicPr>
        <p:blipFill>
          <a:blip r:embed="rId1"/>
          <a:stretch/>
        </p:blipFill>
        <p:spPr>
          <a:xfrm>
            <a:off x="152280" y="6172200"/>
            <a:ext cx="400320" cy="53352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457200" y="64771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M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9T18:07:50Z</dcterms:created>
  <dc:creator>default</dc:creator>
  <dc:description/>
  <dc:language>en-US</dc:language>
  <cp:lastModifiedBy>HCMARTINEZ</cp:lastModifiedBy>
  <cp:lastPrinted>2009-03-24T03:23:12Z</cp:lastPrinted>
  <dcterms:modified xsi:type="dcterms:W3CDTF">2009-03-24T18:52:51Z</dcterms:modified>
  <cp:revision>44</cp:revision>
  <dc:subject/>
  <dc:title>Welcome to The Center for Mental Health</dc:title>
</cp:coreProperties>
</file>