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E2F-1C0D-40B7-94B6-9DE4A000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3CA-C45C-4795-BFEA-10CBFBBE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C67-9E68-4A20-9246-681298E4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0B9-D33A-43F0-BC9B-A40C972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9C2-3F97-47DD-AA7A-3BB47FE8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84D-A3D1-466A-8BA0-EAF6DE3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E5A-5AB4-42FD-9CF6-1C6A055C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7F0-AEE2-4F20-9D04-EE2C7031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DC0-7550-44DF-B4F4-2B02A8B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1F2-6A82-4ACC-A49F-4C8F44D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937-26C2-44F5-9318-B488D54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066-2A60-4072-94FA-A88E84B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70C4-DE7E-4E34-9937-D13111537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dical Abortion: Options in an Outpatient Set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kes several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t as predi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avier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re severe cr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low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need surgical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va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anesth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oman has less control ov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not be done as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Logistics of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rine HCG and/or 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 gestational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MP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imanual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Lemon 5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Orange 7-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Grapefruit 9-10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o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le out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Arial Bold"/>
              </a:rPr>
              <a:t>Counseling: What to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paration is the key to a successful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ide effects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must be surgical back-up, readily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ollow Up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chedule 1-2 weeks after initi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nfirm completed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elvic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alling H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riteria #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peat ultraso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dications for A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pproximately 2-5% of patients treated with mifepristone+misoprostol will need a follow up a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piration is most often don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solve an incomplete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erminate a continuing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o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two key elements for successful outcome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priate 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be0e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orough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tisfaction depends on an informed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NAF abortio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dvantages of Primary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are Providers doing M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i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access to abortion, especially in underserv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xpand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 and effica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a retrospective case series, of 236 MABs performed in 4 community health centers  (majority managed by family physicians) only 1 pt. required aspiration, a failure rate of .4%.  (Prine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Bs require key PCP skills: assessing a patient’s support system, emotional state and understanding of the process (Prine et al., 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 survey of 148 urban women were surve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0% agreed their clinic should provide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73% (of those who would consider abortion) would prefer to have it done by their family physic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ubin et al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ntegration of MABs in to FPC: Patient Ch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hat might women choose if they receive options counseling in a clinical setting that offers on-site MABs and referrals for off-site surgical T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retrospective, cohort study of 204 women, in a university setting, found 85% of eligible women chose medication abortion. The earlier the gestational age, the more likely a M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sons: convenience if both options are acceptable, bias in physician counseling, self-selection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eeman et al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MABs within the Contra Costa County Health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ur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crease number of providers who offer M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stablish an infrastructure and protocol to sup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odel integration of MABs into FPC as part of resid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ccomplish goals in a manner that is respectful of differences i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ligibility for medical 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of consent, counseling, administration, complications, and follow-up of medication abor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Understand the role of medical abortions in the context of Family Practice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process taking place to increase access to medical abortions within CCR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Establish Support: Non-resident physicians/NP’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dentify interested providers, p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DA: must be able to reliably determine gestational 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Need to be approved by OB/GYN to us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-servic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tablish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esidents: 11 of 22 eligible residents would like to incorporate MABs into their FP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ursing: Organize values clarification workshops to discuss concerns, if nee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cial Work: Entry way in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ear, Accessible Protoc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-site info packets: medication guide, mifeprex patient agreement, CCRMC consent, provider note template, charting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ictate a procedure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Notify back-up OB-G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 cal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llow-up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* Additional counseling resources available for provider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ison of the Two types of First Trimester Abortion.  The Acces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hapter 3: Informed Consent, Counseling, and Patient Preparation.  NAF Abortion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amble et al. “Abortion Surveillance --- United States, 2005.” MMWR. 2008; 57: 1-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eman et al. “Can Mifepristone Medication Abortion Be Successfully Integrated into Medical Practices That Do Not Offer Surgical Abortion?” Contraception. 2007; 76: 96-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 “Medication Abortion and Family Physicians’ Scope.” Journal of American Board of Family Medicine. 2005; 18: 304-3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ne et al. “Medical Abortion in Family Practice: A Case Series.” Journal of American Board of Family Medicine. 2003; 16: 290-2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ubin et al. “Patient Attitudes Toward Early Abortion Services in the Family Medicine Clinic.” Journal of American Board of Family Medicine. 2008; 21: 162-16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Data from US Abortion Surveillance,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duced abortion rate peaked during the ’80’s, 23-24/1000, was 20-21/1000 in the ’90’s and in ’05, 15/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2% decline from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61%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7% were less than 12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81% were known D&amp;C/D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0% were MABs (increased from 1% in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4% of MABs were less than 8 week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re has been a steady increase in ABs &lt;6 weeks, with a decrease in ABs 7-10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172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MMWR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harma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gesteron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terferes with placental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uterus lining to 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ops growth of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isoprost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lso called Cytot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 prostoglandin E1 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timulates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auses cervical ri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ifepristone Regim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38080"/>
            <a:ext cx="9144000" cy="5791320"/>
            <a:chOff x="0" y="838080"/>
            <a:chExt cx="9144000" cy="5791320"/>
          </a:xfrm>
        </p:grpSpPr>
        <p:sp>
          <p:nvSpPr>
            <p:cNvPr id="52" name=""/>
            <p:cNvSpPr/>
            <p:nvPr/>
          </p:nvSpPr>
          <p:spPr>
            <a:xfrm>
              <a:off x="6082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7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2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0560" y="5695200"/>
              <a:ext cx="30614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90 for mifeprist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$4.00 for misoprost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5695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Cost of medicatio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82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056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0227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nimum office visi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2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10-1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056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ay 4-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435132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follow-up vis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82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00 mc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Office administr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8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0560" y="3184200"/>
              <a:ext cx="3061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800 mcg. vagi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ome self-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 - 72 hours la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18420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soprostol dos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2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4056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 mg. 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77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ifepristone dos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2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49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056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63 day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50264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stational Age Limi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82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FDA Product Label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0560" y="838080"/>
              <a:ext cx="306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0400" tIns="0" bIns="0" anchor="t">
              <a:noAutofit/>
            </a:bodyPr>
            <a:p>
              <a:pPr marL="49320">
                <a:lnSpc>
                  <a:spcPct val="93000"/>
                </a:lnSpc>
                <a:spcBef>
                  <a:spcPts val="575"/>
                </a:spcBef>
                <a:tabLst>
                  <a:tab algn="l" pos="0"/>
                  <a:tab algn="l" pos="977760"/>
                  <a:tab algn="l" pos="1917720"/>
                  <a:tab algn="l" pos="2844720"/>
                  <a:tab algn="l" pos="2997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Evidence-Based Protoco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838080"/>
              <a:ext cx="9122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502640"/>
              <a:ext cx="9122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17764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18420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4351320"/>
              <a:ext cx="9122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02272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5695200"/>
              <a:ext cx="9122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624000"/>
              <a:ext cx="91227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0560" y="838080"/>
              <a:ext cx="216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2560" y="838080"/>
              <a:ext cx="1080" cy="579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22760" y="838080"/>
              <a:ext cx="1080" cy="57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Contraindications to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Arial Bold"/>
              </a:rPr>
              <a:t> Mifepristone + Misoprost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firmed or suspected ectopic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UD in place (must be removed before treat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d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urrent long-term systemic corticosteroi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fepri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emorrhagic disorder or current anticoa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herited porphy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llergy to misoprost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Addition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decision is uncoe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GA is less than 6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atient has the time and resources for reliable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ble to understand th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ffered up to 63 days 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2 offic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5-99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pending on facility, offered up to 12 weeks, or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pprox. 1 offic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98%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afety and cost are similar between the two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omparison of medical vs surgical abortion: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y feel mor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shots, anesthesia, instruments, o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an end pregnanc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ivacy of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nitiated by the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Quick and over in a few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lightly higher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ess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dical staff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324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The Acce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3:53:33Z</dcterms:created>
  <dc:creator> </dc:creator>
  <dc:description/>
  <dc:language>en-US</dc:language>
  <cp:lastModifiedBy> </cp:lastModifiedBy>
  <dcterms:modified xsi:type="dcterms:W3CDTF">2009-05-29T08:14:55Z</dcterms:modified>
  <cp:revision>6</cp:revision>
  <dc:subject/>
  <dc:title>Medical Abortions </dc:title>
</cp:coreProperties>
</file>