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2F9D-E77D-47B3-8260-A9DA87C8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261A-6CC6-4F49-9C3F-7AE40BD2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0020-DE5F-4E57-80A7-9C7C69DA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38C9-A50B-4DA0-96A4-44A0C600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D088-5C08-4CC8-88B2-BB3735A5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E384-ACEE-4B2D-B3C0-94BEF031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1788-11DE-416F-B874-7C50A8D5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EDD4-721F-4C5D-9C31-7DB62845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ABDA-25CE-437A-B091-AFB80F25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CFF7-4224-47FA-8906-6D19151C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98FA-83FE-4D23-9B36-66F8D3E0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F837-D1FB-40AF-B1AD-9282481F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9E9C-B521-413A-A3A0-5E321C95F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6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Medical Abortion: Options in an Outpatient Set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omparison of medical vs surgical abortion: 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akes several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Not as predic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Heavier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ore severe cram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lightly lower succe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ide effects of m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ay need surgical follow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va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ide effects of anesth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Woman has less control ove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annot be done as e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6248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he Acces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  <a:ea typeface="Arial Bold"/>
              </a:rPr>
              <a:t>Logistics of Admin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nfirm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Urine HCG and/or son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nfirm gestational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MP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imanual ex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Lemon 5-6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Orange 7-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Grapefruit 9-10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on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Rule out ectopic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  <a:ea typeface="Arial Bold"/>
              </a:rPr>
              <a:t>Counseling: What to Ex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eparation is the key to a successful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ide effects of med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here must be surgical back-up, readily avail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Follow Up Vis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chedule 1-2 weeks after initial 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onfirm completed ab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riteria #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elvic ex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Falling H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riteria #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Repeat ultrason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Indications for A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Approximately 2-5% of patients treated with mifepristone+misoprostol will need a follow up aspi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Aspiration is most often don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Resolve an incomplete ab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erminate a continuing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ntrol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e two key elements for successful outcomes 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be0e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ppropriate scre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be0e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horough couns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atisfaction depends on an informed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6248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NAF abortion text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Advantages of Primary </a:t>
            </a:r>
            <a:br>
              <a:rPr sz="4000"/>
            </a:b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Care Providers doing MA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ntin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crease access to abortion, especially in underserved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Expand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afe and efficac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In a retrospective case series, of 236 MABs performed in 4 community health centers  (majority managed by family physicians) only 1 pt. required aspiration, a failure rate of .4%.  (Prine et a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ABs require key PCP skills: assessing a patient’s support system, emotional state and understanding of the process (Prine et al., 200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Integration of MABs in to FPC: Patient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A survey of 148 urban women were surve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70% agreed their clinic should provide M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73% (of those who would consider abortion) would prefer to have it done by their family physic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60199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Rubin et al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Integration of MABs in to FPC: Patient Cho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What might women choose if they receive options counseling in a clinical setting that offers on-site MABs and referrals for off-site surgical TAB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 retrospective, cohort study of 204 women, in a university setting, found 85% of eligible women chose medication abortion. The earlier the gestational age, the more likely a M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Reasons: convenience if both options are acceptable, bias in physician counseling, self-selection of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6019920"/>
            <a:ext cx="3352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6172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Leeman et al.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MABs within the Contra Costa County Health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urrent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crease number of providers who offer M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Establish an infrastructure and protocol to sup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odel integration of MABs into FPC as part of resid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ccomplish goals in a manner that is respectful of differences in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harmac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Eligibility for medical ab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Describe the process of consent, counseling, administration, complications, and follow-up of medication abor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Understand the role of medical abortions in the context of Family Practice Cli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Describe the process taking place to increase access to medical abortions within CCR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Establish Support: Non-resident physicians/NP’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Identify interested providers, p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FDA: must be able to reliably determine gestational 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Need to be approved by OB/GYN to us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In-servic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Establish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Residents: 11 of 22 eligible residents would like to incorporate MABs into their FP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Nursing: Organize values clarification workshops to discuss concerns, if need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ocial Work: Entry way into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lear, Accessible Protoco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On-site info packets: medication guide, mifeprex patient agreement, CCRMC consent, provider note template, charting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Dictate a procedure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Notify back-up OB-Gy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On call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ollow-up vi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* Additional counseling resources available for provider re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mparison of the Two types of First Trimester Abortion.  The Access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hapter 3: Informed Consent, Counseling, and Patient Preparation.  NAF Abortion Text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Gamble et al. “Abortion Surveillance --- United States, 2005.” MMWR. 2008; 57: 1-3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Leeman et al. “Can Mifepristone Medication Abortion Be Successfully Integrated into Medical Practices That Do Not Offer Surgical Abortion?” Contraception. 2007; 76: 96-1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ine et al.  “Medication Abortion and Family Physicians’ Scope.” Journal of American Board of Family Medicine. 2005; 18: 304-30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ine et al. “Medical Abortion in Family Practice: A Case Series.” Journal of American Board of Family Medicine. 2003; 16: 290-29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Rubin et al. “Patient Attitudes Toward Early Abortion Services in the Family Medicine Clinic.” Journal of American Board of Family Medicine. 2008; 21: 162-16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Data from US Abortion Surveillance,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duced abortion rate peaked during the ’80’s, 23-24/1000, was 20-21/1000 in the ’90’s and in ’05, 15/1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2% decline from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61% were less than 8 weeks 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87% were less than 12 weeks 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81% were known D&amp;C/D&amp;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10% were MABs (increased from 1% in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94% of MABs were less than 8 weeks 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here has been a steady increase in ABs &lt;6 weeks, with a decrease in ABs 7-10 wee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172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MMWR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Pharma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ifepri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 progesterone blo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Interferes with placental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auses uterus lining to 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tops growth of embr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isoprost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lso called Cytot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 prostoglandin E1 an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timulates uterine cont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auses cervical rip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Mifepristone Regim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838080"/>
            <a:ext cx="9144000" cy="5791320"/>
            <a:chOff x="0" y="838080"/>
            <a:chExt cx="9144000" cy="5791320"/>
          </a:xfrm>
        </p:grpSpPr>
        <p:sp>
          <p:nvSpPr>
            <p:cNvPr id="52" name=""/>
            <p:cNvSpPr/>
            <p:nvPr/>
          </p:nvSpPr>
          <p:spPr>
            <a:xfrm>
              <a:off x="6082560" y="5695200"/>
              <a:ext cx="306144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$270 for mifepristo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$2.00 for misoprosto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0560" y="5695200"/>
              <a:ext cx="306144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$90 for mifepristo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$4.00 for misoprosto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569520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Cost of medication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82560" y="50227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0560" y="50227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50227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Minimum office visi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82560" y="43513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Day 10-1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0560" y="43513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Day 4-1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43513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Office follow-up visi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82560" y="3184200"/>
              <a:ext cx="306144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400 mcg. or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Office administr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48 hours la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0560" y="3184200"/>
              <a:ext cx="306144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800 mcg. vagin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Home self-adminis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6 - 72 hours la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18420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Misoprostol dos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82560" y="2177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600 mg. or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0560" y="2177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200 mg. or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2177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Mifepristone dos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82560" y="1502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49 day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40560" y="1502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63 day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1502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Gestational Age Limi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82560" y="83808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FDA Product Label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0560" y="83808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Evidence-Based Protoco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838080"/>
              <a:ext cx="912276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1502640"/>
              <a:ext cx="9122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2177640"/>
              <a:ext cx="9122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184200"/>
              <a:ext cx="9122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4351320"/>
              <a:ext cx="9122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5022720"/>
              <a:ext cx="9122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5695200"/>
              <a:ext cx="9122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6624000"/>
              <a:ext cx="912276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838080"/>
              <a:ext cx="1080" cy="5791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0560" y="838080"/>
              <a:ext cx="2160" cy="579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82560" y="838080"/>
              <a:ext cx="1080" cy="579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122760" y="838080"/>
              <a:ext cx="1080" cy="5791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  <a:ea typeface="Arial Bold"/>
              </a:rPr>
              <a:t>Contraindications to</a:t>
            </a:r>
            <a:br>
              <a:rPr sz="4000"/>
            </a:br>
            <a:r>
              <a:rPr b="0" lang="en-US" sz="4000" spc="-1" strike="noStrike">
                <a:solidFill>
                  <a:srgbClr val="bbe0e3"/>
                </a:solidFill>
                <a:latin typeface="Arial"/>
                <a:ea typeface="Arial Bold"/>
              </a:rPr>
              <a:t> Mifepristone + Misoprost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nfirmed or suspected ectopic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UD in place (must be removed before treat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drena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urrent long-term systemic corticosteroid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llergy to mifepri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Hemorrhagic disorder or current anticoa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herited porphy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llergy to misoprost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Additional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e decision is uncoer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EGA is less than 63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Patient has the time and resources for reliable 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Able to understand th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omparison of medical vs surgical ab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Offered up to 63 days 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pprox. 2 office vi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95-99%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Depending on facility, offered up to 12 weeks, or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pprox. 1 office vi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98%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43434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afety and cost are similar between the two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omparison of medical vs surgical abortion: 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ay feel more na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No shots, anesthesia, instruments, or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an end pregnancy ear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ivacy of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itiated by the wo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Quick and over in a few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lightly higher succe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Less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edical staff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632448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6248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he Acces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03:53:33Z</dcterms:created>
  <dc:creator> </dc:creator>
  <dc:description/>
  <dc:language>en-US</dc:language>
  <cp:lastModifiedBy> </cp:lastModifiedBy>
  <dcterms:modified xsi:type="dcterms:W3CDTF">2009-05-29T08:14:55Z</dcterms:modified>
  <cp:revision>6</cp:revision>
  <dc:subject/>
  <dc:title>Medical Abortions </dc:title>
</cp:coreProperties>
</file>