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6ADD-0D0D-4E00-B222-4F35EF73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9EB-5C4A-4155-A70D-71E9A3F6F0CF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pulmonary vessels should not be seen beyond the middle 1/3 of 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B1C-6BCD-4FFF-814E-5DD1161D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759-6B18-4599-B1E7-EFF88B22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183-12E2-45A3-94C2-CCED13A1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5AA-890B-4294-AA02-ADAF5096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FF9-4E14-4EDF-9874-2F5E023E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56A-DE08-43E3-AD02-6A639086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BE2-3B89-41FD-B5DC-0EF7783B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033-A643-405C-9338-BD6AB6DB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78A-94A2-4285-9BD3-6333A071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CC1-93CC-47E2-AE26-2FD4BF2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D5C-F409-498C-9150-D65BD9C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EE7-8B0C-42D4-A528-A1A6C262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E95-F2EC-486F-BBA5-FF31F95A7D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%5Cwebsites%5Cemedicine%5Cemerg%5Cimages%5CLarge%5C431597boot.jpg&amp;template=izoom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 and Early Management of the Infant with Suspected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r9a30ac101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42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cific Heart Disease Abnormalit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De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bsteins Anom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cuspid Atresia with PA or 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ulmonary atresia with intact sept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ritical pulmon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PH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igh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respiratory distr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 and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derate to marked hypox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to large sized heart, decreased pulmonary blood flow (PBF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a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5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trology of Fallo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5296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252960" y="2525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5" descr="Click to see larger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Picture 5" descr="ebsteinsdiagram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bstein’s Anomal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Picture 3" descr="ebsteincxr2sss"/>
          <p:cNvPicPr/>
          <p:nvPr/>
        </p:nvPicPr>
        <p:blipFill>
          <a:blip r:embed="rId1"/>
          <a:stretch/>
        </p:blipFill>
        <p:spPr>
          <a:xfrm>
            <a:off x="2057400" y="175248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457056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ongenital heart disease occurs in 1% of live-born infa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most 1/2 of all cases of congenital heart disease are diagnosed during the 1st week of lif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e most frequently occuring anomalies seen during the 1st week are: PDA, D-transposition of the great arteries, hypoplastic left heart syndrome, TOF, and pulmonary atresia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icuspid Atresi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2057400" y="1828800"/>
          <a:ext cx="5181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828800"/>
                    <a:ext cx="5181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KG :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QRS ax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3" descr="EKG axis diagram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914400" y="4495680"/>
            <a:ext cx="731520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ricuspid atresia with PS or PA  with intact ventricular septum: superior  (0— -9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ritical PS or PA : 0 to 9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F and TOF with PA:  90-180 degree quadra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-Transposition of the great vess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above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ventric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adequate Mixing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l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marked hypoxemia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, normal or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nsposition of the Great Arter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4053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 - Transposition of the Great Vesse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3" descr="tgadcxr1sss"/>
          <p:cNvPicPr/>
          <p:nvPr/>
        </p:nvPicPr>
        <p:blipFill>
          <a:blip r:embed="rId1"/>
          <a:stretch/>
        </p:blipFill>
        <p:spPr>
          <a:xfrm>
            <a:off x="2133720" y="2043000"/>
            <a:ext cx="51354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uncu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3" descr="CXR truncus"/>
          <p:cNvPicPr/>
          <p:nvPr/>
        </p:nvPicPr>
        <p:blipFill>
          <a:blip r:embed="rId1"/>
          <a:stretch/>
        </p:blipFill>
        <p:spPr>
          <a:xfrm>
            <a:off x="1981080" y="1828800"/>
            <a:ext cx="538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sions with Poor Gas Exchang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rked 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air perfusion, norm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single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y or may not have a murmu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normal heart size, pulmonary conges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dications for Fetal Echocardiograph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tal Anomalous Pulmonary Venous Retur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5800" y="2322360"/>
          <a:ext cx="777240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22360"/>
                    <a:ext cx="777240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arctation of aorta, interrupted aortic ar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tral sten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tal anomalous pulmonary venous return, below diaphrag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ft Sided Obstructive Lesion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ey or ashen col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chypn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or perfu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creased pulses/differential puls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ngle second heart sou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urmur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gallo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patomega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G:  metabolic acid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 with increased PBF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arctation of the Aort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875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ypoplastic Left Heart Syndrom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Picture 3" descr="CXR HLHS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ortic Ste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ascriticalcxrsss"/>
          <p:cNvPicPr/>
          <p:nvPr/>
        </p:nvPicPr>
        <p:blipFill>
          <a:blip r:embed="rId1"/>
          <a:stretch/>
        </p:blipFill>
        <p:spPr>
          <a:xfrm>
            <a:off x="2057400" y="1828800"/>
            <a:ext cx="4983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yanotic With Increased Pulmonary Blood Flow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ndocardial cushion defe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0560" cy="457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Ventricular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sdcxrchfsss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nal Risk Factors Associated With Congenital Heart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heart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diac teratogen expos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Lithium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mphetamin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lcoho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convulsants:  </a:t>
            </a:r>
            <a:r>
              <a:rPr b="0" i="1" lang="en-US" sz="3000" spc="-1" strike="noStrike">
                <a:solidFill>
                  <a:srgbClr val="ffff00"/>
                </a:solidFill>
                <a:latin typeface="Times New Roman"/>
              </a:rPr>
              <a:t>phenytoin, valproic acid, carbamazepine, and trimethadione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sotretinoi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al Septal Defe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8178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trioventricular Cana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ent Ductus Arteriosu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51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itial Stabiliz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: Volume resuscitation, ionotorpic support, correction of metabolic acidosis, r/o sep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e if needed, titrate Fi02 to keep Sp02 80%-85% to prevent pulmonary overcirc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lacement of umbilical lin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nts who present in shock within the first 3 weeks of life, consider ductal dependent le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se of PGE1 (0.025 to 0.1mcg/kg/m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abilization for Trans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iable vascular ac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ubation if on PGE1, OG plac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ygen delivery, Sp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itor HR, tissue perfusion, blood pressure, and acid-base sta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lcium and glucose status (increased risk for DiGeorge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ostaglandin E1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ailure to respond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diagnosis incorrect, older infant with unresponsive ductus, ductus absent, obstructed pulmonary venous retur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nical deterioration after PGE1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obstructed blood flow out of pulmonary veins or left atrium, HLHS with restrictive FO, TGA with intact ventricular septum and restrictive FO, obstructed TAPVR, mitral atresia with restrictive F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GE 1 -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Side Effec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Apnea, fever, leukocytosis, cutaneous flushing, and bradycardia.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ncomm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seizures, hypoventilation, hypotension, tachycardia, cardiac arrest, sepsis, diarrhea, DIC, fe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  urticaria, bronchospasm, hemorrhage*, hypoglycemia, and hypocalcem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inhibits platelet aggreg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ternal Metabolic Disorders or Infec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thyroidi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upus, collagen vascular dise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ubella, CMV, Coxsackie, Parvovir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500" spc="-1" strike="noStrike">
                <a:solidFill>
                  <a:srgbClr val="ffff00"/>
                </a:solidFill>
                <a:latin typeface="Times New Roman"/>
              </a:rPr>
              <a:t>Fetal Risk Factors Associated With Congenital Heart Disease</a:t>
            </a:r>
            <a:endParaRPr b="0" lang="en-US" sz="4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somies, Turner’s syndrome, abnormal karyotyp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genital malformations:  duodenal atresia, TEF, omphalocele, diaphragmatic hernia, renal dysgenesis, and hydrocephal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etal arrhythmi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UG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nimmune hydro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?2 vessel co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ano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tiology: CV, pulmonary, airway obstruction, neurological, neuromuscular, or hematological (methemoglobinemia or polycythemia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Infants can appear cyanotic when the deoxygenated Hgb concentration is at least 3g/dL; it is not related to the percent saturated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babies with sats of 80%: one with a hgb of 20g/dL and 4g/dL of desaturated hgb will be cyanotic, but an anemic infant with 10g/dL with 2g/dL deoxygenated hgb will not be cyanotic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BC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E: murmur, pulses, precordium, respiratory status, HSM, color, capillary ref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 ext BPs: if SBP &gt;10mmHg in right hand compared to lower ext, concerning for arch anomaly (though if normal may not rule it ou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/post ductal saturations:  if see a difference &gt;5%, concerning for PPHN or left heart abnormal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aluation (Continued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yperoxia test: baseline pre-ductal ABG when infant in room air, then repeat on 100% FiO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ason for ABG and not just sats: with a saturation of 100%, you can have a PaO2 of 80 or 300; very differ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XR: cardiomegaly; normal, increased, or decreased pulmonary vascul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K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ch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59:45Z</dcterms:created>
  <dc:creator>Bradley Bennett</dc:creator>
  <dc:description/>
  <dc:language>en-US</dc:language>
  <cp:lastModifiedBy>Health Services Department</cp:lastModifiedBy>
  <dcterms:modified xsi:type="dcterms:W3CDTF">2010-05-25T00:02:19Z</dcterms:modified>
  <cp:revision>10</cp:revision>
  <dc:subject/>
  <dc:title>Early Management of the Infant with Suspected Congenital Heart Disease</dc:title>
</cp:coreProperties>
</file>