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2.xml.rels" ContentType="application/vnd.openxmlformats-package.relationships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1.png" ContentType="image/png"/>
  <Override PartName="/ppt/media/image24.png" ContentType="image/png"/>
  <Override PartName="/ppt/media/image2.wmf" ContentType="image/x-wmf"/>
  <Override PartName="/ppt/media/image23.jpeg" ContentType="image/jpeg"/>
  <Override PartName="/ppt/media/image16.png" ContentType="image/png"/>
  <Override PartName="/ppt/media/image15.png" ContentType="image/png"/>
  <Override PartName="/ppt/media/image3.png" ContentType="image/png"/>
  <Override PartName="/ppt/media/image17.jpeg" ContentType="image/jpeg"/>
  <Override PartName="/ppt/media/image4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E90F6-956D-44EC-8CDD-01189C176B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E5F51-A899-40D6-93BB-C26D13479CAB}" type="slidenum"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rmal pulmonary vessels should not be seen beyond the middle 1/3 of l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B438D-6183-48D7-AEAA-610DC5049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E41CD-6643-4729-AC70-8DF4C6213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FD073-7AC4-4B54-B7B3-088739DD9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30EB7-B240-40E8-8A03-113438E1A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1A345-9DC8-409A-8F02-9C95BDD63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73657-38F8-4C88-9A02-DD1CE4DAE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902C8-21CA-45D5-AF49-6A6F72B6C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E4F8F-802E-46B2-97EF-381D92D3A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3D8DA-2DFB-4287-8DE8-F29C554F9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6FFEF-B49B-4C82-A026-9FEA9F10C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DB2D9-D22D-4779-AED6-AD5B078E5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9BB75-5822-4C12-B870-AAB0AC980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249D7-C22B-402F-8620-7717900A631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emedicine.com/cgi-bin/foxweb.exe/makezoom@/em/makezoom?picture=%5Cwebsites%5Cemedicine%5Cemerg%5Cimages%5CLarge%5C431597boot.jpg&amp;template=izoom2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iagnosis and Early Management of the Infant with Suspected Congenital Heart Diseas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3" descr="r9a30ac101"/>
          <p:cNvPicPr/>
          <p:nvPr/>
        </p:nvPicPr>
        <p:blipFill>
          <a:blip r:embed="rId1"/>
          <a:stretch/>
        </p:blipFill>
        <p:spPr>
          <a:xfrm>
            <a:off x="228600" y="152280"/>
            <a:ext cx="8915400" cy="63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3" descr=""/>
          <p:cNvPicPr/>
          <p:nvPr/>
        </p:nvPicPr>
        <p:blipFill>
          <a:blip r:embed="rId1"/>
          <a:stretch/>
        </p:blipFill>
        <p:spPr>
          <a:xfrm>
            <a:off x="152280" y="990720"/>
            <a:ext cx="874260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Specific Heart Disease Abnormalities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Cyanotic With Decreased Pulmonary Blood Flow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etrology of Fallot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bsteins Anomaly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ricuspid Atresia with PA or P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ulmonary atresia with intact septum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ritical pulmonic stenosi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PHN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Right Sided Obstructive Lesions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yanosi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No respiratory distres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Normal pulses and perfusion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ngle second heart sound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urmur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oderate to marked hypoxemia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XR: normal to large sized heart, decreased pulmonary blood flow (PBF)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Tetralogy of Fallot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75" name="Picture 3" descr=""/>
          <p:cNvPicPr/>
          <p:nvPr/>
        </p:nvPicPr>
        <p:blipFill>
          <a:blip r:embed="rId1"/>
          <a:stretch/>
        </p:blipFill>
        <p:spPr>
          <a:xfrm>
            <a:off x="2209680" y="1752480"/>
            <a:ext cx="4751640" cy="475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Tetrology of Fallot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7" name="Rectangle 3"/>
          <p:cNvSpPr/>
          <p:nvPr/>
        </p:nvSpPr>
        <p:spPr>
          <a:xfrm>
            <a:off x="3252960" y="2525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Rectangle 4"/>
          <p:cNvSpPr/>
          <p:nvPr/>
        </p:nvSpPr>
        <p:spPr>
          <a:xfrm>
            <a:off x="3252960" y="2525760"/>
            <a:ext cx="91454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79" name="Picture 5" descr="Click to see larger pictur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828800" y="1981080"/>
            <a:ext cx="5715000" cy="42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Ebstein’s Anomaly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82" name="Picture 5" descr="ebsteinsdiagram"/>
          <p:cNvPicPr/>
          <p:nvPr/>
        </p:nvPicPr>
        <p:blipFill>
          <a:blip r:embed="rId1"/>
          <a:stretch/>
        </p:blipFill>
        <p:spPr>
          <a:xfrm>
            <a:off x="152280" y="1752480"/>
            <a:ext cx="899172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Ebstein’s Anomaly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84" name="Picture 3" descr="ebsteincxr2sss"/>
          <p:cNvPicPr/>
          <p:nvPr/>
        </p:nvPicPr>
        <p:blipFill>
          <a:blip r:embed="rId1"/>
          <a:stretch/>
        </p:blipFill>
        <p:spPr>
          <a:xfrm>
            <a:off x="2057400" y="1752480"/>
            <a:ext cx="4983120" cy="46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Tricuspid Atresia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86" name="Picture 3" descr=""/>
          <p:cNvPicPr/>
          <p:nvPr/>
        </p:nvPicPr>
        <p:blipFill>
          <a:blip r:embed="rId1"/>
          <a:stretch/>
        </p:blipFill>
        <p:spPr>
          <a:xfrm>
            <a:off x="2286000" y="1905120"/>
            <a:ext cx="4570560" cy="45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Introduction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Congenital heart disease occurs in 1% of live-born infants</a:t>
            </a:r>
            <a:endParaRPr b="0" lang="en-US" sz="30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Almost 1/2 of all cases of congenital heart disease are diagnosed during the 1st week of life</a:t>
            </a:r>
            <a:endParaRPr b="0" lang="en-US" sz="30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The most frequently occuring anomalies seen during the 1st week are: PDA, D-transposition of the great arteries, hypoplastic left heart syndrome, TOF, and pulmonary atresia </a:t>
            </a:r>
            <a:endParaRPr b="0" lang="en-US" sz="3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Tricuspid Atresia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88" name="Object 3"/>
          <p:cNvGraphicFramePr/>
          <p:nvPr/>
        </p:nvGraphicFramePr>
        <p:xfrm>
          <a:off x="2057400" y="1828800"/>
          <a:ext cx="5181480" cy="436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1828800"/>
                    <a:ext cx="5181480" cy="436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EKG : </a:t>
            </a:r>
            <a:r>
              <a:rPr b="0" i="1" lang="en-US" sz="4800" spc="-1" strike="noStrike">
                <a:solidFill>
                  <a:srgbClr val="ffff00"/>
                </a:solidFill>
                <a:latin typeface="Times New Roman"/>
              </a:rPr>
              <a:t>QRS axis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91" name="Picture 3" descr="EKG axis diagram"/>
          <p:cNvPicPr/>
          <p:nvPr/>
        </p:nvPicPr>
        <p:blipFill>
          <a:blip r:embed="rId1"/>
          <a:stretch/>
        </p:blipFill>
        <p:spPr>
          <a:xfrm>
            <a:off x="1371600" y="1447920"/>
            <a:ext cx="6553080" cy="2971800"/>
          </a:xfrm>
          <a:prstGeom prst="rect">
            <a:avLst/>
          </a:prstGeom>
          <a:ln w="0">
            <a:noFill/>
          </a:ln>
        </p:spPr>
      </p:pic>
      <p:sp>
        <p:nvSpPr>
          <p:cNvPr id="92" name="Text Box 4"/>
          <p:cNvSpPr/>
          <p:nvPr/>
        </p:nvSpPr>
        <p:spPr>
          <a:xfrm>
            <a:off x="914400" y="4495680"/>
            <a:ext cx="7315200" cy="305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ricuspid atresia with PS or PA  with intact ventricular septum: superior  (0— -90)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Critical PS or PA : 0 to 90 degree quadrant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OF and TOF with PA:  90-180 degree quadrant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Cyanotic With Increased Pulmonary Blood Flow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-Transposition of the great vessel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runcus arteriosu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otal anomalous pulmonary venous return, above diaphragm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ngle ventricl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ndocardial cushion defect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Inadequate Mixing Lesions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yanosi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ild tachypnea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Normal puls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ngle heart sound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urmur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BG: marked hypoxemia, 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acidosi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XR: cardiomegaly, normal or increased PBF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Transposition of the Great Arteries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99" name="Picture 4" descr=""/>
          <p:cNvPicPr/>
          <p:nvPr/>
        </p:nvPicPr>
        <p:blipFill>
          <a:blip r:embed="rId1"/>
          <a:stretch/>
        </p:blipFill>
        <p:spPr>
          <a:xfrm>
            <a:off x="2514600" y="2057400"/>
            <a:ext cx="4405320" cy="44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d - Transposition of the Great Vessels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1" name="Picture 3" descr="tgadcxr1sss"/>
          <p:cNvPicPr/>
          <p:nvPr/>
        </p:nvPicPr>
        <p:blipFill>
          <a:blip r:embed="rId1"/>
          <a:stretch/>
        </p:blipFill>
        <p:spPr>
          <a:xfrm>
            <a:off x="2133720" y="2043000"/>
            <a:ext cx="5135400" cy="48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Truncus Arteriosus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3" name="Picture 3" descr=""/>
          <p:cNvPicPr/>
          <p:nvPr/>
        </p:nvPicPr>
        <p:blipFill>
          <a:blip r:embed="rId1"/>
          <a:stretch/>
        </p:blipFill>
        <p:spPr>
          <a:xfrm>
            <a:off x="2209680" y="1828800"/>
            <a:ext cx="4570560" cy="457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Truncus</a:t>
            </a: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Arteriosus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5" name="Picture 3" descr="CXR truncus"/>
          <p:cNvPicPr/>
          <p:nvPr/>
        </p:nvPicPr>
        <p:blipFill>
          <a:blip r:embed="rId1"/>
          <a:stretch/>
        </p:blipFill>
        <p:spPr>
          <a:xfrm>
            <a:off x="1981080" y="1828800"/>
            <a:ext cx="53881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Lesions with Poor Gas Exchange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yanosi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rked tachypnea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air perfusion, normal puls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y or may not have a single heart sound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y or may not have a murmur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XR: normal heart size, pulmonary congestion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Total Anomalous Pulmonary Venous Return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10" name="Picture 4" descr=""/>
          <p:cNvPicPr/>
          <p:nvPr/>
        </p:nvPicPr>
        <p:blipFill>
          <a:blip r:embed="rId1"/>
          <a:stretch/>
        </p:blipFill>
        <p:spPr>
          <a:xfrm>
            <a:off x="2514600" y="1981080"/>
            <a:ext cx="43434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Indications for Fetal Echocardiography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Total Anomalous Pulmonary Venous Return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112" name="Object 3"/>
          <p:cNvGraphicFramePr/>
          <p:nvPr/>
        </p:nvGraphicFramePr>
        <p:xfrm>
          <a:off x="685800" y="2322360"/>
          <a:ext cx="7772400" cy="343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322360"/>
                    <a:ext cx="7772400" cy="343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Left Sided Obstructive Lesions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oarctation of aorta, interrupted aortic arch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Hypoplastic left heart syndrom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ortic stenosi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itral stenosi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otal anomalous pulmonary venous return, below diaphragm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Left Sided Obstructive Lesions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Grey or ashen color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chypnea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or perfusion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ecreased pulses/differential puls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ngle second heart sound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urmur 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gallop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Hepatomegaly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BG:  metabolic acidosi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XR: cardiomegaly with increased PBF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Coarctation of the Aorta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20" name="Picture 4" descr=""/>
          <p:cNvPicPr/>
          <p:nvPr/>
        </p:nvPicPr>
        <p:blipFill>
          <a:blip r:embed="rId1"/>
          <a:stretch/>
        </p:blipFill>
        <p:spPr>
          <a:xfrm>
            <a:off x="2209680" y="1676520"/>
            <a:ext cx="487548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Hypoplastic Left Heart Syndrome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23" name="Picture 4" descr=""/>
          <p:cNvPicPr/>
          <p:nvPr/>
        </p:nvPicPr>
        <p:blipFill>
          <a:blip r:embed="rId1"/>
          <a:stretch/>
        </p:blipFill>
        <p:spPr>
          <a:xfrm>
            <a:off x="2057400" y="2057400"/>
            <a:ext cx="48006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Hypoplastic Left Heart Syndrome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25" name="Picture 3" descr="CXR HLHS"/>
          <p:cNvPicPr/>
          <p:nvPr/>
        </p:nvPicPr>
        <p:blipFill>
          <a:blip r:embed="rId1"/>
          <a:stretch/>
        </p:blipFill>
        <p:spPr>
          <a:xfrm>
            <a:off x="1752480" y="1981080"/>
            <a:ext cx="5639040" cy="45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Aortic Stenosis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27" name="Picture 3" descr="ascriticalcxrsss"/>
          <p:cNvPicPr/>
          <p:nvPr/>
        </p:nvPicPr>
        <p:blipFill>
          <a:blip r:embed="rId1"/>
          <a:stretch/>
        </p:blipFill>
        <p:spPr>
          <a:xfrm>
            <a:off x="2057400" y="1828800"/>
            <a:ext cx="4983120" cy="46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Acyanotic With Increased Pulmonary Blood Flow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VSD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SD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DA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ndocardial cushion defect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Ventricular Septal Defect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32" name="Picture 4" descr=""/>
          <p:cNvPicPr/>
          <p:nvPr/>
        </p:nvPicPr>
        <p:blipFill>
          <a:blip r:embed="rId1"/>
          <a:stretch/>
        </p:blipFill>
        <p:spPr>
          <a:xfrm>
            <a:off x="2286000" y="1828800"/>
            <a:ext cx="4570560" cy="45705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5" descr=""/>
          <p:cNvPicPr/>
          <p:nvPr/>
        </p:nvPicPr>
        <p:blipFill>
          <a:blip r:embed="rId2"/>
          <a:stretch/>
        </p:blipFill>
        <p:spPr>
          <a:xfrm>
            <a:off x="2286000" y="1752480"/>
            <a:ext cx="48006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Ventricular Septal Defect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35" name="Picture 3" descr="vsdcxrchfsss"/>
          <p:cNvPicPr/>
          <p:nvPr/>
        </p:nvPicPr>
        <p:blipFill>
          <a:blip r:embed="rId1"/>
          <a:stretch/>
        </p:blipFill>
        <p:spPr>
          <a:xfrm>
            <a:off x="2057400" y="1676520"/>
            <a:ext cx="5334120" cy="50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aternal Risk Factors Associated With Congenital Heart Diseas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ongenital heart diseas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ardiac teratogen exposur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75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Lithium </a:t>
            </a:r>
            <a:endParaRPr b="0" lang="en-US" sz="30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75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Amphetamines</a:t>
            </a:r>
            <a:endParaRPr b="0" lang="en-US" sz="30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75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Alcohol</a:t>
            </a:r>
            <a:endParaRPr b="0" lang="en-US" sz="30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75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Anticonvulsants:  </a:t>
            </a:r>
            <a:r>
              <a:rPr b="0" i="1" lang="en-US" sz="3000" spc="-1" strike="noStrike">
                <a:solidFill>
                  <a:srgbClr val="ffff00"/>
                </a:solidFill>
                <a:latin typeface="Times New Roman"/>
              </a:rPr>
              <a:t>phenytoin, valproic acid, carbamazepine, and trimethadione</a:t>
            </a:r>
            <a:endParaRPr b="0" lang="en-US" sz="30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75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Isotretinoin</a:t>
            </a:r>
            <a:endParaRPr b="0" lang="en-US" sz="3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Atrial Septal Defect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38" name="Picture 4" descr=""/>
          <p:cNvPicPr/>
          <p:nvPr/>
        </p:nvPicPr>
        <p:blipFill>
          <a:blip r:embed="rId1"/>
          <a:stretch/>
        </p:blipFill>
        <p:spPr>
          <a:xfrm>
            <a:off x="2133720" y="1676520"/>
            <a:ext cx="4817880" cy="48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Atrioventricular Canal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41" name="Picture 4" descr=""/>
          <p:cNvPicPr/>
          <p:nvPr/>
        </p:nvPicPr>
        <p:blipFill>
          <a:blip r:embed="rId1"/>
          <a:stretch/>
        </p:blipFill>
        <p:spPr>
          <a:xfrm>
            <a:off x="2057400" y="1676520"/>
            <a:ext cx="49528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Patent Ductus Arteriosus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44" name="Picture 4" descr=""/>
          <p:cNvPicPr/>
          <p:nvPr/>
        </p:nvPicPr>
        <p:blipFill>
          <a:blip r:embed="rId1"/>
          <a:stretch/>
        </p:blipFill>
        <p:spPr>
          <a:xfrm>
            <a:off x="2286000" y="1752480"/>
            <a:ext cx="4751280" cy="475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Initial Stabilization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8390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BC’s: Volume resuscitation, ionotorpic support, correction of metabolic acidosis, r/o sepsi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tubate if needed, titrate Fi02 to keep Sp02 80%-85% to prevent pulmonary overcirculation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lacement of umbilical lin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fants who present in shock within the first 3 weeks of life, consider ductal dependent lesion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Use of PGE1 (0.025 to 0.1mcg/kg/min)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Stabilization for Transport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Reliable vascular acces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tubation if on PGE1, OG placement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xygen delivery, Sp02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onitor HR, tissue perfusion, blood pressure, and acid-base statu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alcium and glucose status (increased risk for DiGeorge)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Prostaglandin E1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ailure to respond: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 diagnosis incorrect, older infant with unresponsive ductus, ductus absent, obstructed pulmonary venous return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nical deterioration after PGE1: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 obstructed blood flow out of pulmonary veins or left atrium, HLHS with restrictive FO, TGA with intact ventricular septum and restrictive FO, obstructed TAPVR, mitral atresia with restrictive FO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PGE 1 - </a:t>
            </a:r>
            <a:r>
              <a:rPr b="0" i="1" lang="en-US" sz="4800" spc="-1" strike="noStrike">
                <a:solidFill>
                  <a:srgbClr val="ffff00"/>
                </a:solidFill>
                <a:latin typeface="Times New Roman"/>
              </a:rPr>
              <a:t>Side Effects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81532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ommon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:  Apnea, fever, leukocytosis, cutaneous flushing, and bradycardia.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Uncommon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:  seizures, hypoventilation, hypotension, tachycardia, cardiac arrest, sepsis, diarrhea, DIC, fever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Rare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:  urticaria, bronchospasm, hemorrhage*, hypoglycemia, and hypocalcemia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*inhibits platelet aggregation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Maternal Metabolic Disorders or Infection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abetes mellitu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KU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Hyperthyroidism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upus, collagen vascular diseas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Rubella, CMV, Coxsackie, Parvoviru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500" spc="-1" strike="noStrike">
                <a:solidFill>
                  <a:srgbClr val="ffff00"/>
                </a:solidFill>
                <a:latin typeface="Times New Roman"/>
              </a:rPr>
              <a:t>Fetal Risk Factors Associated With Congenital Heart Disease</a:t>
            </a:r>
            <a:endParaRPr b="0" lang="en-US" sz="45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risomies, Turner’s syndrome, abnormal karyotyp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ongenital malformations:  duodenal atresia, TEF, omphalocele, diaphragmatic hernia, renal dysgenesis, and hydrocephalu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etal arrhythmia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UGR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Nonimmune hydrop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?2 vessel cord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Cyanosis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Etiology: CV, pulmonary, airway obstruction, neurological, neuromuscular, or hematological (methemoglobinemia or polycythemia)</a:t>
            </a:r>
            <a:endParaRPr b="0" lang="en-US" sz="3000" spc="-1" strike="noStrike">
              <a:solidFill>
                <a:srgbClr val="ffff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Infants can appear cyanotic when the deoxygenated Hgb concentration is at least 3g/dL; it is not related to the percent saturated</a:t>
            </a:r>
            <a:endParaRPr b="0" lang="en-US" sz="3000" spc="-1" strike="noStrike">
              <a:solidFill>
                <a:srgbClr val="ffff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2 babies with sats of 80%: one with a hgb of 20g/dL and 4g/dL of desaturated hgb will be cyanotic, but an anemic infant with 10g/dL with 2g/dL deoxygenated hgb will not be cyanotic</a:t>
            </a:r>
            <a:endParaRPr b="0" lang="en-US" sz="3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Evaluation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BC’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E: murmur, pulses, precordium, respiratory status, HSM, color, capillary refil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4 ext BPs: if SBP &gt;10mmHg in right hand compared to lower ext, concerning for arch anomaly (though if normal may not rule it out)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e/post ductal saturations:  if see a difference &gt;5%, concerning for PPHN or left heart abnormaliti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Evaluation (Continued)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Hyperoxia test: baseline pre-ductal ABG when infant in room air, then repeat on 100% FiO2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Reason for ABG and not just sats: with a saturation of 100%, you can have a PaO2 of 80 or 300; very different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XR: cardiomegaly; normal, increased, or decreased pulmonary vascularity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KG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cho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20:59:45Z</dcterms:created>
  <dc:creator>Bradley Bennett</dc:creator>
  <dc:description/>
  <dc:language>en-US</dc:language>
  <cp:lastModifiedBy>Health Services Department</cp:lastModifiedBy>
  <dcterms:modified xsi:type="dcterms:W3CDTF">2010-05-25T00:02:19Z</dcterms:modified>
  <cp:revision>10</cp:revision>
  <dc:subject/>
  <dc:title>Early Management of the Infant with Suspected Congenital Heart Disease</dc:title>
</cp:coreProperties>
</file>