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2.wmf" ContentType="image/x-wmf"/>
  <Override PartName="/ppt/media/image23.jpeg" ContentType="image/jpeg"/>
  <Override PartName="/ppt/media/image16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817E-DD31-4BDD-B78D-78F12BD91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71C7-7E54-4E9D-A10C-0DC70EDB1777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pulmonary vessels should not be seen beyond the middle 1/3 of 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025-9BFE-4028-B0CD-7EB77E10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953-E602-4992-ABB4-CEAA3C59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9D88-5694-4432-82A4-4CA9D06E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DF4-880F-4252-AB7D-B24CC424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CEC4-7599-43F7-93D5-6C638E94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931-D4DE-41FC-BCB6-20A96CBB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93F7-2267-412F-A8E6-A80B8345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98D-9992-4548-B220-8AF2BEA8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9059-38F6-4390-8E92-586688F9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638F-2D53-46BA-8E12-078F6020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933-36B6-4487-8446-6832961A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D00-6D50-460A-8A7D-36C9F2B4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137B-B02B-4174-A2D1-44C9A9160C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medicine.com/cgi-bin/foxweb.exe/makezoom@/em/makezoom?picture=%5Cwebsites%5Cemedicine%5Cemerg%5Cimages%5CLarge%5C431597boot.jpg&amp;template=izoom2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gnosis and Early Management of the Infant with Suspected Congenital Heart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r9a30ac101"/>
          <p:cNvPicPr/>
          <p:nvPr/>
        </p:nvPicPr>
        <p:blipFill>
          <a:blip r:embed="rId1"/>
          <a:stretch/>
        </p:blipFill>
        <p:spPr>
          <a:xfrm>
            <a:off x="228600" y="152280"/>
            <a:ext cx="89154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42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ecific Heart Disease Abnormalit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tic With De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trology of Fallo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bsteins Anoma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icuspid Atresia with PA or 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ulmonary atresia with intact septu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ritical pulmonic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PH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igh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 respiratory distr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rmal pulses and perfus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second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derate to marked hypoxem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normal to large sized heart, decreased pulmonary blood flow (PBF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tralogy of Fallo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75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trology of Fallo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25296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252960" y="252576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icture 5" descr="Click to see larger 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9810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bstein’s Anomal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Picture 5" descr="ebsteinsdiagram"/>
          <p:cNvPicPr/>
          <p:nvPr/>
        </p:nvPicPr>
        <p:blipFill>
          <a:blip r:embed="rId1"/>
          <a:stretch/>
        </p:blipFill>
        <p:spPr>
          <a:xfrm>
            <a:off x="152280" y="1752480"/>
            <a:ext cx="8991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bstein’s Anomal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Picture 3" descr="ebsteincxr2sss"/>
          <p:cNvPicPr/>
          <p:nvPr/>
        </p:nvPicPr>
        <p:blipFill>
          <a:blip r:embed="rId1"/>
          <a:stretch/>
        </p:blipFill>
        <p:spPr>
          <a:xfrm>
            <a:off x="2057400" y="1752480"/>
            <a:ext cx="49831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icuspid Atresi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ongenital heart disease occurs in 1% of live-born infant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lmost 1/2 of all cases of congenital heart disease are diagnosed during the 1st week of life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e most frequently occuring anomalies seen during the 1st week are: PDA, D-transposition of the great arteries, hypoplastic left heart syndrome, TOF, and pulmonary atresia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icuspid Atresi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2057400" y="1828800"/>
          <a:ext cx="5181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828800"/>
                    <a:ext cx="5181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KG :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QRS ax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Picture 3" descr="EKG axis diagram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914400" y="4495680"/>
            <a:ext cx="7315200" cy="30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ricuspid atresia with PS or PA  with intact ventricular septum: superior  (0— -90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ritical PS or PA : 0 to 90 degree quadra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F and TOF with PA:  90-180 degree quadra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tic With In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-Transposition of the great vesse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uncus arterios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tal anomalous pulmonary venous return, above diaphrag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ventric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docardial cushion defe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adequate Mixing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ld 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rm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G: marked hypoxemia,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cid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, normal or increased PBF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nsposition of the Great Arter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4053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d - Transposition of the Great Vessel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Picture 3" descr="tgadcxr1sss"/>
          <p:cNvPicPr/>
          <p:nvPr/>
        </p:nvPicPr>
        <p:blipFill>
          <a:blip r:embed="rId1"/>
          <a:stretch/>
        </p:blipFill>
        <p:spPr>
          <a:xfrm>
            <a:off x="2133720" y="2043000"/>
            <a:ext cx="51354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uncus 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5705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uncu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3" descr="CXR truncus"/>
          <p:cNvPicPr/>
          <p:nvPr/>
        </p:nvPicPr>
        <p:blipFill>
          <a:blip r:embed="rId1"/>
          <a:stretch/>
        </p:blipFill>
        <p:spPr>
          <a:xfrm>
            <a:off x="1981080" y="1828800"/>
            <a:ext cx="5388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sions with Poor Gas Exchang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rked 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air perfusion, norm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or may not have a single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or may not have a 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normal heart size, pulmonary conges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tal Anomalous Pulmonary Venous Retur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dications for Fetal Echocardiograph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tal Anomalous Pulmonary Venous Retur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685800" y="2322360"/>
          <a:ext cx="7772400" cy="34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22360"/>
                    <a:ext cx="7772400" cy="34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f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arctation of aorta, interrupted aortic arc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ortic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tral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tal anomalous pulmonary venous return, below diaphrag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f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ey or ashen col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or perfus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creased pulses/differenti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second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gallo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epatomega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G:  metabolic acid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 with increased PBF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arctation of the Aort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8754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5" name="Picture 3" descr="CXR HLHS"/>
          <p:cNvPicPr/>
          <p:nvPr/>
        </p:nvPicPr>
        <p:blipFill>
          <a:blip r:embed="rId1"/>
          <a:stretch/>
        </p:blipFill>
        <p:spPr>
          <a:xfrm>
            <a:off x="1752480" y="1981080"/>
            <a:ext cx="56390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ortic Stenos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Picture 3" descr="ascriticalcxrsss"/>
          <p:cNvPicPr/>
          <p:nvPr/>
        </p:nvPicPr>
        <p:blipFill>
          <a:blip r:embed="rId1"/>
          <a:stretch/>
        </p:blipFill>
        <p:spPr>
          <a:xfrm>
            <a:off x="2057400" y="1828800"/>
            <a:ext cx="49831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cyanotic With In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S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docardial cushion defe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Ventricular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570560" cy="457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Ventricular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vsdcxrchfsss"/>
          <p:cNvPicPr/>
          <p:nvPr/>
        </p:nvPicPr>
        <p:blipFill>
          <a:blip r:embed="rId1"/>
          <a:stretch/>
        </p:blipFill>
        <p:spPr>
          <a:xfrm>
            <a:off x="2057400" y="1676520"/>
            <a:ext cx="53341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ernal Risk Factors Associated With Congenital Heart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genital heart disea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rdiac teratogen expos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Lithium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mphetamin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lcohol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nticonvulsants:  </a:t>
            </a: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phenytoin, valproic acid, carbamazepine, and trimethadione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sotretinoi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trial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8178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trioventricular Canal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tent Ductus 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7512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itial Stabiliz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C’s: Volume resuscitation, ionotorpic support, correction of metabolic acidosis, r/o sep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ubate if needed, titrate Fi02 to keep Sp02 80%-85% to prevent pulmonary overcircul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lacement of umbilical li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fants who present in shock within the first 3 weeks of life, consider ductal dependent les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se of PGE1 (0.025 to 0.1mcg/kg/mi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tabilization for Transpor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iable vascular acc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ubation if on PGE1, OG plac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xygen delivery, Sp0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nitor HR, tissue perfusion, blood pressure, and acid-base stat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lcium and glucose status (increased risk for DiGeorg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rostaglandin E1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ailure to respond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diagnosis incorrect, older infant with unresponsive ductus, ductus absent, obstructed pulmonary venous retur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nical deterioration after PGE1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obstructed blood flow out of pulmonary veins or left atrium, HLHS with restrictive FO, TGA with intact ventricular septum and restrictive FO, obstructed TAPVR, mitral atresia with restrictive F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GE 1 -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Side Effect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mm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Apnea, fever, leukocytosis, cutaneous flushing, and bradycardia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comm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seizures, hypoventilation, hypotension, tachycardia, cardiac arrest, sepsis, diarrhea, DIC, fev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ar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urticaria, bronchospasm, hemorrhage*, hypoglycemia, and hypocalcem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inhibits platelet aggreg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aternal Metabolic Disorders or Infec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abetes mellit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K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erthyroidi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upus, collagen vascular disea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ubella, CMV, Coxsackie, Parvovir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500" spc="-1" strike="noStrike">
                <a:solidFill>
                  <a:srgbClr val="ffff00"/>
                </a:solidFill>
                <a:latin typeface="Times New Roman"/>
              </a:rPr>
              <a:t>Fetal Risk Factors Associated With Congenital Heart Disease</a:t>
            </a:r>
            <a:endParaRPr b="0" lang="en-US" sz="4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isomies, Turner’s syndrome, abnormal karyotyp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genital malformations:  duodenal atresia, TEF, omphalocele, diaphragmatic hernia, renal dysgenesis, and hydrocephal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etal arrhythmi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UG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nimmune hydro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?2 vessel cor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Etiology: CV, pulmonary, airway obstruction, neurological, neuromuscular, or hematological (methemoglobinemia or polycythemia)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nfants can appear cyanotic when the deoxygenated Hgb concentration is at least 3g/dL; it is not related to the percent saturated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2 babies with sats of 80%: one with a hgb of 20g/dL and 4g/dL of desaturated hgb will be cyanotic, but an anemic infant with 10g/dL with 2g/dL deoxygenated hgb will not be cyanotic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C’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: murmur, pulses, precordium, respiratory status, HSM, color, capillary refil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 ext BPs: if SBP &gt;10mmHg in right hand compared to lower ext, concerning for arch anomaly (though if normal may not rule it ou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e/post ductal saturations:  if see a difference &gt;5%, concerning for PPHN or left heart abnormalit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valuation (Continued)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eroxia test: baseline pre-ductal ABG when infant in room air, then repeat on 100% FiO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son for ABG and not just sats: with a saturation of 100%, you can have a PaO2 of 80 or 300; very differ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; normal, increased, or decreased pulmonary vascular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K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ch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0:59:45Z</dcterms:created>
  <dc:creator>Bradley Bennett</dc:creator>
  <dc:description/>
  <dc:language>en-US</dc:language>
  <cp:lastModifiedBy>Health Services Department</cp:lastModifiedBy>
  <dcterms:modified xsi:type="dcterms:W3CDTF">2010-05-25T00:02:19Z</dcterms:modified>
  <cp:revision>10</cp:revision>
  <dc:subject/>
  <dc:title>Early Management of the Infant with Suspected Congenital Heart Disease</dc:title>
</cp:coreProperties>
</file>