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move the slide</a:t>
            </a:r>
            <a:endParaRPr b="0" lang="en-US" sz="4400" spc="-1" strike="noStrike">
              <a:solidFill>
                <a:srgbClr val="c1cb75"/>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6527-0DBC-4F8A-BAD1-98AA841727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DB6D-E65E-46C8-9D89-41CF194E00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ACBE-6D1E-4EC6-87DD-CD2801D663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hooses research focus,  who decides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focus displacing local opinions and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outs, longer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out conn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C716-2231-4641-A6A1-13B867EFA40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05FA-C4C0-4F54-87DE-4B20235ED62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8D43-E868-4A94-A67C-9FAA5D9921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C078-44F0-468F-A441-6514A6D7DF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Motherhood and childhood are entitled to special care and assistance. All children, whether born in or out of wedlock, shall enjoy the same social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s news?  CCPH (now located in Wisconsin)  Committee on Ethics in Community-Based research--- IRB protocol  adjustments, etc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2699-6E54-463D-B860-CEFD1F1BBDE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  case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   chapter  (25 cop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4C1B5-5FED-4B16-8746-5E9EEFB630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 behavior focused on clinical/individual practice versus ethical choices regarding families, communities and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ness if current paradigms, models, controversies.  Vertical vs horizontal, 15 by 15,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B866-5C25-4C7D-AE03-8D4170C8C2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umber 3.  review, cite a few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C97B-2D40-4895-B442-01B1A283E8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reas the traditional concept of </a:t>
            </a:r>
            <a:r>
              <a:rPr b="0" i="1" lang="en-US" sz="1200" spc="-1" strike="noStrike">
                <a:solidFill>
                  <a:srgbClr val="000000"/>
                </a:solidFill>
                <a:latin typeface="Arial"/>
              </a:rPr>
              <a:t>international health </a:t>
            </a:r>
            <a:r>
              <a:rPr b="0" lang="en-US" sz="1200" spc="-1" strike="noStrike">
                <a:solidFill>
                  <a:srgbClr val="000000"/>
                </a:solidFill>
                <a:latin typeface="Arial"/>
              </a:rPr>
              <a:t>focuses on bilateral interactions between well-to-do and poor countries, the concept of</a:t>
            </a:r>
            <a:r>
              <a:rPr b="0" i="1" lang="en-US" sz="1200" spc="-1" strike="noStrike">
                <a:solidFill>
                  <a:srgbClr val="000000"/>
                </a:solidFill>
                <a:latin typeface="Arial"/>
              </a:rPr>
              <a:t> GLO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reaches beyond the rich-poor dichotomy and geographic borders to the forces that separate the powerful, free, privileged population from the population that is powerless, unfree, and humiliated.  In its acceptance of human diversity, global health is an expression of support for human rights.  And with human rights as a key value, global health ethics thus provides moral guidance for world health systems and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Ethics:  prevention, diagnosis, and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Health: state of physical, social, mental and spiritual well-being that extends beyond the absence of physical disease and infirm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related concerns of social science: inequality, discrimination, health care rights, population displacement, poverty environmental practices and technology transfer, access PH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education, and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 WHO Policy Statement:  “Health for All in the 21</a:t>
            </a:r>
            <a:r>
              <a:rPr b="0" lang="en-US" sz="1200" spc="-1" strike="noStrike" baseline="30000">
                <a:solidFill>
                  <a:srgbClr val="000000"/>
                </a:solidFill>
                <a:latin typeface="Arial"/>
              </a:rPr>
              <a:t>st</a:t>
            </a:r>
            <a:r>
              <a:rPr b="0" lang="en-US" sz="1200" spc="-1" strike="noStrike">
                <a:solidFill>
                  <a:srgbClr val="000000"/>
                </a:solidFill>
                <a:latin typeface="Arial"/>
              </a:rPr>
              <a:t> Century (must be) built on the genuine expressions of moral obligations to protect the vulnerable and to mitigate inequities...with science-based and socially-sensi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8 Int’l Conf. Primary Health Care, convened  by WHO and UIDEF in Alma Ata (Kazakhstan, USSR) :  PHC  FUNDAMENTAL component of health care with equity and the righ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as cor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Universal Declaration of Human Rights (UDHR) is a declaration adopted by the United Nations General Assembly (10 December 1948 at Palais de Chaillot, Paris). The </a:t>
            </a:r>
            <a:r>
              <a:rPr b="1" i="1" lang="en-US" sz="1200" spc="-1" strike="noStrike">
                <a:solidFill>
                  <a:srgbClr val="000000"/>
                </a:solidFill>
                <a:latin typeface="Arial"/>
              </a:rPr>
              <a:t>Guinness Book of Records describes the UDHR as the "Most Translated Document"[1] in the world. The Declaration arose directly from the experience of the Second World War and represents the first global expression of rights to which all human beings are inherently entitled. It consists of 30 articles which have been elaborated in subsequent international treaties, regional human rights instruments, national constitutions and laws. The International Bill of Human Rights consists of the Universal Declaration of Human Rights, the International Covenant on Economic, Social and Cultural Rights, and the International Covenant on Civil and Political Rights and its two Optional Protocols. In 1966 the General Assembly adopted the two detailed Covenants which complete the International Bill of Human Rights; and in 1976, after the Covenants had been ratified by a sufficient number of individual nations, the Bill took on the force of international law.[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25 Everyone has the right to a standard of living adequate for the health and well-being of himself and of his family, including food, clothing, housing and medical care and necessary social services, and the right to security in the event of unemployment, sickness, disability, widowhood, old age or other lack of livelihood in circumstances beyond hi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BDE9-761D-41E9-BAFE-FF58F46C9F7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n’t discuss global health ethics without addressing poverty, inequity and in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o ethics: Public Health Ethics: general public safety city, state,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 ethics of medicine (provider patie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o ethics:  operates at institut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able distribution is not enough, health equity is the extent by which disadvantaged populations can EXERCISE their human right to justice and fairness in the context of achieving well-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than Mann “the central insight from a  decade of hard work against AID is that </a:t>
            </a:r>
            <a:r>
              <a:rPr b="1" i="1" lang="en-US" sz="1200" spc="-1" strike="noStrike" u="sng">
                <a:solidFill>
                  <a:srgbClr val="000000"/>
                </a:solidFill>
                <a:uFillTx/>
                <a:latin typeface="Arial"/>
              </a:rPr>
              <a:t>societal discrimination</a:t>
            </a:r>
            <a:r>
              <a:rPr b="0" lang="en-US" sz="1200" spc="-1" strike="noStrike" u="sng">
                <a:solidFill>
                  <a:srgbClr val="000000"/>
                </a:solidFill>
                <a:uFillTx/>
                <a:latin typeface="Arial"/>
              </a:rPr>
              <a:t> </a:t>
            </a:r>
            <a:r>
              <a:rPr b="0" lang="en-US" sz="1200" spc="-1" strike="noStrike">
                <a:solidFill>
                  <a:srgbClr val="000000"/>
                </a:solidFill>
                <a:latin typeface="Arial"/>
              </a:rPr>
              <a:t>is at the root of individual and community vulnerability to AIDS and other major health problems of the world.”  (</a:t>
            </a:r>
            <a:r>
              <a:rPr b="1" i="1" lang="en-US" sz="1200" spc="-1" strike="noStrike" u="sng">
                <a:solidFill>
                  <a:srgbClr val="000000"/>
                </a:solidFill>
                <a:uFillTx/>
                <a:latin typeface="Arial"/>
              </a:rPr>
              <a:t>and lack of respect for fundamental human rights and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ause of ill health is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DG" redirects here. For other uses, see MDG (disambiguation).List of UN Millennium Development Goals in the United Nations Headquarters in New-YorkThe </a:t>
            </a:r>
            <a:r>
              <a:rPr b="1" i="1" lang="en-US" sz="1200" spc="-1" strike="noStrike">
                <a:solidFill>
                  <a:srgbClr val="000000"/>
                </a:solidFill>
                <a:latin typeface="Arial"/>
              </a:rPr>
              <a:t>Millennium Development Goals (MDGs) are eight international development goals that 189 United Nations member states and at least 23 international organizations have agreed to achieve by the year 2015. They include halving extreme poverty, reducing child mortality rates, fighting disease epidemics such as AIDS, and developing a global partnership for developmen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D7E3-0F1B-4391-9FC8-9E6CCA7F695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based heath disparities  (culture, race, ethnicity)  Gender Apart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Millennium Development Goals (MDGs) were developed out of the eight chapters of the United Nations Millennium Declaration, signed in September 2000. The eight goals and 21 targets include</a:t>
            </a:r>
            <a:r>
              <a:rPr b="1" i="1" lang="en-US" sz="1200" spc="-1" strike="noStrike">
                <a:solidFill>
                  <a:srgbClr val="000000"/>
                </a:solidFill>
                <a:latin typeface="Arial"/>
              </a:rPr>
              <a:t>Eradicate extreme poverty and hungerHalve, between 1990 and 2015, the proportion of people whose income is less than one dollar a day.Achieve full and productive employment and decent work for all, including women and young people.Halve, between 1990 and 2015, the proportion of people who suffer from hunger.Achieve universal primary educationEnsure that, by 2015, children everywhere, boys and girls alike, will be able to complete a full course of primary schooling.Promote gender equality and empower womenEliminate gender disparity in primary and secondary education preferably by 2005, and at all levels by 2015.Reduce child mortalityReduce by two-thirds, between 1990 and 2015, the under-five mortality rate.Improve maternal healthReduce by three quarters, between 1990 and 2015, the maternal mortality ratio.Achieve, by 2015, universal access to reproductive health.Combat HIV/AIDS, malaria, and other diseasesHave halted by 2015 and begun to reverse the spread of HIV/AIDS.Achieve, by 2010, universal access to treatment for HIV/AIDS for all those who need it.Have halted by 2015 and begun to reverse the incidence of malaria and other major diseases.Ensure environmental sustainabilityIntegrate the principles of sustainable development into country policies and programmes; reverse loss of environmental resources.Reduce biodiversity loss, achieving, by 2010, a significant reduction in the rate of loss.Halve, by 2015, the proportion of people without sustainable access to safe drinking water and basic sanitation (for more information see the entry on water supply).By 2020, to have achieved a significant improvement in the lives of at least 100 million slum-dwellers.Develop a global partnership for developmentDevelop further an open trading and financial system that is rule-based, predictable and non-discriminatory. Includes a commitment to good governance, development and poverty reduction—nationally and internationally.Address the special needs of the least developed countries. This includes tariff and quota free access for their exports; enhanced programme of debt relief for heavily indebted poor countries; and cancellation of official bilateral debt; and more generous official development assistance for countries committed to poverty reduction.Address the special needs of landlocked and small island developing States.Deal comprehensively with the debt problems of developing countries through national and international measures in order to make debt sustainable in the long term.In cooperation with developing countries, develop and implement strategies for decent and productive work for youth.In cooperation with pharmaceutical companies, provide access to affordable essential drugs in developing countries.In cooperation with the private sector, make available the benefits of new technologies, especially information and commun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4417-F54A-4780-8C5F-FF4FED9D807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f course  -  wiki/module   -  incorpo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preparation – summer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s, research decisions, instit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C457D-1E60-4DFE-B122-1449C4556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DB264-0C4B-4B72-B429-AEFB95DEB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3BAFD-7632-4EDE-870E-4185E5EC2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36FF2-F369-41A9-9552-13FD469E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A7991-F24A-4FBE-A28A-3A97F4D684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0A759-7F10-4E59-BBA1-5DB43606B7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85FFFA-7960-45B3-86F0-4AF48E3CEF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3611E-2A6E-4C7E-878F-666AC2C500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7CE74-F260-47D6-905C-648AD2B17B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79223-F01B-4932-8F69-F88B634FFF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6C64F7-0EFB-46F0-B960-09A853A96E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D50FA-AD9B-432D-84FF-C9096B046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C225A-E915-4E53-A472-15544045FE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D6419-A581-4C7D-857A-049B732D6F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B57E8-96E0-4D73-A832-8C792A8840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4764A7-B398-4EC9-BE34-EE8F7B8B87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A84075-68DC-4F8C-B364-520D24E9B4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604D-43F3-4BAA-B1AC-7FD47D022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9F2CF-484B-403C-87EA-CA65B5BD3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257A-73FF-4BF4-ABFB-4C1F7BAD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30064-6A86-46C0-BDCF-D511D4DB2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1BE5-CBAB-46EE-B335-7A7F8ED79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39056-2E8B-411D-9D68-5D9825756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F11B-4A60-4C4A-82BE-9F39D823E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EA48-7E25-4DD5-A0AD-57275EE8B2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69A1-F5B9-425F-B0EA-6AED6FA0373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1440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1cb75"/>
                </a:solidFill>
                <a:latin typeface="Tahoma"/>
              </a:rPr>
              <a:t>ETHICS IN GLOBAL HEALTH:</a:t>
            </a:r>
            <a:br>
              <a:rPr sz="4000"/>
            </a:br>
            <a:r>
              <a:rPr b="0" lang="en-US" sz="4000" spc="-1" strike="noStrike">
                <a:solidFill>
                  <a:srgbClr val="c1cb75"/>
                </a:solidFill>
                <a:latin typeface="Tahoma"/>
              </a:rPr>
              <a:t>BEYOND HIPPOCRATES</a:t>
            </a:r>
            <a:br>
              <a:rPr sz="4000"/>
            </a:br>
            <a:endParaRPr b="0" lang="en-US" sz="4000" spc="-1" strike="noStrike">
              <a:solidFill>
                <a:srgbClr val="c1cb75"/>
              </a:solidFill>
              <a:latin typeface="Tahoma"/>
            </a:endParaRPr>
          </a:p>
        </p:txBody>
      </p:sp>
      <p:sp>
        <p:nvSpPr>
          <p:cNvPr id="91" name="Text Box 4"/>
          <p:cNvSpPr/>
          <p:nvPr/>
        </p:nvSpPr>
        <p:spPr>
          <a:xfrm>
            <a:off x="762120" y="2819520"/>
            <a:ext cx="6553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ott Loeliger, MD, M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 Stinson Fellowship in Global and Underserved Health</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tra Costa Family Medicine Residenc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aleen Jones, M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 Family Health International (CFHI)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ford University Medical Scho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FH INTERNATIONAL CONFERENC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gota, Colombia</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 September, 2008</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Models of Service</a:t>
            </a:r>
            <a:br>
              <a:rPr sz="4400"/>
            </a:br>
            <a:r>
              <a:rPr b="0" lang="en-US" sz="4400" spc="-1" strike="noStrike">
                <a:solidFill>
                  <a:srgbClr val="c1cb75"/>
                </a:solidFill>
                <a:latin typeface="Tahoma"/>
              </a:rPr>
              <a:t>or</a:t>
            </a:r>
            <a:br>
              <a:rPr sz="4400"/>
            </a:br>
            <a:r>
              <a:rPr b="0" lang="en-US" sz="4400" spc="-1" strike="noStrike">
                <a:solidFill>
                  <a:srgbClr val="c1cb75"/>
                </a:solidFill>
                <a:latin typeface="Tahoma"/>
              </a:rPr>
              <a:t>Service Learning</a:t>
            </a:r>
            <a:endParaRPr b="0" lang="en-US" sz="4400" spc="-1" strike="noStrike">
              <a:solidFill>
                <a:srgbClr val="c1cb75"/>
              </a:solidFill>
              <a:latin typeface="Tahoma"/>
            </a:endParaRPr>
          </a:p>
        </p:txBody>
      </p:sp>
      <p:sp>
        <p:nvSpPr>
          <p:cNvPr id="120" name="PlaceHolder 2"/>
          <p:cNvSpPr>
            <a:spLocks noGrp="1"/>
          </p:cNvSpPr>
          <p:nvPr>
            <p:ph/>
          </p:nvPr>
        </p:nvSpPr>
        <p:spPr>
          <a:xfrm>
            <a:off x="457200" y="2438280"/>
            <a:ext cx="8229600" cy="4114800"/>
          </a:xfrm>
          <a:prstGeom prst="rect">
            <a:avLst/>
          </a:prstGeom>
          <a:noFill/>
          <a:ln w="0">
            <a:noFill/>
          </a:ln>
        </p:spPr>
        <p:txBody>
          <a:bodyPr anchor="t">
            <a:normAutofit fontScale="95000"/>
          </a:bodyPr>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term clinical work combined with tourism.</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ment to clinical research project.</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er term work with NGO’s or Universitie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sor/Teacher or Medical Corps?</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2007_0915013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onflicts in Conscience</a:t>
            </a:r>
            <a:endParaRPr b="0" lang="en-US" sz="4400" spc="-1" strike="noStrike">
              <a:solidFill>
                <a:srgbClr val="c1cb75"/>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done in the name of Hippocrates is not right.</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entered paradigm can distort true health improvement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 poor areas require careful attention to appropriate strategies.</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tion to the Immediate versus the Sustainable.</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THE BRAIN DRAIN</a:t>
            </a:r>
            <a:endParaRPr b="0" lang="en-US" sz="4400" spc="-1" strike="noStrike">
              <a:solidFill>
                <a:srgbClr val="c1cb75"/>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here, who’s coming her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ised expectations without means to correct health manpower deficienci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professional exchanges, joining the growing global debate (Global Health Workforce Alliance). </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Primary Care and the Medical Home</a:t>
            </a:r>
            <a:br>
              <a:rPr sz="4000"/>
            </a:br>
            <a:r>
              <a:rPr b="0" lang="en-US" sz="4000" spc="-1" strike="noStrike">
                <a:solidFill>
                  <a:srgbClr val="c1cb75"/>
                </a:solidFill>
                <a:latin typeface="Tahoma"/>
              </a:rPr>
              <a:t>Do They Want What We Want</a:t>
            </a:r>
            <a:endParaRPr b="0" lang="en-US" sz="4000" spc="-1" strike="noStrike">
              <a:solidFill>
                <a:srgbClr val="c1cb75"/>
              </a:solidFill>
              <a:latin typeface="Tahoma"/>
            </a:endParaRPr>
          </a:p>
        </p:txBody>
      </p:sp>
      <p:sp>
        <p:nvSpPr>
          <p:cNvPr id="127" name="PlaceHolder 2"/>
          <p:cNvSpPr>
            <a:spLocks noGrp="1"/>
          </p:cNvSpPr>
          <p:nvPr>
            <p:ph/>
          </p:nvPr>
        </p:nvSpPr>
        <p:spPr>
          <a:xfrm>
            <a:off x="457200" y="1905120"/>
            <a:ext cx="8229600" cy="4572000"/>
          </a:xfrm>
          <a:prstGeom prst="rect">
            <a:avLst/>
          </a:prstGeom>
          <a:noFill/>
          <a:ln w="0">
            <a:noFill/>
          </a:ln>
        </p:spPr>
        <p:txBody>
          <a:bodyPr anchor="t">
            <a:normAutofit fontScale="96000"/>
          </a:bodyPr>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lating “Ours” to “Their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working in health care, how to attend to social injustice and underlying factors of poor health.</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ing leaders, followers, co-conspirators or colleague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ect for emerging literature and research from abroad.</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007_09220002"/>
          <p:cNvPicPr/>
          <p:nvPr/>
        </p:nvPicPr>
        <p:blipFill>
          <a:blip r:embed="rId1"/>
          <a:stretch/>
        </p:blipFill>
        <p:spPr>
          <a:xfrm>
            <a:off x="228600" y="0"/>
            <a:ext cx="8447040" cy="655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cb75"/>
                </a:solidFill>
                <a:latin typeface="Tahoma"/>
              </a:rPr>
              <a:t>NGO CODE OF CONDUCT</a:t>
            </a:r>
            <a:endParaRPr b="0" lang="en-US" sz="3600" spc="-1" strike="noStrike">
              <a:solidFill>
                <a:srgbClr val="c1cb75"/>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ntly developed (2007-08).</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d input from APHA, Partners in Health,      Physicians for Human Rights, Save the Children, AMREF, GHETS, WHO, World Bank and oth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recent consultation in Kampala during March global forum on human resourses for health.</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xt consultation at APHA meeting in October, 200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ARTICLES OF NGO CODE OF CONDUCT FOR HEALTH SYSTEMS STRENGTHENING</a:t>
            </a:r>
            <a:endParaRPr b="0" lang="en-US" sz="3200" spc="-1" strike="noStrike">
              <a:solidFill>
                <a:srgbClr val="c1cb75"/>
              </a:solidFill>
              <a:latin typeface="Tahoma"/>
            </a:endParaRPr>
          </a:p>
        </p:txBody>
      </p:sp>
      <p:sp>
        <p:nvSpPr>
          <p:cNvPr id="132" name="PlaceHolder 2"/>
          <p:cNvSpPr>
            <a:spLocks noGrp="1"/>
          </p:cNvSpPr>
          <p:nvPr>
            <p:ph/>
          </p:nvPr>
        </p:nvSpPr>
        <p:spPr>
          <a:xfrm>
            <a:off x="457200" y="1752480"/>
            <a:ext cx="8229600" cy="3810240"/>
          </a:xfrm>
          <a:prstGeom prst="rect">
            <a:avLst/>
          </a:prstGeom>
          <a:noFill/>
          <a:ln w="0">
            <a:noFill/>
          </a:ln>
        </p:spPr>
        <p:txBody>
          <a:bodyPr anchor="t">
            <a:normAutofit fontScale="82000"/>
          </a:bodyPr>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NGOs will engage in hiring practices that ensure long-term health system sustainability.</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     NGOs will enact employee compensation practices that strengthen the public sector.</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II.    NGOs will pledge to create and maintain human resources training and support systems that are good for the countries where they work.</a:t>
            </a: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V.    NGOs will minimize the NGO management burden for ministr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     NGOs will support Ministries of Health as they engage with communities.</a:t>
            </a:r>
            <a:endParaRPr b="0" lang="en-US" sz="1800" spc="-1" strike="noStrike">
              <a:solidFill>
                <a:srgbClr val="ffffff"/>
              </a:solidFill>
              <a:latin typeface="Tahoma"/>
            </a:endParaRPr>
          </a:p>
          <a:p>
            <a:pPr marL="281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    NGOs will advocate for policies that promote and support the public secto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s and Research</a:t>
            </a:r>
            <a:endParaRPr b="0" lang="en-US" sz="4400" spc="-1" strike="noStrike">
              <a:solidFill>
                <a:srgbClr val="c1cb75"/>
              </a:solidFill>
              <a:latin typeface="Tahoma"/>
            </a:endParaRPr>
          </a:p>
        </p:txBody>
      </p:sp>
      <p:sp>
        <p:nvSpPr>
          <p:cNvPr id="134" name="PlaceHolder 2"/>
          <p:cNvSpPr>
            <a:spLocks noGrp="1"/>
          </p:cNvSpPr>
          <p:nvPr>
            <p:ph/>
          </p:nvPr>
        </p:nvSpPr>
        <p:spPr>
          <a:xfrm>
            <a:off x="457200" y="1905120"/>
            <a:ext cx="8229600" cy="4419360"/>
          </a:xfrm>
          <a:prstGeom prst="rect">
            <a:avLst/>
          </a:prstGeom>
          <a:noFill/>
          <a:ln w="0">
            <a:noFill/>
          </a:ln>
        </p:spPr>
        <p:txBody>
          <a:bodyPr anchor="t">
            <a:normAutofit/>
          </a:bodyPr>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obal health research may have some ethical flaw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entions determined by narrow research goals may not be sustaina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 25 of Universal Declaration of Human Right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MA and Declaration of Helsink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UNDERSERVED HEALTH CARE</a:t>
            </a:r>
            <a:endParaRPr b="0" lang="en-US" sz="4400" spc="-1" strike="noStrike">
              <a:solidFill>
                <a:srgbClr val="c1cb75"/>
              </a:solidFill>
              <a:latin typeface="Tahoma"/>
            </a:endParaRPr>
          </a:p>
        </p:txBody>
      </p:sp>
      <p:sp>
        <p:nvSpPr>
          <p:cNvPr id="136" name="PlaceHolder 2"/>
          <p:cNvSpPr>
            <a:spLocks noGrp="1"/>
          </p:cNvSpPr>
          <p:nvPr>
            <p:ph/>
          </p:nvPr>
        </p:nvSpPr>
        <p:spPr>
          <a:xfrm>
            <a:off x="457200" y="1447920"/>
            <a:ext cx="8229600" cy="4572000"/>
          </a:xfrm>
          <a:prstGeom prst="rect">
            <a:avLst/>
          </a:prstGeom>
          <a:noFill/>
          <a:ln w="0">
            <a:noFill/>
          </a:ln>
        </p:spPr>
        <p:txBody>
          <a:bodyPr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Global, Consider Local.</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Experience into Your Future Practi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 in Your Milieu to Integrate Service Learning into the Medical School and Residency Experience.</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Your Medical Bag:</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ethoscope – Check;  Ophthalmoscope-Check;  Sansome Guide – Check;  Language Dictionary – Check;  Ethical Guidelines-Check?</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OBJECTIVES</a:t>
            </a:r>
            <a:endParaRPr b="0" lang="en-US" sz="4400" spc="-1" strike="noStrike">
              <a:solidFill>
                <a:srgbClr val="c1cb75"/>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the historical context of ethics within medical training and practice.</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 the place of ethics within the “new” medical professionalism. </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porate the concepts of ethical behavior and practice into service learning activities.</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open discussion about current controversies and new generation focus on global health work.</a:t>
            </a:r>
            <a:endParaRPr b="0" lang="en-US" sz="2400" spc="-1" strike="noStrike">
              <a:solidFill>
                <a:srgbClr val="ffffff"/>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2007_0915007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ASE SCENARIOS</a:t>
            </a:r>
            <a:endParaRPr b="0" lang="en-US" sz="4400" spc="-1" strike="noStrike">
              <a:solidFill>
                <a:srgbClr val="c1cb75"/>
              </a:solidFill>
              <a:latin typeface="Tahoma"/>
            </a:endParaRPr>
          </a:p>
        </p:txBody>
      </p:sp>
      <p:sp>
        <p:nvSpPr>
          <p:cNvPr id="139" name="PlaceHolder 2"/>
          <p:cNvSpPr>
            <a:spLocks noGrp="1"/>
          </p:cNvSpPr>
          <p:nvPr>
            <p:ph/>
          </p:nvPr>
        </p:nvSpPr>
        <p:spPr>
          <a:xfrm>
            <a:off x="228600" y="2057400"/>
            <a:ext cx="822960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Filling In – A Little Knowledge is 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Dangerou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Vertical Projects – We Only 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Ignoring Bureaucratic Barrier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NGO/Institutional Short Time Work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Resources</a:t>
            </a:r>
            <a:endParaRPr b="0" lang="en-US" sz="4400" spc="-1" strike="noStrike">
              <a:solidFill>
                <a:srgbClr val="c1cb75"/>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le, W, et al. editors. Understanding Global Health. McGrawHill Medical, 2007, 362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t, J., et al. Developing Residency Training in Global Health: A Guidebook.  San Francisco: Global Health Education Consortium, 2008. 119p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il, E.  Awakening Hippocrates: A primer on health, poverty and global service.  AMA, 2006. 502 p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2007_09150049.JPG"/>
          <p:cNvPicPr/>
          <p:nvPr/>
        </p:nvPicPr>
        <p:blipFill>
          <a:blip r:embed="rId1"/>
          <a:stretch/>
        </p:blipFill>
        <p:spPr>
          <a:xfrm>
            <a:off x="-304920" y="-4572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Historical Perspectives</a:t>
            </a:r>
            <a:endParaRPr b="0" lang="en-US" sz="4400" spc="-1" strike="noStrike">
              <a:solidFill>
                <a:srgbClr val="c1cb75"/>
              </a:solidFill>
              <a:latin typeface="Tahoma"/>
            </a:endParaRPr>
          </a:p>
        </p:txBody>
      </p:sp>
      <p:pic>
        <p:nvPicPr>
          <p:cNvPr id="96" name="Rectangle 3" descr=""/>
          <p:cNvPicPr/>
          <p:nvPr/>
        </p:nvPicPr>
        <p:blipFill>
          <a:blip r:embed="rId1"/>
          <a:stretch/>
        </p:blipFill>
        <p:spPr>
          <a:xfrm>
            <a:off x="450720" y="1652760"/>
            <a:ext cx="8332920" cy="4376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thical Principles</a:t>
            </a:r>
            <a:endParaRPr b="0" lang="en-US" sz="4400" spc="-1" strike="noStrike">
              <a:solidFill>
                <a:srgbClr val="c1cb75"/>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um non Nocerum to Primum non Tace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Charter on Medical Professionalism.</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ing in the context of Social Justic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idents with Skills – Helpful or Dangero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0" name=""/>
          <p:cNvSpPr txBox="1"/>
          <p:nvPr/>
        </p:nvSpPr>
        <p:spPr>
          <a:xfrm>
            <a:off x="45720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
          <p:cNvSpPr txBox="1"/>
          <p:nvPr/>
        </p:nvSpPr>
        <p:spPr>
          <a:xfrm>
            <a:off x="4649760" y="1904760"/>
            <a:ext cx="4037040" cy="198252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
          <p:cNvSpPr txBox="1"/>
          <p:nvPr/>
        </p:nvSpPr>
        <p:spPr>
          <a:xfrm>
            <a:off x="45720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
          <p:cNvSpPr txBox="1"/>
          <p:nvPr/>
        </p:nvSpPr>
        <p:spPr>
          <a:xfrm>
            <a:off x="4649760" y="4037040"/>
            <a:ext cx="4037040" cy="1982880"/>
          </a:xfrm>
          <a:prstGeom prst="rect">
            <a:avLst/>
          </a:prstGeom>
          <a:noFill/>
          <a:ln w="0">
            <a:noFill/>
          </a:ln>
        </p:spPr>
        <p:txBody>
          <a:bodyPr anchor="t">
            <a:normAutofit/>
          </a:bodyPr>
          <a:p>
            <a:pPr marL="343080" indent="-343080">
              <a:spcBef>
                <a:spcPts val="60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4" name="Picture 4" descr="2007_09150069"/>
          <p:cNvPicPr/>
          <p:nvPr/>
        </p:nvPicPr>
        <p:blipFill>
          <a:blip r:embed="rId1"/>
          <a:stretch/>
        </p:blipFill>
        <p:spPr>
          <a:xfrm>
            <a:off x="533520" y="457200"/>
            <a:ext cx="8099280" cy="607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endCondLst>
                                    <p:cond evt="begin"/>
                                  </p:endCondLst>
                                  <p:childTnLst>
                                    <p:set>
                                      <p:cBhvr>
                                        <p:cTn id="1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endCondLst>
                                    <p:cond evt="begin"/>
                                  </p:endCondLst>
                                  <p:childTnLst>
                                    <p:set>
                                      <p:cBhvr>
                                        <p:cTn id="1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endCondLst>
                                    <p:cond evt="begin"/>
                                  </p:endCondLst>
                                  <p:childTnLst>
                                    <p:set>
                                      <p:cBhvr>
                                        <p:cTn id="1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838080" y="2209680"/>
            <a:ext cx="7315200" cy="4186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1" lang="en-US" sz="2400" spc="-1" strike="noStrike">
                <a:solidFill>
                  <a:srgbClr val="ffffff"/>
                </a:solidFill>
                <a:latin typeface="Tahoma"/>
              </a:rPr>
              <a:t>Primacy of patient welfare:</a:t>
            </a:r>
            <a:r>
              <a:rPr b="0" lang="en-US" sz="2400" spc="-1" strike="noStrike">
                <a:solidFill>
                  <a:srgbClr val="ffffff"/>
                </a:solidFill>
                <a:latin typeface="Tahoma"/>
              </a:rPr>
              <a:t>  Stresses altruistic dedication to the well-being of the individual patient.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2400" spc="-1" strike="noStrike">
                <a:solidFill>
                  <a:srgbClr val="ffffff"/>
                </a:solidFill>
                <a:latin typeface="Tahoma"/>
              </a:rPr>
              <a:t>Patient autonomy:</a:t>
            </a:r>
            <a:r>
              <a:rPr b="0" lang="en-US" sz="2400" spc="-1" strike="noStrike">
                <a:solidFill>
                  <a:srgbClr val="ffffff"/>
                </a:solidFill>
                <a:latin typeface="Tahoma"/>
              </a:rPr>
              <a:t>  Urges physicians to facilitate patient involvement in treatment decision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1" lang="en-US" sz="2400" spc="-1" strike="noStrike">
                <a:solidFill>
                  <a:srgbClr val="ffffff"/>
                </a:solidFill>
                <a:latin typeface="Tahoma"/>
              </a:rPr>
              <a:t>Social justice: </a:t>
            </a:r>
            <a:r>
              <a:rPr b="0" lang="en-US" sz="2400" spc="-1" strike="noStrike">
                <a:solidFill>
                  <a:srgbClr val="ffffff"/>
                </a:solidFill>
                <a:latin typeface="Tahoma"/>
              </a:rPr>
              <a:t>Calls upon physicians to work actively toward equitable societal distribution of health care resources. </a:t>
            </a:r>
            <a:endParaRPr b="0" lang="en-US" sz="2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Medical professionalism in the new millennium: a physician charter. Ann Intern Med. 2002;136:243-6. [PMID: 11827500]</a:t>
            </a:r>
            <a:r>
              <a:rPr b="0" lang="en-US" sz="1800" spc="-1" strike="noStrike">
                <a:solidFill>
                  <a:srgbClr val="ffffff"/>
                </a:solidFill>
                <a:latin typeface="Tahoma"/>
              </a:rPr>
              <a:t> </a:t>
            </a:r>
            <a:endParaRPr b="0" lang="en-US" sz="1800" spc="-1" strike="noStrike">
              <a:solidFill>
                <a:srgbClr val="ffffff"/>
              </a:solidFill>
              <a:latin typeface="Tahoma"/>
            </a:endParaRPr>
          </a:p>
          <a:p>
            <a:pPr marL="380880" indent="-380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2"/>
          <p:cNvSpPr/>
          <p:nvPr/>
        </p:nvSpPr>
        <p:spPr>
          <a:xfrm>
            <a:off x="1295280" y="228600"/>
            <a:ext cx="701064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e288"/>
                </a:solidFill>
                <a:latin typeface="Tahoma"/>
              </a:rPr>
              <a:t>Physician Charter</a:t>
            </a:r>
            <a:br>
              <a:rPr sz="1800"/>
            </a:br>
            <a:r>
              <a:rPr b="0" lang="en-US" sz="1800" spc="-1" strike="noStrike">
                <a:solidFill>
                  <a:srgbClr val="d9e288"/>
                </a:solidFill>
                <a:latin typeface="Tahoma"/>
              </a:rPr>
              <a:t>American Board of Internal Medicine Foundation, the American College of Physicians Foundation, and the European Federation of Internal Medicin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533520" y="0"/>
            <a:ext cx="83390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1cb75"/>
                </a:solidFill>
                <a:latin typeface="Tahoma"/>
                <a:ea typeface="Tahoma"/>
              </a:rPr>
              <a:t>The Physician Charter:</a:t>
            </a:r>
            <a:endParaRPr b="0" lang="en-US" sz="4400" spc="-1" strike="noStrike">
              <a:solidFill>
                <a:srgbClr val="ffffff"/>
              </a:solidFill>
              <a:latin typeface="Tahoma"/>
            </a:endParaRPr>
          </a:p>
          <a:p>
            <a:pPr marL="343080" indent="-343080">
              <a:spcBef>
                <a:spcPts val="451"/>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Tahoma"/>
              </a:rPr>
              <a:t>Physician Charter Construct for Medical Professionalism</a:t>
            </a: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Oval 3"/>
          <p:cNvSpPr/>
          <p:nvPr/>
        </p:nvSpPr>
        <p:spPr>
          <a:xfrm>
            <a:off x="2514600" y="1752480"/>
            <a:ext cx="4419720" cy="4191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Oval 5"/>
          <p:cNvSpPr/>
          <p:nvPr/>
        </p:nvSpPr>
        <p:spPr>
          <a:xfrm>
            <a:off x="3048120" y="3124080"/>
            <a:ext cx="1981080" cy="1905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Oval 6"/>
          <p:cNvSpPr/>
          <p:nvPr/>
        </p:nvSpPr>
        <p:spPr>
          <a:xfrm>
            <a:off x="4419720" y="3124080"/>
            <a:ext cx="190476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Oval 7"/>
          <p:cNvSpPr/>
          <p:nvPr/>
        </p:nvSpPr>
        <p:spPr>
          <a:xfrm>
            <a:off x="3809880" y="2286000"/>
            <a:ext cx="1981440" cy="1905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TextBox 8"/>
          <p:cNvSpPr/>
          <p:nvPr/>
        </p:nvSpPr>
        <p:spPr>
          <a:xfrm>
            <a:off x="4038480" y="26668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cial justice</a:t>
            </a:r>
            <a:endParaRPr b="0" lang="en-US" sz="1800" spc="-1" strike="noStrike">
              <a:solidFill>
                <a:srgbClr val="ffffff"/>
              </a:solidFill>
              <a:latin typeface="Tahoma"/>
            </a:endParaRPr>
          </a:p>
        </p:txBody>
      </p:sp>
      <p:sp>
        <p:nvSpPr>
          <p:cNvPr id="113" name="TextBox 10"/>
          <p:cNvSpPr/>
          <p:nvPr/>
        </p:nvSpPr>
        <p:spPr>
          <a:xfrm>
            <a:off x="3124080" y="396252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nomy</a:t>
            </a:r>
            <a:endParaRPr b="0" lang="en-US" sz="1800" spc="-1" strike="noStrike">
              <a:solidFill>
                <a:srgbClr val="ffffff"/>
              </a:solidFill>
              <a:latin typeface="Tahoma"/>
            </a:endParaRPr>
          </a:p>
        </p:txBody>
      </p:sp>
      <p:sp>
        <p:nvSpPr>
          <p:cNvPr id="114" name="TextBox 11"/>
          <p:cNvSpPr/>
          <p:nvPr/>
        </p:nvSpPr>
        <p:spPr>
          <a:xfrm>
            <a:off x="5257800" y="39625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ien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lfare</a:t>
            </a:r>
            <a:endParaRPr b="0" lang="en-US" sz="1800" spc="-1" strike="noStrike">
              <a:solidFill>
                <a:srgbClr val="ffffff"/>
              </a:solidFill>
              <a:latin typeface="Tahoma"/>
            </a:endParaRPr>
          </a:p>
        </p:txBody>
      </p:sp>
      <p:sp>
        <p:nvSpPr>
          <p:cNvPr id="115" name="TextBox 12"/>
          <p:cNvSpPr/>
          <p:nvPr/>
        </p:nvSpPr>
        <p:spPr>
          <a:xfrm>
            <a:off x="4495680" y="38098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P</a:t>
            </a:r>
            <a:endParaRPr b="0" lang="en-US" sz="1800" spc="-1" strike="noStrike">
              <a:solidFill>
                <a:srgbClr val="ffffff"/>
              </a:solidFill>
              <a:latin typeface="Tahoma"/>
            </a:endParaRPr>
          </a:p>
        </p:txBody>
      </p:sp>
      <p:sp>
        <p:nvSpPr>
          <p:cNvPr id="116" name="TextBox 13"/>
          <p:cNvSpPr/>
          <p:nvPr/>
        </p:nvSpPr>
        <p:spPr>
          <a:xfrm>
            <a:off x="685800" y="6248520"/>
            <a:ext cx="7010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Erika Shimahra, Master’s of Education, Stanford University, 2006</a:t>
            </a:r>
            <a:endParaRPr b="0" lang="en-US" sz="1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Embedding Ethics in Residency</a:t>
            </a:r>
            <a:endParaRPr b="0" lang="en-US" sz="4400" spc="-1" strike="noStrike">
              <a:solidFill>
                <a:srgbClr val="c1cb75"/>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 learning and didactic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experience preparation.</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ation of ethics in underserved local communitie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complexities of global realities, institutions, processes and programs.</a:t>
            </a:r>
            <a:endParaRPr b="0" lang="en-US" sz="2800" spc="-1" strike="noStrike">
              <a:solidFill>
                <a:srgbClr val="ffffff"/>
              </a:solidFill>
              <a:latin typeface="Tahoma"/>
            </a:endParaRPr>
          </a:p>
          <a:p>
            <a:pPr marL="343080" indent="-343080">
              <a:spcBef>
                <a:spcPts val="700"/>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lf- study and self-reflection.</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8:42:15Z</dcterms:created>
  <dc:creator>scott</dc:creator>
  <dc:description/>
  <dc:language>en-US</dc:language>
  <cp:lastModifiedBy>HCMARTINEZ</cp:lastModifiedBy>
  <dcterms:modified xsi:type="dcterms:W3CDTF">2009-08-24T19:20:50Z</dcterms:modified>
  <cp:revision>75</cp:revision>
  <dc:subject/>
  <dc:title>ETHICS IN THE FIELD</dc:title>
</cp:coreProperties>
</file>