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406-3CD9-4352-BF3F-B20F5249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A4C-3280-41C7-A8B0-FCF7E9DD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009-1879-476D-BBE2-8FB1C24C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A8E-D95B-42C4-B1CB-958A814D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DABE-99D4-47E8-B1A2-20A80A97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69A9-31BC-46B4-8A39-677E9B46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BB57-A049-4B2B-B8EC-E3BD09F7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736B-154E-471E-BEBB-3E778B3C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B47B-2B70-48D0-8D94-031E6E41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7B74-79FB-4C1F-86A5-207B4DF6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F242-C4AC-47FE-A5BA-58BFE401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AEE-AAAF-4CDD-9B10-70B51CFB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FD21-E488-4228-8292-A9F36898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72C4-F8BC-4E76-BB20-3832A92B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9452-BED7-4F30-8719-C3BB98E7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0554-5D10-4BD4-8693-20301788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9976-2C92-43B7-BAD3-A9403C61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DD2-E959-4A90-B3B3-3033A867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31E-694F-4596-8682-08143F31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197-CAD8-4FDB-BBA4-908117F1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E13-799C-45BA-8370-DF4A247B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DF9-7355-4411-85E0-B801DD9C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B28-F180-4196-B3B5-28A6405D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E9F-723D-4CC7-8B9A-DEC11530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9EAB-83B0-44F8-A0EA-983F3F1CD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E862-2849-4CE1-B36E-E26AA6A51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ontracostazt.org/background.php" TargetMode="External"/><Relationship Id="rId2" Type="http://schemas.openxmlformats.org/officeDocument/2006/relationships/hyperlink" Target="http://www.cpedv.org/stats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ddressing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omestic Viol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zabeth W Bierer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ero Tolerance Proje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vised Vis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LTA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 first time domestic vio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nts to encourage ar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 and Bright Fu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contracostazt.org/documents/posters.pd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4114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ted as a volunteer crisis line in 1977 (C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me Battered Women’s alternatives with addition of resources/shel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ed opening shelter centers (emergency and transition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aret Lesher Housing and Employment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ie Mullen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has offices in all regions of the coun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ioch, Richmond, Pittsburg being the newest in 2002/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 Staff and 150+ volunte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059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on STAND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to people who are abuse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programs to people who abu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ve education programs to youth, children and adults who might experience abuse in the fu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Pro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red Domestic violence posters and referral cards from STAN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them to residents with clinics outside of Martin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artinez, placed them in the Family Medicine clinic bathroo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referral cards to several residents (I have more, and will be getting more!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inuing my pro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STAND! to give a presentation to our staff – Physicians, Nurses, Social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more cognizan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creen my patients, and recognize features suggestive of vio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iarize myself with Healthy People 2010 initi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lthy People 20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have demonstrated a link between intimate partner violence (IPV) and 8 out of 10 the Leading Health Indicators (LH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 significant risk factor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health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aches, GI problems, depression, anxiety, sleep problems, PT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risk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ce abuse, irresponsible sexual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ading Health Indicators and Intimate Partner Viol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weight and obe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bacc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ce ab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al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jury and vio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health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ues to viol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s you may consider as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 your partner act extremely jealous of others who pay attention to you, or use jealousy to justify his/her acti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 your finances, behavior and even whom you socialize with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 to kill you or commit suicid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ke you afraid by using looks, actions, and gestures like smashing things, destroying your property or displaying weap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ke all the decisi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op you from seeing or talking to friends, family or limits your outside involvemen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 like the abuse is no big deal; it's your fault or even denies doing i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s to kill your pet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ts you down in front of other people, humiliates you, plays mind games and makes you feel as if you are crazy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vents you from getting or keeping a job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kes your money or does not let you know about or have access to the family incom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me drugs or alcohol for his violent behavior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s to take the children away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where we can all sta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natal c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are victims of IPV are less likely to access healthcare, but this is a time they do access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olence in Pregnan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micide is the second leading cause of traumatic death for pregnant and recently pregnant women in the U.S., accounting for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1 percent of maternal injury death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men experiencing abuse in the year prior to and/or during a recent pregnancy ar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 to 60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an non-abused women to report high-blood pressure, vaginal bleeding, severe nausea, kidney or urinary tract infections and hospitalization during pregnancy and are 37 percent more likely to deliver preterm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ildren born to abused mothers ar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7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 be born underweight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re than 30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an other children to require intensive care upon bir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w doctors screen their patients for abuse, even thoug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 to one in 1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regnant women are batter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men who were screened for abuse and given a wallet sized referral reported fewer threats of violence, assaults or even harassment at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mestic Viol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be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 of controlling and assaultive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ort to gain power and maintain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ing all my prenatal patients at least once while following them during their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residen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an area on the prenatal record that indicates we (not Healthy Start) have addressed it in prenatal care at least o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mily Medicine Prac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our patient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urge everyone to remind yourself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patient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with the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them the information they need to prevent, treat and escape a harmful sit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nger Management for Families - Center for Human Dev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1 Taylor Boulevard, Suite 12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leasant Hill, CA  94523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687-8844 Ext. 224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sian Pacific Psychological Services - Richmo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05 MacDonald Street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33-7555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mestic Violence Support Group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19 Roosevelt Ave.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33-8595 Information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mestic Violence Treatment Program - Alpha Family Services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1 Raye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akley, CA  94561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625-9318 Confidential Lin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amilias Seguras - ECMHP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101 Macdonald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412-9200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eace Creations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960 Camino Diablo, Suite 20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lnut Creek, CA  94597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988-9505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COVI - Centro de Educacion Familiar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74 Valencia Street, Suite 15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415) 552-1361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iley Center - Community Office - St. Vincent De Paul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543-18th Street, # 4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415) 255-0165 Crisis lin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Concor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39 Willow Pass Roa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cord, CA  94519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432-4200 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Pittsburg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330 Loveridge Roa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ittsburg, CA  9456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432-4200 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Richmo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98 Nevin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1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15-0130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ga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y Area Legal Aid - East/Central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1 Railroad Avenue, Suite 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ttsburg, CA  9456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00) 551-5554 Toll free Advice 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y Area Legal Aid - We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25 Macdonald Avenu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1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233-9954 Offi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Clinic - Pittsburg - STAND!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ttsburg, CA  94563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Petitioners Clinic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 Superior Cour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-37th Stree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965-4048 Clinic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Respondents Clinic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 Superior Cour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-37th Stree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965-4048 Clinic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gal Advocacy Program - STAND!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cord, CA  94524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te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ian Women's Shelter (AWS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543-18th Street, Suite 19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77) 751-0880 Crisi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ergency Shelter - STAND!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ord, CA  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meless Assistance Program - CCCEHSD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0 Ellinwood Wa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asant Hill, CA  9452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925) 602-9379 Pleasant Hi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 Casa de Las Madre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63 Mission Street, Suite 225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503-0500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ley Center - Brennan House - St. Vincent De Pau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255-2894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ley Center - Rosalie House - St Vincent De Pau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255-0165 Crisis li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fe At Home Confidential Address Progra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00 11th Stre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cramento, CA  95814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77) 322-5227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elter Against Violent Environments, Inc. (SAVE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9155 Liberty Street, Suite C3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mont, CA  94538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510) 794-6055 24 hour Crisis Hotline 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ster Me Home Safe House - Building Futures for Women &amp; Childr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85 Bancroft, Suite 1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Leandro, CA  94577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66) 292-9688 866-A-WAY-OUT 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i-Valley Hav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663 Pacific Avenu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more, CA  9455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00) 884-8119 Toll-Fre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le Servic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itr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34 East Gish Road, Suite 200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nnyvale, CA  95112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862-4874 (888) 8 MAITRI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rik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O. Box 14014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rkeley, CA  94712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00) 215-7308 Help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 Casa de Las Madre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63 Mission Street, Suite 22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415) 503-0500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Central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10 Danzig Plaza, 2nd Floor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cord, CA  94520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Ea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00 Sycamore Street, #6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ioch, CA  94509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We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230 San Pablo Av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ero Tolerance for Domestic Violence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contracostazt.org/background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fornia Partnership to end domestic violence (CPEDV)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www.cpedv.org/sta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Violence Prevention Fund http://www.endabuse.org/content/action_center/detail/7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Violence Prevention Fund Facts on Reproductive Health and Violence against women http://www.endabuse.org/userfiles/file/Children_and_Families/Reproductive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! Against Domestic Violence http://www.standagainstdv.org/aboutdomviolence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 Network http://www.safenetwork.net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1 Database http://www.irissoft.com/cccc/search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b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/emo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mplo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 ab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les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ure to other violence in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: knows NO bound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tional 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 average, more than three women are murdered by their husbands or boyfriends in this country every day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Bureau of Justice Statistics Data Brief, Intimate Partner Violence, 1993-2001, February 2003)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ty seven percent of women who sought treatment in an emergency room for violence-related injuries were injured by a current or former intimate partner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U.S. Department of Justice, Violence by Intimates: Analysis of Data on Crimes by Current or Former Spouses, Boyfriends, and Girlfriends, March 1998).</a:t>
            </a:r>
            <a:br>
              <a:rPr sz="10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use in relationships exists among all classes, races and cultural groups, although women between ages 16 and 24 are nearly three times more vulnerable to intimate partner violenc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Intimate Partner Violence &amp; Age of Victim, U.S. Department of Justice, Bureau of Justice Statistics, 1999).</a:t>
            </a:r>
            <a:br>
              <a:rPr sz="10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recent National Crime Victimization survey found that women were 6 times more than men to experience violence at the hands of an intimate partner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cpedv.org/stats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ifornia 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ery year, almost 6% of California ’s women suffer physical injuries from domestic violence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California Women’s Health Survey, 1998-99).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2002, 153 murders were the result of intimate partner violence in California 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California Department of Justice [DOJ], Criminal Justice Statistics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2002, 128 women in California were killed by their husbands, ex-husbands or boyfriends, and 25 men were killed by their wives, ex-wives or girlfriends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OJ, Criminal Justice Statistics Center 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ifornia law enforcement received 196,569 domestic violence calls in 2002 --- 119,850 involved weapons, including firearms and knives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OJ, Criminal Justice Statistics Center 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out 916,000 children were exposed to intimate partner violence at home in 1998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epartment of Health Services, California Women’s Health Survey, 1998-99)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arly 1 in 5 women who went hungry because they did not have enough money to buy food was also a victim of intimate partner violenc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epartment of Health Services, California Women’s Health Survey, 1998-99)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cpedv.org/stats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a Costa Coun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t risk cities in the three regions (east,west,central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h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o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cking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of the Sheriff maintai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ed Regional Information Exchange System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database and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estic Violence Relational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ed to vital criminal justice rec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accessed by multiple ag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ing investigative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 active warrants, restraining orders, case disposition, terms of parole, injury specif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more info at: www.cocosheriff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ero Toler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created in 2000 to address domestic, family and elder abuse/violence in Contra Costa Coun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Zero Tolerance county in Californi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s and delivers direct services to people through partner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s policy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e with, amongst many, STAND! against domestic vio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Zero Tolerance for domestic violence"/>
          <p:cNvPicPr/>
          <p:nvPr/>
        </p:nvPicPr>
        <p:blipFill>
          <a:blip r:embed="rId1"/>
          <a:stretch/>
        </p:blipFill>
        <p:spPr>
          <a:xfrm>
            <a:off x="2209680" y="457200"/>
            <a:ext cx="581040" cy="885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Zero Tolerance for domestic violence"/>
          <p:cNvPicPr/>
          <p:nvPr/>
        </p:nvPicPr>
        <p:blipFill>
          <a:blip r:embed="rId2"/>
          <a:stretch/>
        </p:blipFill>
        <p:spPr>
          <a:xfrm>
            <a:off x="638280" y="457200"/>
            <a:ext cx="1571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22:06:15Z</dcterms:created>
  <dc:creator>Lizi</dc:creator>
  <dc:description/>
  <dc:language>en-US</dc:language>
  <cp:lastModifiedBy>Lizi</cp:lastModifiedBy>
  <dcterms:modified xsi:type="dcterms:W3CDTF">2009-01-06T05:20:38Z</dcterms:modified>
  <cp:revision>8</cp:revision>
  <dc:subject/>
  <dc:title>Domestic Violence</dc:title>
</cp:coreProperties>
</file>