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CB3-4077-45B7-AB9C-43B16912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641-9CE7-43E3-8C2F-F651B00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73C-64F8-42E3-B73A-329D7B54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BC7-5EC9-4115-AFC2-CAE4DC11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A107-300B-4C28-A06E-9B0E7FC1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DC5-D238-47CF-8B00-85C2719A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3EC-D707-4183-A699-A6E3C7B1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DFCE-E2B8-44AB-AC11-3F227FD5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7BD8-9D66-4DEE-A52E-7463B0E7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EA20-3117-403F-891E-ABC3584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B0D2-3AB9-4BCC-8D2C-BE48253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ED8-0477-407C-90FF-9A1B1F8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5B9A-7A32-4AF0-8D6F-7406B3E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EE45-C919-4C3F-805F-140D2DE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2248-5A13-4CEC-A936-FCB937EF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3EF-70B2-4178-B34D-D6332EE5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50A4-C45D-4AF7-A916-9D3AC38F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95B-664A-48D7-9109-CC9C868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3F3-E404-4CC1-A76F-1E296200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08D-2709-40B5-A5D9-FB18903C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D3EB-EE56-4327-9000-5A2E487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E88-D493-406D-9495-FC58CDB5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0AA-9CC3-4202-9BBC-3B428469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13C-DFD9-496C-8F75-9235AB3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336C-BB8E-4A83-BE7B-F81750FA2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5EC2-D5FD-45F3-BC7A-D5C37CB87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ontracostazt.org/background.php" TargetMode="External"/><Relationship Id="rId2" Type="http://schemas.openxmlformats.org/officeDocument/2006/relationships/hyperlink" Target="http://www.cpedv.org/stat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dress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W Bierer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 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vised Vis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LT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 first time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s to encourage ar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 and Bright Fu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contracostazt.org/documents/posters.pd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ted as a volunteer crisis line in 1977 (C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me Battered Women’s alternatives with addition of resources/shel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ed opening shelter centers (emergency and transit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aret Lesher Housing and Employment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ie Mullen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has offices in all regions of the coun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och, Richmond, Pittsburg being the newest in 2002/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 Staff and 150+ volunt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on STAND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to people who are abused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ment programs to people who abu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education programs to youth, children and adults who might experience abuse in the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Domestic violence posters and referral cards from STA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them to residents with clinics outside of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rtinez, placed them in the Family Medicine clinic bat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referral cards to several residents (I have more, and will be getting more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inuing my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STAND! to give a presentation to our staff – Physicians, Nurses, Social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more cogniza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reen my patients, and recognize features suggestive of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ze myself with Healthy People 2010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lthy People 20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have demonstrated a link between intimate partner violence (IPV) and 8 out of 10 the Leading Health Indicators (LH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 significant risk factor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aches, GI problems, depression, anxiety, sleep problems, 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risk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abuse, irresponsible sexual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ading Health Indicators and Intimate Partner Viole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weight and obe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jury and vio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ues to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s you may consider as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 your partner act extremely jealous of others who pay attention to you, or use jealousy to justify his/her act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your finances, behavior and even whom you socialize with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 to kill you or commit suicid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you afraid by using looks, actions, and gestures like smashing things, destroying your property or displaying weap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ke all the decision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 you from seeing or talking to friends, family or limits your outside involvemen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 like the abuse is no big deal; it's your fault or even denies doing i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kill your pets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ts you down in front of other people, humiliates you, plays mind games and makes you feel as if you are craz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s you from getting or keeping a job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kes your money or does not let you know about or have access to the family incom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ame drugs or alcohol for his violent behavior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reatens to take the children away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where we can all st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natal c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are victims of IPV are less likely to access healthcare, but this is a time they do acces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olence in Pregnan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icide is the second leading cause of traumatic death for pregnant and recently pregnant women in the U.S., accounting f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1 percent of maternal injury death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experiencing abuse in the year prior to and/or during a recent pregnancy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 to 6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non-abused women to report high-blood pressure, vaginal bleeding, severe nausea, kidney or urinary tract infections and hospitalization during pregnancy and are 37 percent more likely to deliver preter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ldren born to abused mothers ar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 be born underweight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re than 30 percent more likel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an other children to require intensive care upon bi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 doctors screen their patients for abuse, even th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to one in 1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regnant women are batte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men who were screened for abuse and given a wallet sized referral reported fewer threats of violence, assaults or even harassment at wor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mestic Viol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b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of controlling and assaultiv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to gain power and maint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ing all my prenatal patients at least once while following them during their pregn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resid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an area on the prenatal record that indicates we (not Healthy Start) have addressed it in prenatal care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mily Medicine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our patient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urge everyone to remind yourself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patie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the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them the information they need to prevent, treat and escape a harmful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eat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ger Management for Families - Center for Human Dev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 Taylor Boulevard, Suite 12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87-8844 Ext. 224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ian Pacific Psychological Service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05 MacDonald Stree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755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Support Grou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919 Roosevelt Ave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33-8595 Information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omestic Violence Treatment Program - Alpha Family Service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1 Raye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ey, CA  9456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625-9318 Confidential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milias Seguras - ECMHP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101 Macdonald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412-920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eace Creations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960 Camino Diablo, Suite 20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nut Creek, CA  94597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988-9505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COVI - Centro de Educacion Familiar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74 Valencia Street, Suite 15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552-1361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iley Center - Community Office - St. Vincent De Paul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543-18th Street, # 4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Concor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39 Willow Pass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cord, CA  94519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Pittsburg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330 Loveridge Road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925) 432-4200  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ving Our Sons and Daughters - Richmond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98 Nevin Avenu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510) 215-0130 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g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East/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1 Railroad Avenue, Suite 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551-5554 Toll free Advice 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y Area Legal Aid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25 Macdonald Avenu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1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233-9954 Offi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Clinic - Pittsburg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ittsburg, CA  9456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Petitioner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mestic Violence Restraining Order Respondents Clinic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 Superior Cour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-37th Stree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965-4048 Clini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gal Advocacy Program - STAND!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t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n Women's Shelter (AWS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43-18th Street, Suite 1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751-0880 Crisi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ergency Shelter - STAND!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ord, CA  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meless Assistance Program - CCCEHS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0 Ellinwood Wa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asant Hill, CA  9452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925) 602-9379 Pleasant Hi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Brennan House - St.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2894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ley Center - Rosalie House - St Vincent De Paul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CONFIDENTIAL***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Francisco, CA  941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15) 255-0165 Crisis li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fe At Home Confidential Address Progra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00 11th Stre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cramento, CA  95814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77) 322-5227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elter Against Violent Environments, Inc. (SAVE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9155 Liberty Street, Suite C31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mont, CA  94538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510) 794-6055 24 hour Crisis Hotline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ster Me Home Safe House - Building Futures for Women &amp; Childr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85 Bancroft, Suite 13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 Leandro, CA  94577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66) 292-9688 866-A-WAY-OUT 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-Valley Hav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663 Pacific Avenu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more, CA  94550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800) 884-8119 Toll-Fr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le Servic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itr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4 East Gish Road, Suite 20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nnyvale, CA  951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862-4874 (888) 8 MAITRI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rik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O. Box 14014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rkeley, CA  94712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00) 215-7308 Help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orean Community Center of the East Ba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390 Telegraph Avenue, Suite A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akland, CA  946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510) 547-2662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Casa de Las Madre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63 Mission Street, Suite 22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 Francisco, CA  94103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415) 503-0500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Central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10 Danzig Plaza, 2nd Floor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cord, CA  94520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Ea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00 Sycamore Street, #6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och, CA  94509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ND! Against Domestic Violence - West Count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230 San Pablo Av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mond, CA  94805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888) 215-5555 Crisis Hotli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Tolerance for Domestic Violence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contracostazt.org/background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fornia Partnership to end domestic violence (CPEDV) </a:t>
            </a: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cpedv.org/sta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http://www.endabuse.org/content/action_center/detail/75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Violence Prevention Fund Facts on Reproductive Health and Violence against women http://www.endabuse.org/userfiles/file/Children_and_Families/Reproductive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! Against Domestic Violence http://www.standagainstdv.org/aboutdomviolence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 Network http://www.safenetwork.ne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1 Database http://www.irissoft.com/cccc/search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/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ce ab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ure to other violence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: knows NO bound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average, more than three women are murdered by their husbands or boyfriends in this country every day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Bureau of Justice Statistics Data Brief, Intimate Partner Violence, 1993-2001, February 2003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ty seven percent of women who sought treatment in an emergency room for violence-related injuries were injured by a current or former intimate partner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U.S. Department of Justice, Violence by Intimates: Analysis of Data on Crimes by Current or Former Spouses, Boyfriends, and Girlfriends, March 1998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use in relationships exists among all classes, races and cultural groups, although women between ages 16 and 24 are nearly three times more vulnerable to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Intimate Partner Violence &amp; Age of Victim, U.S. Department of Justice, Bureau of Justice Statistics, 1999).</a:t>
            </a:r>
            <a:br>
              <a:rPr sz="10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recent National Crime Victimization survey found that women were 6 times more than men to experience violence at the hands of an intimate partner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ifornia Stat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ry year, almost 6% of California ’s women suffer physical injuries from domestic violence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Women’s Health Survey, 1998-99).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53 murders were the result of intimate partner violence in California 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California Department of Justice [DOJ], Criminal Justice Statistics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2002, 128 women in California were killed by their husbands, ex-husbands or boyfriends, and 25 men were killed by their wives, ex-wives or girlfriend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ifornia law enforcement received 196,569 domestic violence calls in 2002 --- 119,850 involved weapons, including firearms and knives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OJ, Criminal Justice Statistics Center )</a:t>
            </a:r>
            <a:br>
              <a:rPr sz="10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out 916,000 children were exposed to intimate partner violence at home in 1998.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arly 1 in 5 women who went hungry because they did not have enough money to buy food was also a victim of intimate partner violence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Department of Health Services, California Women’s Health Survey, 1998-99)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pedv.org/stat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a Costa Coun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t risk cities in the three regions (east,west,central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cking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of the Sheriff mainta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ed Regional Information Exchange System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database and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estic Violence Relational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ed to vital criminal justi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ccessed by multiple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investigative capa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active warrants, restraining orders, case disposition, terms of parole, injury specif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ore info at: www.cocosheriff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 Toler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reated in 2000 to address domestic, family and elder abuse/violence in Contra Costa Coun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Zero Tolerance county in Californi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s and delivers direct services to people through partner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s policy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, amongst many, STAND! against domestic vio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Zero Tolerance for domestic violence"/>
          <p:cNvPicPr/>
          <p:nvPr/>
        </p:nvPicPr>
        <p:blipFill>
          <a:blip r:embed="rId1"/>
          <a:stretch/>
        </p:blipFill>
        <p:spPr>
          <a:xfrm>
            <a:off x="2209680" y="457200"/>
            <a:ext cx="581040" cy="885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Zero Tolerance for domestic violence"/>
          <p:cNvPicPr/>
          <p:nvPr/>
        </p:nvPicPr>
        <p:blipFill>
          <a:blip r:embed="rId2"/>
          <a:stretch/>
        </p:blipFill>
        <p:spPr>
          <a:xfrm>
            <a:off x="638280" y="457200"/>
            <a:ext cx="1571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22:06:15Z</dcterms:created>
  <dc:creator>Lizi</dc:creator>
  <dc:description/>
  <dc:language>en-US</dc:language>
  <cp:lastModifiedBy>Lizi</cp:lastModifiedBy>
  <dcterms:modified xsi:type="dcterms:W3CDTF">2009-01-06T05:20:38Z</dcterms:modified>
  <cp:revision>8</cp:revision>
  <dc:subject/>
  <dc:title>Domestic Violence</dc:title>
</cp:coreProperties>
</file>