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0AD-3A96-4CB0-97FF-F021C1F2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4701-5361-47D9-9213-C562278C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38DC-8904-4C8D-B8D4-21EEAD93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65F3-7280-4901-BFAC-C9D216B5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60A0-315B-48DC-96FD-DB67B6EC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A52D-C4C5-44EC-81AF-47686555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E514-F1B0-4D30-90CE-BAEBFFF5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7CED-1BE0-46E7-A14E-973A4F6A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414C-FE20-477D-BD2A-6027C475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E884-601E-4151-A460-D0CC31FF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DF46-F55E-4F2F-A87E-103FB542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8D65-0D3B-4747-BDDC-C62458B9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07D6-AC64-4197-9A65-B54D43A9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384E-C108-49B5-9CC8-A269106F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0E02-4198-4F3F-B177-77767C4B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6775-14C3-41E2-8D8C-DCA22C27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2B66-DDF5-49EB-920C-AD035690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6C2E-02D3-4C77-9528-F5C54816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9AC0-4CF0-477E-BF76-7DE8BB18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0C9C-FB4B-4D47-9BEB-043A8527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08A4-B440-4865-871C-41331741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174C-36CF-4AB3-B2EB-A68B6EB0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5279-29E3-49AC-9961-E608BB81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92B2-11D0-4A69-925B-492916AE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5A03-9F12-44B0-B7F6-389603E77C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B9D0-70E5-4F6F-B02B-DB151210BA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contracostazt.org/background.php" TargetMode="External"/><Relationship Id="rId2" Type="http://schemas.openxmlformats.org/officeDocument/2006/relationships/hyperlink" Target="http://www.cpedv.org/stats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ddressing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omestic Viole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zabeth W Bierer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ero Tolerance Proje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vised Vis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LTA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ent first time domestic viol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nts to encourage ar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 and Bright Fu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contracostazt.org/documents/posters.pd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4114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iginated as a volunteer crisis line in 1977 (C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ame Battered Women’s alternatives with addition of resources/shel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ed opening shelter centers (emergency and transition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aret Lesher Housing and Employment C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lie Mullen C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has offices in all regions of the coun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tioch, Richmond, Pittsburg being the newest in 2002/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0 Staff and 150+ volunte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3059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re on STAND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l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to people who are abused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programs to people who abus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ve education programs to youth, children and adults who might experience abuse in the fut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 Pro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quired Domestic violence posters and referral cards from STAN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ed them to residents with clinics outside of Martin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artinez, placed them in the Family Medicine clinic bathroo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ed referral cards to several residents (I have more, and will be getting more!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inuing my pro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ting STAND! to give a presentation to our staff – Physicians, Nurses, Social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e more cognizant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creen my patients, and recognize features suggestive of vio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iarize myself with Healthy People 2010 initi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althy People 201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have demonstrated a link between intimate partner violence (IPV) and 8 out of 10 the Leading Health Indicators (LH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V significant risk factor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health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aches, GI problems, depression, anxiety, sleep problems, PT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risk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tance abuse, irresponsible sexual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ading Health Indicators and Intimate Partner Viole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weight and obe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bacc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ance ab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ual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al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jury and vio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uniz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health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ues to viol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s you may consider ask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es your partner act extremely jealous of others who pay attention to you, or use jealousy to justify his/her actions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rol your finances, behavior and even whom you socialize with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reaten to kill you or commit suicide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ke you afraid by using looks, actions, and gestures like smashing things, destroying your property or displaying weapons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ke all the decisions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op you from seeing or talking to friends, family or limits your outside involvement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t like the abuse is no big deal; it's your fault or even denies doing it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reatens to kill your pets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ts you down in front of other people, humiliates you, plays mind games and makes you feel as if you are crazy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vents you from getting or keeping a job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kes your money or does not let you know about or have access to the family income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ame drugs or alcohol for his violent behavior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reatens to take the children away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mewhere we can all sta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natal ca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ho are victims of IPV are less likely to access healthcare, but this is a time they do access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iolence in Pregnan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micide is the second leading cause of traumatic death for pregnant and recently pregnant women in the U.S., accounting for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1 percent of maternal injury death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men experiencing abuse in the year prior to and/or during a recent pregnancy ar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0 to 60 percent more likel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an non-abused women to report high-blood pressure, vaginal bleeding, severe nausea, kidney or urinary tract infections and hospitalization during pregnancy and are 37 percent more likely to deliver preterm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ildren born to abused mothers ar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7 percent more likel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 be born underweight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re than 30 percent more likel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an other children to require intensive care upon birt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ew doctors screen their patients for abuse, even though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 to one in 1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pregnant women are batter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men who were screened for abuse and given a wallet sized referral reported fewer threats of violence, assaults or even harassment at wor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mestic Viol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be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tern of controlling and assaultive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ort to gain power and maintain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ing all my prenatal patients at least once while following them during their 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residenc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an area on the prenatal record that indicates we (not Healthy Start) have addressed it in prenatal care at least o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mily Medicine Pract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our patients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urge everyone to remind yourself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patient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 with them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them the information they need to prevent, treat and escape a harmful sit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nger Management for Families - Center for Human Dev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91 Taylor Boulevard, Suite 120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leasant Hill, CA  94523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687-8844 Ext. 224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sian Pacific Psychological Services - Richmond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905 MacDonald Street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233-7555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mestic Violence Support Group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919 Roosevelt Ave.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233-8595 Information 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mestic Violence Treatment Program - Alpha Family Services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1 Raye Avenu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akley, CA  94561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625-9318 Confidential Lin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amilias Seguras - ECMHP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101 Macdonald Avenu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412-9200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orean Community Center of the East Ba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390 Telegraph Avenue, Suite A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akland, CA  94609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547-2662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eace Creations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960 Camino Diablo, Suite 200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alnut Creek, CA  94597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988-9505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COVI - Centro de Educacion Familiar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74 Valencia Street, Suite 150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an Francisco, CA  94103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415) 552-1361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iley Center - Community Office - St. Vincent De Paul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543-18th Street, # 4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an Francisco, CA  94110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415) 255-0165 Crisis lin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aving Our Sons and Daughters - Concord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039 Willow Pass Road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cord, CA  94519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432-4200  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aving Our Sons and Daughters - Pittsburg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330 Loveridge Road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ittsburg, CA  94565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432-4200  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aving Our Sons and Daughters - Richmond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98 Nevin Avenu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hmond, CA  94801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215-0130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gal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y Area Legal Aid - East/Central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1 Railroad Avenue, Suite D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ttsburg, CA  9456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00) 551-5554 Toll free Advice Line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y Area Legal Aid - West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25 Macdonald Avenu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, CA  94801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510) 233-9954 Offi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mestic Violence Restraining Order Clinic - Pittsburg - STAND!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ttsburg, CA  94563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mestic Violence Restraining Order Petitioners Clinic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 Superior Cour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-37th Stree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510) 965-4048 Clinic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mestic Violence Restraining Order Respondents Clinic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 Superior Cour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-37th Stree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510) 965-4048 Clinic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gal Advocacy Program - STAND!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cord, CA  94524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elter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ian Women's Shelter (AWS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543-18th Street, Suite 19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Francisco, CA  9411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77) 751-0880 Crisi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mergency Shelter - STAND!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ord, CA  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88) 215-5555 Crisis hotli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meless Assistance Program - CCCEHSD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0 Ellinwood Wa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easant Hill, CA  94523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925) 602-9379 Pleasant Hil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orean Community Center of the East Bay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390 Telegraph Avenue, Suite A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akland, CA  94609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510) 547-2662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 Casa de Las Madre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63 Mission Street, Suite 225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Francisco, CA  94103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15) 503-0500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ley Center - Brennan House - St. Vincent De Paul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Francisco, CA  9411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15) 255-2894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ley Center - Rosalie House - St Vincent De Paul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Francisco, CA  9411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15) 255-0165 Crisis li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fe At Home Confidential Address Progra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00 11th Stre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cramento, CA  95814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77) 322-5227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helter Against Violent Environments, Inc. (SAVE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9155 Liberty Street, Suite C31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mont, CA  94538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510) 794-6055 24 hour Crisis Hotline 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ster Me Home Safe House - Building Futures for Women &amp; Childr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85 Bancroft, Suite 13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Leandro, CA  94577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66) 292-9688 866-A-WAY-OUT 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i-Valley Hav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663 Pacific Avenu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rmore, CA  9455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00) 884-8119 Toll-Fre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tiple Servic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itr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34 East Gish Road, Suite 200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nnyvale, CA  95112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862-4874 (888) 8 MAITRI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rika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O. Box 14014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rkeley, CA  94712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00) 215-7308 Helpli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orean Community Center of the East Ba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390 Telegraph Avenue, Suite A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akland, CA  94609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510) 547-2662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 Casa de Las Madre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663 Mission Street, Suite 22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n Francisco, CA  94103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415) 503-0500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ND! Against Domestic Violence - Central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10 Danzig Plaza, 2nd Floor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cord, CA  94520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ND! Against Domestic Violence - East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00 Sycamore Street, #6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tioch, CA  94509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ND! Against Domestic Violence - West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230 San Pablo Av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ero Tolerance for Domestic Violence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contracostazt.org/background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ifornia Partnership to end domestic violence (CPEDV)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www.cpedv.org/sta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y Violence Prevention Fund http://www.endabuse.org/content/action_center/detail/7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y Violence Prevention Fund Facts on Reproductive Health and Violence against women http://www.endabuse.org/userfiles/file/Children_and_Families/Reproductive.pd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! Against Domestic Violence http://www.standagainstdv.org/aboutdomviolence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fe Network http://www.safenetwork.net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11 Database http://www.irissoft.com/cccc/search.a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b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lo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x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/emo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mploy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nce ab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less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sure to other violence in the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: knows NO bound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ational Stat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 average, more than three women are murdered by their husbands or boyfriends in this country every day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Bureau of Justice Statistics Data Brief, Intimate Partner Violence, 1993-2001, February 2003).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ty seven percent of women who sought treatment in an emergency room for violence-related injuries were injured by a current or former intimate partner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U.S. Department of Justice, Violence by Intimates: Analysis of Data on Crimes by Current or Former Spouses, Boyfriends, and Girlfriends, March 1998).</a:t>
            </a:r>
            <a:br>
              <a:rPr sz="10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buse in relationships exists among all classes, races and cultural groups, although women between ages 16 and 24 are nearly three times more vulnerable to intimate partner violence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Intimate Partner Violence &amp; Age of Victim, U.S. Department of Justice, Bureau of Justice Statistics, 1999).</a:t>
            </a:r>
            <a:br>
              <a:rPr sz="10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recent National Crime Victimization survey found that women were 6 times more than men to experience violence at the hands of an intimate partner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cpedv.org/stats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lifornia Stat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ery year, almost 6% of California ’s women suffer physical injuries from domestic violence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California Women’s Health Survey, 1998-99).</a:t>
            </a:r>
            <a:br>
              <a:rPr sz="10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2002, 153 murders were the result of intimate partner violence in California 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California Department of Justice [DOJ], Criminal Justice Statistics)</a:t>
            </a:r>
            <a:br>
              <a:rPr sz="10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2002, 128 women in California were killed by their husbands, ex-husbands or boyfriends, and 25 men were killed by their wives, ex-wives or girlfriends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DOJ, Criminal Justice Statistics Center )</a:t>
            </a:r>
            <a:br>
              <a:rPr sz="10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lifornia law enforcement received 196,569 domestic violence calls in 2002 --- 119,850 involved weapons, including firearms and knives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DOJ, Criminal Justice Statistics Center )</a:t>
            </a:r>
            <a:br>
              <a:rPr sz="10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bout 916,000 children were exposed to intimate partner violence at home in 1998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Department of Health Services, California Women’s Health Survey, 1998-99)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arly 1 in 5 women who went hungry because they did not have enough money to buy food was also a victim of intimate partner violence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Department of Health Services, California Women’s Health Survey, 1998-99).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cpedv.org/stats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ra Costa Coun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t risk cities in the three regions (east,west,central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ch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o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acking syst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of the Sheriff maintai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ated Regional Information Exchange System 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database and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estic Violence Relational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ked to vital criminal justice rec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be accessed by multiple agen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ing investigative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ks active warrants, restraining orders, case disposition, terms of parole, injury specif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more info at: www.cocosheriff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ero Toler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 created in 2000 to address domestic, family and elder abuse/violence in Contra Costa Coun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Zero Tolerance county in Californi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s and delivers direct services to people through partner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s policy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borate with, amongst many, STAND! against domestic viol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Zero Tolerance for domestic violence"/>
          <p:cNvPicPr/>
          <p:nvPr/>
        </p:nvPicPr>
        <p:blipFill>
          <a:blip r:embed="rId1"/>
          <a:stretch/>
        </p:blipFill>
        <p:spPr>
          <a:xfrm>
            <a:off x="2209680" y="457200"/>
            <a:ext cx="581040" cy="885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Zero Tolerance for domestic violence"/>
          <p:cNvPicPr/>
          <p:nvPr/>
        </p:nvPicPr>
        <p:blipFill>
          <a:blip r:embed="rId2"/>
          <a:stretch/>
        </p:blipFill>
        <p:spPr>
          <a:xfrm>
            <a:off x="638280" y="457200"/>
            <a:ext cx="15714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3T22:06:15Z</dcterms:created>
  <dc:creator>Lizi</dc:creator>
  <dc:description/>
  <dc:language>en-US</dc:language>
  <cp:lastModifiedBy>Lizi</cp:lastModifiedBy>
  <dcterms:modified xsi:type="dcterms:W3CDTF">2009-01-06T05:20:38Z</dcterms:modified>
  <cp:revision>8</cp:revision>
  <dc:subject/>
  <dc:title>Domestic Violence</dc:title>
</cp:coreProperties>
</file>