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E34-5218-40E4-972E-D21C46EE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CD3-086F-40EA-8075-BD7E45CB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C41-4355-4B8F-8DFA-B72D26D2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4D7-3917-42FF-85E5-8BE943B1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961-FECB-404C-8423-89AD721C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1C1C-2665-4B4E-9A04-7BE7067C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8ACE-606D-4B97-9200-54486C3C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42AD-6272-4120-BE6C-275CC445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DD03-1A45-45E5-97C3-D1BEFFC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BA13-B6D5-4D29-95F0-F8DBB6B7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41D7-5BF2-41DD-93C4-153810A5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9D9-0634-4F19-9512-78799C5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45A-6BFB-49F2-B879-F6B31BE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9965-8288-4025-988D-84A8BEC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0183-93AF-4B06-982E-8F813A6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95C-292E-474A-9043-793AE5A6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AE44-A016-46A7-A64E-E3BABEBB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39C-ECC2-4FF7-9FD9-954A98C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034-BFC6-412E-802A-96B37D5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E80-9364-4500-BE4C-2D87EA5A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F98-DFA0-4A4E-AA66-AED7E8D0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6A2-9868-46A6-BE6C-CE678B6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E73-9432-47CD-A1C2-CF1D624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102-2B3F-4D4F-A306-82E904A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8895-2F84-49C1-A8AF-0FB232024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22CA-3C9D-4CBB-8C11-91A595186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ntracostazt.org/background.php" TargetMode="External"/><Relationship Id="rId2" Type="http://schemas.openxmlformats.org/officeDocument/2006/relationships/hyperlink" Target="http://www.cpedv.org/stat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dress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W Bier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 Vis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LT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first time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s to encourage a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and Bright F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contracostazt.org/documents/posters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114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d as a volunteer crisis line in 1977 (C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me Battered Women’s alternatives with addition of resources/shel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opening shelter centers (emergency and transit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aret Lesher Housing and Employment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ie Mulle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has offices in all regions of the coun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och, Richmond, Pittsburg being the newest in 2002/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 Staff and 150+ volunt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n STAND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to people who are abus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programs to people who ab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education programs to youth, children and adults who might experience abuse in the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Domestic violence posters and referral cards from STA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them to residents with clinics outside of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rtinez, placed them in the Family Medicine clinic bat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referral cards to several residents (I have more, and will be getting more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inuing 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TAND! to give a presentation to our staff – Physicians, Nurses, Social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ore cogniz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reen my patients, and recognize features suggestive of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ze myself with Healthy People 2010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lthy People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have demonstrated a link between intimate partner violence (IPV) and 8 out of 10 the Leading Health Indicators (LH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 significant risk factor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s, GI problems, depression, anxiety, sleep problems, 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isk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irresponsible sexual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ading Health Indicators and Intimate Partner Vio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weight and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and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es to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you may consider as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 your partner act extremely jealous of others who pay attention to you, or use jealousy to justify his/her act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your finances, behavior and even whom you socialize with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 to kill you or commit suicid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you afraid by using looks, actions, and gestures like smashing things, destroying your property or displaying weap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all the decis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 you from seeing or talking to friends, family or limits your outside involvemen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 like the abuse is no big deal; it's your fault or even denies doing i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kill your pe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ts you down in front of other people, humiliates you, plays mind games and makes you feel as if you are craz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vents you from getting or keeping a job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s your money or does not let you know about or have access to the family incom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me drugs or alcohol for his violent behavi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take the children awa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where we can all st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natal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are victims of IPV are less likely to access healthcare, but this is a time they do acces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olence in Pregnan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micide is the second leading cause of traumatic death for pregnant and recently pregnant women in the U.S., accounting f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 percent of maternal injury death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experiencing abuse in the year prior to and/or during a recent pregnancy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 to 6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non-abused women to report high-blood pressure, vaginal bleeding, severe nausea, kidney or urinary tract infections and hospitalization during pregnancy and are 37 percent more likely to deliver preter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ldren born to abused mothers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be born underweight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than 3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other children to require intensive care upon bi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 doctors screen their patients for abuse, even thoug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to one in 1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egnant women are batter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who were screened for abuse and given a wallet sized referral reported fewer threats of violence, assaults or even harassment at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b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controlling and assaultiv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to gain power and maint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all my prenatal patients at least once while following them during thei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sid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rea on the prenatal record that indicates we (not Healthy Start) have addressed it in prenatal care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dicine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our patient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urge everyone to remind yourself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patie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them the information they need to prevent, treat and escape a harmful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ger Management for Families - Center for Human Dev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 Taylor Boulevard, Suite 12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87-8844 Ext. 224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ian Pacific Psychological Service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05 MacDonald Stree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755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Support Grou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9 Roosevelt Ave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8595 Information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Treatment Program - Alpha Family Service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1 Raye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ey, CA  9456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25-9318 Confidential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milias Seguras - ECMH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101 Macdonald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412-920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eace Creation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60 Camino Diablo, Suite 20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nut Creek, CA  94597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988-950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COVI - Centro de Educacion Familia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4 Valencia Street, Suite 15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552-1361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ley Center - Community Office - St. Vincent De Pau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543-18th Street, # 4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Concor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39 Willow Pass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cord, CA  9451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Pittsburg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30 Loveridge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98 Nevin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15-013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East/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1 Railroad Avenue, Suite 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551-5554 Toll free Advice 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25 Macdonald Avenu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233-9954 Offi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Clinic - Pittsburg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Petitioner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Respondent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gal Advocacy Program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t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ian Women's Shelter (AWS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43-18th Street, Suite 1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751-0880 Cris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ergency Shelter - STAND!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ord, CA  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meless Assistance Program - CCCEHS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Ellinwood Wa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925) 602-9379 Pleasant Hi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Brennan House - St.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2894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Rosalie House - St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At Home Confidential Address Progra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0 11th Stre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cramento, CA  95814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322-5227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elter Against Violent Environments, Inc. (SAVE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9155 Liberty Street, Suite C3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mont, CA  94538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794-6055 24 hour Crisis Hotline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ster Me Home Safe House - Building Futures for Women &amp; Childr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85 Bancroft, Suite 1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Leandro, CA  94577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66) 292-9688 866-A-WAY-OUT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-Valley Hav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63 Pacific Avenu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more, CA  9455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00) 884-8119 Toll-Fr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Ser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tr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4 East Gish Road, Suite 20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nnyvale, CA  951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862-4874 (888) 8 MAITRI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rik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O. Box 1401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keley, CA  947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215-7308 Help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10 Danzig Plaza, 2nd Floo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Ea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00 Sycamore Street, #6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och, CA  945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230 San Pablo A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Tolerance for Domestic Violence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ontracostazt.org/background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Partnership to end domestic violence (CPEDV)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cpedv.org/sta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http://www.endabuse.org/content/action_center/detail/7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Facts on Reproductive Health and Violence against women http://www.endabuse.org/userfiles/file/Children_and_Families/Reproductive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! Against Domestic Violence http://www.standagainstdv.org/aboutdomviolenc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 Network http://www.safenetwork.ne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1 Database http://www.irissoft.com/cccc/search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/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other violenc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: knows NO bound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average, more than three women are murdered by their husbands or boyfriends in this country every day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ureau of Justice Statistics Data Brief, Intimate Partner Violence, 1993-2001, February 2003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ty seven percent of women who sought treatment in an emergency room for violence-related injuries were injured by a current or former intimate partner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U.S. Department of Justice, Violence by Intimates: Analysis of Data on Crimes by Current or Former Spouses, Boyfriends, and Girlfriends, March 1998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use in relationships exists among all classes, races and cultural groups, although women between ages 16 and 24 are nearly three times more vulnerable to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Intimate Partner Violence &amp; Age of Victim, U.S. Department of Justice, Bureau of Justice Statistics, 1999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recent National Crime Victimization survey found that women were 6 times more than men to experience violence at the hands of an intimate partn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ifornia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ry year, almost 6% of California ’s women suffer physical injuries from domestic violence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Women’s Health Survey, 1998-99).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53 murders were the result of intimate partner violence in California 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Department of Justice [DOJ], Criminal Justice Statistics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28 women in California were killed by their husbands, ex-husbands or boyfriends, and 25 men were killed by their wives, ex-wives or girlfriend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ifornia law enforcement received 196,569 domestic violence calls in 2002 --- 119,850 involved weapons, including firearms and knive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out 916,000 children were exposed to intimate partner violence at home in 1998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arly 1 in 5 women who went hungry because they did not have enough money to buy food was also a victim of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a Costa Coun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t risk cities in the three regions (east,west,central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cking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the Sheriff mai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gional Information Exchange System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database a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Violence Relational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ed to vital criminal justice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ccessed by multiple a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investigative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 active warrants, restraining orders, case disposition, terms of parole, injury specif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ore info at: www.cocosheriff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reated in 2000 to address domestic, family and elder abuse/violence in Contra Costa Cou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Zero Tolerance county in Californi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nd delivers direct services to people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s polic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, amongst many, STAND! against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Zero Tolerance for domestic violence"/>
          <p:cNvPicPr/>
          <p:nvPr/>
        </p:nvPicPr>
        <p:blipFill>
          <a:blip r:embed="rId1"/>
          <a:stretch/>
        </p:blipFill>
        <p:spPr>
          <a:xfrm>
            <a:off x="2209680" y="457200"/>
            <a:ext cx="581040" cy="885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Zero Tolerance for domestic violence"/>
          <p:cNvPicPr/>
          <p:nvPr/>
        </p:nvPicPr>
        <p:blipFill>
          <a:blip r:embed="rId2"/>
          <a:stretch/>
        </p:blipFill>
        <p:spPr>
          <a:xfrm>
            <a:off x="638280" y="457200"/>
            <a:ext cx="1571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22:06:15Z</dcterms:created>
  <dc:creator>Lizi</dc:creator>
  <dc:description/>
  <dc:language>en-US</dc:language>
  <cp:lastModifiedBy>Lizi</cp:lastModifiedBy>
  <dcterms:modified xsi:type="dcterms:W3CDTF">2009-01-06T05:20:38Z</dcterms:modified>
  <cp:revision>8</cp:revision>
  <dc:subject/>
  <dc:title>Domestic Violence</dc:title>
</cp:coreProperties>
</file>