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27223-9794-4B91-861C-4372A14DE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32BFE-9827-4029-AB79-09CF17052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2AE08-1860-4FB1-B777-CE781738E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30353-AE1C-49FF-A9B0-BEC20CAE8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6C284-0FE9-4391-A8A9-6A7772C2E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D4505-2836-4E37-939A-FBDB23C3E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A2DE9-0E90-4047-9909-97092296A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DB4B4-5BF3-44FB-9FEA-89D9DB361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5D2E1-45AD-4773-987F-35ADCEFF3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F03FE-31A2-4508-9CAE-B63A892EC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0B71-B5DB-4539-BFF1-4995F439B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222E4-FA73-4002-BF4C-C83FC08C3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B435-E0DE-44E0-A30F-F435C6EB3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9CBD-99D2-42AF-9CF6-2CE8563C3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6BB89-E623-43EE-A120-43141EA0F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7780C-8AA1-4EF1-826A-3AD6CDC65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83ED2-DFF8-4530-BC67-8A06003F0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79A891-4426-4276-A4A8-9E0A3B9C8A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1063E-0EE5-4DC1-9A0A-46CBBCAC9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60823-3BE9-4E7E-B15D-F749B8E63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ED18D0-A77C-4699-B8D6-040B98435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A2A13-4AA3-4AFD-B236-3F883BB3D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91E8B-0F49-46BE-90CB-908A2CBC7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08188-F016-4EC4-BB02-AAC6641A7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55461-DAB4-420F-908F-F6D49F04F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156428-25E9-4D54-A172-FD2D1066F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D6BF0-BC23-4940-9638-CDFCF09AF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D805E-03D4-4F1A-A412-B76DE6303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E30D2E-6B00-44B6-B320-F5B997FAAA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435EC-881B-4E4C-8218-6D55FBE501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5AED13-BC26-4E1F-B690-F3175E241E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1383B-E5D0-4E1D-98E4-C739F57C6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2F4D32-0E58-4B82-9FC1-797F7BF43C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EA408-25BE-4F09-AA3F-1598893F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14763-1446-4E6D-9C16-CFAE7AFCA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06826-878E-47E0-AAB9-782C07437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67073-D2E4-4110-A5C9-34C05E8AD2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F3B90-7092-484D-A91D-FB716345B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5B1B8-AA38-47ED-B552-690D0F084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D55F1-2C30-4998-81A1-C8FA38179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5DBC0-3505-47BF-93CA-286A4EDDD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B02E4-40E4-428E-8F1C-A324A62668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C4304D-90ED-4C6E-9973-48C9E5BBE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28A58-7D61-41D1-937F-3F3FD8FC7A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586D1-460E-4CB1-BE63-776F76A7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457AC-FF40-4B16-8082-C1AA03370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CCECFD-3796-4EC8-A934-579D44EEC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ED2A9-1758-4A38-A232-F3E826C7A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73403-DE44-4AE6-954D-C9098340D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E7EC6-55F4-4113-A1C7-F43DDCD6E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9E5DA-923A-4F72-8B06-8AA809CEB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A0403-D4E4-427D-960E-9F0B31A22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8F7F1-3BFE-4751-9213-640011881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AC45A-8572-4D4E-849D-5D8AF18FFB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C08C76-8154-4372-AC5F-49185AA419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D5D5F-0296-4C84-8E26-7C22F713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0E9CD4-B876-4E86-B70A-26CF827B90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47527-F98D-464D-AD0F-3FD430D2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DC64-0888-4F04-80B6-42906235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F16C-7FA7-4FEF-8D5D-DD4E87412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41AA-29AB-4F7E-B768-EE987CA92EB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1662-9D9A-46A9-8D92-B02DE73F23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5051-B4DA-419E-9BD5-B91A40EFA57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CA13-E5EA-43E7-8193-51C1857BBF3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9513-D6E2-4229-A3FA-6669A206C4C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29" name="Content Placeholder 3" descr="IMG_1766.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ehavioral problems and CEV</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velopmentally appropriate manifesta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a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ddl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ary school</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olescent</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hysical Illnes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thm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iarrhe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i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ilure to thri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CE stud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hildren Exposed to Violence are:</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hildren with predictable, increased health care need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nd should  hav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ave access to a medical home to meet those need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Opportunity </a:t>
            </a:r>
            <a:endParaRPr b="0" lang="en-US" sz="40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in ideal position to identify DV / CEV</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igh risk time for women &amp; frequent visits to MD</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me women don’t seek care for self but do for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omen DO disclose when asked</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merican Academy of Pediatrics</a:t>
            </a: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AP Committee on Child Abuse and Neglect (1998) Policy Statement:  </a:t>
            </a:r>
            <a:r>
              <a:rPr b="0" i="1" lang="en-US" sz="2600" spc="-1" strike="noStrike">
                <a:solidFill>
                  <a:srgbClr val="000000"/>
                </a:solidFill>
                <a:latin typeface="Perpetua"/>
              </a:rPr>
              <a:t>The Role of the Pediatrician in Recognizing and Intervening on Behalf of Abused Wome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the abuse of women is a pediatric issu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intervening on behalf of battered women is an active form of child abuse prevention”</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pediatricians are in a position to recognize abused women in pediatric settings”</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questions about DV should become part of anticipatory guidance”</a:t>
            </a:r>
            <a:endParaRPr b="0" lang="en-US" sz="26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AP recommends</a:t>
            </a:r>
            <a:endParaRPr b="0" lang="en-US"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ed residency and CME education &amp; trai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attempt to recognize evidence of family or intimate partner violence in the office sett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intervene in a sensitive and skillful manner that maximizes the safety of women and children victim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diatricians should support local and national multidisciplinary efforts to recognize, treat and prevent family and intimate partner violen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805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Fewer than 10% pediatricians routinely screen for DV</a:t>
            </a:r>
            <a:endParaRPr b="0" lang="en-US" sz="36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rrier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Education / Training</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ime</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erception</a:t>
            </a:r>
            <a:endParaRPr b="0" lang="en-US" sz="22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ense of powerlessness</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anguage / cultural sensitivity</a:t>
            </a:r>
            <a:endParaRPr b="0" lang="en-US" sz="22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V screening practice</a:t>
            </a:r>
            <a:endParaRPr b="0" lang="en-US"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Varies : written forms,  as part of safety/environmental screen</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mmendations:</a:t>
            </a:r>
            <a:endParaRPr b="0" lang="en-US" sz="24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women in pediatric settings should be screened for DV</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hould not screen when partner in the room</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Women do disclose DV when asked by a skilled provider in face to face</a:t>
            </a:r>
            <a:endParaRPr b="0" lang="en-US" sz="2200" spc="-1" strike="noStrike">
              <a:solidFill>
                <a:srgbClr val="000000"/>
              </a:solidFill>
              <a:latin typeface="Perpetua"/>
            </a:endParaRPr>
          </a:p>
          <a:p>
            <a:pPr marL="240120" indent="-240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lvl="1" marL="481680" indent="-2008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ufficient evidence to recommend specific screening practice</a:t>
            </a:r>
            <a:endParaRPr b="0" lang="en-US" sz="22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creening for DV</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 part of child anticipatory guidanc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troductory statemen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rect vs. indirect question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clude questions to adolescents and older childre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sk with children in room? (probably)</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irst assess safety of mother &amp; children</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ticulate concern over woman and children’s saf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braham Rice, MD</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edical Director, Foster Care Clinic</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tra Costa Regional Medical Center </a:t>
            </a:r>
            <a:endParaRPr b="0" lang="en-US" sz="2600" spc="-1" strike="noStrike">
              <a:solidFill>
                <a:srgbClr val="000000"/>
              </a:solidFill>
              <a:latin typeface="Perpetua"/>
            </a:endParaRPr>
          </a:p>
        </p:txBody>
      </p:sp>
      <p:sp>
        <p:nvSpPr>
          <p:cNvPr id="23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Domestic Violence in Pediatric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nnect any concerns over child to DV (behavior, academic, emot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information about resources and help – culturally and linguistically appropriat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isclosures of DV: Physician’s Role</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shelter / support group / DV advocates or hotlin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ffer to create a safety plan &amp; schedule follow up appoint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pic>
        <p:nvPicPr>
          <p:cNvPr id="273" name="Content Placeholder 3" descr="IMG_2749.jpg"/>
          <p:cNvPicPr/>
          <p:nvPr/>
        </p:nvPicPr>
        <p:blipFill>
          <a:blip r:embed="rId1"/>
          <a:stretch/>
        </p:blipFill>
        <p:spPr>
          <a:xfrm>
            <a:off x="1782720" y="1469880"/>
            <a:ext cx="603576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ke home messages</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ediatric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 CEV is preval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t high risk many bad outcom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 should screen for, diagnose and treat violence and it’s predictable sequela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Problem of Children </a:t>
            </a:r>
            <a:br>
              <a:rPr sz="3600"/>
            </a:br>
            <a:r>
              <a:rPr b="0" lang="en-US" sz="3600" spc="-1" strike="noStrike">
                <a:solidFill>
                  <a:srgbClr val="696464"/>
                </a:solidFill>
                <a:latin typeface="Franklin Gothic Book"/>
              </a:rPr>
              <a:t>Exposed to Violence</a:t>
            </a:r>
            <a:endParaRPr b="0" lang="en-US" sz="36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etween 7 – 15 million children witness DV per year.</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more likely experience emotional and behavioral problem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reatly at risk for abuse and poverty</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V are a medical issu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finition of Domestic Violence</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V is “a pattern of coercive behaviors that may include repeated battering and injury, psychological abuse, sexual assault, progressive social isolation, deprivation and intimidation.  These behaviors are perpetrated by someone who is or was involved in an intimate relationship with the victim”</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ffects of Domestic Violence</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found effects on neurodevelopment</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arlier exposure = worse outc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motional / Developmental / Academic / Behavioral / Physical problems AND potentially limited access to resources (medical care, mental health care, developmental support, academic suppor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motional problems and CEV</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pressio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nxiet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T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DH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17160" y="722160"/>
            <a:ext cx="8637480" cy="14464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tachment system theory of development</a:t>
            </a:r>
            <a:endParaRPr b="0" lang="en-US" sz="4000" spc="-1" strike="noStrike">
              <a:solidFill>
                <a:srgbClr val="696464"/>
              </a:solidFill>
              <a:latin typeface="Franklin Gothic Book"/>
            </a:endParaRPr>
          </a:p>
        </p:txBody>
      </p:sp>
      <p:sp>
        <p:nvSpPr>
          <p:cNvPr id="24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3B9D-EB87-4367-8572-3CD8EEBE2DB5}" type="datetime">
              <a:rPr b="0" lang="en-US" sz="1400" spc="-1" strike="noStrike">
                <a:solidFill>
                  <a:srgbClr val="696464"/>
                </a:solidFill>
                <a:latin typeface="Arial"/>
              </a:rPr>
              <a:t>07/29/26</a:t>
            </a:fld>
            <a:endParaRPr b="0" lang="en-US" sz="1400" spc="-1" strike="noStrike">
              <a:solidFill>
                <a:srgbClr val="000000"/>
              </a:solidFill>
              <a:latin typeface="Arial"/>
            </a:endParaRPr>
          </a:p>
        </p:txBody>
      </p:sp>
      <p:sp>
        <p:nvSpPr>
          <p:cNvPr id="244" name="Slide Number Placeholder 4"/>
          <p:cNvSpPr/>
          <p:nvPr/>
        </p:nvSpPr>
        <p:spPr>
          <a:xfrm>
            <a:off x="228600" y="6248520"/>
            <a:ext cx="374760" cy="41904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990720" y="1980720"/>
            <a:ext cx="7696080" cy="40388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rmal development is absolutely dependent on a bond with a loving careg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ffect regulation may be the most essential aspect of a child’s developmen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evelopmental problems and CEV</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nguage (pre-verb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ocial / Emotional</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bnormal affect regulatio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gressive, separation issues</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velopmentally appropriate symptom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tor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yperarousable, withdrawn</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23:06:20Z</dcterms:created>
  <dc:creator>Abe</dc:creator>
  <dc:description/>
  <dc:language>en-US</dc:language>
  <cp:lastModifiedBy>Lydia Rodriguez</cp:lastModifiedBy>
  <dcterms:modified xsi:type="dcterms:W3CDTF">2009-10-13T18:33:23Z</dcterms:modified>
  <cp:revision>22</cp:revision>
  <dc:subject/>
  <dc:title>Slide 1</dc:title>
</cp:coreProperties>
</file>