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0B9DD-8BAB-4118-8797-CAE397321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7944-AC75-49C8-BAC9-C2227643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6B2A7-4616-4D90-A2A8-6ADCE7DD0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C2D01-BD93-4E74-8DBC-0B7153DD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15617-302F-46EB-92EB-0ED2AA573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1C37-4C11-4740-81B4-C8FCC9F6C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65239-CC5F-4221-9490-DE59596CD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1E7A8-0E45-4BF7-9CF5-E39859F71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1D1B-F6A2-47D3-A5DF-09EAE3629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DE016-29B8-4C58-8CBF-C93FC8FDC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45127-0CD0-4596-A2BA-0F8A95293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9D599-3040-4A95-9112-29B2166A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C43A0-416F-40FA-ABFF-6E6B496D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0FF22-4EE6-4A3E-B5B3-C2B5F8DE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F8A56-A140-451B-8A6A-A2016F09E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9FDCE-DE72-4F1D-A090-C2AFFF648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8D48A-7837-4BAC-A879-5910C577C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29986C-4CB4-4646-AF81-49AD4AAB6B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7DDD2-A040-477F-896F-8E7E6542F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85309-1863-4486-903D-7DE72C875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340A7-A9D7-425D-8D77-F7497B489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83AD5-2A9B-42F6-8FD9-57EF87E2B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1539-66CD-4A6B-9F61-847DFB1E8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F03C0-5D19-44D2-BDC9-460404516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F809F-6D27-43DE-885D-8CC7156CF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7730D-5655-4A81-AB73-8A2A3F7D6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7F842-3E6A-47E2-BE60-2C6AFD8B8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233C9-2CCD-4B12-BAA7-9D59CCEA1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BB794-A59D-4A57-B022-044534D39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BFEFF-15D3-435F-8D62-3D99C5A65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7543D5-7E40-4259-B786-94384A626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B47B5-30EB-489C-95CE-03DED39D8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BA8A3-0327-408A-9680-885473C58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AA74-F9D5-42EF-90AA-80B3B3C6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A6157-2530-4E60-8A2D-C1E410CAF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CA8D6-98FE-4811-A46B-1C23F104B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5F55D-35EE-4C63-BD73-0995D6FAE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388EB-3948-4C8D-91B3-1571920F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D756E-1FA8-4CB2-BB92-9055B6BB1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DB447-5033-49C8-8161-8C3086BBB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D7171-3483-4612-9B7B-3F977F55A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A5D69F-4DF3-4552-BB66-5EA4D60EC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83BC1F-DBEB-4D8A-BD9C-EB68A5BF9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6B1DB0-E1F0-4CEB-8649-0C40C28FF8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61CE-272E-4356-98BE-709A5496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D0145-10DA-4F4A-BCA3-E6A75F8B9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222AE-E84C-4BD4-A18F-18337CBCD8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FC673F-085D-4140-A6FD-4C4520787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35FC4-6B5C-4730-A48E-3F054B428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F99ED-AB89-430D-92D0-8F04F71FDD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CAE7C-6502-4D4F-AA27-4049D3F98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40D23-99BC-4560-989C-84894FEC7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04105-3E90-4D79-A509-0AEC8E343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D712F-E7A6-4219-AED9-D9AA31A60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17E1DC-4E0B-4550-803D-E5BEABCAB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9C934-D0DE-489A-82B1-02D1621B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A9B89A-A4CB-4F71-B7FC-DB2CCA690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E1D1-8143-4C46-B333-2D006B4D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29DA-D350-4FC5-A00A-D32806B5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334DB-C28C-419D-A9AE-2F2E18B17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CEBF-E6F0-482B-9027-3845DD7BBB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8692-6882-4967-8C59-A6DE2AF267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39DD-C011-468A-88D5-BD48B0F286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8A1F-DD8C-4178-8C34-43A5B5C678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D292-5E5A-4FBD-BA21-3DD4FDEB44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262D-D42C-44CF-B196-384DB5C47B7D}" type="datetime">
              <a:rPr b="0" lang="en-US" sz="1400" spc="-1" strike="noStrike">
                <a:solidFill>
                  <a:srgbClr val="696464"/>
                </a:solidFill>
                <a:latin typeface="Arial"/>
              </a:rPr>
              <a:t>07/31/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Lydia Rodriguez</cp:lastModifiedBy>
  <dcterms:modified xsi:type="dcterms:W3CDTF">2009-10-13T18:33:23Z</dcterms:modified>
  <cp:revision>22</cp:revision>
  <dc:subject/>
  <dc:title>Slide 1</dc:title>
</cp:coreProperties>
</file>