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E28F2-5BCE-434F-A027-641A882A8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87A32-8661-4612-9E8B-0BF059499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205A8-66B4-4532-8D96-B87E1A424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1E07-73FC-46AA-B24E-3A8B25959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54E36-9260-47C2-BFC8-502CC5FD3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8A3F1-9E05-4F85-BF39-B533293CB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BB8D-BD55-4027-8928-CBC3F549D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DE5D-18A9-4D36-825B-E76A777A6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EF2E9-CDBE-4F13-87EF-C39F54D15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71038-9690-4ED7-80E9-3BD1C3DBE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ED1BA-3810-43B7-B4B7-DC0F2999D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8FB58-CD71-43A2-9D96-2435E51C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E9F8A-524A-4E4D-BB04-95CF565C7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1D92-E56D-4A92-B092-4CAFF1DC8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AAAC7-11A0-4D4A-8CA1-2321023E2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46868-9A82-46A4-9C0D-74B230046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8868E-F28E-4230-A94C-9909FD5ED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FE34B0-E1B3-471B-B99B-7987D01877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846AC-AF00-44D5-BB28-9CEDB32AAB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74EF5-25A5-4021-8B0E-71A7870DE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7BA1B7-F885-4F42-B897-D374EDA01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061EC-E2DA-4584-A5F1-C46B51CA0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6F70-D8A7-47BE-A656-050E1728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2F836-32D1-46C1-90FB-E5A2A8A2E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79077-93AC-45C2-ABD7-470FC157F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035ED-E57D-4C8E-B111-37F85DFD5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068ED-0147-4217-A790-EF77F8FAC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8C865-F407-4EC2-9162-0C9EC5E29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22E99A-E37E-4BFC-BC21-AEB697520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CF4A8E-719D-4097-886A-037B38E2F3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483E6D-69D2-4976-9B22-4384352B35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4714C-983C-4687-BA1E-77A4BDB57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E68B8-DCE1-413F-88CB-512CA99F2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84009-2F37-470B-A985-C2FB5B7D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02D0C-1009-4BBA-A22D-93A8C6F50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47307-613D-4B45-9FE0-71DA15949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1B4D9-C86E-4AE1-B010-D13E8B98D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3AF19-7D13-410E-8289-1892F484F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0C5E5-A77C-4609-B9CD-94666BDDB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5EF77-4B24-4C03-AC8F-5C6BB7B5B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274C4B-C17B-4C5F-8099-A715A239F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7A2AA9-8E8B-42E9-AC87-055869B83E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9222F2-79A1-4D22-9E1F-993CC35BAB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D563C3-CE24-45D7-9173-50F6DB0630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7F3A3-9186-40C1-86D5-12272B3C1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B8979-F981-4A71-A9EB-039E8F7E7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0F61B-A855-4C67-9B68-2D849BDDB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66F381-8BD9-4ED5-8A89-5A8FFE4BF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00C510-E1A3-427F-8496-DCF2447BC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4F842-21C3-4115-AACE-2E7F09347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C4F96-F130-4A3B-9C6A-FD8A06367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62EDD-AACF-4AEE-B6D7-80F1F83B8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5A377-B575-4C99-A147-40FF62C80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57A98-4351-4B3F-9028-5E7886481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CD748D-B18C-4265-9369-3109FD319E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4F9E-BA4C-4A55-B172-EE9CA205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2C8467-B63A-4F5B-84D0-8DD0B04B94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8705-E817-4144-84FA-64E2A73A9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E385-D589-4AE7-BA46-BBD6F92C9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CC64-5996-48F0-A6CD-5E0DB4A3F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6767-FA29-48BB-A839-04987E280A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8A31-E1D5-4638-BCB3-DF2D66A7FF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0DB6-9CCC-4009-B945-EEB0558CBC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27AA-22F3-43C7-90D1-3EB9E74428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DD75-D8FD-4EC7-90FA-D551353363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7411-934B-46B7-8CD7-81ED79F9058F}"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Lydia Rodriguez</cp:lastModifiedBy>
  <dcterms:modified xsi:type="dcterms:W3CDTF">2009-10-13T18:33:23Z</dcterms:modified>
  <cp:revision>22</cp:revision>
  <dc:subject/>
  <dc:title>Slide 1</dc:title>
</cp:coreProperties>
</file>