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276C7-6DC2-4B0A-900A-D863D120A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DD822-1DC2-45E3-A2ED-49732C637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3ED00-3771-49D0-B7C7-4CFBED3C8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B05B6-0B73-4D90-859D-7921B11E2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698EF-9AFC-476F-8891-0023AB474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B617E-0FC6-49E8-A524-2B1F44A7F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DE1DD-C40E-4A06-8858-3A7868601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5F8E1-6928-4A4C-8C0B-653C45D9C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F4AA8-EEA8-4ECE-9640-943B307EE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2C973-96EF-4939-86FC-28C799F3A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256CC-C69B-4A30-8293-A248712CB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A44DE-1D11-49CE-A1C8-309C4E018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962AA-34DB-4949-A468-17AB80E55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A8CF5-7841-410E-89BB-3FFA1893B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77ACB-277B-4261-8949-E86EA4E2C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FD95B-C784-4F3C-8272-58617DD79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D77D9-405F-4E8B-994E-1CBADA12B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12A6C9-6D9E-40C2-A3D6-FD1DF0DFA1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C8617-1A96-487B-9727-19B79628E1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4F1CE-881F-44DE-8C72-918B9D930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0A4849-4073-42C2-A343-AF85AAE6A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90D30E-8C52-4505-A7B9-C8D206698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A8D7F-2A96-4C18-A714-97156D610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B243A-9B1E-42C3-AA25-FD7A800F3F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78BE8-82C7-491B-802E-BC0F6731D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DE6AF-9BE6-4F73-8920-377728CAE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AF78E-0CC5-4959-848F-C0465A401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950AF-3728-4720-A99E-62E07D8CC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0F2ACF-222C-43CB-98CB-D6C9E6835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740F8E-098A-4DCE-A1A2-1FCCD79E98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B250EA-06A6-4B73-8AD2-A6E22349BB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DD009-89F0-4CB9-A608-A10174756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8477AB-643D-4828-B76E-42749B9F7F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15FCD-D52D-4F02-B23E-E185CB17F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7A9E6C-1087-42DC-B09F-7A626E8BFF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78EED-15EB-48E3-A910-F895B1106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E6C78-20DD-4600-88E7-43E20E951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5F60B-ADEA-4925-99B1-EC109CC09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BD21A-0AFA-4F09-8665-A130C962C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B2CA8-3813-4C24-99FF-AD12F251E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30D20-B492-444C-BD83-E39E0626EC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5357B2-C9AF-420B-A03E-A29B5A04BE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6F51D0-9B8A-4776-AE3A-9C267733FC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ECE62B-D78F-448D-BDDC-2BFEF87549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78713-5035-4F63-A2A2-A7726B2A4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76CF86-4930-44DB-A311-2B83AB93FF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1B1BF-3E75-46CE-8203-2C5C81D23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4F065B-C84B-4C13-BFE9-283494B724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1FACE-F2A6-4657-BCBD-AF7779FB6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F860A-F6D0-4685-BBCE-6C87781309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1FEF2-E781-4144-8BD6-DB8D0E080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FB549-6276-4816-9206-8027C3A08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8A390-ABA2-4B62-B570-112D22A3D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DDBA78-3346-4D4A-9142-4FF9B8B45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DFF8E5-C8C5-43FF-9704-45CD5FA237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575FB-7DF0-4690-AEC5-148934216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998C08-6B62-49BD-B6CB-61E1A91F43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E97B4-74FF-4379-8714-0AB0C0079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94697-61D3-46E5-9359-BFE32DB39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A92A5-CCDB-4296-B477-011DFF062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9838-FB32-4731-AE9D-DBFB97C096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6894-4193-498B-8F91-0E3D6E3253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BE79-909A-4A23-B3EF-6DE5D056CBE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2E80-07B5-46D5-95FA-5E33627412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F1F3-BDBE-4E8F-A679-193D9CE1A5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29" name="Content Placeholder 3" descr="IMG_1766.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ehavioral problems and CEV</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ally appropriate manifesta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a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ddl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mentary schoo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olesc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Illnes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thm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arrhe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thr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E stud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ildren Exposed to Violence are:</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ren with predictable, increased health care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should  hav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access to a medical home to meet those nee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portunity </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in ideal position to identify DV / CEV</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isk time for women &amp; frequent visits to M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me women don’t seek care for self but do for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men DO disclose when ask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merican Academy of Pediatrics</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P Committee on Child Abuse and Neglect (1998) Policy Statement:  </a:t>
            </a:r>
            <a:r>
              <a:rPr b="0" i="1" lang="en-US" sz="2600" spc="-1" strike="noStrike">
                <a:solidFill>
                  <a:srgbClr val="000000"/>
                </a:solidFill>
                <a:latin typeface="Perpetua"/>
              </a:rPr>
              <a:t>The Role of the Pediatrician in Recognizing and Intervening on Behalf of Abused Wome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the abuse of women is a pediatric issu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ntervening on behalf of battered women is an active form of child abuse preventio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ediatricians are in a position to recognize abused women in pediatric setting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questions about DV should become part of anticipatory guidanc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AP recommends</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residency and CME education &amp; trai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attempt to recognize evidence of family or intimate partner violence in the office set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intervene in a sensitive and skillful manner that maximizes the safety of women and children victi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support local and national multidisciplinary efforts to recognize, treat and prevent family and intimate partner viol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5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ewer than 10% pediatricians routinely screen for DV</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rrier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ducation / Training</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ime</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ception</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ense of powerlessnes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anguage / cultural sensitivity</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V screening practice</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aries : written forms,  as part of safety/environmental screen</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ations:</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women in pediatric settings should be screened for DV</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hould not screen when partner in the room</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omen do disclose DV when asked by a skilled provider in face to face</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ufficient evidence to recommend specific screening practice</a:t>
            </a:r>
            <a:endParaRPr b="0" lang="en-US" sz="22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creening for DV</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part of child anticipatory guidanc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roductory state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rect vs. indirect questio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questions to adolescents and older childre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k with children in room? (probabl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rst assess safety of mother &amp;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ticulate concern over woman and children’s saf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aham Rice, M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l Director, Foster Care Clinic</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a Costa Regional Medical Center </a:t>
            </a:r>
            <a:endParaRPr b="0" lang="en-US" sz="2600" spc="-1" strike="noStrike">
              <a:solidFill>
                <a:srgbClr val="000000"/>
              </a:solidFill>
              <a:latin typeface="Perpetua"/>
            </a:endParaRPr>
          </a:p>
        </p:txBody>
      </p:sp>
      <p:sp>
        <p:nvSpPr>
          <p:cNvPr id="23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omestic Violence in Pediatric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 any concerns over child to DV (behavior, academic, emot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information about resources and help – culturally and linguistically appropri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shelter / support group / DV advocates or hotlin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to create a safety plan &amp; schedule follow up appoint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73" name="Content Placeholder 3" descr="IMG_2749.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ke home messages</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ediatric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 CEV is preval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t high risk many bad outcom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should screen for, diagnose and treat violence and it’s predictable sequela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roblem of Children </a:t>
            </a:r>
            <a:br>
              <a:rPr sz="3600"/>
            </a:br>
            <a:r>
              <a:rPr b="0" lang="en-US" sz="3600" spc="-1" strike="noStrike">
                <a:solidFill>
                  <a:srgbClr val="696464"/>
                </a:solidFill>
                <a:latin typeface="Franklin Gothic Book"/>
              </a:rPr>
              <a:t>Exposed to Violence</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tween 7 – 15 million children witness DV per yea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more likely experience emotional and behavioral problem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eatly at risk for abuse and pover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 medical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finition of Domestic Violence</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attern of coercive behaviors that may include repeated battering and injury, psychological abuse, sexual assault, progressive social isolation, deprivation and intimidation.  These behaviors are perpetrated by someone who is or was involved in an intimate relationship with the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ffects of Domestic Violence</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found effects on neurodevelopmen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rlier exposure = worse outc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otional / Developmental / Academic / Behavioral / Physical problems AND potentially limited access to resources (medical care, mental health care, developmental support, academic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otional problems and CEV</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xi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T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H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17160" y="722160"/>
            <a:ext cx="8637480" cy="1446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achment system theory of development</a:t>
            </a:r>
            <a:endParaRPr b="0" lang="en-US" sz="4000" spc="-1" strike="noStrike">
              <a:solidFill>
                <a:srgbClr val="696464"/>
              </a:solidFill>
              <a:latin typeface="Franklin Gothic Book"/>
            </a:endParaRPr>
          </a:p>
        </p:txBody>
      </p:sp>
      <p:sp>
        <p:nvSpPr>
          <p:cNvPr id="243"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B8EB-FC9E-4A5C-9C90-2F11943D81A1}" type="datetime">
              <a:rPr b="0" lang="en-US" sz="1400" spc="-1" strike="noStrike">
                <a:solidFill>
                  <a:srgbClr val="696464"/>
                </a:solidFill>
                <a:latin typeface="Arial"/>
              </a:rPr>
              <a:t>07/31/26</a:t>
            </a:fld>
            <a:endParaRPr b="0" lang="en-US" sz="1400" spc="-1" strike="noStrike">
              <a:solidFill>
                <a:srgbClr val="000000"/>
              </a:solidFill>
              <a:latin typeface="Arial"/>
            </a:endParaRPr>
          </a:p>
        </p:txBody>
      </p:sp>
      <p:sp>
        <p:nvSpPr>
          <p:cNvPr id="244" name="Slide Number Placeholder 4"/>
          <p:cNvSpPr/>
          <p:nvPr/>
        </p:nvSpPr>
        <p:spPr>
          <a:xfrm>
            <a:off x="228600" y="6248520"/>
            <a:ext cx="3747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990720" y="1980720"/>
            <a:ext cx="769608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rmal development is absolutely dependent on a bond with a loving careg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fect regulation may be the most essential aspect of a child’s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velopmental problems and CEV</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nguage (pre-verb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al / Emotional</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normal affect regulatio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gressive, separation issu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ally appropriate symptom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to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erarousable, withdraw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23:06:20Z</dcterms:created>
  <dc:creator>Abe</dc:creator>
  <dc:description/>
  <dc:language>en-US</dc:language>
  <cp:lastModifiedBy>HCMARTINEZ</cp:lastModifiedBy>
  <dcterms:modified xsi:type="dcterms:W3CDTF">2009-10-14T19:11:33Z</dcterms:modified>
  <cp:revision>22</cp:revision>
  <dc:subject/>
  <dc:title>Slide 1</dc:title>
</cp:coreProperties>
</file>