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9E6A-3EDB-4483-B8F8-E43E98846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F05E-0790-4A84-AFAD-36B5AE41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8B699-74B3-43F6-A13F-90EE1F601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F3FA2-35B8-4529-86DF-9A811CB33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2A845-9779-4E57-AB13-C5FE34FF6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32BD4-5E01-4EAA-81D5-EA5577653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A695F-47E6-4D6F-B090-98CA4C9DB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CA9E8-C999-4F3B-B1F7-0E4F6F19A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6436A-2BC5-46AE-BFC1-00A9A73CF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D788E-6742-4364-89FD-2CFC48E2B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045AF-F123-43EC-99D7-FE83AD8B7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445FE-E5BA-41C7-9C10-5168AD350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7BEFD-E3C5-440D-94B0-173306FA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F4C51-6311-4B7E-9B16-D5497B2D1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C43B5-B709-41BC-A7E8-BB3B1C37B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5228A-EF61-4465-80FD-FD91C4577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B726D-0583-4AD3-95F9-3562810FB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8B5858-0A77-4444-86B9-0336E9F406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274207-12D8-4154-A888-3CF153453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4DC1A-22AC-4971-A3D6-602552B43D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8EAE78-4012-4416-85EA-FA9FCE97B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60276-3004-4DB4-BCED-C2FEFC7C5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2EAE-AD39-4609-B55C-EABD4E2BE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BE0D7-1DAB-4770-9F85-16178AEE5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C53D5-993B-4DA7-BCE9-F2885EBFA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ADCB7-46F3-4BF6-B8B8-CA86D7254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3C0BEF-C0DD-4098-B1A4-B80B265BE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CD393E-1A6F-4816-BBAA-9F8F82B6B1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AD0F22-44AE-41F2-9248-C0A36BA96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FF11D-67F6-46D6-83B9-ADE2430F72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6B130D-FBC9-4A12-ADF4-277D0D6668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2D2EE-D0E7-4BE1-BD47-FD5E950B6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885DE-BEB4-4E78-BF0D-1C1BF3271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3ADD-30F5-4C2C-921A-7F9A42BA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BC710-10D4-4B60-BD49-12C8BBD62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D52AF-BE04-41EA-A0EC-7486A1C7A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B6012-8A37-465F-B5E6-3AA371422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E2271-1452-4E37-9154-279079643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92329-EFA7-4E6D-A8F1-8150F7375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720C6-E08B-456C-AD7A-87E1F8502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AF1ED-E966-404B-A21A-B40562AA2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86B485-89B1-4E57-99FD-463D04E4BA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034FB8-18FE-4BEE-A616-C9904FCE48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9CBF1-8A71-4CBC-BD64-8BADC3A05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9EAE-9C5B-4828-93EC-9FD1EF680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3CAA4-B3C7-4E76-802C-820913F303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852790-D124-46A3-9074-331E009C7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3F004-E277-4275-B660-EFFFF301E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D8DBF-9E57-4F34-B1C4-A12B1723BA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05A8E-CD00-4A89-A5B8-6B5C6F830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A908B-917A-4224-B888-6A2F4CAFF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BBAEC-F2D3-44DD-AE25-86FEB61E6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A740F-A5BA-4EE0-882E-6E29793D0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047109-F3DD-4CA2-8303-440106A76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4D257-25EA-4185-9F38-0AFC5EF29C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3DAE9-C31C-47E8-9713-E0486E1E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7EC16-97AD-4038-A89D-ABA0D70C2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B9B1-3376-451E-8396-440D8B978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6743-43B8-4028-BFCA-C3DCAF38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D8FF-57B3-44FF-8014-5D8E8208D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B438-0F1E-46A2-9FB8-689D573B6C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0483-CE73-4916-9AEF-E0EC014409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A795-C1C6-45AE-914E-1EC9013EB8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18C8-E344-47D9-8606-954A3DEB91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D5C9-42A8-4995-9D23-66841AC498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9A29-89A2-40CB-AC40-3C0DCC19DA42}"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HCMARTINEZ</cp:lastModifiedBy>
  <dcterms:modified xsi:type="dcterms:W3CDTF">2009-10-14T19:11:33Z</dcterms:modified>
  <cp:revision>22</cp:revision>
  <dc:subject/>
  <dc:title>Slide 1</dc:title>
</cp:coreProperties>
</file>