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69361-925E-489A-8DA0-7B6CD813D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91634-8BB4-4F6B-8E8A-3D2742D10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67DCB-D3F4-493C-B311-4A27217A5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3E214-9114-46E4-8660-CC00B7D18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0291CB-BC34-4131-AC67-0E9D2BE319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3FF85-E5C1-4209-95B9-4148B995E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A3505-607C-4DB2-AEC5-192013AB8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DBEEA-5F74-4C5E-B209-4D7910680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E2454-20B0-40F8-9E39-69B085FB3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F7FEC-5D5C-435D-85FC-E5B3C5B8E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CFD4D-BA56-4687-B67D-5ADFDEB1B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5C915-0E51-4426-A374-C7D309995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7F244-864F-4534-A010-12691F45C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47774-FF2A-4458-A94F-53CD5CF76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E14C7-92A4-4BDD-BB50-7C39128E0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323DDA-4C25-4BD5-AD74-B311317C25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63C062-9E3B-4842-B80D-46E1324F5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A6CCCB-DC86-4DB0-8812-73405100A0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D44680-2900-4D58-AAE1-A17F385C49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801F9F-DF8F-4E2A-BEA1-E83BFE33B8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45EE76-4788-41D7-931D-B2AD9C4DB4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424E51-328F-42DC-90D1-FB6515EECD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87F01-D4A6-4FFD-B36F-506AF671F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5D7E5-AE67-4134-A2DA-E12DABC403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5BF118-72F5-4D39-902D-A074C1B711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4E5268-9C0B-464C-987F-B27E90F462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7B70F1-393D-499E-B29B-D94F9E7FA3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AAA943-D645-4FC2-ABD7-B7DE6D67CB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4F5574-E0EE-4DA3-97AC-E12757F6EE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8E4471-65EE-4D18-9C2C-661B435773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841C89-94C2-47B3-BC82-BFE67E0A36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D8E6B7-FD90-4278-A264-65E1DE3DE6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625D37-1BC4-42E5-A83F-6A25DE3478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73E9A-87F0-4266-BC57-BC5E92274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284031-B934-463A-A5FF-5B027F0155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C9775B-DE69-49B4-A4F6-0C8CC36A55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F86791-CA85-4E92-B308-A69563400D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3B7375-BD06-4182-B78C-B02DB21CB5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77D83F-5BAA-41A5-9A5B-F371B5BE5D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D2B782-5AE8-4207-82D0-565C1B1B0F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12C7D3-26DB-4B43-B84F-84E731AADA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5792D4-4D87-42E0-9E9A-3753134C72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663F9C-1D60-47CA-AB25-9C5D9B652A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1633F2-17AB-484C-81D5-A3F3CDEECE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E59E8-E776-44FD-8C1A-1822F054C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F67D3D-00C9-4103-9534-892F980BA8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727E1F-0183-4882-BEE4-01E9EDC77C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126982-F45E-471D-9745-6FA7045AD5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EE4C33-3578-4A21-8FE9-35C1400582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C94C3B-9766-4568-9310-BD6FA87EEB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8352B9-34E7-4D80-B5DC-F64E06461D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89DFF1-B7C8-414F-986B-D25E3B2DDD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91C42D-4F23-4300-9784-DEB85553DC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435F50-BDC5-4673-A41B-DD3643C6D9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1AB92F-3C56-4FC2-80DD-1BC9C7D5B9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16B72-0F36-481D-B0AB-05B9429BB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2FD455-8DE6-4B98-BB25-340A5089CE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A3167-9F64-4F08-ACC4-2394D8758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66D0C-58D9-4BD7-8DE8-618C14D0F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DF244-2859-47F6-948D-99FCD7BBA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82919-915F-4E64-A1C4-47BFA0B4BA2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8F6AA-2F5C-4121-BB9F-F7DAE396E8E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70F06-78BD-4188-BEFE-3E8B7B14AAB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E268F-8841-4056-8233-D5E1E40E0CA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6F83-166E-46D9-A40D-529A70D9193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pic>
        <p:nvPicPr>
          <p:cNvPr id="229" name="Content Placeholder 3" descr="IMG_1766.JPG"/>
          <p:cNvPicPr/>
          <p:nvPr/>
        </p:nvPicPr>
        <p:blipFill>
          <a:blip r:embed="rId1"/>
          <a:stretch/>
        </p:blipFill>
        <p:spPr>
          <a:xfrm>
            <a:off x="1782720" y="1469880"/>
            <a:ext cx="6035760" cy="452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ehavioral problems and CEV</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velopmentally appropriate manifestation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fan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oddler</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lementary school</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dolescent</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hysical Illnes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thm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arrhe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r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ailure to thri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CE study</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hildren Exposed to Violence are:</a:t>
            </a: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hildren with predictable, increased health care need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d should  have…</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ave access to a medical home to meet those need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Opportunity </a:t>
            </a:r>
            <a:endParaRPr b="0" lang="en-US" sz="40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in ideal position to identify DV / CEV</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risk time for women &amp; frequent visits to MD</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me women don’t seek care for self but do for children</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omen DO disclose when ask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merican Academy of Pediatrics</a:t>
            </a:r>
            <a:endParaRPr b="0" lang="en-US"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AP Committee on Child Abuse and Neglect (1998) Policy Statement:  </a:t>
            </a:r>
            <a:r>
              <a:rPr b="0" i="1" lang="en-US" sz="2600" spc="-1" strike="noStrike">
                <a:solidFill>
                  <a:srgbClr val="000000"/>
                </a:solidFill>
                <a:latin typeface="Perpetua"/>
              </a:rPr>
              <a:t>The Role of the Pediatrician in Recognizing and Intervening on Behalf of Abused Women</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the abuse of women is a pediatric issue”</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intervening on behalf of battered women is an active form of child abuse prevention”</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pediatricians are in a position to recognize abused women in pediatric settings”</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questions about DV should become part of anticipatory guidance”</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AP recommends</a:t>
            </a:r>
            <a:endParaRPr b="0" lang="en-US"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ed residency and CME education &amp; train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attempt to recognize evidence of family or intimate partner violence in the office sett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intervene in a sensitive and skillful manner that maximizes the safety of women and children victim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support local and national multidisciplinary efforts to recognize, treat and prevent family and intimate partner violen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33520" y="3805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Fewer than 10% pediatricians routinely screen for DV</a:t>
            </a:r>
            <a:endParaRPr b="0" lang="en-US" sz="36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arrier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Education / Training</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Time</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erception</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ense of powerlessness</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Language / cultural sensitivity</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V screening practice</a:t>
            </a:r>
            <a:endParaRPr b="0" lang="en-US"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88000"/>
          </a:bodyPr>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Varies : written forms,  as part of safety/environmental screen</a:t>
            </a:r>
            <a:endParaRPr b="0" lang="en-US" sz="24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commendations:</a:t>
            </a:r>
            <a:endParaRPr b="0" lang="en-US" sz="24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ll women in pediatric settings should be screened for DV</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hould not screen when partner in the room</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Women do disclose DV when asked by a skilled provider in face to face</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sufficient evidence to recommend specific screening practice</a:t>
            </a:r>
            <a:endParaRPr b="0" lang="en-US" sz="22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creening for DV</a:t>
            </a:r>
            <a:endParaRPr b="0" lang="en-US"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 part of child anticipatory guidance</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troductory statemen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rect vs. indirect question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clude questions to adolescents and older children</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k with children in room? (probably)</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First assess safety of mother &amp; children</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rticulate concern over woman and children’s safe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braham Rice, MD</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edical Director, Foster Care Clinic</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ra Costa Regional Medical Center </a:t>
            </a:r>
            <a:endParaRPr b="0" lang="en-US" sz="2600" spc="-1" strike="noStrike">
              <a:solidFill>
                <a:srgbClr val="000000"/>
              </a:solidFill>
              <a:latin typeface="Perpetua"/>
            </a:endParaRPr>
          </a:p>
        </p:txBody>
      </p:sp>
      <p:sp>
        <p:nvSpPr>
          <p:cNvPr id="231"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Domestic Violence in Pediatric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nect any concerns over child to DV (behavior, academic, emot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ffer information about resources and help – culturally and linguistically appropriat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shelter / support group / DV advocates or hotlin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ffer to create a safety plan &amp; schedule follow up appoint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pic>
        <p:nvPicPr>
          <p:cNvPr id="273" name="Content Placeholder 3" descr="IMG_2749.jpg"/>
          <p:cNvPicPr/>
          <p:nvPr/>
        </p:nvPicPr>
        <p:blipFill>
          <a:blip r:embed="rId1"/>
          <a:stretch/>
        </p:blipFill>
        <p:spPr>
          <a:xfrm>
            <a:off x="1782720" y="1469880"/>
            <a:ext cx="6035760" cy="452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ke home messages</a:t>
            </a:r>
            <a:endParaRPr b="0" lang="en-US" sz="40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is a pediatric issu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 CEV is preval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are at high risk many bad outcom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 should screen for, diagnose and treat violence and it’s predictable sequela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Problem of Children </a:t>
            </a:r>
            <a:br>
              <a:rPr sz="3600"/>
            </a:br>
            <a:r>
              <a:rPr b="0" lang="en-US" sz="3600" spc="-1" strike="noStrike">
                <a:solidFill>
                  <a:srgbClr val="696464"/>
                </a:solidFill>
                <a:latin typeface="Franklin Gothic Book"/>
              </a:rPr>
              <a:t>Exposed to Violence</a:t>
            </a:r>
            <a:endParaRPr b="0" lang="en-US" sz="36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etween 7 – 15 million children witness DV per year.</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more likely experience emotional and behavioral problem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reatly at risk for abuse and poverty</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are a medical issu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efinition of Domestic Violence</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is “a pattern of coercive behaviors that may include repeated battering and injury, psychological abuse, sexual assault, progressive social isolation, deprivation and intimidation.  These behaviors are perpetrated by someone who is or was involved in an intimate relationship with the victi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ffects of Domestic Violence</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found effects on neurodevelopment</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arlier exposure = worse outcom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motional / Developmental / Academic / Behavioral / Physical problems AND potentially limited access to resources (medical care, mental health care, developmental support, academic suppor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motional problems and CEV</a:t>
            </a: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press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nxie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TS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H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17160" y="722160"/>
            <a:ext cx="8637480" cy="1446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ttachment system theory of development</a:t>
            </a:r>
            <a:endParaRPr b="0" lang="en-US" sz="4000" spc="-1" strike="noStrike">
              <a:solidFill>
                <a:srgbClr val="696464"/>
              </a:solidFill>
              <a:latin typeface="Franklin Gothic Book"/>
            </a:endParaRPr>
          </a:p>
        </p:txBody>
      </p:sp>
      <p:sp>
        <p:nvSpPr>
          <p:cNvPr id="243" name="Date Placeholder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C6FDB-77C0-4990-AE55-670FCBB2A778}"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244" name="Slide Number Placeholder 4"/>
          <p:cNvSpPr/>
          <p:nvPr/>
        </p:nvSpPr>
        <p:spPr>
          <a:xfrm>
            <a:off x="228600" y="6248520"/>
            <a:ext cx="374760" cy="41904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txBox="1"/>
          <p:nvPr/>
        </p:nvSpPr>
        <p:spPr>
          <a:xfrm>
            <a:off x="990720" y="1980720"/>
            <a:ext cx="7696080" cy="40388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rmal development is absolutely dependent on a bond with a loving caregive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ffect regulation may be the most essential aspect of a child’s develop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evelopmental problems and CEV</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nguage (pre-verb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cial / Emotional</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bnormal affect regulatio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ggressive, separation issu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velopmentally appropriate symptom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tor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yperarousable, withdrawn</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9T23:06:20Z</dcterms:created>
  <dc:creator>Abe</dc:creator>
  <dc:description/>
  <dc:language>en-US</dc:language>
  <cp:lastModifiedBy>HCMARTINEZ</cp:lastModifiedBy>
  <dcterms:modified xsi:type="dcterms:W3CDTF">2009-10-14T19:11:33Z</dcterms:modified>
  <cp:revision>22</cp:revision>
  <dc:subject/>
  <dc:title>Slide 1</dc:title>
</cp:coreProperties>
</file>