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44683-E515-4778-A2CA-8F29665A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200EA-BBDF-4F84-A8DF-FA9CC103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8DE75-AD17-45BD-B8C7-B88697A5C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17E9C-77D3-46B3-A59D-F7A3871CF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BF880-2D25-41F5-AF21-07571203B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04526-2A2B-4278-B511-BBE9BECF1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C971A-7431-4E76-831A-CF0AE3F13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38E2E-5E67-4F2D-9D51-B751A88EC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F25A7-A7C0-406E-B08F-52CB2049E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57137-81A0-4945-B72D-F84903252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0A402-D9D6-4C1C-BF56-E2428B1CC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66FF-49F9-40DF-A814-CC76D5C1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C6A9-26B6-4CD1-B2B5-67DC990E8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A0D47-3F7A-40CA-9776-7A3442550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33027-BA41-444B-8C16-4FBEA9FDC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6AB1D-2968-407F-9CA4-D5F15111D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F7717-94C3-4112-99D7-373C38C09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36A9A-D087-4C99-9B83-065C79CEA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3BCCD-E55D-4968-8992-FA7B5A4A8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F8BFB-CA18-440E-A7E9-719C70B2D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13A41-7C9D-40CF-96F6-A37A5EA31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50974-4214-43EF-8C0B-FBC93136A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B9E3-3135-4372-936B-64FD2D5A1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87795-CE44-498B-B582-B0F79E6CC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91815-C2F9-4EB4-8C40-2A3D68B77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0E800-D168-4C1A-A9A6-553F78B4E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A6E63-310B-44A4-9484-B5B2D4334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2F568-B47B-4DFF-B791-72ED420B9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BBA603-5D3C-42E6-9FD8-3C48AFA488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03394-FD2F-41BA-B5B4-1A7284E3F1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F23DEA-3ACC-4AB2-A853-0FCF0AB683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D1D12-655D-4BAD-AE15-82968CEBC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98E4E-1683-4662-BBE9-0A26FF839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57BB-B694-47C3-9848-6767D57A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AF5D4-59A8-4C48-B4AF-651D4A370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8A347-38F5-4D90-AF34-63E5BFEFF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87F29-A0E5-4A97-A901-5519FBCCB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5A274-83D4-4B71-B7B5-51969CE9B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C9E55-70C9-4056-9EBD-376FCC908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AEFE4-7F6C-4BE5-9412-CD911656E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624BB-380E-4567-BB08-FEC95EC59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6D5C1-1A0D-4865-86D8-212068F47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1B788-D4AD-4EB2-9F0C-80B0003729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FBC7DB-300B-4B7E-9BBC-AB578C722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0F9A-6FAC-4021-98C8-AF76C407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EF878-52B1-40CF-87B7-520DBD68D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AF3B0-8D8F-474C-9608-29B5053D4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C6A2C-51A6-49C6-9103-C1E4F41E3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EB08DF-14A5-4701-88FF-31025D058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BCE06-D19A-4B25-830C-F7A17C2CA3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EA036-1664-4A6E-9C79-36C53F53B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CFE82-497D-4D0A-8104-4AA02D974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D6053-1A7A-4879-AAEF-6B1181C9B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DB89D-297A-4891-8625-AB18F0AB7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40498F-7AEC-4824-9DE3-B51023A6B6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9A0D-7251-4C49-A18C-63085596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CE696-D997-4F48-AB32-C6D6974D3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F8DD-EB82-4191-8013-F93359A7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D812-7C75-4796-9B85-9B7EC811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05B1-C45D-4BEC-8FD1-058174148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7D9C-6347-416C-9E0B-32846F87F4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5A6A-CF03-4449-8935-B4D366F0B4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7FEE-B43D-499A-B1CB-7D232746A0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5168-4519-4D34-BE17-5818F99528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8B6A-226E-46C2-A8F4-D9BDA1C87D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A179-DC57-486C-A095-FB472282F447}" type="datetime">
              <a:rPr b="0" lang="en-US" sz="1400" spc="-1" strike="noStrike">
                <a:solidFill>
                  <a:srgbClr val="696464"/>
                </a:solidFill>
                <a:latin typeface="Arial"/>
              </a:rPr>
              <a:t>07/31/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HCMARTINEZ</cp:lastModifiedBy>
  <dcterms:modified xsi:type="dcterms:W3CDTF">2009-10-14T19:11:33Z</dcterms:modified>
  <cp:revision>22</cp:revision>
  <dc:subject/>
  <dc:title>Slide 1</dc:title>
</cp:coreProperties>
</file>