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F578-EAA6-4BF1-89B5-50BA6C15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 pos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tress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ior wall isch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 in unstable angina ( thrombus or high grade stenosi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asive vs non invasive strategy depending on TIMI s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795-52FA-4E7A-A462-0DDD5058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F52B-8AA7-4C13-8CFC-28A5DA80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C65-CC8C-4914-9D41-A16EDBF9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CC3-6954-49B5-9EB3-F71D04CA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390-EB93-4BA3-93E1-E2118B68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C45-D016-411F-8696-4BF04A6F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79A-A059-4E14-B494-8CF35EBC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399-D11C-44EF-BCE6-B537C80C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2E9-3F40-4B42-BD71-DB3D10FF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F26-A95B-45C0-9C67-91C014E1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604-96CB-4B82-9A7A-BAA4B65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76F-2C77-41B9-A3CD-CC4DF82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AB85-8ECE-4AAC-A5BD-4829132C1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1.jpe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content.nejm.org/content/vol352/issue24/images/large/09t5.jpe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million MIs in U.S. an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,000 deaths due to acute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sudden death not associated with acute MI ( chronic coronary artery diseas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ause of C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nd chronic anginal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main 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anterior desc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oronary ar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ched of coronary art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 : LAD and Circum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: septal perforators and diagonals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mflex : obtuse marginals,posterolateral and atriovent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: SA nodal, AV nodal, conus, RV, posterolateral and posterior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 Main Coronary ar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stenosis may be difficult to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causes massive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-markedly positive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 RX is C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ecial circumstances may be st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tenosis of LAD usually gives strong positive stress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lusion of LAD causes a large MI with maj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high grade proximal stenosis of LAD usually yields excell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ting of LAD with a large diagonal branch off the lesion may be proble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Circumf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stenosis often with few ECG findings although classically should show in AVL and V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 CX is non dominent MI causes only minor decrease in 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X marginal branches are targets for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RCA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ominant ( main supply to inferior and posterior LV ). PDA usually is a branch of 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lusion of proximal RCA usually results in a lessor decrease in EF and lower mortality than LAD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dy arrhythmias and temporary heart block is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infarction is uncommon but has a high morbidity and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s of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ST elevation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an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t ( vasospastic angin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dden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ricular fibr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-mechanic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iologies : Acute MI, Old MI with EF less than 30 %, Cardiac myopathies from various diseases and various etiolgies with NL LV function ( Brugada,Long QT,idiopathic,IHSS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ry athero pro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2287 pts with chronic stable angina to optimal medical RX vs optimal medical RX plus bare metal st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excluded were UA, strong pos stress test,50% or greater L Main disease,class 4 angina or EF less than 3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ag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nge in outcomes ( death or MI )  but less angina in stent gp at 1 and 3 years but not at 5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% of pts in Med RX alone limb eventually need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based on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symptomatic or asymptomatic stable CAD should undergo assessment of LV fx and risk stratification with ischemi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ts with good LV fx  and low risk stress test can be managed medically without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 from Courage 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ith impaired LV Fx or high risk features on ischemia testing should be cat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gina not well controlled, c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or 2 vessel disease with good LV fx should be st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main, 3 vessel disease or 2 vessel disease (with LAD): CABG or in selected cases s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 after thrombolytic R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 occlusion: 4-5 lives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BBB: 6-7 lived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A or Circumflex occlusion ( Inferior MI,uncomplicated: 1 life saved/ 100 pts t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outcomes occur when pts treated within 4 hours of symptom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blo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after stent or those with ASA intolerance - 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( Ramipril preferred ) for high risk patients ie diabetes,prior MI,HTN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molecular hep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blockers to HR abou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,preferably non co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pidogr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b3a platelet inhib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for BP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logy consult quickly to consider c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68580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0680"/>
            <a:ext cx="8686800" cy="62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utine Stress testing in Asymptomatic Diabe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IAD trial: Diabetes Care 2004; 27: 195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1123 (asymptomatic DM, age 50-75 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I + Rx    vs    Usual Rx for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MPI: 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- large perfusion defects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isk factors / inflammation biomarkers not predictive of positive MPI except autonomic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DA guidelines would have failed to predict 41% of patients with silent isch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 where tests are equiv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le vs unstable an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plaque, Large lipid core,thin fibrous cap and lg amount of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le plaque, Small lipid core,thick fibrous cap and sparse inflammatory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MI Care ( ST elevation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chemia testing when pt stable ( usually 3-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 stress– cardiac c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 stress usually not cat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atients instructed about life style changes ( cigs,diet,exercise etc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usually  asa,beta blocker,ace and a st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chemia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Echocardi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dmill stress test with Tha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osine or Persantine nucleotide test without exercise ( Sestamib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butamine Echo test withou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in past 4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angina, on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ly controlled CHF or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Aortic dissection 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ssociated conditions ie pneumonia,severe anemia,acute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contraindications to Stress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Aortic Ste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P &gt;200 or diastolic &gt;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L mai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Echocard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pecif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atility: more extensive evaluation of cardiac anatomy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convenience, efficac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ss Perfusion 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technical success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ensativity, particularly with 1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accuracy when multiple rest-LV wall motion abnormaliti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when good technical Echo can not be ob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xtensive published data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6294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CTA: Right Cor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38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butamine Ec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ischemia by increasing O2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technical 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pts who can not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test is a new regional wall motion abnor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not helpful  with myopathic 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in UA or recent V t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38120"/>
            <a:ext cx="73915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for intervention or CAB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( &gt; 75-80% ) proximal stenosis with the distal vessel being 2.5 mm or larger and free of majo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stal vessel is very small or has major diffuse disease an intervention or CABG will usually not b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iologies of ischemia other than Atheroscle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nital coronary artery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zmetal’s varient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stenosis or HO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artery ect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coronary art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drom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ry thr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610480" cy="63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Screening Asymptomatic 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n Int Med 2004; 141: 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/AHA recommends against screening asymptomatic outpatients for C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Lifetim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. Circulation 2006; 113: 791; Lancet 1999; 353: 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opulation between 40-9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, lifetime risk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: 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: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identification and management of asymptomatic patients at risk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381880" cy="79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fication of CAD in all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, cath-proven CAD, PCI, CA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, Cr Cl &lt; 60 ml/min,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A/carotid IMT &gt; 1.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, PVD, Atherosclerotic aortic aneury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coronary syndrome (C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nic stable angina, silent ischemia, Syndrom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coronary syndrome (A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TE-ACS, STE-A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for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 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3816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80880"/>
            <a:ext cx="8686800" cy="9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atient: Risk Ef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4; 109: 26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garette smoking and DM are strongest risk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 dyslipidemia: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lipid factor: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MA 2001;285: 24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ge 40 yea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ced life expectancy (year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6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7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entary life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-3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-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44360"/>
            <a:ext cx="8763120" cy="71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3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31-70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gt;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80880"/>
            <a:ext cx="868680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 : hs C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11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 CRP: most sensitive independent marker of CV risk, including sudden deat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irculation 2002; 105: 2595; Arch Int Med 2002; 162: 867; TIMI 11A substudy: JACC 1998; 31: 14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mptomatic person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sCR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onary atherosclerosis / calcific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ingham Heart Study: Circulation 2002; 106: 118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an independent and stronger predictor of CV events than LDL-C; best prediction is hsCRP + T-C/HDL-C rat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study: NEJM 2002; 347: 155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is predictor of CV events even when LDL-C levels are below target valu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S group: NEJM 2000; 342: 836; CARE study: Circulation 1999; 100: 2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CR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RINCE study: JAMA 2001; 286: 64; CARE study: Circulation 1999; 100: 230)</a:t>
            </a:r>
            <a:r>
              <a:rPr b="0" lang="en-US" sz="1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V eve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FCAPS/TEXCAPS study: NEJM 2001; 344: 19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220680"/>
            <a:ext cx="82296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Plaque: MDCT Coronary Calcium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calcium:  &gt; 130 Hounsfield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is 100% specific for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shows weak correlation with luminal narr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calcium correlated (r = 0.9) with area of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area approximately 20% of associated plaqu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plaque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no detectable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44360"/>
            <a:ext cx="8763120" cy="71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mptomatic CAD: Influence of CT Calcium Sc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7; 50: 146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254 (symptom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: &gt;50% stenosis in 1 vessel by c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5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88 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useful in symptomatic patients with low/ intermediate pretest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 calcium is not useful in symptomatic high risk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ulnerable Myocardium: No Structural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JACC 2004; 43: 11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QT syndromes (LQ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QTc &gt; 440 msecs in males, &gt; 460 msecs in fem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gada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excitation (WPW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coupl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-induced tor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iopathic 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otio cor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04920"/>
            <a:ext cx="861084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Stres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 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incidence of false posi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positives with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Echo; Exercis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ient cannot Exercise / Uninterpretable exercise EK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ic stress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tamine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osine thallium-sestami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Risk Assessment (Progno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ll patient management decisions must driven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nician's assessment of the patient's progno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risk assessment that should indicate the need for tes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to assess risk leads to inappropriate and expens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n low risk patients, and less aggressive man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ose at very high ri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960" y="438120"/>
            <a:ext cx="409608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D: Inflammatory Pla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EJM 2000; 342: 1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, eccentric lipid-rich pool &gt; 40%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am cell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fibrous cap &lt;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flammatory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phages, T cells, neutroph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, cytokin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alloprotein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vascular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intra-plaque hemorr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781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ions for cardiac catheter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acute ST elevation 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MI isch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table an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cases of non ST elev. 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angina with strong pos stres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undergoing valve surgery who have coronary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All MI patients ( open vessel theory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genic sh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6:11:28Z</dcterms:created>
  <dc:creator>wstullman</dc:creator>
  <dc:description/>
  <dc:language>en-US</dc:language>
  <cp:lastModifiedBy>wstullman</cp:lastModifiedBy>
  <dcterms:modified xsi:type="dcterms:W3CDTF">2010-04-13T16:51:39Z</dcterms:modified>
  <cp:revision>102</cp:revision>
  <dc:subject/>
  <dc:title>aa</dc:title>
</cp:coreProperties>
</file>