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_rels/notesSlide5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6EC7-21F8-4055-BC2D-BBF65A112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 pos stress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stress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ior wall isch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 in unstable angina ( thrombus or high grade stenosis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asive vs non invasive strategy depending on TIMI s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C231-FA12-40AB-B306-87256497E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76E7-0785-45E4-9BC2-D1D4A1B4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F3E5-A86F-40C3-B813-094C5EF05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1CF4-D807-453A-A666-FFD498534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9CD8-3195-41AE-84F3-CCB08861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E443-9327-4CF4-821A-90C3DF5D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2066-C414-43C6-80D4-185066FC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9208-E023-4E6C-ACB0-8F5A83E5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B862-8E9A-4F88-8308-94EFB668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39DE-2A21-4B5F-BF5B-81C2FDC5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0753-611A-4851-B26F-26884E7D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0152-EF25-415D-86A5-39A8B66F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A3BF-1FE1-42A7-8B9F-5EE367C15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ntent.nejm.org/content/vol352/issue24/images/large/09t1.jpeg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content.nejm.org/content/vol352/issue24/images/large/09t5.jpeg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onary Artery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1 million MIs in U.S. an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,000 deaths due to acute 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cause of sudden death not associated with acute MI ( chronic coronary artery disease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cause of CH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ute and chronic anginal syndr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onary art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 main  coronary art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 anterior desce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umf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coronary art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nched of coronary art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 main : LAD and Circumf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D : septal perforators and diagonals bran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umflex : obtuse marginals,posterolateral and atrioventr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A : SA nodal, AV nodal, conus, RV, posterolateral and posterior desc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7086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6324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X L Main Coronary art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gree of stenosis may be difficult to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lusion causes massive 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nosis-markedly positive stress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 RX is CAB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pecial circumstances may be st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X 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stenosis of LAD usually gives strong positive stress 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lusion of LAD causes a large MI with major decrease in 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nting of high grade proximal stenosis of LAD usually yields excellen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nting of LAD with a large diagonal branch off the lesion may be problemat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X Circumfl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X stenosis often with few ECG findings although classically should show in AVL and V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 CX is non dominent MI causes only minor decrease in 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X marginal branches are targets for CAB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X RCA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dominant ( main supply to inferior and posterior LV ). PDA usually is a branch of 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lusion of proximal RCA usually results in a lessor decrease in EF and lower mortality than LAD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dy arrhythmias and temporary heart block is comm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V infarction is uncommon but has a high morbidity and 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s of C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dden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 elevation 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ST elevation 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table ang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le ang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nt ( vasospastic angina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diac Sudden De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tricular fibri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-mechanical di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st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iologies : Acute MI, Old MI with EF less than 30 %, Cardiac myopathies from various diseases and various etiolgies with NL LV function ( Brugada,Long QT,idiopathic,IHSS etc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onary athero pro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age 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ized 2287 pts with chronic stable angina to optimal medical RX vs optimal medical RX plus bare metal sten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s excluded were UA, strong pos stress test,50% or greater L Main disease,class 4 angina or EF less than 3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age 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hange in outcomes ( death or MI )  but less angina in stent gp at 1 and 3 years but not at 5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3% of pts in Med RX alone limb eventually needed interven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ations based on Courage tr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ts with symptomatic or asymptomatic stable CAD should undergo assessment of LV fx and risk stratification with ischemia tes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le pts with good LV fx  and low risk stress test can be managed medically without c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ations from Courage tr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ts with impaired LV Fx or high risk features on ischemia testing should be cat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ngina not well controlled, c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or 2 vessel disease with good LV fx should be st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 main, 3 vessel disease or 2 vessel disease (with LAD): CABG or in selected cases st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comes after thrombolytic R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D occlusion: 4-5 lives saved/ 100 pts t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LBBB: 6-7 lived saved/ 100 pts t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A or Circumflex occlusion ( Inferior MI,uncomplicated: 1 life saved/ 100 pts t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outcomes occur when pts treated within 4 hours of symptom on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X Stable ang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i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a blo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atients after stent or those with ASA intolerance - Clopidogr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E ( Ramipril preferred ) for high risk patients ie diabetes,prior MI,HTN etc.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X Unstable ang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molecular hepa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blockers to HR about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A,preferably non co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pidogr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b3a platelet inhib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E for BP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diology consult quickly to consider c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685800"/>
            <a:ext cx="7620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600" y="220680"/>
            <a:ext cx="8686800" cy="62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outine Stress testing in Asymptomatic Diabet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DIAD trial: Diabetes Care 2004; 27: 195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1123 (asymptomatic DM, age 50-75 year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I + Rx    vs    Usual Rx for 5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 MPI: 2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ate- large perfusion defects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risk factors / inflammation biomarkers not predictive of positive MPI except autonomic dys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DA guidelines would have failed to predict 41% of patients with silent isch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st pain where tests are equiv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001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ble vs unstable ang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table plaque, Large lipid core,thin fibrous cap and lg amount of inflammatory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le plaque, Small lipid core,thick fibrous cap and sparse inflammatory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 MI Care ( ST elevation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chemia testing when pt stable ( usually 3-5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 stress– cardiac c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 stress usually not cat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atients instructed about life style changes ( cigs,diet,exercise etc.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s usually  asa,beta blocker,ace and a stat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chemia T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dmill stress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dmill stress test with Echocardi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dmill stress test with Tha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enosine or Persantine nucleotide test without exercise ( Sestamibi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butamine Echo test without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aindications to Stress 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in past 48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table angina, on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ly controlled CHF or arrhythm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ute Aortic dissection or 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ocard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ssociated conditions ie pneumonia,severe anemia,acute renal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lative contraindications to Stress 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e Aortic Ste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BP &gt;200 or diastolic &gt; 1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n L main C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 arrhythm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electrolyte im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6201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172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304560"/>
            <a:ext cx="822960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9608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ss Echocard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specif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atility: more extensive evaluation of cardiac anatomy and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er convenience, efficacy and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ss Perfusion ima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technical success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sensativity, particularly with 1 vessel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accuracy when multiple rest-LV wall motion abnormalities are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when good technical Echo can not be obta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extensive published data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662940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CTA: Right Coronary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6386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butamine Ech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ischemia by increasing O2 de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have a good technical E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pts who can not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sitive test is a new regional wall motion abnorm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not helpful  with myopathic L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use in UA or recent V t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438120"/>
            <a:ext cx="739152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up for intervention or CAB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e ( &gt; 75-80% ) proximal stenosis with the distal vessel being 2.5 mm or larger and free of major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distal vessel is very small or has major diffuse disease an intervention or CABG will usually not be success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iologies of ischemia other than Atherosclero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nital coronary artery anoma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c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zmetal’s varient ang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rtic stenosis or HO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nary arter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nary artery ect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dging coronary arteri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drome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nary throm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04920" y="304920"/>
            <a:ext cx="8610480" cy="63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D: Screening Asymptomatic Pati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nn Int Med 2004; 141: 5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P/AHA recommends against screening asymptomatic outpatients for CA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D: Lifetime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Framingham Heart Study. Circulation 2006; 113: 791; Lancet 1999; 353: 8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ymptomatic population between 40-9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age 40 years, lifetime risk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e: 4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male: 3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ssive identification and management of asymptomatic patients at risk recomm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304920"/>
            <a:ext cx="8381880" cy="79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assification of CAD in all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ed 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, cath-proven CAD, PCI, CAB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D equiva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M, Cr Cl &lt; 60 ml/min,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VA/carotid IMT &gt; 1.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, PVD, Atherosclerotic aortic aneurys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nic coronary syndrome (C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nic stable angina, silent ischemia, Syndrom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ute coronary syndrome (A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TE-ACS, STE-A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sk for 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X 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77240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38164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28600" y="380880"/>
            <a:ext cx="8686800" cy="9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ulnerable Patient: Risk Eff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irculation 2004; 109: 261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garette smoking and DM are strongest risk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common dyslipidemia: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DL-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est lipid factor: T-C/HDL-C rati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JAMA 2001;285: 248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age 40 yea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Framingham Heart Study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duced life expectancy (year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es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ok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6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7.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4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entary lifesty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3-3.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-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144360"/>
            <a:ext cx="8763120" cy="71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ymptomatic CAD: Influence of CT Calcium Sc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JACC 2007; 50: 146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254 (symptomat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D: &gt;50% stenosis in 1 vessel by c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bability (%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med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-30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(31-70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&gt;7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5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 Calcium pos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68 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88 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 calcium is useful in symptomatic patients with low/ intermediate pretest prob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 calcium is not useful in symptomatic high risk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010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04920" y="30492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380880"/>
            <a:ext cx="8686800" cy="68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ulnerable Plaque : hs CR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irculation 2002; 105: 113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s CRP: most sensitive independent marker of CV risk, including sudden deat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irculation 2002; 105: 2595; Arch Int Med 2002; 162: 867; TIMI 11A substudy: JACC 1998; 31: 146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ymptomatic persons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sCR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onary atherosclerosis / calcifica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Framingham Heart Study: Circulation 2002; 106: 1189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sCRP is an independent and stronger predictor of CV events than LDL-C; best prediction is hsCRP + T-C/HDL-C rati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HS study: NEJM 2002; 347: 155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sCRP is predictor of CV events even when LDL-C levels are below target valu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HS group: NEJM 2000; 342: 836; CARE study: Circulation 1999; 100: 23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sCR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RINCE study: JAMA 2001; 286: 64; CARE study: Circulation 1999; 100: 230)</a:t>
            </a:r>
            <a:r>
              <a:rPr b="0" lang="en-US" sz="18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V even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FCAPS/TEXCAPS study: NEJM 2001; 344: 195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880" y="220680"/>
            <a:ext cx="822960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ulnerable Plaque: MDCT Coronary Calcium S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onary calcium:  &gt; 130 Hounsfield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ium is 100% specific for atheroscler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ium shows weak correlation with luminal narr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 of calcium correlated (r = 0.9) with area of pla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ium area approximately 20% of associated plaqu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 plaque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 no detectable cal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4678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144360"/>
            <a:ext cx="8763120" cy="71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ymptomatic CAD: Influence of CT Calcium Sc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JACC 2007; 50: 146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254 (symptomat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D: &gt;50% stenosis in 1 vessel by c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bability (%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med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5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 Calcium pos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68 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88 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 calcium is useful in symptomatic patients with low/ intermediate pretest prob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 calcium is not useful in symptomatic high risk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304920"/>
            <a:ext cx="9144000" cy="71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ulnerable Myocardium: No Structural Dis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JACC 2004; 43: 113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QT syndromes (LQ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QTc &gt; 440 msecs in males, &gt; 460 msecs in fema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ugada synd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excitation (WPW syndro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-coupled tors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ug-induced tors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iopathic V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motio cord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0880" y="304920"/>
            <a:ext cx="861084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ection of Stress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tient can Exerci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incidence of false posi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E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se positives with exercise EK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Echo; Exercise thallium-sestami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tient cannot Exercise / Uninterpretable exercise EK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ologic stress t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butamine 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enosine thallium-sestami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04920" y="380880"/>
            <a:ext cx="8610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D: Risk Assessment (Prognosi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tually all patient management decisions must driven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inician's assessment of the patient's prognos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risk assessment that should indicate the need for test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/or thera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lure to assess risk leads to inappropriate and expensiv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 in low risk patients, and less aggressive manage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ose at very high ris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467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23960" y="438120"/>
            <a:ext cx="4096080" cy="59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380880"/>
            <a:ext cx="861048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D: Inflammatory Plaq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EJM 2000; 342: 1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, eccentric lipid-rich pool &gt; 40%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am cell infil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 fibrous cap &lt;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flammatory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rophages, T cells, neutroph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ooth muscle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zymes, cytokin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alloprotein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ovasculariz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intra-plaque hemorrh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6781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8660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9152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cations for cardiac catheter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ed cases of acute ST elevation 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MI isch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table ang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ed cases of non ST elev. 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nic angina with strong pos stress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s undergoing valve surgery who have coronary risk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All MI patients ( open vessel theory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diogenic sh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6:11:28Z</dcterms:created>
  <dc:creator>wstullman</dc:creator>
  <dc:description/>
  <dc:language>en-US</dc:language>
  <cp:lastModifiedBy>wstullman</cp:lastModifiedBy>
  <dcterms:modified xsi:type="dcterms:W3CDTF">2010-04-13T16:51:39Z</dcterms:modified>
  <cp:revision>102</cp:revision>
  <dc:subject/>
  <dc:title>aa</dc:title>
</cp:coreProperties>
</file>