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_rels/notesSlide5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8774-730C-43BC-BFF7-B49919654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 pos stres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stres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ior wall isch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 in unstable angina ( thrombus or high grade stenosi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sive vs non invasive strategy depending on TIMI s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D67-30AC-49FD-AE3F-797FC2B1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23D-1806-48F4-A199-6F9D389C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C97-E481-4B40-9387-9737D126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CF3-B8BE-4695-BC8D-ED85B6FE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3C6-EA3E-40B9-B196-2569E605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5F7-66A1-437F-A43B-83F1FB54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02B7-BE22-484D-9025-7EC3416C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A757-6BC7-48C7-96F3-DD44600A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D78-F90E-42D9-B9CD-0557DB6E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2CC-5616-42A3-8CFD-4FE26A6D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31E-AF8F-4D8E-8F4B-5A181B86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E96-7568-4C4A-BC3E-608704B7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CAC1-E9E3-4356-980B-776E3DE7C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24/images/large/09t1.jpe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24/images/large/09t5.jpe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rtery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 million MIs in U.S.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,000 deaths due to acute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ause of sudden death not associated with acute MI ( chronic coronary artery disease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ause of CH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and chronic anginal syndr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main  coronary ar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anterior desce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m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coronary ar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ched of coronary 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main : LAD and Circum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 : septal perforators and diagonals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mflex : obtuse marginals,posterolateral and atrio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 : SA nodal, AV nodal, conus, RV, posterolateral and posterior desc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324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 Main Coronary ar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 of stenosis may be difficult to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lusion causes massive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nosis-markedly positive stres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 RX is CAB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ecial circumstances may be st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stenosis of LAD usually gives strong positive stress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lusion of LAD causes a large MI with major decrease in 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nting of high grade proximal stenosis of LAD usually yields excellen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nting of LAD with a large diagonal branch off the lesion may be problema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Circumf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X stenosis often with few ECG findings although classically should show in AVL and V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 CX is non dominent MI causes only minor decrease in 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X marginal branches are targets for CAB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RCA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dominant ( main supply to inferior and posterior LV ). PDA usually is a branch of 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lusion of proximal RCA usually results in a lessor decrease in EF and lower mortality than LAD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y arrhythmias and temporary heart block is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V infarction is uncommon but has a high morbidity and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s of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 elevation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ST elevation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an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an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t ( vasospastic angin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Sudden 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ricular fibri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-mechanical di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iologies : Acute MI, Old MI with EF less than 30 %, Cardiac myopathies from various diseases and various etiolgies with NL LV function ( Brugada,Long QT,idiopathic,IHSS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thero pro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age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2287 pts with chronic stable angina to optimal medical RX vs optimal medical RX plus bare metal ste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excluded were UA, strong pos stress test,50% or greater L Main disease,class 4 angina or EF less than 3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age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nge in outcomes ( death or MI )  but less angina in stent gp at 1 and 3 years but not at 5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% of pts in Med RX alone limb eventually needed inter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s based on Courage 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s with symptomatic or asymptomatic stable CAD should undergo assessment of LV fx and risk stratification with ischemia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pts with good LV fx  and low risk stress test can be managed medically without c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s from Courage 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s with impaired LV Fx or high risk features on ischemia testing should be cat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gina not well controlled, c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r 2 vessel disease with good LV fx should be st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main, 3 vessel disease or 2 vessel disease (with LAD): CABG or in selected cases st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s after thrombolytic 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 occlusion: 4-5 lives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BBB: 6-7 lived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 or Circumflex occlusion ( Inferior MI,uncomplicated: 1 life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outcomes occur when pts treated within 4 hours of symptom on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 blo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atients after stent or those with ASA intolerance - Clopidog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 ( Ramipril preferred ) for high risk patients ie diabetes,prior MI,HTN etc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Un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molecular hep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blockers to HR about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A,preferably non co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pidogr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b3a platelet inhib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 for BP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logy consult quickly to consider c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68580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0680"/>
            <a:ext cx="8686800" cy="62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utine Stress testing in Asymptomatic Diabe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IAD trial: Diabetes Care 2004; 27: 195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1123 (asymptomatic DM, age 50-75 year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I + Rx    vs    Usual Rx for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MPI: 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ate- large perfusion defects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isk factors / inflammation biomarkers not predictive of positive MPI except autonomic dys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DA guidelines would have failed to predict 41% of patients with silent isch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st pain where tests are equiv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ble vs un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plaque, Large lipid core,thin fibrous cap and lg amount of inflammatory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plaque, Small lipid core,thick fibrous cap and sparse inflammatory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MI Care ( ST elevation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chemia testing when pt stable ( usually 3-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 stress– cardiac c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 stress usually not cat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atients instructed about life style changes ( cigs,diet,exercise etc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s usually  asa,beta blocker,ace and a stat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chemia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 with Echocardi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 with Tha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osine or Persantine nucleotide test without exercise ( Sestamib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utamine Echo test without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indications to Stress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in past 4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angina, on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ly controlled CHF or ar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Aortic dissection or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ocard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ssociated conditions ie pneumonia,severe anemia,acute renal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ve contraindications to Stress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Aortic Ste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P &gt;200 or diastolic &gt; 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L main 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ar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electrolyte im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20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7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3045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ss Echocard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pecif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atility: more extensive evaluation of cardiac anatomy and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convenience, efficacy and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ss Perfusion im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technical success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ensativity, particularly with 1 vesse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accuracy when multiple rest-LV wall motion abnormaliti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when good technical Echo can not be ob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xtensive published data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6294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CTA: Right Cor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38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butamine Ec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ischemia by increasing O2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 good technical 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pts who can not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itive test is a new regional wall motion abnorm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not helpful  with myopathic 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in UA or recent V t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38120"/>
            <a:ext cx="739152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 for intervention or CAB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( &gt; 75-80% ) proximal stenosis with the distal vessel being 2.5 mm or larger and free of major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stal vessel is very small or has major diffuse disease an intervention or CABG will usually not be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iologies of ischemia other than Atheroscler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nital coronary artery anoma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zmetal’s varient an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rtic stenosis or HO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arte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artery ect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coronary arter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drome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throm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304920"/>
            <a:ext cx="8610480" cy="63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Screening Asymptomatic Pat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n Int Med 2004; 141: 5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P/AHA recommends against screening asymptomatic outpatients for C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Lifetim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. Circulation 2006; 113: 791; Lancet 1999; 353: 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ptomatic population between 40-9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ge 40 years, lifetime risk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: 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: 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identification and management of asymptomatic patients at risk recomm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304920"/>
            <a:ext cx="8381880" cy="79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ification of CAD in all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d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, cath-proven CAD, PCI, CA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, Cr Cl &lt; 60 ml/min,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A/carotid IMT &gt; 1.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, PVD, Atherosclerotic aortic aneury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nic coronary syndrome (C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nic stable angina, silent ischemia, Syndrom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ute coronary syndrome (A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TE-ACS, STE-A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for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3816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380880"/>
            <a:ext cx="8686800" cy="9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atient: Risk Ef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4; 109: 26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garette smoking and DM are strongest risk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 dyslipidemia: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L-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st lipid factor: T-C/HDL-C rat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MA 2001;285: 24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ge 40 yea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uced life expectancy (year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6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7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entary lifesty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-3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-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44360"/>
            <a:ext cx="8763120" cy="71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ptomatic CAD: Influence of CT Calcium S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7; 50: 146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254 (symptoma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: &gt;50% stenosis in 1 vessel by c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 (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-3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(31-7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&gt;7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5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8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useful in symptomatic patients with low/ intermediate pretest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not useful in symptomatic high risk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10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3049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80880"/>
            <a:ext cx="8686800" cy="68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laque : hs CR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2; 105: 11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 CRP: most sensitive independent marker of CV risk, including sudden dea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2; 105: 2595; Arch Int Med 2002; 162: 867; TIMI 11A substudy: JACC 1998; 31: 14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ptomatic persons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sCR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onary atherosclerosis / calcific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: Circulation 2002; 106: 118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is an independent and stronger predictor of CV events than LDL-C; best prediction is hsCRP + T-C/HDL-C rat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HS study: NEJM 2002; 347: 155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is predictor of CV events even when LDL-C levels are below target valu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HS group: NEJM 2000; 342: 836; CARE study: Circulation 1999; 100: 2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INCE study: JAMA 2001; 286: 64; CARE study: Circulation 1999; 100: 230)</a:t>
            </a:r>
            <a:r>
              <a:rPr b="0" lang="en-US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V even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FCAPS/TEXCAPS study: NEJM 2001; 344: 195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220680"/>
            <a:ext cx="82296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laque: MDCT Coronary Calcium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ary calcium:  &gt; 130 Hounsfield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is 100% specific for atheroscle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shows weak correlation with luminal narr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of calcium correlated (r = 0.9) with area of pl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area approximately 20% of associated plaqu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plaque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no detectable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44360"/>
            <a:ext cx="8763120" cy="71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ptomatic CAD: Influence of CT Calcium S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7; 50: 146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254 (symptoma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: &gt;50% stenosis in 1 vessel by c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 (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5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8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useful in symptomatic patients with low/ intermediate pretest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not useful in symptomatic high risk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04920"/>
            <a:ext cx="91440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Myocardium: No Structural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4; 43: 11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QT syndromes (LQ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QTc &gt; 440 msecs in males, &gt; 460 msecs in fem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gada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excitation (WPW synd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coupled tors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g-induced tors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iopathic 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otio cor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304920"/>
            <a:ext cx="861084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ection of Stress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ient can Exerc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incidence of false posi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E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positives with exercise EK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Echo; Exercise thallium-sestami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ient cannot Exercise / Uninterpretable exercise EK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ologic stress t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utamine 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nosine thallium-sestami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38088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Risk Assessment (Prognos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ly all patient management decisions must driven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inician's assessment of the patient's prognos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risk assessment that should indicate the need for tes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/or 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to assess risk leads to inappropriate and expens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in low risk patients, and less aggressive manag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ose at very high ris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23960" y="438120"/>
            <a:ext cx="409608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380880"/>
            <a:ext cx="861048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Inflammatory Pla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EJM 2000; 342: 1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, eccentric lipid-rich pool &gt; 40%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am cell infil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 fibrous cap &lt;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flammatory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phages, T cells, neutroph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muscle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zymes, cytokin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alloprotein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vasculariz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tra-plaque hemorr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781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cardiac catheter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cases of acute ST elevation 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MI isch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table an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cases of non ST elev.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angina with strong pos stres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undergoing valve surgery who have coronary risk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All MI patients ( open vessel theory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genic sh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6:11:28Z</dcterms:created>
  <dc:creator>wstullman</dc:creator>
  <dc:description/>
  <dc:language>en-US</dc:language>
  <cp:lastModifiedBy>wstullman</cp:lastModifiedBy>
  <dcterms:modified xsi:type="dcterms:W3CDTF">2010-04-13T16:51:39Z</dcterms:modified>
  <cp:revision>102</cp:revision>
  <dc:subject/>
  <dc:title>aa</dc:title>
</cp:coreProperties>
</file>