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72D-2286-4FEA-9F0D-8371C657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6C4-A407-4C15-8895-86689B7E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4F8-DC69-4C01-9A06-AC5B326B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2DF-AE35-42D3-803C-C013CCE8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4BB8-256A-4777-B958-B69291D2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5A90-EDDE-44BC-B077-A7B480B1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B76D-6C7C-4DD9-BD67-4FB1EC58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F6B9-A0B5-4E77-8C7E-C42950E4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B370-DBC3-4B15-97C9-5381C59B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F954-37CA-4A35-A0F8-CF5244BC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3B65-CB98-4491-8686-86C2E837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F4B-EB3F-4492-BC7D-E59F1C1A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B1FD-05F8-4891-BD31-E0CAFA9B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787A-1787-4403-AFDC-94456ACB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2135-C30E-4320-ACB6-4B8B414E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3675-11CC-48C4-937A-BF464C3C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8E61-5A19-4E92-8E5B-2C2E5EC5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A288-D3E8-4946-B891-F1B1EAD9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57B-3CFC-43F1-BE31-A3D261A8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4B0-2449-4BA1-9E3E-4B8CF7D2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1A0-8CBE-4E00-A0F2-542AD1CA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E9B-D08E-472E-8EE8-644F4565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0D2-A3E6-4069-9560-D8492D8F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6BE-A412-476E-B273-088F0B8B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470C-084D-4EDC-A35F-B24C39B33D6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6197-3AB6-4BE2-83D6-16333F85161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om.edu/CMS/3809/54070/63118.aspx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219320"/>
            <a:ext cx="6933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munity Medicine:</a:t>
            </a:r>
            <a:br>
              <a:rPr sz="40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to Car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Coun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580920"/>
            <a:ext cx="70041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ancisco J. Dorado, M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ra Costa Regional Medical Center 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y Medicine Resid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rch 3, 200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 from Monument, Conco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laborers face long odds of getting work as they wait by the Monument Boulevard McDonalds on Thursday Feb. 12, 2009 in Concord, Calif. The Pew Hispanic Center released a report Thursday saying "the unemployment rate has increased more and the share of the working-age population that is employed has fallen more for immigrant Hispanics than for other racial and ethnic groups in the first year of the recession." (Karl Mondon/ Staff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a Costa Times 2/13/0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sa and Adolfo are immigrants who are in the process of adjusting their immigration statu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owns his landscaping business and they make $1800/mon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have one son, Jose, age 5 and one on the w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ia is awaiting for Medi-Cal approv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(continue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ed on income Rosa qualifies for Medi-C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se qualifies for CHDP (not insuranc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qualifies for BH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ia has coverage by Medi-Cal while pregnant then may apply for BH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born will maintain Medi-Cal for first 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se will only come in for CHDP (wellness visit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wants to adjust immigration status and does not want Government subsidized insurance. Maria is the sa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mily of 4, one will have insur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to Healthcare Coalition/ Contra Costa Public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nded in 199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ssion is to “Improve access to health care for all children and families in Contra Costa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zens of community organizations represen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lp hotline: 1-877-503-935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ners in Ac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aiser Perman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nned Parenthood (Concord, Richmond, Antioc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 Clinica (Concord, Pittsburg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ookside Community Heal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ctor’s Hospi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hn Muir/Mt. Diabl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 Connections/East Bay Perina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to Health Care Coali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hool distri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/Recommend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motion of existing programs to qualified family members at prenatal visits, newborn exams, OB triage and CHDP visi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ducation about changes in immigration questions and health benefits not counting against becoming a citize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me will change stigma associated with using government subsidized health cove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people who have lost their jobs and employer sponsored insurance are now dependent on CCHS &amp; ER’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dget cuts $15 million dollars from Contra Costa Health Services by March ‘09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reasing loss of tax revenue as a result of housing crisis, decreasing tax b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ttp://www.contracostatimes.com/search/ci_11777623?IADID=Search-www.contracostatimes.com-www.contracostatimes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versal Health Coverag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IP expansion—4 million more elig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imulus bill includes $19 billion for electronic medical record, &amp; funding for COBRA cove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 let there be no doubt: Health care reform cannot wait, it must not wait, and it will not wait another year”. President Obama’s Feb 24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speech to Congres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Yes, we can!</a:t>
            </a:r>
            <a:br>
              <a:rPr sz="6600"/>
            </a:b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headline76e70e" descr="Obama becomes 44th US president"/>
          <p:cNvPicPr/>
          <p:nvPr/>
        </p:nvPicPr>
        <p:blipFill>
          <a:blip r:embed="rId1"/>
          <a:stretch/>
        </p:blipFill>
        <p:spPr>
          <a:xfrm>
            <a:off x="2286000" y="1752480"/>
            <a:ext cx="5486400" cy="2629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¡Si, se puede!”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Cesar Chavez 1927-199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ckground of Uninsu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pidemiology of the Uninsu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I.    Health Coverage Progra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is not Accessing Ca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Contra Costa Doing to Hel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ven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ture:Universal Health Coverag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&gt;47 Million uninsured and we spend 17% of GDP, or $2.4 trillion 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alth care spending in Switzerland, Germany, Canada and France are about 10% of GDP according the Organization for Economic Cooperation and Develop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US is the only industrialized country without a safety net of insurance programs/universal health c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rank 42 in the world for life expectancy ‘08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Institute of Medicine (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om.edu/CMS/3809/54070/63118.aspx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https://www.cia.gov/library/publications/the-world-factbook/rankorder/2102rank.htm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Health Indica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insured rate for immigrants in California is 30-40%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ver 10 thousand uninsured children living in Contra Costa* and many more adul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ates of asthma in African American children are (63/10,000) five times compared to White children (13/10,000)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tinas have teen rate of birth 54.1/K more than twice the county overall 23.4/ K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**Source: 2007 CHAPE, CC Public Health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*E. Richard Brown, UCLA School of Public Health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Health Indica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frican Americans and Latinos, as well as people living in San Pablo, Richmond, Richmond, Pittsburg, Bay Point are more likely to die from diabetes compared to the county overall**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idents of Bay Point die 11 years younger than those living in Orinda**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Source: 2007 CHAPE, CC Public Healt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 of Insurance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Medicare 1965 and Part D in 2003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Medicaid/Medi-Cal 1965 (Title XVIII and XIX of the Social Security Act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SCHIP (State Children’s Health Insurance Program)/Healthy Families 1997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FQHC Statu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Local Initiative/CCHP since 1973*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asic Adult Care-</a:t>
            </a:r>
            <a:r>
              <a:rPr b="0" lang="en-US" sz="2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asic Health Care 8,500 enrolled in 2007.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$45 million over 3 years from federal funds for Health Coverage Initiative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ttp://www.cms.hhs.gov/History/Downloads/CMSProgramKeyMilestones.pd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 Director’s Report January 2009, pg 8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*http://www.cchealth.org/health_plan/about_us.php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come Guidelines and Health Coverage Progra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24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09480" y="1523880"/>
          <a:ext cx="8534520" cy="5078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523880"/>
                    <a:ext cx="853452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Federal Poverty Guidelines (FPG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008 FPG guidelines for a </a:t>
            </a:r>
            <a:r>
              <a:rPr b="1" lang="en-US" sz="3200" spc="-1" strike="noStrike">
                <a:solidFill>
                  <a:srgbClr val="3365cd"/>
                </a:solidFill>
                <a:latin typeface="ComicSansMS-Bold"/>
              </a:rPr>
              <a:t>4-person famil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100% FPL = $21,2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150% FPL = $31,8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00% FPL = $42,4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50% FPL = $53,0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300% FPL = $63,6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are the uninsured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4280" tIns="0" bIns="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57880" y="4486320"/>
            <a:ext cx="228600" cy="171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44792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«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1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2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3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4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»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649600"/>
            <a:ext cx="5375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428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57880" y="44863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116" name="20090212__ecct0213econlatin~1_Gallery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3029040" cy="4572000"/>
          </a:xfrm>
          <a:prstGeom prst="rect">
            <a:avLst/>
          </a:prstGeom>
          <a:ln w="0">
            <a:noFill/>
          </a:ln>
        </p:spPr>
      </p:pic>
      <p:pic>
        <p:nvPicPr>
          <p:cNvPr id="117" name="20090212__ecct0213econlatin~2_Gallery" descr=""/>
          <p:cNvPicPr/>
          <p:nvPr/>
        </p:nvPicPr>
        <p:blipFill>
          <a:blip r:embed="rId4"/>
          <a:stretch/>
        </p:blipFill>
        <p:spPr>
          <a:xfrm>
            <a:off x="4267080" y="1143000"/>
            <a:ext cx="4572000" cy="3108240"/>
          </a:xfrm>
          <a:prstGeom prst="rect">
            <a:avLst/>
          </a:prstGeom>
          <a:ln w="0">
            <a:noFill/>
          </a:ln>
        </p:spPr>
      </p:pic>
      <p:pic>
        <p:nvPicPr>
          <p:cNvPr id="118" name="20090212__ecct0213econlatin~4_Gallery" descr=""/>
          <p:cNvPicPr/>
          <p:nvPr/>
        </p:nvPicPr>
        <p:blipFill>
          <a:blip r:embed="rId5"/>
          <a:stretch/>
        </p:blipFill>
        <p:spPr>
          <a:xfrm>
            <a:off x="4267080" y="4343400"/>
            <a:ext cx="4572000" cy="2320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480" y="571644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ttp://www.contracostatimes.com/search/ci_11692891?IADID=Search-www.contracostatimes.com-www.contracostatimes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20:34:28Z</dcterms:created>
  <dc:creator>Valued Customer </dc:creator>
  <dc:description/>
  <dc:language>en-US</dc:language>
  <cp:lastModifiedBy> </cp:lastModifiedBy>
  <dcterms:modified xsi:type="dcterms:W3CDTF">2009-03-03T06:23:32Z</dcterms:modified>
  <cp:revision>12</cp:revision>
  <dc:subject/>
  <dc:title>Community Medicine: Access to Care  Contra Costa County</dc:title>
</cp:coreProperties>
</file>