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B94-20A0-426B-AB41-217A2D38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E29-ADD1-41A3-BDC4-8F10294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635-0B19-4F95-B289-EB982D3E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D0F-4CA9-47DF-8064-B12B685C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39F-DD8B-45EC-9FAA-D2FADCBA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7DC0-D896-44C8-8441-3285CA8C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060B-06D1-4FAE-B1DF-AD76AEC0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C774-53E3-422F-AFE2-CC52A14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22F-A947-40D3-A2C8-FED9845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E2A2-0D61-4EFF-ACC5-D930DC0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84B9-F286-4B9A-B7EA-16A185E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969-9E98-47E8-A577-3F0581A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FBDB-4724-43A2-A9A6-9EA5517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270-8E72-4E8C-BE97-6E5CBC7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1B9F-CE95-4B01-9B46-6A4C5A7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F908-6A61-4055-AD24-3C258785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85AD-9332-431F-94D4-90ED7997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8A2-D246-4D81-B6F0-EA0C42A4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4A5-A182-469A-96B9-A1C7CEDC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FFF-2E56-43B5-B48C-1B05492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ABF-9175-46ED-A770-E564F95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921-E70D-49D8-90AB-33A3A01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AB1-773A-476D-BF76-2228DBF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7C0-F02E-4911-AB2F-55B368E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FD4C-D1F9-4895-8DF9-FE0A85278FD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BE80-4744-4C88-BBF7-A5759BE489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om.edu/CMS/3809/54070/63118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munity Medicine:</a:t>
            </a:r>
            <a:br>
              <a:rPr sz="40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Car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Cou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580920"/>
            <a:ext cx="700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ncisco J. Dorado, M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a Costa Regional Medical Center 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Res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3, 200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 from Monument, Conco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laborers face long odds of getting work as they wait by the Monument Boulevard McDonalds on Thursday Feb. 12, 2009 in Concord, Calif. The Pew Hispanic Center released a report Thursday saying "the unemployment rate has increased more and the share of the working-age population that is employed has fallen more for immigrant Hispanics than for other racial and ethnic groups in the first year of the recession." (Karl Mondon/ Staff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 Costa Times 2/13/0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sa and Adolfo are immigrants who are in the process of adjusting their immigration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owns his landscaping business and they make $1800/mon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have one son, Jose, age 5 and one on the 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is awaiting for Medi-Cal appro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(continu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income Rosa qualifies for Medi-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qualifies for CHDP (not insura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qualifies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has coverage by Medi-Cal while pregnant then may apply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born will maintain Medi-Cal for first 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will only come in for CHDP (wellness vis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wants to adjust immigration status and does not want Government subsidized insurance. Maria is the sa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of 4, one will have in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Healthcare Coalition/ Contra Costa Public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nded in 19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sion is to “Improve access to health care for all children and families in Contra Cost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zens of community organizations re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hotline: 1-877-503-93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s in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aiser Perman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nned Parenthood (Concord, Richmond, Antio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linica (Concord, Pittsbur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ookside Community Heal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tor’s Hosp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Muir/Mt. Diabl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Connections/East Bay Perina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Health Care Coal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distr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/Recommend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ion of existing programs to qualified family members at prenatal visits, newborn exams, OB triage and CHDP vis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 about changes in immigration questions and health benefits not counting against becoming a citiz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will change stigma associated with using government subsidized health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people who have lost their jobs and employer sponsored insurance are now dependent on CCHS &amp; ER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cuts $15 million dollars from Contra Costa Health Services by March ‘09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loss of tax revenue as a result of housing crisis, decreasing tax 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ontracostatimes.com/search/ci_11777623?IADID=Search-www.contracostatimes.com-www.contracostatimes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Health Coverag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P expansion—4 million more elig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us bill includes $19 billion for electronic medical record, &amp; funding for COBRA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let there be no doubt: Health care reform cannot wait, it must not wait, and it will not wait another year”. President Obama’s Feb 2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peech to Congres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Yes, we can!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headline76e70e" descr="Obama becomes 44th US president"/>
          <p:cNvPicPr/>
          <p:nvPr/>
        </p:nvPicPr>
        <p:blipFill>
          <a:blip r:embed="rId1"/>
          <a:stretch/>
        </p:blipFill>
        <p:spPr>
          <a:xfrm>
            <a:off x="2286000" y="1752480"/>
            <a:ext cx="5486400" cy="262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¡Si, se puede!”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esar Chavez 1927-19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ground of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demiology of the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I.    Health Coverage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is not Accessing C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ntra Costa Doing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ture:Universal Health Covera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47 Million uninsured and we spend 17% of GDP, or $2.4 trillion 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spending in Switzerland, Germany, Canada and France are about 10% of GDP according the Organization for Economic Cooperation and Develop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S is the only industrialized country without a safety net of insurance programs/universal health c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rank 42 in the world for life expectancy ‘08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Institute of Medicine (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om.edu/CMS/3809/54070/63118.asp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https://www.cia.gov/library/publications/the-world-factbook/rankorder/2102rank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nsured rate for immigrants in California is 30-40%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 10 thousand uninsured children living in Contra Costa* and many more ad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tes of asthma in African American children are (63/10,000) five times compared to White children (13/10,000)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inas have teen rate of birth 54.1/K more than twice the county overall 23.4/ K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E. Richard Brown, UCLA School of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Americans and Latinos, as well as people living in San Pablo, Richmond, Richmond, Pittsburg, Bay Point are more likely to die from diabetes compared to the county overall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s of Bay Point die 11 years younger than those living in Orinda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 of Insuranc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re 1965 and Part D in 2003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id/Medi-Cal 1965 (Title XVIII and XIX of the Social Security Act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CHIP (State Children’s Health Insurance Program)/Healthy Families 1997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FQHC Statu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ocal Initiative/CCHP since 1973*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Adult Care-</a:t>
            </a:r>
            <a:r>
              <a:rPr b="0" lang="en-U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Health Care 8,500 enrolled in 2007.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$45 million over 3 years from federal funds for Health Coverage Initiative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ms.hhs.gov/History/Downloads/CMSProgramKeyMilestones.pd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 Director’s Report January 2009, pg 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*http://www.cchealth.org/health_plan/about_us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e Guidelines and Health Coverage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1523880"/>
          <a:ext cx="8534520" cy="507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5345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ederal Poverty Guidelines (FPG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8 FPG guidelines for a </a:t>
            </a:r>
            <a:r>
              <a:rPr b="1" lang="en-US" sz="3200" spc="-1" strike="noStrike">
                <a:solidFill>
                  <a:srgbClr val="3365cd"/>
                </a:solidFill>
                <a:latin typeface="ComicSansMS-Bold"/>
              </a:rPr>
              <a:t>4-person famil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00% FPL = $21,2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50% FPL = $31,8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% FPL = $42,4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50% FPL = $53,0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300% FPL = $63,6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are the uninsur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47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«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1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2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3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4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»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49600"/>
            <a:ext cx="537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428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16" name="20090212__ecct0213econlatin~1_Gallery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2904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20090212__ecct0213econlatin~2_Gallery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20090212__ecct0213econlatin~4_Gallery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571644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contracostatimes.com/search/ci_11692891?IADID=Search-www.contracostatimes.com-www.contracostatimes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4:28Z</dcterms:created>
  <dc:creator>Valued Customer </dc:creator>
  <dc:description/>
  <dc:language>en-US</dc:language>
  <cp:lastModifiedBy> </cp:lastModifiedBy>
  <dcterms:modified xsi:type="dcterms:W3CDTF">2009-03-03T06:23:32Z</dcterms:modified>
  <cp:revision>12</cp:revision>
  <dc:subject/>
  <dc:title>Community Medicine: Access to Care  Contra Costa County</dc:title>
</cp:coreProperties>
</file>