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022D-271B-48AF-A67F-CFA7AAE67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581E-AA75-4705-B368-9DF3C7B62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4B7-F979-437C-8EAA-11379D98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BD29-D468-4C24-B9DF-AD975C54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D0A-7607-4F42-9058-72DC6815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FD8-AC01-4AC0-91FF-CD2D8765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FFB2-4BBB-4BEB-AE2B-70D01962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6B08-0497-4D0E-ABC8-3043DC02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1F98-2F6D-4641-8C8E-F8F58688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9170-FA78-481D-9C3F-C8850DDF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7FD4-D334-4842-900E-BC966675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A14D-2985-4BE2-9BB6-A20649C1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0283-9094-4F74-A793-AEB3ECEB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5C8-FD81-45A1-A8E6-EE3EF56C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125C-62DF-4CFC-8D25-B788F53F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A25E-47A0-466E-8DC1-6FB35D09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2B29-FA97-4576-A98B-AE6F8676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AFD8-6B8B-410B-9E77-591266AC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724A-3551-4DB8-BF20-6027F452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88C48-08C7-451B-A8F5-6C6428C1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16447-79F2-41DE-90E3-230D5804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1B432-1F2D-4095-B643-3D93CDA3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61AD5-4B66-4F78-B8E3-4E082C32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5DE385-A93F-4B01-83D6-761DE438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4628-E11D-4385-A850-1366B09F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6141A-9415-4852-A135-1643A5DC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DD2B4-A96E-4004-A94A-8ACEFCA1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4ECBA-DB6E-4250-B20D-333C86F3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B6B57-8C78-4D17-B6B5-2B3EE900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22BB2-8EE9-4991-98CF-A8E62A99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775B8-DBC9-4111-84B7-8D45A17C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3084C-4942-4FA1-A98C-2AD83F55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ECD842-5E17-4F7F-93EB-E95C5CD1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93F0A-3953-4044-982B-FC2AD9AC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DF5AD8-28A0-4F78-821B-C4FF514D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4A6D-A37A-45CE-93D6-1A0265ED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CC224D-9471-4895-AA35-3EA36905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2DE80A-B0F3-497A-9D5E-437B6AA7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45EF9C-A5BB-47F9-8E51-F830913A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DD1398-939C-4DE8-8E72-2FF6D150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29C71E-057A-4DD3-A048-5D364356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BB644A-E7CA-445D-B6CF-B2549E0C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BFA4B3-DE72-4301-B817-1DD06CB9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4C2B13-C321-4BB3-B8D0-D16F4EDA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95C05C-01B2-4DA5-B6A5-D99B0E49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1F8F-DAB1-48A5-B44F-6F9BEC9B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A01A-C9A5-4D8A-87E8-4D6F78D4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83AE-2427-4DF8-89F9-44246920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5AE8-C757-4081-8349-94AEE5DE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6FC3-83FA-49A9-8823-6107183C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B402-1E74-411F-911D-B512E78E3C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4151-4CEC-4599-98A6-C81664010C16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012B-0A3A-4E7C-9FF8-21DAC9695F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E795-FC66-479B-B324-A13D64F42E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www.uptodate.com/" TargetMode="External"/><Relationship Id="rId2" Type="http://schemas.openxmlformats.org/officeDocument/2006/relationships/hyperlink" Target="http://www.uptodate.com/" TargetMode="External"/><Relationship Id="rId3" Type="http://schemas.openxmlformats.org/officeDocument/2006/relationships/hyperlink" Target="http://www.emedicine.medscape.com/" TargetMode="External"/><Relationship Id="rId4" Type="http://schemas.openxmlformats.org/officeDocument/2006/relationships/hyperlink" Target="http://www.emedicine.medscape.com/" TargetMode="External"/><Relationship Id="rId5" Type="http://schemas.openxmlformats.org/officeDocument/2006/relationships/hyperlink" Target="http://www.emedicine.medscape.com/" TargetMode="External"/><Relationship Id="rId6" Type="http://schemas.openxmlformats.org/officeDocument/2006/relationships/hyperlink" Target="http://www.emedicine.medscape.com/" TargetMode="External"/><Relationship Id="rId7" Type="http://schemas.openxmlformats.org/officeDocument/2006/relationships/hyperlink" Target="http://www.emedicine.medscape.com/" TargetMode="External"/><Relationship Id="rId8" Type="http://schemas.openxmlformats.org/officeDocument/2006/relationships/hyperlink" Target="http://www.emedicine.medscape.com/" TargetMode="External"/><Relationship Id="rId9" Type="http://schemas.openxmlformats.org/officeDocument/2006/relationships/hyperlink" Target="http://www.emedicine.medscape.com/" TargetMode="External"/><Relationship Id="rId10" Type="http://schemas.openxmlformats.org/officeDocument/2006/relationships/hyperlink" Target="http://www.emedicine.medscape.com/" TargetMode="External"/><Relationship Id="rId11" Type="http://schemas.openxmlformats.org/officeDocument/2006/relationships/hyperlink" Target="http://www.emedicine.medscape.com/" TargetMode="External"/><Relationship Id="rId12" Type="http://schemas.openxmlformats.org/officeDocument/2006/relationships/hyperlink" Target="http://www.emedicine.medscape.com/" TargetMode="External"/><Relationship Id="rId1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239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ebddc3"/>
                </a:solidFill>
                <a:latin typeface="Arial"/>
              </a:rPr>
              <a:t>CHILDHOOD ALOPECIA AND COMMON PEDIATRIC RASHES</a:t>
            </a:r>
            <a:endParaRPr b="0" lang="en-US" sz="53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 Ho, M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/25/10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nagen Effluvium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dden loss of the growing hairs (80% of normal scalp hairs)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d by abnormal cessation of anagen phas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ir shafts taper and lose adhesion to the follicl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common after systemic chemotherap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88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most common cause of alopecia in childr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of localized anagen effluviu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smooth patches of alopecia that can be located anywher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thought to be multifactorial:                immunologic, genetic, environment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0" name="Content Placeholder 5" descr="photo-0133.jpg"/>
          <p:cNvPicPr/>
          <p:nvPr/>
        </p:nvPicPr>
        <p:blipFill>
          <a:blip r:embed="rId1"/>
          <a:stretch/>
        </p:blipFill>
        <p:spPr>
          <a:xfrm>
            <a:off x="4495680" y="2590920"/>
            <a:ext cx="43974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14475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ues to diagnosi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ence of inflammation and scaling in involved area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ce of short 3-6mm easily epilated hairs at the margins of the patch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tch-plaid pitting of the nai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iopsy is usually not necessary to confirm the diagnosis, but may be needed in cases where the diagnosis is uncertain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3" name="Content Placeholder 4" descr="Exclamation_point_hairs.jpg"/>
          <p:cNvPicPr/>
          <p:nvPr/>
        </p:nvPicPr>
        <p:blipFill>
          <a:blip r:embed="rId1"/>
          <a:stretch/>
        </p:blipFill>
        <p:spPr>
          <a:xfrm>
            <a:off x="4844880" y="2211480"/>
            <a:ext cx="38862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523880"/>
            <a:ext cx="4419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/3 regress spontaneously within 6 month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most all will experience more than one episode of the diseas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progress to alopecia total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progress to alopecia universal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ye abnormalities may occu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6" name="Content Placeholder 4" descr="alopeciaAreata_46373_lg.jpg"/>
          <p:cNvPicPr/>
          <p:nvPr/>
        </p:nvPicPr>
        <p:blipFill>
          <a:blip r:embed="rId1"/>
          <a:stretch/>
        </p:blipFill>
        <p:spPr>
          <a:xfrm>
            <a:off x="5029200" y="3951360"/>
            <a:ext cx="3863880" cy="29066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"/>
          <p:cNvSpPr/>
          <p:nvPr/>
        </p:nvSpPr>
        <p:spPr>
          <a:xfrm>
            <a:off x="5029200" y="16002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prognosis = young age, severe disease, duration of &gt;1 year, nail disease, atopy, involvement of peripheral scalp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560" y="1599840"/>
            <a:ext cx="4647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 all patients require treat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p to 80 percent of patients with alopecia areata that is limited and of less than one year's duration may expect spontaneous re-growth of hai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alesional/topical/systemic steroid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noxidil 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thralin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hotrexat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pical immunotherap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0" name="Content Placeholder 4" descr="alopecia_areata.jpg"/>
          <p:cNvPicPr/>
          <p:nvPr/>
        </p:nvPicPr>
        <p:blipFill>
          <a:blip r:embed="rId1"/>
          <a:stretch/>
        </p:blipFill>
        <p:spPr>
          <a:xfrm>
            <a:off x="5791320" y="1523880"/>
            <a:ext cx="2514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rrhexis Nodos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6761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opecia caused by hair shaft breakage due to damage to outer cortex of hair shaft and loss in structural suppor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caused by physical trauma or chemical traum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gnosed under microscope: distal ends of hairs are frayed like a broom or hairs may have nodules like two brooms stuck togethe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s at any age as brittle, short hairs that are perceived as non-growing, hairs are easily broken on gentle pul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3" name="Content Placeholder 4" descr="trch.jpg"/>
          <p:cNvPicPr/>
          <p:nvPr/>
        </p:nvPicPr>
        <p:blipFill>
          <a:blip r:embed="rId1"/>
          <a:stretch/>
        </p:blipFill>
        <p:spPr>
          <a:xfrm>
            <a:off x="5562720" y="3581280"/>
            <a:ext cx="1055520" cy="3048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mmhair1.jpg"/>
          <p:cNvPicPr/>
          <p:nvPr/>
        </p:nvPicPr>
        <p:blipFill>
          <a:blip r:embed="rId2"/>
          <a:stretch/>
        </p:blipFill>
        <p:spPr>
          <a:xfrm>
            <a:off x="7086600" y="3505320"/>
            <a:ext cx="1055520" cy="31208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5105520" y="16002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limited proces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re-grows when the source of the damage is elimina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Friction Alopeci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mon on posterior scalp of infants where head rubs on pillo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lf limi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en severe/long standing, think neglec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8" name="Picture 4" descr="369584498_8ecd4354c6.jpg"/>
          <p:cNvPicPr/>
          <p:nvPr/>
        </p:nvPicPr>
        <p:blipFill>
          <a:blip r:embed="rId1"/>
          <a:stretch/>
        </p:blipFill>
        <p:spPr>
          <a:xfrm>
            <a:off x="2590920" y="3657600"/>
            <a:ext cx="3524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action Alopec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560" y="1589040"/>
            <a:ext cx="419076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in young girls whose hairstyles maintain a tight pull on hair shaft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uses shaft fractures and follicular damage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cause permanent scarring alopecia if prolonged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1" name="Content Placeholder 6" descr="Traction_alopecia.jpg"/>
          <p:cNvPicPr/>
          <p:nvPr/>
        </p:nvPicPr>
        <p:blipFill>
          <a:blip r:embed="rId1"/>
          <a:stretch/>
        </p:blipFill>
        <p:spPr>
          <a:xfrm>
            <a:off x="4419720" y="2895480"/>
            <a:ext cx="442584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controllable urge to pull out ones own hai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n in school aged children and adolescents, mostly in adolescent females, but more common in boys under 6 y/o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ften associated with other compulsive behaviors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izarre patterns of hair los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4" name="Content Placeholder 4" descr="ht_hair_pulling_080310_mn.jpg"/>
          <p:cNvPicPr/>
          <p:nvPr/>
        </p:nvPicPr>
        <p:blipFill>
          <a:blip r:embed="rId1"/>
          <a:stretch/>
        </p:blipFill>
        <p:spPr>
          <a:xfrm>
            <a:off x="4495680" y="3352680"/>
            <a:ext cx="4337280" cy="3252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572000" y="1676520"/>
            <a:ext cx="426708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rely the scalp,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eyebrows, and eyelashes are involve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240" y="1523880"/>
            <a:ext cx="4724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is: hair pluck, scalp biops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 clues: short, broken-off hairs along the scalp with stubs of different length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ing from alopecia areata: patches of hair loss, hair shafts are anagen hairs that are difficult to remove, no nail abnormalitie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8" name="Content Placeholder 8" descr="trich.jpg"/>
          <p:cNvPicPr/>
          <p:nvPr/>
        </p:nvPicPr>
        <p:blipFill>
          <a:blip r:embed="rId1"/>
          <a:stretch/>
        </p:blipFill>
        <p:spPr>
          <a:xfrm>
            <a:off x="5105520" y="4191120"/>
            <a:ext cx="3797280" cy="23619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1"/>
          <p:cNvSpPr/>
          <p:nvPr/>
        </p:nvSpPr>
        <p:spPr>
          <a:xfrm>
            <a:off x="4952880" y="1600200"/>
            <a:ext cx="388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distinguished from habitual hair pulling, twisting, twirling, which usually occur at bedtimes/naptimes, and habit resolves by early school yea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ebddc3"/>
                </a:solidFill>
                <a:latin typeface="Arial"/>
              </a:rPr>
              <a:t>Childhood Alopecia</a:t>
            </a:r>
            <a:endParaRPr b="0" lang="en-US" sz="62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n occur in those with severe psychiatric disease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st cases are associated with situational stres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= referral to psychiatry, behavior modification +/-  clomipramine or fluoxetine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gnosis = initially reversible but may become permanent if the habit persist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plasia Cutis Congeni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52388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genital condition with absence or failure of formation of a localized area of scalp or sk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arely, lesions may be multiple or may involve the trunk or extremities, and may be associated with limb defects or other anomal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44" name="Content Placeholder 5" descr="Fig011.gif"/>
          <p:cNvPicPr/>
          <p:nvPr/>
        </p:nvPicPr>
        <p:blipFill>
          <a:blip r:embed="rId1"/>
          <a:stretch/>
        </p:blipFill>
        <p:spPr>
          <a:xfrm>
            <a:off x="4648320" y="3733920"/>
            <a:ext cx="4270320" cy="2805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800600" y="1676520"/>
            <a:ext cx="434340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jority involve only   the dermis and epiderm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plasia Cutis Congeni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480" y="1589040"/>
            <a:ext cx="381024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 birth, lesion consists of sharply circumscribed open weeping ulceration, or may be covered by thin hemorrhagic membrane or crus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ervative treatment  to prevent infection and injury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aling occurs over weeks to months, leaving smooth atrophic and hairless sca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48" name="Content Placeholder 4" descr="cutis.jpg"/>
          <p:cNvPicPr/>
          <p:nvPr/>
        </p:nvPicPr>
        <p:blipFill>
          <a:blip r:embed="rId1"/>
          <a:stretch/>
        </p:blipFill>
        <p:spPr>
          <a:xfrm>
            <a:off x="4572000" y="2590920"/>
            <a:ext cx="4421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447920"/>
            <a:ext cx="4190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ible for &gt;50% of cases of hair loss in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gal infection weakens hair shaft causing breakage and results in multiple patches of partial alopec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chophyton tonsurans is responsible for over 95% of scalp ringworm in U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known reasons, but infection is endemic among black school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1" name="Content Placeholder 4" descr="Tinea_Capitis-34.jpg"/>
          <p:cNvPicPr/>
          <p:nvPr/>
        </p:nvPicPr>
        <p:blipFill>
          <a:blip r:embed="rId1"/>
          <a:stretch/>
        </p:blipFill>
        <p:spPr>
          <a:xfrm>
            <a:off x="5105520" y="3733920"/>
            <a:ext cx="3581280" cy="28350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5029200" y="1523880"/>
            <a:ext cx="350532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crosporum canis (dog/cat ringworm) can cause a few cases also, but there is no racial predilec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52388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resentations -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d erythema and scaling of scalp with partial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breakage at the scalp creating a salt and pepper appearan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lar like tinea corpor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ythema/edema/pustule formation, as the pustule ruptures the area weeps and golden crusts form like imptig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ed up sca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5" name="Content Placeholder 6" descr="tineaCapitis_4067_lg.jpg"/>
          <p:cNvPicPr/>
          <p:nvPr/>
        </p:nvPicPr>
        <p:blipFill>
          <a:blip r:embed="rId1"/>
          <a:stretch/>
        </p:blipFill>
        <p:spPr>
          <a:xfrm>
            <a:off x="5181480" y="4183200"/>
            <a:ext cx="3581640" cy="26748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7"/>
          <p:cNvSpPr/>
          <p:nvPr/>
        </p:nvSpPr>
        <p:spPr>
          <a:xfrm>
            <a:off x="5105520" y="152388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common, kerions = intense inflammation causes formation of raised tender boggy plaques or masses studded with pustules that simulate absces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0520" y="15235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x with KOH examination of infected hair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al culture of hair and scal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s lamp = M. audouinii and M. canis flouresce, but not T. tonsura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9" name="Content Placeholder 4" descr="197MIKE.jpg"/>
          <p:cNvPicPr/>
          <p:nvPr/>
        </p:nvPicPr>
        <p:blipFill>
          <a:blip r:embed="rId1"/>
          <a:stretch/>
        </p:blipFill>
        <p:spPr>
          <a:xfrm>
            <a:off x="4572000" y="2590920"/>
            <a:ext cx="43340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60020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t with oral antifunga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seofulvin 20mg/kg once daily x 6-8 week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toconazole alternati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r antifungals: terbinafine, itraconazole, fluconazole  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 use of selenium sulfide shampoo (2.5%) reduces spore formation and shedding, which can help minimize sprea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2" name="Content Placeholder 4" descr="tinea-capitis-ringworm.jpg"/>
          <p:cNvPicPr/>
          <p:nvPr/>
        </p:nvPicPr>
        <p:blipFill>
          <a:blip r:embed="rId1"/>
          <a:stretch/>
        </p:blipFill>
        <p:spPr>
          <a:xfrm>
            <a:off x="4648320" y="2666880"/>
            <a:ext cx="4130640" cy="3969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4724280" y="1676520"/>
            <a:ext cx="373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urrence is high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ebddc3"/>
                </a:solidFill>
                <a:latin typeface="Arial"/>
              </a:rPr>
              <a:t>Common Pediatric Rashes</a:t>
            </a:r>
            <a:endParaRPr b="0" lang="en-US" sz="6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67" name="Text Placeholder 12" descr=""/>
          <p:cNvPicPr/>
          <p:nvPr/>
        </p:nvPicPr>
        <p:blipFill>
          <a:blip r:embed="rId1"/>
          <a:stretch/>
        </p:blipFill>
        <p:spPr>
          <a:xfrm>
            <a:off x="4876920" y="3695760"/>
            <a:ext cx="3733560" cy="2817720"/>
          </a:xfrm>
          <a:prstGeom prst="rect">
            <a:avLst/>
          </a:prstGeom>
          <a:ln w="0">
            <a:noFill/>
          </a:ln>
        </p:spPr>
      </p:pic>
      <p:pic>
        <p:nvPicPr>
          <p:cNvPr id="268" name="Text Placeholder 12" descr=""/>
          <p:cNvPicPr/>
          <p:nvPr/>
        </p:nvPicPr>
        <p:blipFill>
          <a:blip r:embed="rId2"/>
          <a:stretch/>
        </p:blipFill>
        <p:spPr>
          <a:xfrm>
            <a:off x="228600" y="3711600"/>
            <a:ext cx="4191120" cy="2817720"/>
          </a:xfrm>
          <a:prstGeom prst="rect">
            <a:avLst/>
          </a:prstGeom>
          <a:ln w="0">
            <a:noFill/>
          </a:ln>
        </p:spPr>
      </p:pic>
      <p:pic>
        <p:nvPicPr>
          <p:cNvPr id="269" name="Text Placeholder 12" descr=""/>
          <p:cNvPicPr/>
          <p:nvPr/>
        </p:nvPicPr>
        <p:blipFill>
          <a:blip r:embed="rId3"/>
          <a:stretch/>
        </p:blipFill>
        <p:spPr>
          <a:xfrm>
            <a:off x="2209680" y="380880"/>
            <a:ext cx="48006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known as eczem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hronically recurrent, genetically influenced skin disorde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evalence is highest among children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families with a history of allergic rhinitis or asthma, ~1/3 of the children are expected to develop atopic dermatiti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patients with atopic dermatitis, 1/3 are expected to have a personal history of allergic rhinitis or asthm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herited as an autosomal trait with multifactorial influences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ather - atopic dermatitis improves with warm and humid weather, worsens with cold and dry weath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ther external factors - dry skin, soaps, wool fabrics, foods, infectious agents produce pruritus in susceptible pati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Arial"/>
              </a:rPr>
              <a:t>TINEA CAPITIS, TRICHOTILLOMANIA, ALOPECIA AREATA, AND TELOGEN EFFLUVIUM ACCOUNT FOR &gt;95% OF CASES OF ALOPECIA IN CHILDREN.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cratching leads to acute and chronic changes: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cutely -&gt; erythema, scaling, vesicles, crusting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ronically -&gt; lichenification and pigmentary chang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04920" y="17521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stribution of the rash changes with age: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fantile phase (birth - 3 years) – symmetrically distributed over scalp, forehead, cheeks, trunk, and extensor surfaces; spares diaper ar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hildhood phase (4 - 10 years) – distributed over wrists, ankles, flexural surfaces of the extremities, ear creases, back of nec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dolescent/adult phase – distributed over flexural creases of the neck and extremities, hands and fe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"/>
          <p:cNvSpPr/>
          <p:nvPr/>
        </p:nvSpPr>
        <p:spPr>
          <a:xfrm>
            <a:off x="9344160" y="-2670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9524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void environmental irritants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void scratching with: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oose-fitting cotton clothing; long sleeves and foot coverings may help in infant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tihistamines, especially at bedtim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mollients to prevent dry skin, liberal application at least BID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keep nails trimmed to prevent excoriation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increased disease activit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and medium –potency topical corticosteroids, BID application to worst areas and tapered ASAP, overuse – causes atrophy, loss of pigment, telangiectasias, stria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ace/groin – HC1% and 2.5%, desonide if seve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ody – triamcinolone 0.1%, use only on thick plaques for kids &lt;1y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ical nonsteroidal calcineurin inhibitors - tacrolimus and pimecrolimu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-381240" y="1752480"/>
            <a:ext cx="4647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ypes of atopic dermatiti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ummular eczema – coin shaped, red patches made up of tiny papules and vesicles located on extremities; difficult to trea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llicular eczema – follicular papules on trunk and extremities, usually occurs early in fla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3" name="Text Placeholder 12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ications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condary bacterial inf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ed exudative patch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caused by GAS or S. aure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lture and treat with oral antibiotics, warm compresses, and emolli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ical mupirocin or bacitracin for localized, small, impetigo-like les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 if failed oral therapy or widespread infe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czema herpetic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grouped 2-3mm diameter vesicles or crusts/ulcerations associated with high fever and worsening pruprit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x with viral culture, PCR, or DF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t and start IV Acyclovir immediately if suspect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fection unresponsive to antibiotics should raise suspicion for eczema herpeticu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ext Placeholder 1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15652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88" name="Text Placeholder 1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343400" cy="3206520"/>
          </a:xfrm>
          <a:prstGeom prst="rect">
            <a:avLst/>
          </a:prstGeom>
          <a:ln w="0">
            <a:noFill/>
          </a:ln>
        </p:spPr>
      </p:pic>
      <p:pic>
        <p:nvPicPr>
          <p:cNvPr id="289" name="Text Placeholder 12" descr=""/>
          <p:cNvPicPr/>
          <p:nvPr/>
        </p:nvPicPr>
        <p:blipFill>
          <a:blip r:embed="rId2"/>
          <a:stretch/>
        </p:blipFill>
        <p:spPr>
          <a:xfrm>
            <a:off x="5105520" y="46656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290" name="Text Placeholder 12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40813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eratosis Pilar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766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sults from retention of keratin in the follicular infundibulum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nign skin condition, but cosmetically displeasing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ften + FH, AD inheritance with variable penetranc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emales more frequently affected than m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ften improves with age, but usually never goes away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nifests as horny follicular papules and erythema on the upper arms, medial thighs, and cheek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monly associated with atopic dermatitis, ichthyosis vulgaris, xerosi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oisturize with emollient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ry combination of emollient and exfolian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94" name="Text Placeholder 12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3353040" cy="3557520"/>
          </a:xfrm>
          <a:prstGeom prst="rect">
            <a:avLst/>
          </a:prstGeom>
          <a:ln w="0">
            <a:noFill/>
          </a:ln>
        </p:spPr>
      </p:pic>
      <p:pic>
        <p:nvPicPr>
          <p:cNvPr id="295" name="Text Placeholder 12" descr=""/>
          <p:cNvPicPr/>
          <p:nvPr/>
        </p:nvPicPr>
        <p:blipFill>
          <a:blip r:embed="rId2"/>
          <a:stretch/>
        </p:blipFill>
        <p:spPr>
          <a:xfrm>
            <a:off x="3124080" y="3962520"/>
            <a:ext cx="2895840" cy="2644560"/>
          </a:xfrm>
          <a:prstGeom prst="rect">
            <a:avLst/>
          </a:prstGeom>
          <a:ln w="0">
            <a:noFill/>
          </a:ln>
        </p:spPr>
      </p:pic>
      <p:pic>
        <p:nvPicPr>
          <p:cNvPr id="296" name="Text Placeholder 12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374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Normal Hair Cycle: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89" name="Content Placeholder 6" descr=""/>
          <p:cNvPicPr/>
          <p:nvPr/>
        </p:nvPicPr>
        <p:blipFill>
          <a:blip r:embed="rId1"/>
          <a:stretch/>
        </p:blipFill>
        <p:spPr>
          <a:xfrm>
            <a:off x="298440" y="1596960"/>
            <a:ext cx="83948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oup of conditions in which an inflammatory reaction in the skin is triggered by direct contact with environmental agent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rritant vs. allergic form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itant is the most common form; changes in the skin induced by caustic agents (i.e. acids, alkali, hydrocarbons, etc.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ash is usually occurs within minutes: well-demarcated erythema, blistering, edema, and/or crust form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ching/burning sens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rgic contact dermatitis is a Type IV delayed-hypersensitivity respons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ergic response is less severe and often delayed upon initial exposure, then more rapid and severe responses occur on subsequent exposure to the aller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ost common allergic contact dermatitis in the US is poison ivy or rhus dermatiti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02" name="Text Placeholder 12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2900520" cy="3100320"/>
          </a:xfrm>
          <a:prstGeom prst="rect">
            <a:avLst/>
          </a:prstGeom>
          <a:ln w="0">
            <a:noFill/>
          </a:ln>
        </p:spPr>
      </p:pic>
      <p:pic>
        <p:nvPicPr>
          <p:cNvPr id="303" name="Text Placeholder 12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2854440" cy="3352680"/>
          </a:xfrm>
          <a:prstGeom prst="rect">
            <a:avLst/>
          </a:prstGeom>
          <a:ln w="0">
            <a:noFill/>
          </a:ln>
        </p:spPr>
      </p:pic>
      <p:pic>
        <p:nvPicPr>
          <p:cNvPr id="304" name="Text Placeholder 12" descr=""/>
          <p:cNvPicPr/>
          <p:nvPr/>
        </p:nvPicPr>
        <p:blipFill>
          <a:blip r:embed="rId3"/>
          <a:stretch/>
        </p:blipFill>
        <p:spPr>
          <a:xfrm>
            <a:off x="304920" y="1676520"/>
            <a:ext cx="41907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37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oision ivy, oak, and sumac dermatitis causes a rash consisting of linear streaks of erythematous papules and vesic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hen involved in more sensitive areas such as the face or genitals, impressive swelling can occu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orough washing within minutes of exposure may prevent or reduce the eruption, barrier creams (Ivy Guard) applied before exposure may provide some protecti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ther common contact allergens include nickel, rubber, latex, glues, dyes, neomycin, and topical anesthetic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hotosensitizers are allergens that require sunlight to become activiated and cause a photocontact dermatitis when the patient is exposed to sunlight;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rash erupts in a symmetric distribution on the face, th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“V”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of the neck, and the arms below the shirt sleev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opical photosensitizers produce localized patches of dermatitis when applied to sun-exposed are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d reaction: severe local reaction in a contact dermatitis induces an immunologically mediated secondary eczematous dermatit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reatment: 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mall areas of contact dermatitis: topical corticosteroids and avoiding further contact with the inciting agen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widespread reactions or severe local reactions in the face/genital/hands: 2-3 week tapering course of systemic corticosteroid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horter course may cause the rash to reboun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respond within 48 hou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12" name="Text Placeholder 12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308480" cy="3673440"/>
          </a:xfrm>
          <a:prstGeom prst="rect">
            <a:avLst/>
          </a:prstGeom>
          <a:ln w="0">
            <a:noFill/>
          </a:ln>
        </p:spPr>
      </p:pic>
      <p:pic>
        <p:nvPicPr>
          <p:cNvPr id="313" name="Text Placeholder 12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borrhe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zed by symmetric, red, scaling eruption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 predominantly on hair-bearing and intertriginous are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fants, scalp lesions called “cradle cap” are greasy, salmon-colored, scaly; severe form is more generalize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olescents, the dermatitis manifests as dandruff or flaking of the eyebrows, postauricular areas, nasolabial folds, and/or flexural are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ogenesis is unknow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non-pruritic, some clear spontaneous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17" name="Text Placeholder 1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907080" cy="4800600"/>
          </a:xfrm>
          <a:prstGeom prst="rect">
            <a:avLst/>
          </a:prstGeom>
          <a:ln w="0">
            <a:noFill/>
          </a:ln>
        </p:spPr>
      </p:pic>
      <p:pic>
        <p:nvPicPr>
          <p:cNvPr id="318" name="Text Placeholder 12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838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borrhe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91440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ow potency topical corticosteroid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nti-seborrheic shampoo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ary bacterial infection usually caused by GAS and/or S. aureu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ccurs commonly in the neck, axillary, and groin creases of infant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hould be cultured and treated with antibiotic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an differentiate from atopic dermatitis by asking about severity of pruritis and checking diaper area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thick white scales, or persistent diaper dermatitis and cradle cap, may be difficult to differentiate from psoriasis without a skin biops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What is normal hair los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hair loss averages 75 to 100 hairs per day. 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ir loss is clinically apparent when a person has lost 25%-50% of hair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ext Placeholder 12" descr=""/>
          <p:cNvPicPr/>
          <p:nvPr/>
        </p:nvPicPr>
        <p:blipFill>
          <a:blip r:embed="rId1"/>
          <a:stretch/>
        </p:blipFill>
        <p:spPr>
          <a:xfrm>
            <a:off x="612720" y="228600"/>
            <a:ext cx="3959280" cy="6172200"/>
          </a:xfrm>
          <a:prstGeom prst="rect">
            <a:avLst/>
          </a:prstGeom>
          <a:ln w="0">
            <a:noFill/>
          </a:ln>
        </p:spPr>
      </p:pic>
      <p:pic>
        <p:nvPicPr>
          <p:cNvPr id="322" name="Text Placeholder 12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4003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tilig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cquired disorder of pigmentation in which there is </a:t>
            </a:r>
            <a:r>
              <a:rPr b="1" lang="en-US" sz="2300" spc="-1" strike="noStrike">
                <a:solidFill>
                  <a:srgbClr val="000000"/>
                </a:solidFill>
                <a:latin typeface="Times New Roman Bold"/>
              </a:rPr>
              <a:t>comple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loss of pigment in involved area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esions are macular and appear progressively around the eyes, mouth, genitals, elbows, hands, and fee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pontaneous but slow repigmentation may occur from the edges of active lesions and the hair follicles within, which can give a speckled appearanc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ransient hyperpigmentation of the contiguous normal skin or hypopigmentation of the advancing edge may produce a trichrom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arely, the pigment in the eye may become involve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istologically, melanocytes are completely absent in areas of vitilig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elanocytes are destroyed by an autoimmune mechanism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tilig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otect skin from sun damag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D application of medium to high potency topical corticosteroids x 2-4 week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ight therapy with PUVA or narrow band UVB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emporary camouflage with cosmetics and topical dyes may help hide lesion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well defined edges of vitiligo differentiates it from postinflammatory hypopigmentation and pityriasis alba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lack of scaling in vitiligo differentiates it from tinea versicolo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y woods lamp, a blue-white sharply demarcated fluorescence is seen from the lesion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28" name="Text Placeholder 12" descr=""/>
          <p:cNvPicPr/>
          <p:nvPr/>
        </p:nvPicPr>
        <p:blipFill>
          <a:blip r:embed="rId1"/>
          <a:stretch/>
        </p:blipFill>
        <p:spPr>
          <a:xfrm>
            <a:off x="612720" y="304920"/>
            <a:ext cx="4000680" cy="3481200"/>
          </a:xfrm>
          <a:prstGeom prst="rect">
            <a:avLst/>
          </a:prstGeom>
          <a:ln w="0">
            <a:noFill/>
          </a:ln>
        </p:spPr>
      </p:pic>
      <p:pic>
        <p:nvPicPr>
          <p:cNvPr id="329" name="Text Placeholder 12" descr=""/>
          <p:cNvPicPr/>
          <p:nvPr/>
        </p:nvPicPr>
        <p:blipFill>
          <a:blip r:embed="rId2"/>
          <a:stretch/>
        </p:blipFill>
        <p:spPr>
          <a:xfrm>
            <a:off x="4765680" y="304920"/>
            <a:ext cx="4000320" cy="3481200"/>
          </a:xfrm>
          <a:prstGeom prst="rect">
            <a:avLst/>
          </a:prstGeom>
          <a:ln w="0">
            <a:noFill/>
          </a:ln>
        </p:spPr>
      </p:pic>
      <p:pic>
        <p:nvPicPr>
          <p:cNvPr id="330" name="Text Placeholder 12" descr=""/>
          <p:cNvPicPr/>
          <p:nvPr/>
        </p:nvPicPr>
        <p:blipFill>
          <a:blip r:embed="rId3"/>
          <a:stretch/>
        </p:blipFill>
        <p:spPr>
          <a:xfrm>
            <a:off x="2590920" y="3886200"/>
            <a:ext cx="366876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inea Versicol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-304920" y="15238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zed by multiple, small, oval, scaly patches that measure 1-3cm in dia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located in raindrop pattern on upper chest, back, and proximal portions of the upper extremities, facial lesions seen occasionall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ions my be light tan, reddish, or white in col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asymptomatic but may cause some mild prurit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more often in adolescents, but can affect children of any 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the yeast, Malassezia furfur, which commonly colonizes the skin by 4-6 month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m and moist climates, pregnancy, immunodeficiency states, and genetic factors predispose to the development of these les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inea Versicol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5867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x confirmed by KOH prep of surface scale or fungal cultur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y woods lamp, a yellow-green fluorescence is seen from the lesion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reatment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pical clotrimazole BID x 2 week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quamating agents such as selenium sulfide x 15min daily x 2 week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recalcitrant cases: try oral ketoconazole, itraconazole, or fluconazol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educate patient and family that there is a high rate of recurrence and pigmentary changes may take months to clear, even after eradication of the fungu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an try selsun blue shampoo once a month to scalp and trunk to decrease recurrenc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5" name="Text Placeholder 12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3051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ext Placeholder 1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65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Alb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btle and poorly demarcated areas of hypopigmentation in the face, neck, and upper extremitie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esions may progress through 3 stages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. Erythematous scaling papules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. Hypocromic scaling papules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. Smooth hypochromic patch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ually occurs in atopic pati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ually asymptomatic except for mild pruritus during stages 1&amp;2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ccurs in people of all races, more prevalent in mal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ore noticeable in summer months when rest of skin tans, and in darker skinned individual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-pigmentation occurs slowly, cases can last from several months to 10 years, but the average duration is a year or mor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Alb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e patient and family on sun protection and gentle skin care to prevent dry ski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e case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reat with topical corticosteroid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ferral to derm for light therapy to help accelerate repigment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out other causes of hypopigmentation by taking a good histo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out tinea versicolor by KOH prep of scrapings from skin lesions or fungal cult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woods lamp, a white-blue fluorescence may be seen like vitiligo, but not as bright and the borders are not as well defin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ext Placeholder 1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035600" cy="4800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43" name="Text Placeholder 12" descr=""/>
          <p:cNvPicPr/>
          <p:nvPr/>
        </p:nvPicPr>
        <p:blipFill>
          <a:blip r:embed="rId2"/>
          <a:stretch/>
        </p:blipFill>
        <p:spPr>
          <a:xfrm>
            <a:off x="4343400" y="1474920"/>
            <a:ext cx="457200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Arial"/>
              </a:rPr>
              <a:t>Evaluation of Alopecia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93" name="Content Placeholder 3" descr=""/>
          <p:cNvPicPr/>
          <p:nvPr/>
        </p:nvPicPr>
        <p:blipFill>
          <a:blip r:embed="rId1"/>
          <a:stretch/>
        </p:blipFill>
        <p:spPr>
          <a:xfrm>
            <a:off x="291960" y="749160"/>
            <a:ext cx="851724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Rose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nign, self limited disorde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ccur at any age, but most common in school-age children and adolescent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drome of malaise, headache, and mild constitutional symptoms occasionally precedes the rash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/2 of the cases begin with the appearance of a 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ld patch”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in 1-2 weeks, numerous smaller round to oval patches appear on the body, usually concentrated on the trunk and proximal extremities, forms a “Christmas tree” pattern on the back and thorax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sh peaks in several weeks and slowly fades over 6-12 week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use unknown, viral etiology?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V light and oral erythromycin may hasten the disappearance of the eruption, but post-inflammatory hyperpigmentation may persist for month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47" name="Text Placeholder 12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257720" cy="4343400"/>
          </a:xfrm>
          <a:prstGeom prst="rect">
            <a:avLst/>
          </a:prstGeom>
          <a:ln w="0">
            <a:noFill/>
          </a:ln>
        </p:spPr>
      </p:pic>
      <p:pic>
        <p:nvPicPr>
          <p:cNvPr id="348" name="Text Placeholder 12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081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cab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-380880" y="22860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used by the Sarcoptes scabiei mi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uritic rash characterized by linear burrows, papules, nodules on the finger webs, wrists, elbows, feet, ankles, belt lines, areola, scrotum, and pen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 infants, burrows are widespread on the trunk, scalp, extremities, including the palms and so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cab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-304920" y="15235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methrin 5% cream can be used safely for children as young as 2 month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head to toe x 8-14 hrs, rinse off, rand epeat in 7 day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tient, entire family, and other who have had close contact to the patient should be treated simultaneousl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pical lubricants are necessary to counteract the drying and irritation produced by the scabicid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al or topical medications to prevent prurit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sh all clothing, sheets, towels, or place in sealed bag x 1 week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ducate family that pruritus can last for 2-4 weeks after treatment, but if see new lesions on skin that suggests reinfestation or inadequate therap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4" name="Text Placeholder 12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559040" cy="3419640"/>
          </a:xfrm>
          <a:prstGeom prst="rect">
            <a:avLst/>
          </a:prstGeom>
          <a:ln w="0">
            <a:noFill/>
          </a:ln>
        </p:spPr>
      </p:pic>
      <p:pic>
        <p:nvPicPr>
          <p:cNvPr id="355" name="Text Placeholder 12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47184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llusc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used by poxviru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demic in young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agious by direct contact or indirect contact through fomi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aracterized by sharply circumscribed, single or multiple, superficial pearly, dome shaped, papules with umbilicated cente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monly distributed in the trunk, axillae, face, and diaper are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sions are spread by scratching and frequently appear in a linear arrang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eens, molluscum occurs frequently in the genital area as a sexually transmitted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llusc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st cases undergo spontaneous remission, but recurrences are common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eatment directed against symptomatic lesions only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quid nitrog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of a blistering agent (cantharidin) and plastic tape, peeled off in 1-3 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ion of lesions by curetting their co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tients with widespread, recalcitrant molluscum should be screened for congenital and acquired immunodeficiency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61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telli, B.J; Davis, H.W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las of Pediatric Diagn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4th Edition, 2002, p307-312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wartz, M.W. et al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nical Handbook of Pediatr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, 2003, p115-120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www.uptodat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Non-scarring Hair loss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2"/>
              </a:rPr>
              <a:t>www.uptodat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Alopecia Areata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en, B.A.  Pediatric Dermatology. 3rd Edition, 2005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3"/>
              </a:rPr>
              <a:t>www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4"/>
              </a:rPr>
              <a:t>emedicin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6"/>
              </a:rPr>
              <a:t>medscap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7"/>
              </a:rPr>
              <a:t>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Keratosis Pilaris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8"/>
              </a:rPr>
              <a:t>www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9"/>
              </a:rPr>
              <a:t>emedicin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1"/>
              </a:rPr>
              <a:t>medscap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2"/>
              </a:rPr>
              <a:t>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Pityriasis Alba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5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x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ytotoxic agents, radiation, anticonvulsants, hypervitaminosis A, anticoagula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oplas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histiocytosi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um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richotillomania, traction alopecia, friction alopec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cti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inea capitis, secondary syphili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geni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plasia cutis congenita, nevus sebaceous, epidermal nevus, hemangioma, loose anagen syndrome, ectodermal dysplasia,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 shaft defec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or Genetic Cau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ndrogenic alopecia, acrodermatitis enteropathica, anorexia nervosa, malnutrition, thyroid disease, hypopituitarism, D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96" name="Content Placeholder 6" descr="Alopecia_in_secondary_syphi.jpg"/>
          <p:cNvPicPr/>
          <p:nvPr/>
        </p:nvPicPr>
        <p:blipFill>
          <a:blip r:embed="rId1"/>
          <a:stretch/>
        </p:blipFill>
        <p:spPr>
          <a:xfrm>
            <a:off x="5410080" y="3124080"/>
            <a:ext cx="3353040" cy="3429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7"/>
          <p:cNvSpPr/>
          <p:nvPr/>
        </p:nvSpPr>
        <p:spPr>
          <a:xfrm>
            <a:off x="5105520" y="15238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lamm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lopecia areata, SLE, scleroderm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topic dermatitis, seborrheic dermatitis, psoriasis, telogen effluvium, anagen effluviu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he Alopecia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3520" y="243792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opecia Caused by Systemic Insult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ogen Effluvi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gen Effluvi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opecia Are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uma-Induced Alopecia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horrhexis Nodos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tion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chotillomani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800240" y="24382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plasia Cutis Congeni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inea Capit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Non-Scarring</a:t>
            </a: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r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elogen Effluvi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286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most common cause of diffuse hair los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al, temporary alopecia that is seen a few months after a severe illness, major surgery, or high fev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initial systemic insult induces more than the usual 20% of hairs to enter the telogen phase, and 3 months later these hairs are shed simultaneousl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taneously resolves over several month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05" name="Content Placeholder 8" descr="05.jpg"/>
          <p:cNvPicPr/>
          <p:nvPr/>
        </p:nvPicPr>
        <p:blipFill>
          <a:blip r:embed="rId1"/>
          <a:stretch/>
        </p:blipFill>
        <p:spPr>
          <a:xfrm>
            <a:off x="4876920" y="2743200"/>
            <a:ext cx="3962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00:23:00Z</dcterms:created>
  <dc:creator>Valued Acer Customer</dc:creator>
  <dc:description/>
  <dc:language>en-US</dc:language>
  <cp:lastModifiedBy>cinnie chou</cp:lastModifiedBy>
  <dcterms:modified xsi:type="dcterms:W3CDTF">2010-10-05T17:03:58Z</dcterms:modified>
  <cp:revision>66</cp:revision>
  <dc:subject/>
  <dc:title>Hair Raising Facts on Alopecia</dc:title>
</cp:coreProperties>
</file>