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11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DDA4-80AA-4148-88BD-FD6A719C82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D191-740A-4F2D-94C5-6319581265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CBAC-B818-460C-BD32-25B741364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0DD4-A870-447A-9E55-BAFBC74B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4C0A-C603-4AAB-AB92-31681FB33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20BA-F8D5-45AC-9BC3-B80D619F0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B2247-6516-496A-91B9-14986C14F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304B7-9B37-4809-8B0C-EED5484E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19DA-7D9E-4A19-8A04-E336C3CA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E7C6-76E3-4267-81AF-BE9436ED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702D2-7848-4378-8754-761728EB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2F60-9263-4A5D-A241-14F59763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1720-529F-4173-B3F9-1DB09992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7BF6-EF3C-4683-A1DE-F96F4442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0808-2191-4759-8C0D-60C0EB38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109A-B834-4028-BF38-0EC430DF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6B2C-2B6C-494F-90CB-E1F4CB5F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1D9E-D302-48EB-AEA5-3B6CB7120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34E7-54BA-43AB-8231-6193F7E75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4D0BA5-E3C4-474B-A6B6-EEA27D0C2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F891A8-C07D-4DB3-97AC-5AEE2724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D7FD83-35AF-4A1D-966B-FF52F857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352454-32B6-470C-81C0-E1F174D7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1EA593-65EB-4F68-BB9C-A5553758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2534-A433-457E-A284-7C797F3B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1BAD0A-D0B4-4F62-A439-8D262B47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0C532C-BE18-443E-B80E-32739FC9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9347D5-7FB2-45CE-82FF-8107D907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3D4FAF-44F8-407B-BCC1-0076978D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640B30-D361-419B-84BD-A37E2B7A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A91519-271D-41F5-BC29-BB0305A1C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1C44C2-532D-4639-95AD-AE2865A24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5639B3-54F0-4673-9FD1-FD1DD32CE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7D8BF4-A610-4BC9-9CC5-35DB8375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7E70BB-0DD9-44D3-A300-450F3B7F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5824-2ABB-4BCB-B24F-383A089F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468983-3BF9-4DB6-B496-297F11B3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C75E54-1980-4C52-94CE-32CF8224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FE7098-5943-4E2E-AB79-ED3EB23F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46FDED-95A0-43B3-8B54-D5DFBA37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62C531-ACEF-42E8-A3F6-F4C5576C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11DE0A-5CD6-4125-A3AB-B1AA17B7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183FDA-3709-4979-9CB2-3E43D044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E8F6CF-FB90-4507-9DAA-6E11537B3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A1FA1E-B7C9-4922-8351-668FA4B0F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BACC-DBDE-495E-A232-805EACB9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309E-C519-41D8-9220-4D848659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AAD0-60F3-4790-8580-7626D75A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9733-2810-4293-8CEA-0E14C566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7C9C-6F72-48C1-9B38-185C1413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65D0-6576-42CD-A906-C2923BEE5D6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9BE4-E09A-422A-B76E-30B6E03E6313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4834-82FA-49EC-B39A-E1803E08764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4457-35FD-4C88-8577-D5D34785148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hyperlink" Target="http://www.uptodate.com/" TargetMode="External"/><Relationship Id="rId2" Type="http://schemas.openxmlformats.org/officeDocument/2006/relationships/hyperlink" Target="http://www.uptodate.com/" TargetMode="External"/><Relationship Id="rId3" Type="http://schemas.openxmlformats.org/officeDocument/2006/relationships/hyperlink" Target="http://www.emedicine.medscape.com/" TargetMode="External"/><Relationship Id="rId4" Type="http://schemas.openxmlformats.org/officeDocument/2006/relationships/hyperlink" Target="http://www.emedicine.medscape.com/" TargetMode="External"/><Relationship Id="rId5" Type="http://schemas.openxmlformats.org/officeDocument/2006/relationships/hyperlink" Target="http://www.emedicine.medscape.com/" TargetMode="External"/><Relationship Id="rId6" Type="http://schemas.openxmlformats.org/officeDocument/2006/relationships/hyperlink" Target="http://www.emedicine.medscape.com/" TargetMode="External"/><Relationship Id="rId7" Type="http://schemas.openxmlformats.org/officeDocument/2006/relationships/hyperlink" Target="http://www.emedicine.medscape.com/" TargetMode="External"/><Relationship Id="rId8" Type="http://schemas.openxmlformats.org/officeDocument/2006/relationships/hyperlink" Target="http://www.emedicine.medscape.com/" TargetMode="External"/><Relationship Id="rId9" Type="http://schemas.openxmlformats.org/officeDocument/2006/relationships/hyperlink" Target="http://www.emedicine.medscape.com/" TargetMode="External"/><Relationship Id="rId10" Type="http://schemas.openxmlformats.org/officeDocument/2006/relationships/hyperlink" Target="http://www.emedicine.medscape.com/" TargetMode="External"/><Relationship Id="rId11" Type="http://schemas.openxmlformats.org/officeDocument/2006/relationships/hyperlink" Target="http://www.emedicine.medscape.com/" TargetMode="External"/><Relationship Id="rId12" Type="http://schemas.openxmlformats.org/officeDocument/2006/relationships/hyperlink" Target="http://www.emedicine.medscape.com/" TargetMode="External"/><Relationship Id="rId1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1828800"/>
            <a:ext cx="72392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ebddc3"/>
                </a:solidFill>
                <a:latin typeface="Arial"/>
              </a:rPr>
              <a:t>CHILDHOOD ALOPECIA AND COMMON PEDIATRIC RASHES</a:t>
            </a:r>
            <a:endParaRPr b="0" lang="en-US" sz="53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a Ho, MD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/25/10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Anagen Effluvium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dden loss of the growing hairs (80% of normal scalp hairs)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used by abnormal cessation of anagen phas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ir shafts taper and lose adhesion to the follicl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st common after systemic chemotherapy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Alopecia Areata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80880" y="159984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most common cause of alopecia in childre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of localized anagen effluvium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 smooth patches of alopecia that can be located anywher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 thought to be multifactorial:                immunologic, genetic, environmenta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10" name="Content Placeholder 5" descr="photo-0133.jpg"/>
          <p:cNvPicPr/>
          <p:nvPr/>
        </p:nvPicPr>
        <p:blipFill>
          <a:blip r:embed="rId1"/>
          <a:stretch/>
        </p:blipFill>
        <p:spPr>
          <a:xfrm>
            <a:off x="4495680" y="2590920"/>
            <a:ext cx="439740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Alopecia Areat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1447560"/>
            <a:ext cx="4648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ues to diagnosi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ence of inflammation and scaling in involved area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ence of short 3-6mm easily epilated hairs at the margins of the patch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otch-plaid pitting of the nail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iopsy is usually not necessary to confirm the diagnosis, but may be needed in cases where the diagnosis is uncertain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13" name="Content Placeholder 4" descr="Exclamation_point_hairs.jpg"/>
          <p:cNvPicPr/>
          <p:nvPr/>
        </p:nvPicPr>
        <p:blipFill>
          <a:blip r:embed="rId1"/>
          <a:stretch/>
        </p:blipFill>
        <p:spPr>
          <a:xfrm>
            <a:off x="4844880" y="2211480"/>
            <a:ext cx="388620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Alopecia Areat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523880"/>
            <a:ext cx="4419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/3 regress spontaneously within 6 month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most all will experience more than one episode of the diseas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n progress to alopecia totali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n progress to alopecia universali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ye abnormalities may occur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16" name="Content Placeholder 4" descr="alopeciaAreata_46373_lg.jpg"/>
          <p:cNvPicPr/>
          <p:nvPr/>
        </p:nvPicPr>
        <p:blipFill>
          <a:blip r:embed="rId1"/>
          <a:stretch/>
        </p:blipFill>
        <p:spPr>
          <a:xfrm>
            <a:off x="5029200" y="3951360"/>
            <a:ext cx="3863880" cy="2906640"/>
          </a:xfrm>
          <a:prstGeom prst="rect">
            <a:avLst/>
          </a:prstGeom>
          <a:ln w="0">
            <a:noFill/>
          </a:ln>
        </p:spPr>
      </p:pic>
      <p:sp>
        <p:nvSpPr>
          <p:cNvPr id="217" name="TextBox 5"/>
          <p:cNvSpPr/>
          <p:nvPr/>
        </p:nvSpPr>
        <p:spPr>
          <a:xfrm>
            <a:off x="5029200" y="1600200"/>
            <a:ext cx="373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8047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prognosis = young age, severe disease, duration of &gt;1 year, nail disease, atopy, involvement of peripheral scalp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dd8047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Alopecia Areat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560" y="1599840"/>
            <a:ext cx="4647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t all patients require treatmen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p to 80 percent of patients with alopecia areata that is limited and of less than one year's duration may expect spontaneous re-growth of hai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alesional/topical/systemic steroid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inoxidil 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thralin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hotrexat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pical immunotherapy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20" name="Content Placeholder 4" descr="alopecia_areata.jpg"/>
          <p:cNvPicPr/>
          <p:nvPr/>
        </p:nvPicPr>
        <p:blipFill>
          <a:blip r:embed="rId1"/>
          <a:stretch/>
        </p:blipFill>
        <p:spPr>
          <a:xfrm>
            <a:off x="5791320" y="1523880"/>
            <a:ext cx="2514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richorrhexis Nodos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6761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opecia caused by hair shaft breakage due to damage to outer cortex of hair shaft and loss in structural suppor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ually caused by physical trauma or chemical traum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agnosed under microscope: distal ends of hairs are frayed like a broom or hairs may have nodules like two brooms stuck together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sents at any age as brittle, short hairs that are perceived as non-growing, hairs are easily broken on gentle pul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23" name="Content Placeholder 4" descr="trch.jpg"/>
          <p:cNvPicPr/>
          <p:nvPr/>
        </p:nvPicPr>
        <p:blipFill>
          <a:blip r:embed="rId1"/>
          <a:stretch/>
        </p:blipFill>
        <p:spPr>
          <a:xfrm>
            <a:off x="5562720" y="3581280"/>
            <a:ext cx="1055520" cy="3048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mmhair1.jpg"/>
          <p:cNvPicPr/>
          <p:nvPr/>
        </p:nvPicPr>
        <p:blipFill>
          <a:blip r:embed="rId2"/>
          <a:stretch/>
        </p:blipFill>
        <p:spPr>
          <a:xfrm>
            <a:off x="7086600" y="3505320"/>
            <a:ext cx="1055520" cy="3120840"/>
          </a:xfrm>
          <a:prstGeom prst="rect">
            <a:avLst/>
          </a:prstGeom>
          <a:ln w="0">
            <a:noFill/>
          </a:ln>
        </p:spPr>
      </p:pic>
      <p:sp>
        <p:nvSpPr>
          <p:cNvPr id="225" name="TextBox 6"/>
          <p:cNvSpPr/>
          <p:nvPr/>
        </p:nvSpPr>
        <p:spPr>
          <a:xfrm>
            <a:off x="5105520" y="160020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80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limited proces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dd8047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ir re-grows when the source of the damage is eliminate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Friction Alopecia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mmon on posterior scalp of infants where head rubs on pillow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lf limit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hen severe/long standing, think neglect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28" name="Picture 4" descr="369584498_8ecd4354c6.jpg"/>
          <p:cNvPicPr/>
          <p:nvPr/>
        </p:nvPicPr>
        <p:blipFill>
          <a:blip r:embed="rId1"/>
          <a:stretch/>
        </p:blipFill>
        <p:spPr>
          <a:xfrm>
            <a:off x="2590920" y="3657600"/>
            <a:ext cx="35240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raction Alopeci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560" y="1589040"/>
            <a:ext cx="4190760" cy="52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on in young girls whose hairstyles maintain a tight pull on hair shafts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uses shaft fractures and follicular damage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cause permanent scarring alopecia if prolonged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31" name="Content Placeholder 6" descr="Traction_alopecia.jpg"/>
          <p:cNvPicPr/>
          <p:nvPr/>
        </p:nvPicPr>
        <p:blipFill>
          <a:blip r:embed="rId1"/>
          <a:stretch/>
        </p:blipFill>
        <p:spPr>
          <a:xfrm>
            <a:off x="4419720" y="2895480"/>
            <a:ext cx="442584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richotillomania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1599840"/>
            <a:ext cx="4419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ncontrollable urge to pull out ones own hair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en in school aged children and adolescents, mostly in adolescent females, but more common in boys under 6 y/o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ften associated with other compulsive behaviors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izarre patterns of hair los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34" name="Content Placeholder 4" descr="ht_hair_pulling_080310_mn.jpg"/>
          <p:cNvPicPr/>
          <p:nvPr/>
        </p:nvPicPr>
        <p:blipFill>
          <a:blip r:embed="rId1"/>
          <a:stretch/>
        </p:blipFill>
        <p:spPr>
          <a:xfrm>
            <a:off x="4495680" y="3352680"/>
            <a:ext cx="4337280" cy="32529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572000" y="1676520"/>
            <a:ext cx="4267080" cy="18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arely the scalp,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eyebrows, and eyelashes are involved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richotillomani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28240" y="1523880"/>
            <a:ext cx="47242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nosis: hair pluck, scalp biopsy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nostic clues: short, broken-off hairs along the scalp with stubs of different length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iating from alopecia areata: patches of hair loss, hair shafts are anagen hairs that are difficult to remove, no nail abnormalities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38" name="Content Placeholder 8" descr="trich.jpg"/>
          <p:cNvPicPr/>
          <p:nvPr/>
        </p:nvPicPr>
        <p:blipFill>
          <a:blip r:embed="rId1"/>
          <a:stretch/>
        </p:blipFill>
        <p:spPr>
          <a:xfrm>
            <a:off x="5105520" y="4191120"/>
            <a:ext cx="3797280" cy="2361960"/>
          </a:xfrm>
          <a:prstGeom prst="rect">
            <a:avLst/>
          </a:prstGeom>
          <a:ln w="0">
            <a:noFill/>
          </a:ln>
        </p:spPr>
      </p:pic>
      <p:sp>
        <p:nvSpPr>
          <p:cNvPr id="239" name="TextBox 11"/>
          <p:cNvSpPr/>
          <p:nvPr/>
        </p:nvSpPr>
        <p:spPr>
          <a:xfrm>
            <a:off x="4952880" y="1600200"/>
            <a:ext cx="3886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8047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be distinguished from habitual hair pulling, twisting, twirling, which usually occur at bedtimes/naptimes, and habit resolves by early school year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ebddc3"/>
                </a:solidFill>
                <a:latin typeface="Arial"/>
              </a:rPr>
              <a:t>Childhood Alopecia</a:t>
            </a:r>
            <a:endParaRPr b="0" lang="en-US" sz="62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richotillomani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33520" y="16765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93400" indent="-29340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an occur in those with severe psychiatric disease</a:t>
            </a: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ost cases are associated with situational stress</a:t>
            </a: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reatment = referral to psychiatry, behavior modification +/-  clomipramine or fluoxetine</a:t>
            </a: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ognosis = initially reversible but may become permanent if the habit persists</a:t>
            </a: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Aplasia Cutis Congenit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523880"/>
            <a:ext cx="4114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ngenital condition with absence or failure of formation of a localized area of scalp or ski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rarely, lesions may be multiple or may involve the trunk or extremities, and may be associated with limb defects or other anomali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44" name="Content Placeholder 5" descr="Fig011.gif"/>
          <p:cNvPicPr/>
          <p:nvPr/>
        </p:nvPicPr>
        <p:blipFill>
          <a:blip r:embed="rId1"/>
          <a:stretch/>
        </p:blipFill>
        <p:spPr>
          <a:xfrm>
            <a:off x="4648320" y="3733920"/>
            <a:ext cx="4270320" cy="28051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4800600" y="1676520"/>
            <a:ext cx="4343400" cy="15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jority involve only   the dermis and epidermi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Aplasia Cutis Congenit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09480" y="1589040"/>
            <a:ext cx="3810240" cy="52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t birth, lesion consists of sharply circumscribed open weeping ulceration, or may be covered by thin hemorrhagic membrane or crust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servative treatment  to prevent infection and injury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ealing occurs over weeks to months, leaving smooth atrophic and hairless scar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48" name="Content Placeholder 4" descr="cutis.jpg"/>
          <p:cNvPicPr/>
          <p:nvPr/>
        </p:nvPicPr>
        <p:blipFill>
          <a:blip r:embed="rId1"/>
          <a:stretch/>
        </p:blipFill>
        <p:spPr>
          <a:xfrm>
            <a:off x="4572000" y="2590920"/>
            <a:ext cx="44211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inea Capitis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560" y="1447920"/>
            <a:ext cx="41907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ponsible for &gt;50% of cases of hair loss in childre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ngal infection weakens hair shaft causing breakage and results in multiple patches of partial alopeci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ichophyton tonsurans is responsible for over 95% of scalp ringworm in U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known reasons, but infection is endemic among black school childre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51" name="Content Placeholder 4" descr="Tinea_Capitis-34.jpg"/>
          <p:cNvPicPr/>
          <p:nvPr/>
        </p:nvPicPr>
        <p:blipFill>
          <a:blip r:embed="rId1"/>
          <a:stretch/>
        </p:blipFill>
        <p:spPr>
          <a:xfrm>
            <a:off x="5105520" y="3733920"/>
            <a:ext cx="3581280" cy="2835000"/>
          </a:xfrm>
          <a:prstGeom prst="rect">
            <a:avLst/>
          </a:prstGeom>
          <a:ln w="0">
            <a:noFill/>
          </a:ln>
        </p:spPr>
      </p:pic>
      <p:sp>
        <p:nvSpPr>
          <p:cNvPr id="252" name="TextBox 5"/>
          <p:cNvSpPr/>
          <p:nvPr/>
        </p:nvSpPr>
        <p:spPr>
          <a:xfrm>
            <a:off x="5029200" y="1523880"/>
            <a:ext cx="350532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8047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icrosporum canis (dog/cat ringworm) can cause a few cases also, but there is no racial predilection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inea Cap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523880"/>
            <a:ext cx="44956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presentations -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d erythema and scaling of scalp with partial alopeci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spread breakage at the scalp creating a salt and pepper appearanc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lar like tinea corpori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ythema/edema/pustule formation, as the pustule ruptures the area weeps and golden crusts form like imptig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ped up scal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55" name="Content Placeholder 6" descr="tineaCapitis_4067_lg.jpg"/>
          <p:cNvPicPr/>
          <p:nvPr/>
        </p:nvPicPr>
        <p:blipFill>
          <a:blip r:embed="rId1"/>
          <a:stretch/>
        </p:blipFill>
        <p:spPr>
          <a:xfrm>
            <a:off x="5181480" y="4183200"/>
            <a:ext cx="3581640" cy="2674800"/>
          </a:xfrm>
          <a:prstGeom prst="rect">
            <a:avLst/>
          </a:prstGeom>
          <a:ln w="0">
            <a:noFill/>
          </a:ln>
        </p:spPr>
      </p:pic>
      <p:sp>
        <p:nvSpPr>
          <p:cNvPr id="256" name="TextBox 7"/>
          <p:cNvSpPr/>
          <p:nvPr/>
        </p:nvSpPr>
        <p:spPr>
          <a:xfrm>
            <a:off x="5105520" y="1523880"/>
            <a:ext cx="3657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8047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common, kerions = intense inflammation causes formation of raised tender boggy plaques or masses studded with pustules that simulate abscess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inea Cap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80520" y="15235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x with KOH examination of infected hair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gal culture of hair and scal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ods lamp = M. audouinii and M. canis flouresce, but not T. tonsuran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59" name="Content Placeholder 4" descr="197MIKE.jpg"/>
          <p:cNvPicPr/>
          <p:nvPr/>
        </p:nvPicPr>
        <p:blipFill>
          <a:blip r:embed="rId1"/>
          <a:stretch/>
        </p:blipFill>
        <p:spPr>
          <a:xfrm>
            <a:off x="4572000" y="2590920"/>
            <a:ext cx="43340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inea Cap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600200"/>
            <a:ext cx="4114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t with oral antifungal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seofulvin 20mg/kg once daily x 6-8 week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toconazole alternativ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er antifungals: terbinafine, itraconazole, fluconazole  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t use of selenium sulfide shampoo (2.5%) reduces spore formation and shedding, which can help minimize sprea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62" name="Content Placeholder 4" descr="tinea-capitis-ringworm.jpg"/>
          <p:cNvPicPr/>
          <p:nvPr/>
        </p:nvPicPr>
        <p:blipFill>
          <a:blip r:embed="rId1"/>
          <a:stretch/>
        </p:blipFill>
        <p:spPr>
          <a:xfrm>
            <a:off x="4648320" y="2666880"/>
            <a:ext cx="4130640" cy="3969000"/>
          </a:xfrm>
          <a:prstGeom prst="rect">
            <a:avLst/>
          </a:prstGeom>
          <a:ln w="0">
            <a:noFill/>
          </a:ln>
        </p:spPr>
      </p:pic>
      <p:sp>
        <p:nvSpPr>
          <p:cNvPr id="263" name="TextBox 5"/>
          <p:cNvSpPr/>
          <p:nvPr/>
        </p:nvSpPr>
        <p:spPr>
          <a:xfrm>
            <a:off x="4724280" y="1676520"/>
            <a:ext cx="3733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80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currence is high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ebddc3"/>
                </a:solidFill>
                <a:latin typeface="Arial"/>
              </a:rPr>
              <a:t>Common Pediatric Rashes</a:t>
            </a:r>
            <a:endParaRPr b="0" lang="en-US" sz="6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267" name="Text Placeholder 12" descr=""/>
          <p:cNvPicPr/>
          <p:nvPr/>
        </p:nvPicPr>
        <p:blipFill>
          <a:blip r:embed="rId1"/>
          <a:stretch/>
        </p:blipFill>
        <p:spPr>
          <a:xfrm>
            <a:off x="4876920" y="3695760"/>
            <a:ext cx="3733560" cy="2817720"/>
          </a:xfrm>
          <a:prstGeom prst="rect">
            <a:avLst/>
          </a:prstGeom>
          <a:ln w="0">
            <a:noFill/>
          </a:ln>
        </p:spPr>
      </p:pic>
      <p:pic>
        <p:nvPicPr>
          <p:cNvPr id="268" name="Text Placeholder 12" descr=""/>
          <p:cNvPicPr/>
          <p:nvPr/>
        </p:nvPicPr>
        <p:blipFill>
          <a:blip r:embed="rId2"/>
          <a:stretch/>
        </p:blipFill>
        <p:spPr>
          <a:xfrm>
            <a:off x="228600" y="3711600"/>
            <a:ext cx="4191120" cy="2817720"/>
          </a:xfrm>
          <a:prstGeom prst="rect">
            <a:avLst/>
          </a:prstGeom>
          <a:ln w="0">
            <a:noFill/>
          </a:ln>
        </p:spPr>
      </p:pic>
      <p:pic>
        <p:nvPicPr>
          <p:cNvPr id="269" name="Text Placeholder 12" descr=""/>
          <p:cNvPicPr/>
          <p:nvPr/>
        </p:nvPicPr>
        <p:blipFill>
          <a:blip r:embed="rId3"/>
          <a:stretch/>
        </p:blipFill>
        <p:spPr>
          <a:xfrm>
            <a:off x="2209680" y="380880"/>
            <a:ext cx="48006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top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lso known as eczema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hronically recurrent, genetically influenced skin disorder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revalence is highest among children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n families with a history of allergic rhinitis or asthma, ~1/3 of the children are expected to develop atopic dermatiti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n patients with atopic dermatitis, 1/3 are expected to have a personal history of allergic rhinitis or asthma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nherited as an autosomal trait with multifactorial influences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eather - atopic dermatitis improves with warm and humid weather, worsens with cold and dry weathe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ther external factors - dry skin, soaps, wool fabrics, foods, infectious agents produce pruritus in susceptible patient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Arial"/>
              </a:rPr>
              <a:t>TINEA CAPITIS, TRICHOTILLOMANIA, ALOPECIA AREATA, AND TELOGEN EFFLUVIUM ACCOUNT FOR &gt;95% OF CASES OF ALOPECIA IN CHILDREN.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top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-360" y="2437920"/>
            <a:ext cx="88390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scratching leads to acute and chronic changes: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cutely -&gt; erythema, scaling, vesicles, crusting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ronically -&gt; lichenification and pigmentary changes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top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-304920" y="17521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istribution of the rash changes with age: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nfantile phase (birth - 3 years) – symmetrically distributed over scalp, forehead, cheeks, trunk, and extensor surfaces; spares diaper are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hildhood phase (4 - 10 years) – distributed over wrists, ankles, flexural surfaces of the extremities, ear creases, back of neck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dolescent/adult phase – distributed over flexural creases of the neck and extremities, hands and fee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"/>
          <p:cNvSpPr/>
          <p:nvPr/>
        </p:nvSpPr>
        <p:spPr>
          <a:xfrm>
            <a:off x="9344160" y="-2670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top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-380880" y="1600200"/>
            <a:ext cx="95248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management: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void environmental irritants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void scratching with: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oose-fitting cotton clothing; long sleeves and foot coverings may help in infants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ntihistamines, especially at bedtime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emollients to prevent dry skin, liberal application at least BID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keep nails trimmed to prevent excoriations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top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r increased disease activity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 and medium –potency topical corticosteroids, BID application to worst areas and tapered ASAP, overuse – causes atrophy, loss of pigment, telangiectasias, stria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ace/groin – HC1% and 2.5%, desonide if sever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ody – triamcinolone 0.1%, use only on thick plaques for kids &lt;1yr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pical nonsteroidal calcineurin inhibitors - tacrolimus and pimecrolimu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top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-381240" y="1752480"/>
            <a:ext cx="4647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ypes of atopic dermatitis: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nummular eczema – coin shaped, red patches made up of tiny papules and vesicles located on extremities; difficult to trea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ollicular eczema – follicular papules on trunk and extremities, usually occurs early in flar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83" name="Text Placeholder 12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3657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top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lications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econdary bacterial inf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usted exudative patch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ually caused by GAS or S. aurea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lture and treat with oral antibiotics, warm compresses, and emollient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pical mupirocin or bacitracin for localized, small, impetigo-like lesion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V if failed oral therapy or widespread infec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czema herpetic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grouped 2-3mm diameter vesicles or crusts/ulcerations associated with high fever and worsening prupriti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x with viral culture, PCR, or DF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t and start IV Acyclovir immediately if suspecte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infection unresponsive to antibiotics should raise suspicion for eczema herpeticum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ext Placeholder 12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156520" cy="53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288" name="Text Placeholder 12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4343400" cy="3206520"/>
          </a:xfrm>
          <a:prstGeom prst="rect">
            <a:avLst/>
          </a:prstGeom>
          <a:ln w="0">
            <a:noFill/>
          </a:ln>
        </p:spPr>
      </p:pic>
      <p:pic>
        <p:nvPicPr>
          <p:cNvPr id="289" name="Text Placeholder 12" descr=""/>
          <p:cNvPicPr/>
          <p:nvPr/>
        </p:nvPicPr>
        <p:blipFill>
          <a:blip r:embed="rId2"/>
          <a:stretch/>
        </p:blipFill>
        <p:spPr>
          <a:xfrm>
            <a:off x="5105520" y="466560"/>
            <a:ext cx="3276360" cy="3276720"/>
          </a:xfrm>
          <a:prstGeom prst="rect">
            <a:avLst/>
          </a:prstGeom>
          <a:ln w="0">
            <a:noFill/>
          </a:ln>
        </p:spPr>
      </p:pic>
      <p:pic>
        <p:nvPicPr>
          <p:cNvPr id="290" name="Text Placeholder 12" descr=""/>
          <p:cNvPicPr/>
          <p:nvPr/>
        </p:nvPicPr>
        <p:blipFill>
          <a:blip r:embed="rId3"/>
          <a:stretch/>
        </p:blipFill>
        <p:spPr>
          <a:xfrm>
            <a:off x="2743200" y="3886200"/>
            <a:ext cx="408132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Keratosis Pilar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766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sults from retention of keratin in the follicular infundibulum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enign skin condition, but cosmetically displeasing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ften + FH, AD inheritance with variable penetranc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emales more frequently affected than mal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ften improves with age, but usually never goes away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anifests as horny follicular papules and erythema on the upper arms, medial thighs, and cheek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mmonly associated with atopic dermatitis, ichthyosis vulgaris, xerosi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oisturize with emollient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ry combination of emollient and exfoliant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294" name="Text Placeholder 12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3353040" cy="3557520"/>
          </a:xfrm>
          <a:prstGeom prst="rect">
            <a:avLst/>
          </a:prstGeom>
          <a:ln w="0">
            <a:noFill/>
          </a:ln>
        </p:spPr>
      </p:pic>
      <p:pic>
        <p:nvPicPr>
          <p:cNvPr id="295" name="Text Placeholder 12" descr=""/>
          <p:cNvPicPr/>
          <p:nvPr/>
        </p:nvPicPr>
        <p:blipFill>
          <a:blip r:embed="rId2"/>
          <a:stretch/>
        </p:blipFill>
        <p:spPr>
          <a:xfrm>
            <a:off x="3124080" y="3962520"/>
            <a:ext cx="2895840" cy="2644560"/>
          </a:xfrm>
          <a:prstGeom prst="rect">
            <a:avLst/>
          </a:prstGeom>
          <a:ln w="0">
            <a:noFill/>
          </a:ln>
        </p:spPr>
      </p:pic>
      <p:pic>
        <p:nvPicPr>
          <p:cNvPr id="296" name="Text Placeholder 12" descr=""/>
          <p:cNvPicPr/>
          <p:nvPr/>
        </p:nvPicPr>
        <p:blipFill>
          <a:blip r:embed="rId3"/>
          <a:stretch/>
        </p:blipFill>
        <p:spPr>
          <a:xfrm>
            <a:off x="4952880" y="304920"/>
            <a:ext cx="3741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Normal Hair Cycle: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189" name="Content Placeholder 6" descr=""/>
          <p:cNvPicPr/>
          <p:nvPr/>
        </p:nvPicPr>
        <p:blipFill>
          <a:blip r:embed="rId1"/>
          <a:stretch/>
        </p:blipFill>
        <p:spPr>
          <a:xfrm>
            <a:off x="298440" y="1596960"/>
            <a:ext cx="839484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tact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26665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roup of conditions in which an inflammatory reaction in the skin is triggered by direct contact with environmental agents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tact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rritant vs. allergic forms: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ritant is the most common form; changes in the skin induced by caustic agents (i.e. acids, alkali, hydrocarbons, etc.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10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ash is usually occurs within minutes: well-demarcated erythema, blistering, edema, and/or crust formatio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10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tching/burning sensatio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ergic contact dermatitis is a Type IV delayed-hypersensitivity respons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10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llergic response is less severe and often delayed upon initial exposure, then more rapid and severe responses occur on subsequent exposure to the allerg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10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ost common allergic contact dermatitis in the US is poison ivy or rhus dermatiti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02" name="Text Placeholder 12" descr=""/>
          <p:cNvPicPr/>
          <p:nvPr/>
        </p:nvPicPr>
        <p:blipFill>
          <a:blip r:embed="rId1"/>
          <a:stretch/>
        </p:blipFill>
        <p:spPr>
          <a:xfrm>
            <a:off x="3581280" y="3429000"/>
            <a:ext cx="2900520" cy="3100320"/>
          </a:xfrm>
          <a:prstGeom prst="rect">
            <a:avLst/>
          </a:prstGeom>
          <a:ln w="0">
            <a:noFill/>
          </a:ln>
        </p:spPr>
      </p:pic>
      <p:pic>
        <p:nvPicPr>
          <p:cNvPr id="303" name="Text Placeholder 12" descr=""/>
          <p:cNvPicPr/>
          <p:nvPr/>
        </p:nvPicPr>
        <p:blipFill>
          <a:blip r:embed="rId2"/>
          <a:stretch/>
        </p:blipFill>
        <p:spPr>
          <a:xfrm>
            <a:off x="5943600" y="1600200"/>
            <a:ext cx="2854440" cy="3352680"/>
          </a:xfrm>
          <a:prstGeom prst="rect">
            <a:avLst/>
          </a:prstGeom>
          <a:ln w="0">
            <a:noFill/>
          </a:ln>
        </p:spPr>
      </p:pic>
      <p:pic>
        <p:nvPicPr>
          <p:cNvPr id="304" name="Text Placeholder 12" descr=""/>
          <p:cNvPicPr/>
          <p:nvPr/>
        </p:nvPicPr>
        <p:blipFill>
          <a:blip r:embed="rId3"/>
          <a:stretch/>
        </p:blipFill>
        <p:spPr>
          <a:xfrm>
            <a:off x="304920" y="1676520"/>
            <a:ext cx="419076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tact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371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oision ivy, oak, and sumac dermatitis causes a rash consisting of linear streaks of erythematous papules and vesicle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when involved in more sensitive areas such as the face or genitals, impressive swelling can occur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orough washing within minutes of exposure may prevent or reduce the eruption, barrier creams (Ivy Guard) applied before exposure may provide some protecti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ther common contact allergens include nickel, rubber, latex, glues, dyes, neomycin, and topical anesthetic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tact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-304920" y="15998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hotosensitizers are allergens that require sunlight to become activiated and cause a photocontact dermatitis when the patient is exposed to sunlight;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e rash erupts in a symmetric distribution on the face, th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ヒラギノ角ゴ ProN W3"/>
              </a:rPr>
              <a:t>“V”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of the neck, and the arms below the shirt sleev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opical photosensitizers produce localized patches of dermatitis when applied to sun-exposed area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d reaction: severe local reaction in a contact dermatitis induces an immunologically mediated secondary eczematous dermatiti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tact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reatment: 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mall areas of contact dermatitis: topical corticosteroids and avoiding further contact with the inciting agen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widespread reactions or severe local reactions in the face/genital/hands: 2-3 week tapering course of systemic corticosteroids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horter course may cause the rash to reboun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respond within 48 hour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12" name="Text Placeholder 12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4308480" cy="3673440"/>
          </a:xfrm>
          <a:prstGeom prst="rect">
            <a:avLst/>
          </a:prstGeom>
          <a:ln w="0">
            <a:noFill/>
          </a:ln>
        </p:spPr>
      </p:pic>
      <p:pic>
        <p:nvPicPr>
          <p:cNvPr id="313" name="Text Placeholder 12" descr=""/>
          <p:cNvPicPr/>
          <p:nvPr/>
        </p:nvPicPr>
        <p:blipFill>
          <a:blip r:embed="rId2"/>
          <a:stretch/>
        </p:blipFill>
        <p:spPr>
          <a:xfrm>
            <a:off x="4648320" y="335268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borrhe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-304920" y="159984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ized by symmetric, red, scaling eruptions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curs predominantly on hair-bearing and intertriginous area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infants, scalp lesions called “cradle cap” are greasy, salmon-colored, scaly; severe form is more generalize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olescents, the dermatitis manifests as dandruff or flaking of the eyebrows, postauricular areas, nasolabial folds, and/or flexural area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ogenesis is unknow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non-pruritic, some clear spontaneous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17" name="Text Placeholder 12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907080" cy="4800600"/>
          </a:xfrm>
          <a:prstGeom prst="rect">
            <a:avLst/>
          </a:prstGeom>
          <a:ln w="0">
            <a:noFill/>
          </a:ln>
        </p:spPr>
      </p:pic>
      <p:pic>
        <p:nvPicPr>
          <p:cNvPr id="318" name="Text Placeholder 12" descr=""/>
          <p:cNvPicPr/>
          <p:nvPr/>
        </p:nvPicPr>
        <p:blipFill>
          <a:blip r:embed="rId2"/>
          <a:stretch/>
        </p:blipFill>
        <p:spPr>
          <a:xfrm>
            <a:off x="4876920" y="1676520"/>
            <a:ext cx="3838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borrhe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-380880" y="1600200"/>
            <a:ext cx="91440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anagement: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low potency topical corticosteroid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nti-seborrheic shampoo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econdary bacterial infection usually caused by GAS and/or S. aureu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occurs commonly in the neck, axillary, and groin creases of infant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hould be cultured and treated with antibiotic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an differentiate from atopic dermatitis by asking about severity of pruritis and checking diaper area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f thick white scales, or persistent diaper dermatitis and cradle cap, may be difficult to differentiate from psoriasis without a skin biopsy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What is normal hair loss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rmal hair loss averages 75 to 100 hairs per day.  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ir loss is clinically apparent when a person has lost 25%-50% of hair.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ext Placeholder 12" descr=""/>
          <p:cNvPicPr/>
          <p:nvPr/>
        </p:nvPicPr>
        <p:blipFill>
          <a:blip r:embed="rId1"/>
          <a:stretch/>
        </p:blipFill>
        <p:spPr>
          <a:xfrm>
            <a:off x="612720" y="228600"/>
            <a:ext cx="3959280" cy="6172200"/>
          </a:xfrm>
          <a:prstGeom prst="rect">
            <a:avLst/>
          </a:prstGeom>
          <a:ln w="0">
            <a:noFill/>
          </a:ln>
        </p:spPr>
      </p:pic>
      <p:pic>
        <p:nvPicPr>
          <p:cNvPr id="322" name="Text Placeholder 12" descr=""/>
          <p:cNvPicPr/>
          <p:nvPr/>
        </p:nvPicPr>
        <p:blipFill>
          <a:blip r:embed="rId2"/>
          <a:stretch/>
        </p:blipFill>
        <p:spPr>
          <a:xfrm>
            <a:off x="4800600" y="533520"/>
            <a:ext cx="40035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itilig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-30492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cquired disorder of pigmentation in which there is </a:t>
            </a:r>
            <a:r>
              <a:rPr b="1" lang="en-US" sz="2300" spc="-1" strike="noStrike">
                <a:solidFill>
                  <a:srgbClr val="000000"/>
                </a:solidFill>
                <a:latin typeface="Times New Roman Bold"/>
              </a:rPr>
              <a:t>complet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loss of pigment in involved area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lesions are macular and appear progressively around the eyes, mouth, genitals, elbows, hands, and fee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pontaneous but slow repigmentation may occur from the edges of active lesions and the hair follicles within, which can give a speckled appearanc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ransient hyperpigmentation of the contiguous normal skin or hypopigmentation of the advancing edge may produce a trichrom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arely, the pigment in the eye may become involve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histologically, melanocytes are completely absent in areas of vitiligo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elanocytes are destroyed by an autoimmune mechanism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itilig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-304920" y="15998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anagement: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rotect skin from sun damag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ID application of medium to high potency topical corticosteroids x 2-4 week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light therapy with PUVA or narrow band UVB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emporary camouflage with cosmetics and topical dyes may help hide lesion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well defined edges of vitiligo differentiates it from postinflammatory hypopigmentation and pityriasis alba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lack of scaling in vitiligo differentiates it from tinea versicolo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y woods lamp, a blue-white sharply demarcated fluorescence is seen from the lesion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28" name="Text Placeholder 12" descr=""/>
          <p:cNvPicPr/>
          <p:nvPr/>
        </p:nvPicPr>
        <p:blipFill>
          <a:blip r:embed="rId1"/>
          <a:stretch/>
        </p:blipFill>
        <p:spPr>
          <a:xfrm>
            <a:off x="612720" y="304920"/>
            <a:ext cx="4000680" cy="3481200"/>
          </a:xfrm>
          <a:prstGeom prst="rect">
            <a:avLst/>
          </a:prstGeom>
          <a:ln w="0">
            <a:noFill/>
          </a:ln>
        </p:spPr>
      </p:pic>
      <p:pic>
        <p:nvPicPr>
          <p:cNvPr id="329" name="Text Placeholder 12" descr=""/>
          <p:cNvPicPr/>
          <p:nvPr/>
        </p:nvPicPr>
        <p:blipFill>
          <a:blip r:embed="rId2"/>
          <a:stretch/>
        </p:blipFill>
        <p:spPr>
          <a:xfrm>
            <a:off x="4765680" y="304920"/>
            <a:ext cx="4000320" cy="3481200"/>
          </a:xfrm>
          <a:prstGeom prst="rect">
            <a:avLst/>
          </a:prstGeom>
          <a:ln w="0">
            <a:noFill/>
          </a:ln>
        </p:spPr>
      </p:pic>
      <p:pic>
        <p:nvPicPr>
          <p:cNvPr id="330" name="Text Placeholder 12" descr=""/>
          <p:cNvPicPr/>
          <p:nvPr/>
        </p:nvPicPr>
        <p:blipFill>
          <a:blip r:embed="rId3"/>
          <a:stretch/>
        </p:blipFill>
        <p:spPr>
          <a:xfrm>
            <a:off x="2590920" y="3886200"/>
            <a:ext cx="366876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inea Versicolo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-304920" y="15238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zed by multiple, small, oval, scaly patches that measure 1-3cm in diamete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 located in raindrop pattern on upper chest, back, and proximal portions of the upper extremities, facial lesions seen occasionall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ions my be light tan, reddish, or white in colo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 asymptomatic but may cause some mild pruritu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rs more often in adolescents, but can affect children of any ag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ed by the yeast, Malassezia furfur, which commonly colonizes the skin by 4-6 month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m and moist climates, pregnancy, immunodeficiency states, and genetic factors predispose to the development of these lesio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inea Versicolo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-380880" y="1600200"/>
            <a:ext cx="58672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dx confirmed by KOH prep of surface scale or fungal culture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by woods lamp, a yellow-green fluorescence is seen from the lesions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reatment: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pical clotrimazole BID x 2 weeks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squamating agents such as selenium sulfide x 15min daily x 2 weeks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recalcitrant cases: try oral ketoconazole, itraconazole, or fluconazole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educate patient and family that there is a high rate of recurrence and pigmentary changes may take months to clear, even after eradication of the fungus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can try selsun blue shampoo once a month to scalp and trunk to decrease recurrence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35" name="Text Placeholder 12" descr=""/>
          <p:cNvPicPr/>
          <p:nvPr/>
        </p:nvPicPr>
        <p:blipFill>
          <a:blip r:embed="rId1"/>
          <a:stretch/>
        </p:blipFill>
        <p:spPr>
          <a:xfrm>
            <a:off x="5715000" y="1752480"/>
            <a:ext cx="30510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ext Placeholder 12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15652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ityriasis Alb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ubtle and poorly demarcated areas of hypopigmentation in the face, neck, and upper extremities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lesions may progress through 3 stages: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1. Erythematous scaling papules 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2. Hypocromic scaling papules 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3. Smooth hypochromic patch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usually occurs in atopic patient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usually asymptomatic except for mild pruritus during stages 1&amp;2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ccurs in people of all races, more prevalent in mal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ore noticeable in summer months when rest of skin tans, and in darker skinned individual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-pigmentation occurs slowly, cases can last from several months to 10 years, but the average duration is a year or mor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ityriasis Alb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e patient and family on sun protection and gentle skin care to prevent dry ski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re cases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reat with topical corticosteroid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ferral to derm for light therapy to help accelerate repigmentatio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 out other causes of hypopigmentation by taking a good histor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 out tinea versicolor by KOH prep of scrapings from skin lesions or fungal cultu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woods lamp, a white-blue fluorescence may be seen like vitiligo, but not as bright and the borders are not as well define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Text Placeholder 12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4035600" cy="480060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43" name="Text Placeholder 12" descr=""/>
          <p:cNvPicPr/>
          <p:nvPr/>
        </p:nvPicPr>
        <p:blipFill>
          <a:blip r:embed="rId2"/>
          <a:stretch/>
        </p:blipFill>
        <p:spPr>
          <a:xfrm>
            <a:off x="4343400" y="1474920"/>
            <a:ext cx="4572000" cy="48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Arial"/>
              </a:rPr>
              <a:t>Evaluation of Alopecia: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193" name="Content Placeholder 3" descr=""/>
          <p:cNvPicPr/>
          <p:nvPr/>
        </p:nvPicPr>
        <p:blipFill>
          <a:blip r:embed="rId1"/>
          <a:stretch/>
        </p:blipFill>
        <p:spPr>
          <a:xfrm>
            <a:off x="291960" y="749160"/>
            <a:ext cx="851724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ityriasis Rose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-30492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nign, self limited disorder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occur at any age, but most common in school-age children and adolescent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drome of malaise, headache, and mild constitutional symptoms occasionally precedes the rash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/2 of the cases begin with the appearance of a 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ヒラギノ角ゴ ProN W3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ald patch”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thin 1-2 weeks, numerous smaller round to oval patches appear on the body, usually concentrated on the trunk and proximal extremities, forms a “Christmas tree” pattern on the back and thorax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ash peaks in several weeks and slowly fades over 6-12 week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use unknown, viral etiology?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V light and oral erythromycin may hasten the disappearance of the eruption, but post-inflammatory hyperpigmentation may persist for month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47" name="Text Placeholder 12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257720" cy="4343400"/>
          </a:xfrm>
          <a:prstGeom prst="rect">
            <a:avLst/>
          </a:prstGeom>
          <a:ln w="0">
            <a:noFill/>
          </a:ln>
        </p:spPr>
      </p:pic>
      <p:pic>
        <p:nvPicPr>
          <p:cNvPr id="348" name="Text Placeholder 12" descr=""/>
          <p:cNvPicPr/>
          <p:nvPr/>
        </p:nvPicPr>
        <p:blipFill>
          <a:blip r:embed="rId2"/>
          <a:stretch/>
        </p:blipFill>
        <p:spPr>
          <a:xfrm>
            <a:off x="5410080" y="1752480"/>
            <a:ext cx="30816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cabi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-380880" y="22860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aused by the Sarcoptes scabiei mit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ruritic rash characterized by linear burrows, papules, nodules on the finger webs, wrists, elbows, feet, ankles, belt lines, areola, scrotum, and peni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 infants, burrows are widespread on the trunk, scalp, extremities, including the palms and sole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cabi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-304920" y="15235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tment: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methrin 5% cream can be used safely for children as young as 2 month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10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head to toe x 8-14 hrs, rinse off, rand epeat in 7 day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tient, entire family, and other who have had close contact to the patient should be treated simultaneously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pical lubricants are necessary to counteract the drying and irritation produced by the scabicide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al or topical medications to prevent pruriti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ash all clothing, sheets, towels, or place in sealed bag x 1 week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ducate family that pruritus can last for 2-4 weeks after treatment, but if see new lesions on skin that suggests reinfestation or inadequate therapy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54" name="Text Placeholder 12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4559040" cy="3419640"/>
          </a:xfrm>
          <a:prstGeom prst="rect">
            <a:avLst/>
          </a:prstGeom>
          <a:ln w="0">
            <a:noFill/>
          </a:ln>
        </p:spPr>
      </p:pic>
      <p:pic>
        <p:nvPicPr>
          <p:cNvPr id="355" name="Text Placeholder 12" descr=""/>
          <p:cNvPicPr/>
          <p:nvPr/>
        </p:nvPicPr>
        <p:blipFill>
          <a:blip r:embed="rId2"/>
          <a:stretch/>
        </p:blipFill>
        <p:spPr>
          <a:xfrm>
            <a:off x="5334120" y="2133720"/>
            <a:ext cx="347184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olluscu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-304920" y="15998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used by poxviru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ndemic in young childre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tagious by direct contact or indirect contact through fomit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haracterized by sharply circumscribed, single or multiple, superficial pearly, dome shaped, papules with umbilicated center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monly distributed in the trunk, axillae, face, and diaper are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sions are spread by scratching and frequently appear in a linear arrangemen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teens, molluscum occurs frequently in the genital area as a sexually transmitted diseas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olluscu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ost cases undergo spontaneous remission, but recurrences are common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eatment directed against symptomatic lesions only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quid nitroge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of a blistering agent (cantharidin) and plastic tape, peeled off in 1-3 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ruction of lesions by curetting their cor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atients with widespread, recalcitrant molluscum should be screened for congenital and acquired immunodeficiency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61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itelli, B.J; Davis, H.W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tlas of Pediatric Diagn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4th Edition, 2002, p307-312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wartz, M.W. et al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nical Handbook of Pediatr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dition, 2003, p115-120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1"/>
              </a:rPr>
              <a:t>www.uptodate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"Non-scarring Hair loss”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2"/>
              </a:rPr>
              <a:t>www.uptodate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"Alopecia Areata”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hen, B.A.  Pediatric Dermatology. 3rd Edition, 2005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3"/>
              </a:rPr>
              <a:t>www.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4"/>
              </a:rPr>
              <a:t>emedicine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6"/>
              </a:rPr>
              <a:t>medscape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7"/>
              </a:rPr>
              <a:t>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Keratosis Pilaris”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8"/>
              </a:rPr>
              <a:t>www.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9"/>
              </a:rPr>
              <a:t>emedicine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10"/>
              </a:rPr>
              <a:t>.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11"/>
              </a:rPr>
              <a:t>medscape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12"/>
              </a:rPr>
              <a:t>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Pityriasis Alba”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Differential Diagnos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560" y="1599840"/>
            <a:ext cx="4724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xi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ytotoxic agents, radiation, anticonvulsants, hypervitaminosis A, anticoagulan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oplast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histiocytosi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umat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trichotillomania, traction alopecia, friction alopeci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ectio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tinea capitis, secondary syphilis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genit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aplasia cutis congenita, nevus sebaceous, epidermal nevus, hemangioma, loose anagen syndrome, ectodermal dysplasia,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ir shaft defec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bolic or Genetic Cau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androgenic alopecia, acrodermatitis enteropathica, anorexia nervosa, malnutrition, thyroid disease, hypopituitarism, DM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96" name="Content Placeholder 6" descr="Alopecia_in_secondary_syphi.jpg"/>
          <p:cNvPicPr/>
          <p:nvPr/>
        </p:nvPicPr>
        <p:blipFill>
          <a:blip r:embed="rId1"/>
          <a:stretch/>
        </p:blipFill>
        <p:spPr>
          <a:xfrm>
            <a:off x="5410080" y="3124080"/>
            <a:ext cx="3353040" cy="34290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7"/>
          <p:cNvSpPr/>
          <p:nvPr/>
        </p:nvSpPr>
        <p:spPr>
          <a:xfrm>
            <a:off x="5105520" y="1523880"/>
            <a:ext cx="3581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lamm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alopecia areata, SLE, scleroderm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atopic dermatitis, seborrheic dermatitis, psoriasis, telogen effluvium, anagen effluvium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he Alopecia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33520" y="2437920"/>
            <a:ext cx="4114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opecia Caused by Systemic Insult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ogen Effluviu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gen Effluviu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opecia Areat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rauma-Induced Alopecia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chorrhexis Nodos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ction Alopeci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tion Alopeci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chotillomania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800240" y="24382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plasia Cutis Congenit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Tinea Capiti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886200" cy="639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Non-Scarring</a:t>
            </a: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00240" y="1752120"/>
            <a:ext cx="3886200" cy="639720"/>
          </a:xfrm>
          <a:prstGeom prst="rect">
            <a:avLst/>
          </a:prstGeom>
          <a:solidFill>
            <a:srgbClr val="d8b25c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arr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elogen Effluviu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2860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15720" indent="-3157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most common cause of diffuse hair los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ial, temporary alopecia that is seen a few months after a severe illness, major surgery, or high feve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initial systemic insult induces more than the usual 20% of hairs to enter the telogen phase, and 3 months later these hairs are shed simultaneously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pontaneously resolves over several month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05" name="Content Placeholder 8" descr="05.jpg"/>
          <p:cNvPicPr/>
          <p:nvPr/>
        </p:nvPicPr>
        <p:blipFill>
          <a:blip r:embed="rId1"/>
          <a:stretch/>
        </p:blipFill>
        <p:spPr>
          <a:xfrm>
            <a:off x="4876920" y="2743200"/>
            <a:ext cx="39621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00:23:00Z</dcterms:created>
  <dc:creator>Valued Acer Customer</dc:creator>
  <dc:description/>
  <dc:language>en-US</dc:language>
  <cp:lastModifiedBy>cinnie chou</cp:lastModifiedBy>
  <dcterms:modified xsi:type="dcterms:W3CDTF">2010-10-05T17:03:58Z</dcterms:modified>
  <cp:revision>66</cp:revision>
  <dc:subject/>
  <dc:title>Hair Raising Facts on Alopecia</dc:title>
</cp:coreProperties>
</file>