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203A-788D-451B-9F94-1DC499561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9B0-B950-4F22-866D-73C47BC40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 of shaken baby timing mirrors the crying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79A3-152A-4C8D-9276-7713E8348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ong-term affects – conflicting data re. temperament and sleep, more difficult toddlers?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ollic does not influence long term cognitive develo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F41D-31D9-4A57-8BED-A18FA7355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7A34-68B5-4B5A-8CCD-E260C7315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bicarb not recc &lt;5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0B9-0DCC-46B3-B15C-9F667CC1F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infant in day and night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hrough a comlete sleep cycle about every 50-6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D09-26A0-4596-9D80-BF7A05821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6A1-6690-4CF6-B1A7-0C402FE98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r babies may develop a habit of feeding to get back to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ime in lighter stages of sleep and sless deep sl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1015-717F-4655-BBC1-B40EC531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parents feel it’s important to get baby settled by 12 weeks – structured care. Point is to prevent slleping probl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0AC-BC9E-44A2-85B0-E26E1C693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260-A1EF-439A-86A3-64C64F48D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ants deaths in adult beds – ¼ by overlying adults, ¾ entra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78F-D2B9-47A7-98A5-5BA984854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supported, &gt;15 studies since 19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95ED-F7E9-446C-A845-660F7CA7B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E9B-CE60-4715-9E6E-8E6CDA39D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mentally difficult or irritable infants more likely to survive famine than more placid 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uration of cerebral cortex, newborn reflexes, e.g.. Palmar grasp, disappear, start smiling, have a recognition mem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behavioral shift at 2 months changes in several systems e.g.. Attention, sensory, in social abilities, and in EE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954-5CA1-4D43-B59B-2667FA1C5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7D3-1BE2-4BFE-979A-A322BBCFC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osry overload by the end of the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C1C-B9FE-453E-82B8-7E4131727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198-6596-486E-88A7-F9A79AB22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-4 % of infants with sx of colic have GERD                 subacute sx of drug withdrawl can last 4-6 mon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893D-E16D-4E21-9419-287849488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some babies improved on hypoallergenic formula esp. if other signs of intolerance like emesis, diarrhea, eczm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ies found a benefit from soy formula but not adequately double blinded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– no diff when breath hydrogen compared., or b/tw babies given decreased lactose or give lactase enzyme, plus no benefit with simethi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2FAD-BA9D-4571-865C-751A1E226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don, copenhagen, proximal care – london 50%  less contact, d/c BR earllier, london group fussed/cried 50% more at 10 days and at 5 wee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AE7-6B4D-4254-8065-791F61DF5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2CE-39F9-4A85-9120-834BE415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B4C-7E6F-4F38-BD2D-A7471C0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055-971C-4AB2-A8E8-3748935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8F4-E62F-403C-B4F8-4991F0AC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9EF-E5A2-4B1E-BF7D-52E83C8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A921-AC68-4865-BA34-55A2759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8CA0-E808-4004-AD72-04FDC95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2E8-5222-47D8-ACC7-509A766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74E-6594-4A5E-9374-CBDB354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103C-B3F3-4458-8CAC-D1C4B5DC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E0F-6B9B-42B6-BC34-C290FC9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982-6265-465B-8626-5E31DD3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E069-BC5F-41C9-99EF-46967874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94ED-D1DB-45C9-A4EC-AF49778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4BD5-15D7-4E78-85A3-A201C8A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102-1FC2-4FDD-AB1F-1BF94CCE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1E13-0E62-469C-8777-7386FBE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B18D-499E-47C6-A6A2-BC2705D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B119-90A5-4FF3-B976-C510BED2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7F2E-EB44-4B87-B214-128AA371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28BC-73F9-4E36-AF21-4CE6D314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35B8-C24D-4406-8D12-8A9CEFE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A5F-13BE-4173-823A-7C597CD9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C29C-C072-4757-8780-08CD8450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87CE-3422-476D-BA10-2FCADA7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46E2-B086-4570-B137-CF46FED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16A2-446D-4906-9A01-65BDB9E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433C-97ED-4F73-B496-B788C927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609EA-65F0-40C6-91C6-5C3038A2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B1ED-863B-4E87-B078-F1F60794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EEB9-CEC9-425E-B7D2-0BCD7367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23C7-D603-4D90-8EAF-A3B3EAF4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AA5B-BCBE-43A4-B5EB-3C20262B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18C-65E4-4AB4-8356-9ECD16B6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977E-1620-4169-9617-B6ABE8FE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8685-7C5C-416D-BB50-03A8626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CB34-41A2-4D03-BAD8-D7CF48C1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DDDB-D410-4B5C-83AC-24955B5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A140-FA25-4FC2-A092-4C509951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41025-F906-45D5-B762-C45530C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CDFE-2D2B-4007-B2FA-447CC17D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B9B1-5CE1-4185-8550-28BC4BC7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F5A1-8189-4B5E-B589-6AC5BB98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375D-A5D5-4A43-81E9-CF903B89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8F4-99B5-4983-A934-AD91A49F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A448-1021-4A74-9564-6587DB97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0BCF-4B3A-4747-934D-66CB24B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2968-95AA-4886-BEA2-CB9A330E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3150-2934-48CC-97BD-1B2ABA7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24EB-1D09-4D85-B78F-0DA4C5C2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AB2B-3FE8-4648-9C85-10F623D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74E5-B08D-4205-825A-8F75AEF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0520-DCA2-445E-BC30-8DDFB61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58E3-4994-49E9-8A0B-BF3109F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C1B46-ED72-4425-B468-B1949413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CAE-0A6F-48EA-8D9E-6D32580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7341-DD49-47ED-8979-AD96754A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FE22-9F5C-4B3B-9B78-C304C197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D4006-2CBA-4E13-AE24-964B0498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4D64-2AC6-483C-8B35-D8C64EF2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CD75-0150-4544-8567-A8A6CE06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439E-19D5-4495-AF85-88D77A7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7665-32FA-4593-9F82-F80D3B7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5EA8-A0AC-4A52-9BF2-15A92E1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7783-EEA8-4A28-883D-59DFBB1A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283E-2B10-4497-B575-16D964C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AA6-0F92-4898-84AC-30F1612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0B8BB-A434-425A-ACD0-28DDFD3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1CBB-11A7-4C0A-8005-216708DC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29A4-04C1-4948-BA58-E017C8B4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5AE1-080C-46BE-80AA-F52E4EA0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8DD1-EE52-4B5D-9328-1CDFDB9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F76F9-AA6D-4F77-941D-2BD6FC13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95A88-56DE-41E4-B84E-119F3009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70E40-711A-49AD-99A8-D50C436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2B2B9-5F7E-43DA-9552-75F5FA20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5BAD-3577-4B92-92BB-16E2C560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608-CF1B-4A9E-BA13-211D933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9AD8-BBBA-4ABF-BF99-9624463A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DD412-226E-4B4B-B1DF-F2453A0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F44D-FA13-4786-B51A-6433D5EA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434F-2D0D-41BC-AF6B-DA0A9F5C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2E9A-42B8-4A39-B89B-53974A7D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EFE6-D594-48CD-A45C-8BEDBC2B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7C67-6DFD-4951-AAE2-A39AC76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4F130-C8E4-4771-8F73-944DC33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40E0-C50E-4AFE-A6B2-4CB73CEA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9FEA-E341-4B44-B556-D995B491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395-1BA2-4DFC-A09F-CA6821A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8C780-6632-489B-A0FE-5635625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8461-2EA6-4B69-AAED-5CE2E30E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A3974-96DB-44A9-AB10-B51464A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F3F00-DCB7-4CAA-9780-9AE6E30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A917-3071-463A-A2BA-E1AE561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48781-970A-4C1B-8027-A4E12BD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44D9-78AC-4358-A8DA-7EE3224A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3AAC-BDD8-40E2-A596-863B8CA477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54C-F3A7-43FC-A9F4-C7B541B0D9B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55D-54F4-416C-8DCB-779E7A459D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A54A-59C4-4758-9639-2400E52ABD0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3AB3-6B88-43C1-9C87-D060DFC336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2C32-EB4A-48D8-9F6D-9864A0B90BE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B5D-61E6-4CA2-93CE-91EA60881EA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5B2C-CC3C-4058-A3D7-157858A3AD4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July 27, 200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mtiaz Gho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 on parents – feel helpless, inadequate, rej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contribute to maternal 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crying may trigger shaken baby syndrome/other abu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ents of &gt;3000 infants gave anonymous responses in a questionnaire;  2.2% of parents of 1 month olds and 3.7% of parents of 3 month olds reported having smothered, slapped, or shaken their baby at least once because of cr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ental support and education –acknowledge, reassure, offer tips on soothing, absolve guilt, recommend time-out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ole for diet changes in small percentage so may be worth a tr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methicone not shown to helpful; antispasmodics have adverse effects (apnea, seizures, coma) and contraindicated in infants &lt; 6 month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ranial osteopathy – no randomized controlled trials. One small study showed decreased crying and improved sleep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ennel seed oil –  one randomized controlled study showed benefit and no adverse effects BUT fennel oil can cause allergic reactions of skin and repieiratory tract and has been reported to cause seiz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rbal blends – teas containing fennel, chamomile, vervain, licorice, and lemon balm have been studied and shown be effective but the volume the infants took concerning ( 5 oz. TID) b/c may affect milk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ripe water – mixture of herbs; warn that some varieties have been found to contain dangerous ingredients, including glass particles and alcohol. Also watch for sodium bicarbonate and essential oil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locynthis – found in Hyland’s colic tablets – not proven to effective but unlikely to cause har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othing techniques – overall 24 hour amounts of crying substantially reduced with more physical contact and increased responsivenes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hours at 1month, decreases to 14 hours by 1 year, 13 hours by age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ring first 3 months infants go from a pattern of short sleep-wake cycles about evenly distributed throughout the day and night to consolidating sleep into longer periods at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spend about 50% of sleep time in REM sleep, adults spend about 20% in REM slee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active/deep sleep cycles last about 50 minutes; adults about 90 minu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leeping through the night”–most babies by 12 weeks; actually still awakening several times during the night but most infants learn to resettle. About 1/3 of babies don’t resettle and “signal” their par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% sleeping all night by 6 months and 90% by 12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east fed babies continue to need a feeding between midnight and 6 am for longer than bottle-fed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not need to feed during the night after 6 months (can go about 6-8 hou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tling babies while awake- sleep onset associations. “tired cues” before overti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time routine/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earest evidence is that structured care leads to infants developing the ability to remain settle at night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uctured” parenting – start training at 6 weeks. 1. maximize diff. b/tw daytime and nighttime sleep environments. 2. settle baby while awake. 3. once baby at least 3 weeks old, healthy, gaining weight well, can begin to delay feeding when baby wakes at night – cuddle,, change diaper, etc.. Not leaving baby to c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-demand care – leads to lower amounts overall fussing and crying in the first 2 months but to waking and signaling at night that continues at and beyond 3 month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a problem if parents don’t think it’s a problem. No evidence that babies who wake and cry at 3 months will have long term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ts of different ideas on getting babies to sleep; individualize plan based on family’s needs and resour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ither parenting approach better overall, each is associated with different benefits and cos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enhagen parents’ care was as effective as proximal care in minimizing crying and as effective as London care in enabling infants to remain settled by 12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DS prev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sleeping precau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ants have a normal crying curve during the first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aks at ~6 weeks and decreases by abou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verages 2 hr/day at 2 weeks, 3 hrs at 6 weeks, and 1 hr/day at 12 wee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ue across cultures and preemies show the same pattern, peaking at 6 weeks after their expected due d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838080" y="205740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ental support and education are ke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tachment behavior – assures nutrition, protection, maternal inter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p to a point, infants who cry more get more maternal atten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organization of brain systems occurring around 8-12 weeks, reflexive systems replaced by cortical control of behavio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soothability related to a temporary deficit in responsivity, so have difficulty in stopping crying once it sta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efinition is: &gt; 3 hours a day, &gt; 3 days a week, &gt;3 weeks in a row (i.e.. rule of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fecting an otherwise healthy, well-fed inf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s range from 2 – 20% of bab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gnosis of ex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heories, often thought to be due to g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sed on current evidence infants who have colic are at the high end of a normal spectrum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ign, self limited. 50% resolve by 2 months, 80% by 3 months, 90% by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dden, unpredictable ons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longed episodic bou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urnal – evening peak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fficult to cons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physical signs –clenched fists, red face, legs drawn up, distended abd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ts beyond 4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ous irritability/lack of diurnal rhyth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 symptoms (FTT, vomiting, diarrhea, etc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physical exam –  including eyes, long bones, neuro, CV, GI assess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sitive family history of asthma, atopy, eczema, migra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ernal drug inges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lthough food intolerance and other organic causes can cause prolonged crying, these factors absent in 90% of cas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ost common organic causes suspected are GERD and food allergies, but the evidence is equivocal and a factor in only a small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rge study comparing BFing mothers on low allergen diet vs. those not, showed no difference in proportions of colicy infant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ctose intolerance – no good supportive eviden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tudies have shown parental counseling more effective than diet change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oss-cultural studies comparing parenting and infant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amounts of body contact and responsive parenting associated with lower amounts of cry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rying curve and frequency of crying is similar but the length of the bouts are reduced substantial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41:10Z</dcterms:created>
  <dc:creator>Raj Dasari</dc:creator>
  <dc:description/>
  <dc:language>en-US</dc:language>
  <cp:lastModifiedBy>HCMARTINEZ</cp:lastModifiedBy>
  <dcterms:modified xsi:type="dcterms:W3CDTF">2009-07-27T19:06:06Z</dcterms:modified>
  <cp:revision>63</cp:revision>
  <dc:subject/>
  <dc:title>Colic and Infant sleep problems</dc:title>
</cp:coreProperties>
</file>