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8914-B0DD-46C3-ACDE-083A82F85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ACE0-B1B1-4D82-8F43-0AB32FF06D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 of shaken baby timing mirrors the crying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BC16-622B-44F5-A8F6-68E03682D5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ong-term affects – conflicting data re. temperament and sleep, more difficult toddlers?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collic does not influence long term cognitive develop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4A8E-8B96-492E-AD8B-1D38FB72CD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BBA3-119D-4DE2-B2BB-93E43F1C8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bicarb not recc &lt;5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4273-E0C6-4FBD-8EC2-DE1CCA494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ning infant in day and night dif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hrough a comlete sleep cycle about every 50-60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5885-244B-4245-A3EB-C7036E7AE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8074-3E8C-4AFD-BFBA-E32695A1F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r babies may develop a habit of feeding to get back to sle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ime in lighter stages of sleep and sless deep sle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6A69-7BBF-44D0-BC9C-74A51380C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parents feel it’s important to get baby settled by 12 weeks – structured care. Point is to prevent slleping problem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EAF8-1837-461A-99C3-431AE5BA4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587B-ACDA-490A-9306-4EFB9FADD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ants deaths in adult beds – ¼ by overlying adults, ¾ entrap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8268-C663-4547-9C4F-A122F8AE7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 supported, &gt;15 studies since 19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738F-E1EE-4755-969B-962F7F42F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7869-0D26-4026-A382-A869EBFA6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mentally difficult or irritable infants more likely to survive famine than more placid b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uration of cerebral cortex, newborn reflexes, e.g.. Palmar grasp, disappear, start smiling, have a recognition mem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robehavioral shift at 2 months changes in several systems e.g.. Attention, sensory, in social abilities, and in EEG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58E2-A169-41C0-80E0-4FA506B32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70FC-93A9-4179-8E96-91A94789E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osry overload by the end of the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D671-3E93-4FA0-949E-98B41ED57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556E-CE0F-49BA-A6DD-C52E3513F9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2-4 % of infants with sx of colic have GERD                 subacute sx of drug withdrawl can last 4-6 mon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16C3-7B5D-40AB-92A4-879A34E2D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some babies improved on hypoallergenic formula esp. if other signs of intolerance like emesis, diarrhea, eczm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studies found a benefit from soy formula but not adequately double blinded stu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tose – no diff when breath hydrogen compared., or b/tw babies given decreased lactose or give lactase enzyme, plus no benefit with simethic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540C-F434-466F-8E87-A1A9A5866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don, copenhagen, proximal care – london 50%  less contact, d/c BR earllier, london group fussed/cried 50% more at 10 days and at 5 wee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3CFD-7190-42F0-910E-CF7D363B9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5E7F-26B5-4A1B-A73A-75A09DFC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DB59-74CA-45AD-83D9-B78762E9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32F5-FBED-4AD2-8369-8F6563BA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65A7-7902-431D-866C-17D0DFEB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C623-0BFC-4605-9A80-E661186A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BEF1-3874-4D41-8EB5-32F85AF6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A5F2-A19E-4A32-A9DA-1BA40BD0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7BBA-D722-4B7A-9C48-1C64C14A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9F05-8D56-41D6-A8CA-8A5605F9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4993-97B1-4EAF-B715-A240E34C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E889-EE5A-4C40-9CFB-06EF7697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7AE9-20D7-44B8-9454-0D526876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ACE2-6B58-4A0C-AC26-DD5A2C26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A8A3-B5B5-4057-86BB-AC3FFFEB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F7F6-4E83-4B7A-BE23-9A6574FB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2CEB-91C7-4752-9798-14E031CD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80A3-989F-4885-A4BC-50F050C4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807E3-D30E-4707-82F3-5AAABEE4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A0C5C-A99B-4716-9D4D-21E5AD40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DA9DC-FFF9-4212-88A0-343C8FC3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F5ED8-BDDA-4D5F-BA2D-46A71D0F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688B9-861E-4953-868D-1B9CC907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2B96-FC30-44AA-9B31-7D188EEC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AF998-B3F7-4DC9-B119-3EE9AEB6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8EB0D-CC51-4515-AB21-4B8C3E1A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77C59-E610-48F3-B0C4-056007F6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7FC73-CE13-4AEF-BD13-66C61CCB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1F3C9-9790-4B05-9187-B078E207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04677-4B78-42D8-B12D-878C994C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CC351-37D2-4929-8ED3-F0D37A23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F2F93-9FAD-4329-BE57-FE69F831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2DA2F-549C-47E4-8076-F31278AB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69D65-79F9-40EB-8EB8-E03BB565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37FA-F30C-4ABB-90DE-551B4489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43244-DDCF-4EDE-AFB6-9A90A6A0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1945B-553E-4EB4-8795-5D6597B2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95EC5-295B-4DEF-9274-2CE1BAC7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BF01B-072F-4BD1-96F1-A4C62061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76153-80E5-44FB-8522-3AC3ABA8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DD799-E75E-4BD9-94A7-5C5CEB79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F458A-0935-4AFB-A84A-7700A2C3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85463-04CD-42C3-B444-58259F68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CAA41-25F0-4F14-8997-DE806AFA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00199-FDE8-488D-912A-C9D48397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3A27-8BBF-4FF5-AB77-71DD1500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B8E98-37D3-406D-9047-8866BB2E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D8789-4557-4CF2-AC85-79644F68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095A3-2913-4BB2-96E1-A013CDF7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895BF-9262-4A9C-8CF3-FEF21FBF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6CA94-936E-412D-ABA8-ED4E0CFC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3957C-B41E-48B9-BEC4-78F4D096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F5F07-16BD-4693-86D7-082A6378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F26A9-8C4A-4819-996C-E3BFE37E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A72C5-609A-48AC-945E-0F24CB7D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CAF16-9062-4B13-987D-8477E78B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A6A5-7D55-42D9-BF7A-CE325E5D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40541-9AC0-44E0-919B-1BA37125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0C3B6-938A-4499-BE9B-C319FE13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0DEEC-4E2E-492D-A43B-25C25812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554AD-B5D2-462E-9664-CA488D32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07F43-236D-4B1C-8D3E-DC933934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4772A-0670-4232-82CB-E3D6E3C1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1F7CA-4200-47E7-9AAF-97F8F64A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B9B32-4826-4584-A472-A0001935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6E50D-FE72-49BD-9C0D-F198BD3E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56CF8-0029-44F6-A3A6-86368555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90AC-8219-484F-80C3-D86F6D68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61DA0-865C-4E43-ACF4-0812CE46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38E8B-78DE-4726-9B1C-015E3C78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5DDC0-B44C-44DB-9836-B2839362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8621C-E0BC-4592-BA47-0380C1E7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75FFC-3576-463D-83D6-3461370C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4CCCD-FCF4-4982-8010-48EFC7DB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9A73A-6727-436D-9551-4D0E8766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CA42D-0B43-4DAD-A7D9-80D3C8B9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07042-6389-418E-A115-26AA4211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5AE40-0D20-4EDD-BD82-134629AD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0271-6CFF-4EE7-BAF8-01422AAF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A948A-60D2-4130-AD27-992CEAD8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F39A3-8BB2-401C-BD46-B50FE3E3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0F8F1-49DD-48DB-81E7-7FE77D85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CE373-5AD6-41F3-AF8A-A2E5E361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DF583-59F4-480B-9CE8-5F7ACFB2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29094-2CE4-4D4C-A081-C50C40FD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DFF68-28B0-4CEB-B3A5-065D7686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06ED9-3E30-49A4-AAAA-A20BBDA0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2B6AA-B01D-4100-9585-A25C6769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36A3D-7FF2-4534-B699-53BA2A7D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A90F-FAF5-443E-A0A4-96EBFD77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480C9-2A85-4E2C-BCFD-29C3389D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D3D73-7EAA-49A8-86BC-415A23C9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36744-6D02-4A53-9208-79640E02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086C0-2FEC-4BBE-B58D-BE9F67BE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C186C-3F27-4C23-B5BB-3F5C55AF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5ABAC-A58B-4291-AC56-AA31360F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C87AC-AD08-4FF0-87F7-CCFADAD5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52DE-B862-43F4-A2D5-0CC07DC17C1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9DBE-EAF6-40B1-B533-B86098BDE34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B863-26D9-41A6-8FB8-5CE51DCCB11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82B1-ACEB-412B-B676-A668894EE25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AF74-9828-472D-B40E-9D68AEE79D5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3828-9A2D-49BB-90D1-CC29713FE99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903A-B298-405C-9884-199949180E3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93D8-F4FB-46DF-94D5-A0D68598FB8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July 27, 200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mtiaz Ghor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fect on parents – feel helpless, inadequate, rejec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contribute to maternal depres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longed crying may trigger shaken baby syndrome/other abu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ents of &gt;3000 infants gave anonymous responses in a questionnaire;  2.2% of parents of 1 month olds and 3.7% of parents of 3 month olds reported having smothered, slapped, or shaken their baby at least once because of cry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Parental support and education –acknowledge, reassure, offer tips on soothing, absolve guilt, recommend time-out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Role for diet changes in small percentage so may be worth a tr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imethicone not shown to helpful; antispasmodics have adverse effects (apnea, seizures, coma) and contraindicated in infants &lt; 6 month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ranial osteopathy – no randomized controlled trials. One small study showed decreased crying and improved sleeping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ennel seed oil –  one randomized controlled study showed benefit and no adverse effects BUT fennel oil can cause allergic reactions of skin and repieiratory tract and has been reported to cause seizur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rbal blends – teas containing fennel, chamomile, vervain, licorice, and lemon balm have been studied and shown be effective but the volume the infants took concerning ( 5 oz. TID) b/c may affect milk intak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Gripe water – mixture of herbs; warn that some varieties have been found to contain dangerous ingredients, including glass particles and alcohol. Also watch for sodium bicarbonate and essential oil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olocynthis – found in Hyland’s colic tablets – not proven to effective but unlikely to cause har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oothing techniques – overall 24 hour amounts of crying substantially reduced with more physical contact and increased responsivenes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6 hours at 1month, decreases to 14 hours by 1 year, 13 hours by age 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uring first 3 months infants go from a pattern of short sleep-wake cycles about evenly distributed throughout the day and night to consolidating sleep into longer periods at nig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ants spend about 50% of sleep time in REM sleep, adults spend about 20% in REM slee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ants active/deep sleep cycles last about 50 minutes; adults about 90 minu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leeping through the night”–most babies by 12 weeks; actually still awakening several times during the night but most infants learn to resettle. About 1/3 of babies don’t resettle and “signal” their paren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80% sleeping all night by 6 months and 90% by 12 month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east fed babies continue to need a feeding between midnight and 6 am for longer than bottle-fed bab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ould not need to feed during the night after 6 months (can go about 6-8 hour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ttling babies while awake- sleep onset associations. “tired cues” before overtir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dtime routine/environ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earest evidence is that structured care leads to infants developing the ability to remain settle at night by 12 week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ructured” parenting – start training at 6 weeks. 1. maximize diff. b/tw daytime and nighttime sleep environments. 2. settle baby while awake. 3. once baby at least 3 weeks old, healthy, gaining weight well, can begin to delay feeding when baby wakes at night – cuddle,, change diaper, etc.. Not leaving baby to cr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ant-demand care – leads to lower amounts overall fussing and crying in the first 2 months but to waking and signaling at night that continues at and beyond 3 month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 a problem if parents don’t think it’s a problem. No evidence that babies who wake and cry at 3 months will have long term proble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ots of different ideas on getting babies to sleep; individualize plan based on family’s needs and resour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ither parenting approach better overall, each is associated with different benefits and cos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penhagen parents’ care was as effective as proximal care in minimizing crying and as effective as London care in enabling infants to remain settled by 12 week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DS preven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-sleeping precau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ants have a normal crying curve during the first 3 month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aks at ~6 weeks and decreases by about 12 wee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verages 2 hr/day at 2 weeks, 3 hrs at 6 weeks, and 1 hr/day at 12 wee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ue across cultures and preemies show the same pattern, peaking at 6 weeks after their expected due d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838080" y="2057400"/>
            <a:ext cx="769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rental support and education are ke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gna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ttachment behavior – assures nutrition, protection, maternal intera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p to a point, infants who cry more get more maternal atten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organization of brain systems occurring around 8-12 weeks, reflexive systems replaced by cortical control of behavio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soothability related to a temporary deficit in responsivity, so have difficulty in stopping crying once it star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st widely used definition is: &gt; 3 hours a day, &gt; 3 days a week, &gt;3 weeks in a row (i.e.. rule of 3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fecting an otherwise healthy, well-fed infa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s range from 2 – 20% of bab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agnosis of exclu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y theories, often thought to be due to ga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ased on current evidence infants who have colic are at the high end of a normal spectrum of cry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nign, self limited. 50% resolve by 2 months, 80% by 3 months, 90% by 4 month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dden, unpredictable ons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longed episodic bou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urnal – evening pea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fficult to conso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imes physical signs –clenched fists, red face, legs drawn up, distended abdo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sts beyond 4 month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tinuous irritability/lack of diurnal rhyth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I symptoms (FTT, vomiting, diarrhea, etc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sitive physical exam –  including eyes, long bones, neuro, CV, GI assess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sitive family history of asthma, atopy, eczema, migra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ternal drug inges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lthough food intolerance and other organic causes can cause prolonged crying, these factors absent in 90% of case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Most common organic causes suspected are GERD and food allergies, but the evidence is equivocal and a factor in only a small group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Large study comparing BFing mothers on low allergen diet vs. those not, showed no difference in proportions of colicy infant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Lactose intolerance – no good supportive eviden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tudies have shown parental counseling more effective than diet change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oss-cultural studies comparing parenting and infant cry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gh amounts of body contact and responsive parenting associated with lower amounts of cry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rying curve and frequency of crying is similar but the length of the bouts are reduced substantial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21:41:10Z</dcterms:created>
  <dc:creator>Raj Dasari</dc:creator>
  <dc:description/>
  <dc:language>en-US</dc:language>
  <cp:lastModifiedBy>HCMARTINEZ</cp:lastModifiedBy>
  <dcterms:modified xsi:type="dcterms:W3CDTF">2009-07-27T19:06:06Z</dcterms:modified>
  <cp:revision>63</cp:revision>
  <dc:subject/>
  <dc:title>Colic and Infant sleep problems</dc:title>
</cp:coreProperties>
</file>