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AAA7-F9E6-476B-BFA5-F78982C59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9AB6-4B81-4633-9CE6-03CB7FA4A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 of shaken baby timing mirrors the crying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A24D-4173-41F4-880C-A3032B51F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ong-term affects – conflicting data re. temperament and sleep, more difficult toddlers?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llic does not influence long term cognitive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AE6B-1047-4EFF-92BC-5E0671C45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A1D6-A547-4672-9C65-98142BA47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bicarb not recc &lt;5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0A7B-77BC-4E0C-9B2F-5D14DAB70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infant in day and night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hrough a comlete sleep cycle about every 50-6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EFBB-939F-4652-AF47-38E7C2301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F7DF-4659-4A4B-8E51-F38AC0351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r babies may develop a habit of feeding to get back to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ime in lighter stages of sleep and sless deep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CE1-C854-48E3-8DB0-674EF44B5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parents feel it’s important to get baby settled by 12 weeks – structured care. Point is to prevent slleping problem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508B-257A-403C-95C8-85FB6F577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E972-EAB4-4AC4-A05C-083634768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ants deaths in adult beds – ¼ by overlying adults, ¾ entra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A488-49EB-4808-B8A1-574D9D3B1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supported, &gt;15 studies since 19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D899-FBCA-4460-98C9-4E437288B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F078-4633-471D-B65F-BCC826271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mentally difficult or irritable infants more likely to survive famine than more placid 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uration of cerebral cortex, newborn reflexes, e.g.. Palmar grasp, disappear, start smiling, have a recognition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obehavioral shift at 2 months changes in several systems e.g.. Attention, sensory, in social abilities, and in EE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1650-A087-44EC-BE27-53D5F0D5E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DC26-100B-4B2D-9327-6D3833420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osry overload by the end of the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276A-19B9-4CC4-A1B7-C9EFB87F0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0523-0CE0-4D23-9D53-5E347DF15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-4 % of infants with sx of colic have GERD                 subacute sx of drug withdrawl can last 4-6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734A-8DF5-4882-9CE7-A817FFDD4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some babies improved on hypoallergenic formula esp. if other signs of intolerance like emesis, diarrhea, eczm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udies found a benefit from soy formula but not adequately double blinded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– no diff when breath hydrogen compared., or b/tw babies given decreased lactose or give lactase enzyme, plus no benefit with simethi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60A0-D502-44D3-B0F2-A962D5A04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don, copenhagen, proximal care – london 50%  less contact, d/c BR earllier, london group fussed/cried 50% more at 10 days and at 5 wee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D506-1BCD-445A-873B-711BD7C78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13D-E970-42FA-ADF2-D3863094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529-2F89-4CF9-A3C1-2B57F6FC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4F8-4D1F-46AC-A25D-869FF544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0D3-796C-46F9-9646-45C998CD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BBFE-3E76-4734-B5BA-4E58195B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09A8-38D1-4085-963C-82DE5C64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9EC0-D1B5-4199-A113-A482A427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FA41-FE21-4A15-A032-AD248A78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9D39-3554-496B-A5FF-18CFF70B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A3FB-FE1F-4321-862F-E1B2356C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8ACF-1B67-4A45-B84B-BC4B09AE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0FC-939A-48F7-8A56-11EDEF5D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5355-53E2-4B8B-BF31-9C9AE1F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11C5-1894-4DCD-995B-C16A1DAA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C54B-3428-4335-9E1C-1BEAF34E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EFFD-4045-4789-8695-C2E11F44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53A-2D00-4F19-8FEF-3D1F023E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5B94-3093-4CCD-9465-4C8123E3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1319-CE26-420C-BE33-44B87F36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7BC2-986B-432E-9766-8C393FA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3665-4B47-4E36-BF5A-54273D12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1051-6418-416F-8CAD-25994CA2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AA4-662D-4944-9A59-D5D74EBD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A23E-AAC8-465A-8192-DA7A0EE1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75F0E-75DC-4D27-82F5-88CB84C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7BC7-78B8-473B-AFD5-CBA10F72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0A03-242F-4FE9-8A47-F18129C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BECA-86BB-4997-8D9F-B72A2E21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D2ACB-86C1-4B2E-8239-3598518D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B2F7-D783-44D6-96F9-97E079A4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27105-8EB4-4E05-BC23-FDBFA5EC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EB4F-1907-4C3B-BD00-25FEF185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4C9DB-863F-4CAE-ADB7-51B7E698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544-6D52-49E1-A21A-15C3FC7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4A4D8-A699-4135-910E-F703A2FD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7DF0-769F-4FFD-9A9B-E5A47520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EB34-A21F-4719-AEEE-212F85EE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F629-F3EC-4D3E-8229-16D9BEA5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9FBF-17E0-48C7-9A08-826D9571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474D-7379-407A-AAF6-F78B0380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3D4E-898C-4377-9A58-BD107D56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80E3-7273-4C6C-A669-71E2A32A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576B-D14C-4302-A974-0B566DB2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C38C7-93E1-4441-BFC8-CA854248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1E0-EBD3-485E-A3AB-076174E4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4F2A3-4CF3-4748-9452-C2E4D840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6B87B-C33A-47FF-B348-0C444653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EA8F-6293-4424-8135-556DB983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7CD3D-79DF-470F-B4C9-26A4A284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424F-1171-463C-9B4D-5964A52E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EE1AC-22B6-4A3A-BF7D-F0D92DD5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BA743-9C26-4041-AA08-9B2FE508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2BCAF-8273-4AF4-9F17-E9B34C44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D298-055A-4CA1-A48C-9AE25E0B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A7551-50E0-45EA-9E78-CE92D464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43A-12BC-49B3-A38C-9604AE84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04B53-80F6-470A-9895-A097BBA6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AE75F-879F-4077-831C-8A863BC1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FF158-CA70-4484-8349-9589357E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C603-92AA-4E60-A082-D2C2EF38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B23B2-B2C0-4CDD-A323-70F0C9E8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5829E-E9AC-4D52-9215-2B401B1B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B5C70-B711-496B-B950-C36E76C5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1ED2-74A9-40BE-8524-E2F602D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E61E6-6A8E-4DCB-91C8-7F03C30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D2A0B-4065-429D-BB65-A25898F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1EA-9B6A-4EDF-8402-991EE816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68D04-943A-41B1-9B50-0622EA5E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73F38-B768-4789-A11D-E4298281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B628D-1074-4B06-9A0F-7E12D49F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83B4-3DCB-4122-B7A3-17AC10FC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09BE-291F-436E-861D-AE5D0318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F07C1-AA84-48A0-A213-6A9EAC7F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2EDB2-438F-444E-9353-4D5DDE02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AC4D-C04C-4562-BA90-D970177D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474BB-04C9-4540-8C3A-82CB011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103E5-17BC-40F0-81AA-8CA7190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4BA-E28D-4CDA-9919-C754FC9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57ABC-0112-43BD-BC69-BE0D2528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52B87-DA3A-4645-B7F3-3F2723EC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ED57-0B08-4331-963C-3B7E8A62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FD14-0E00-421D-9353-C2A0BABC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BBD28-FC08-4744-9FEB-01B2D72E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32CC0-A20A-4533-9AE0-DADE62A5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3BC08-53F3-4266-B4DE-5BED964B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F6B1C-3E12-4861-88E7-09CC9904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A319B-9D99-4C98-97FD-3851ED06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C4A36-13B4-4B9D-AE4B-8053B6E9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593-DBE3-4EF1-B8CE-F124204A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97118-22D1-46E9-825F-77A0D72C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2FD05-68E2-461A-92DB-3FD86E16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A5C84-F26E-4C9B-B33B-D396D9A0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65B24-11DA-4E48-90C9-DEA39D7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38FF3-2710-42DA-ABAC-F711481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DACD4-D161-48D7-A14E-7D1A336F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3A706-2BE9-4EBF-B3B8-1891A40F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4608-21F0-469A-A7DF-D8FC84103A7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7FFD-B011-4F6F-9FF6-AC5CD722489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4089-23FC-46E9-A89B-611E5FC5E1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7B85-950E-401E-887B-FD091E40F76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20DF-8EE8-4BBE-860C-584EFF829DB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88B2-FAF6-4469-A425-E20179CAFF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497E-29D8-4EF2-B789-B95D3D8F522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A24D-06F6-4D23-B28E-C795CB7198F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uly 27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mtiaz Gh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 on parents – feel helpless, inadequate, rej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contribute to maternal 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crying may trigger shaken baby syndrome/other ab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 of &gt;3000 infants gave anonymous responses in a questionnaire;  2.2% of parents of 1 month olds and 3.7% of parents of 3 month olds reported having smothered, slapped, or shaken their baby at least once because of cry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ental support and education –acknowledge, reassure, offer tips on soothing, absolve guilt, recommend time-out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ole for diet changes in small percentage so may be worth a tr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methicone not shown to helpful; antispasmodics have adverse effects (apnea, seizures, coma) and contraindicated in infants &lt; 6 month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ranial osteopathy – no randomized controlled trials. One small study showed decreased crying and improved sleep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ennel seed oil –  one randomized controlled study showed benefit and no adverse effects BUT fennel oil can cause allergic reactions of skin and repieiratory tract and has been reported to cause seiz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rbal blends – teas containing fennel, chamomile, vervain, licorice, and lemon balm have been studied and shown be effective but the volume the infants took concerning ( 5 oz. TID) b/c may affect milk inta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ripe water – mixture of herbs; warn that some varieties have been found to contain dangerous ingredients, including glass particles and alcohol. Also watch for sodium bicarbonate and essential oil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locynthis – found in Hyland’s colic tablets – not proven to effective but unlikely to cause har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othing techniques – overall 24 hour amounts of crying substantially reduced with more physical contact and increased responsivenes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hours at 1month, decreases to 14 hours by 1 year, 13 hours by age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ring first 3 months infants go from a pattern of short sleep-wake cycles about evenly distributed throughout the day and night to consolidating sleep into longer periods a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spend about 50% of sleep time in REM sleep, adults spend about 20% in REM slee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active/deep sleep cycles last about 50 minutes; adults about 90 minu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leeping through the night”–most babies by 12 weeks; actually still awakening several times during the night but most infants learn to resettle. About 1/3 of babies don’t resettle and “signal” their par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% sleeping all night by 6 months and 90% by 12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east fed babies continue to need a feeding between midnight and 6 am for longer than bottle-fed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not need to feed during the night after 6 months (can go about 6-8 hou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tling babies while awake- sleep onset associations. “tired cues” before overt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time routine/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arest evidence is that structured care leads to infants developing the ability to remain settle at night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ed” parenting – start training at 6 weeks. 1. maximize diff. b/tw daytime and nighttime sleep environments. 2. settle baby while awake. 3. once baby at least 3 weeks old, healthy, gaining weight well, can begin to delay feeding when baby wakes at night – cuddle,, change diaper, etc.. Not leaving baby to c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-demand care – leads to lower amounts overall fussing and crying in the first 2 months but to waking and signaling at night that continues at and beyond 3 month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a problem if parents don’t think it’s a problem. No evidence that babies who wake and cry at 3 months will have long term 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ts of different ideas on getting babies to sleep; individualize plan based on family’s needs and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ither parenting approach better overall, each is associated with different benefits and cos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enhagen parents’ care was as effective as proximal care in minimizing crying and as effective as London care in enabling infants to remain settled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DS prev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sleeping precau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have a normal crying curve during the first 3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aks at ~6 weeks and decreases by abou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s 2 hr/day at 2 weeks, 3 hrs at 6 weeks, and 1 hr/day a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ue across cultures and preemies show the same pattern, peaking at 6 weeks after their expected due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838080" y="205740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ental support and education are ke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tachment behavior – assures nutrition, protection, maternal inter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p to a point, infants who cry more get more maternal atten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organization of brain systems occurring around 8-12 weeks, reflexive systems replaced by cortical control of behavi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soothability related to a temporary deficit in responsivity, so have difficulty in stopping crying once it st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widely used definition is: &gt; 3 hours a day, &gt; 3 days a week, &gt;3 weeks in a row (i.e.. rule of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ing an otherwise healthy, well-fed inf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s range from 2 – 20% of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gnosis of ex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theories, often thought to be due to g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ed on current evidence infants who have colic are at the high end of a normal spectrum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ign, self limited. 50% resolve by 2 months, 80% by 3 months, 90% by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dden, unpredictable on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episodic bo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urnal – evening pea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 to cons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physical signs –clenched fists, red face, legs drawn up, distended abd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sts beyond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inuous irritability/lack of diurnal rhyth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 symptoms (FTT, vomiting, diarrhea, et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physical exam –  including eyes, long bones, neuro, CV, GI assess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family history of asthma, atopy, eczema, migra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ernal drug inges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lthough food intolerance and other organic causes can cause prolonged crying, these factors absent in 90% of cas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ost common organic causes suspected are GERD and food allergies, but the evidence is equivocal and a factor in only a small grou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rge study comparing BFing mothers on low allergen diet vs. those not, showed no difference in proportions of colicy infan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ctose intolerance – no good supportive evid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tudies have shown parental counseling more effective than diet chang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oss-cultural studies comparing parenting and infant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amounts of body contact and responsive parenting associated with lower amounts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rying curve and frequency of crying is similar but the length of the bouts are reduced substanti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1:41:10Z</dcterms:created>
  <dc:creator>Raj Dasari</dc:creator>
  <dc:description/>
  <dc:language>en-US</dc:language>
  <cp:lastModifiedBy>HCMARTINEZ</cp:lastModifiedBy>
  <dcterms:modified xsi:type="dcterms:W3CDTF">2009-07-27T19:06:06Z</dcterms:modified>
  <cp:revision>63</cp:revision>
  <dc:subject/>
  <dc:title>Colic and Infant sleep problems</dc:title>
</cp:coreProperties>
</file>