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1038-11FD-4190-8407-4DDA5915F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704-3C4E-4246-8767-8E3F21DA4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 of shaken baby timing mirrors the crying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7F81-10CE-4391-9978-0CE59331C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ong-term affects – conflicting data re. temperament and sleep, more difficult toddlers?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llic does not influence long term cognitive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4C7-C9D5-4422-AA58-C9F0E7607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1508-B75A-44D3-9F05-E3F9A6675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bicarb not recc &lt;5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B4CB-47EF-4BCE-A94F-711D0AD7A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infant in day and night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hrough a comlete sleep cycle about every 50-6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DDCE-6445-4D86-8A65-4A2A3748C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656-29C5-4757-8CFB-31E56D111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r babies may develop a habit of feeding to get back to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ime in lighter stages of sleep and sless deep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9BBF-FD01-4291-998C-8939EAA2D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parents feel it’s important to get baby settled by 12 weeks – structured care. Point is to prevent slleping problem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DB1A-4C86-4EA2-A58C-BCC4D5CB5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8823-0760-49FE-A0DC-D502B8656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ants deaths in adult beds – ¼ by overlying adults, ¾ entra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C9D3-E50D-4C35-B98B-44F1AC102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supported, &gt;15 studies since 19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D16-D849-4D48-BA15-BD6126561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781C-3D9D-42AE-A931-C815D82B4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mentally difficult or irritable infants more likely to survive famine than more placid 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uration of cerebral cortex, newborn reflexes, e.g.. Palmar grasp, disappear, start smiling, have a recognition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behavioral shift at 2 months changes in several systems e.g.. Attention, sensory, in social abilities, and in EE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3EF-34BF-4A0E-B186-D1FC2558B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FCD-4E35-4A11-A90D-41CAB885F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osry overload by the end of the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E3AE-2700-406E-8288-A271AD95C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F91B-2BEA-4954-A1B6-61AAD311F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-4 % of infants with sx of colic have GERD                 subacute sx of drug withdrawl can last 4-6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5F31-C017-4912-8B82-C47DE715C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some babies improved on hypoallergenic formula esp. if other signs of intolerance like emesis, diarrhea, eczm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ies found a benefit from soy formula but not adequately double blinded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– no diff when breath hydrogen compared., or b/tw babies given decreased lactose or give lactase enzyme, plus no benefit with simethi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B51F-1109-42F1-9600-633B0CEFD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don, copenhagen, proximal care – london 50%  less contact, d/c BR earllier, london group fussed/cried 50% more at 10 days and at 5 wee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AC23-4286-4554-8B58-D1518AB97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492-F071-4A78-986A-D5D20B0F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92F-F724-4B7C-9B03-D982CAF7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267-44BC-42FD-8693-7AE02A5E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4BF-96A4-4944-8798-947D75D4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95F2-E150-44F7-AB4A-21411936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137D-4E43-456A-973A-60F21EB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BCA-E9CD-497F-BEDE-C73BBDFF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67E-330B-4FD5-851F-F059B424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05FE-4A20-4708-B116-3302889B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4DE0-8273-4597-8479-0AA5C8B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77C6-13AD-40AE-8D86-0480CD9C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CCB-E30C-4BD0-B6D2-2C2C722A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02FE-FDB8-4729-A918-F07EC8C0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F5B8-93F9-4207-818F-F7FAA0A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975A-3D11-4898-BC53-CD09FA6B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DB44-D177-4555-80DA-4C69FE5D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2ADC-F779-4D0B-A5DB-BF150585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E76A-047E-4933-8FB0-0678D52D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B30F-0306-4C3F-98E5-B4BB93BB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334E-84A3-4ECE-B8DC-AA1BDCB2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B8A1-69E9-4E59-98A3-01BD3FA3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D3EA-39BA-496B-BEA1-E23A8EB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EB8-E760-41E0-809F-1C51283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EB73-24CB-49A9-BB38-2D80F2F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B802-DB4C-46A7-A253-EBDB299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2BF5-7B48-494E-A2F7-B027F05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1DCA-8F3A-4D8A-962B-C259149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807A-8CEC-460A-BF0E-77C9EAE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F1E5-F820-4636-A029-E06B6D00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EE88-B859-4B81-B1A8-3AC38E2C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2CB3-2E98-4DF9-AFB3-940072B5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4EA8-C26E-4C4F-85EB-240077F5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16D1-856E-467F-B19F-04A56D5D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CD7-5E74-4D28-ACF8-4284C1ED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81A9-A869-4958-A13B-11B66DAA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D0F0-954C-45FD-B0A6-A5102115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9474-A117-4CC2-AC8D-85A9DD03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6303-BDF1-4FC1-AB78-A1895D5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DF73-4E5E-4B5E-BB4B-2F088B02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5894-CB03-4062-A461-9620A33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2203-3CCC-479A-851B-9DA1D14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096E-C7D1-40C0-9B4C-9D2EB6C3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436C7-ED61-45FE-8EB8-40FF30B7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A3DD-C616-4492-85C2-C1F8A9EB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987-AC37-4D1A-98B0-5A6E5D3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2AD0-05DE-4426-9A02-039EBF6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07F4-14A1-4C84-BBF9-502669A1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993C0-7BB0-4334-A99D-4CBA0F7B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AB41A-3775-4B17-B7CE-E7D056D5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487A-FC06-4509-884D-D923ECE8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73BCE-5CBA-484D-8F1D-5BA4F9B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20BB-C58C-48D7-99B3-14502628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0A50-FC1C-4510-B52E-E3073AB8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E6B06-49EE-4E68-9BB2-79620335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26CB4-A1FF-45E9-B315-DF99FDA4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F35-1916-4F27-8159-08EEA1F0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CC5F-F793-4CB6-AED7-C84F8F5F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EEF3-8E85-4E2C-8781-58527E26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6A8FD-DC8D-42BB-8AE9-79015033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A985A-0224-46F7-9E25-9BF36A0C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2775-6764-4206-969D-41DD5970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986F-0BF9-488D-B2F0-F542B65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5865-77B9-455E-805C-058B8307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45FFB-021B-4A3C-A3E5-3D15EF2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68720-FC88-4EA3-BD85-75EE8AC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60B4-9705-470B-88E1-2DC7AAC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28B-2DBE-4D7A-8CA7-D189D04D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06AB0-0C22-4259-A1D5-AEF0D6D9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38B3-B0C7-4953-9C91-6162D6F6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FECD4-6D6B-408B-AD86-7A0AE6B4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B1DD2-D964-4932-9ACF-E66182D9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9F12B-62F6-4805-AABD-CE6DC18C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5B49-841C-4962-9FDA-1315C424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08AA7-9CB1-49F2-9903-1B8FA1E3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949A5-311B-445C-AC63-C6A33E40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A88FF-DE7D-4D00-ADE3-4C29A2B7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AC8FA-D5FE-456E-B12E-EE0C4BC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DC9-21E4-46C8-ADEF-ADC0148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AB1D3-5D6D-4A81-A97B-2B02894C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72577-93AD-429B-B589-8114B85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A641F-9621-4661-9734-CBB98F77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08E15-64B1-40A1-9711-EA02A0EA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A082B-230B-4AB2-92EA-9AB323A1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21F1F-C1F4-4E6C-811D-133D3EA0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0A1B-DEA2-4238-997E-CDF64BE7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6C45-6DA2-4D0B-B1BD-5582FA46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C1B4B-C728-40AD-9D61-73F741A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D100-3DBE-45A9-B091-9D86DB4D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D97-7262-4135-A587-832279AE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87CA8-A657-42F0-9C1D-25CE7A87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9E92F-4C24-41F8-AE4C-B7629E5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51705-6219-4538-861C-C4FAC5A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E5443-17F5-418B-A3CD-85BF77E4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73C79-9F02-4AF1-AA47-411C7D29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84F9D-182D-4275-B295-97D53B32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B1981-C2B3-43E7-8431-127FF8FF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94C8-56A4-4967-8FD7-65E1426696C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1087-E627-446E-8B67-E16677D78EE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35DA-1C9B-428B-8163-0A31859F76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3599-6E08-40B9-81DE-900FFB5FF44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DE9-AB9D-4B0D-B651-EE10C394B2D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90EE-2FC1-4DDA-886B-4087DB6B0A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10A6-FD58-4ABA-B6DD-DB70AA5958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85F1-9BBF-4191-B679-BDE15A0BDE0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uly 27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mtiaz Gh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 on parents – feel helpless, inadequate, rej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contribute to maternal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crying may trigger shaken baby syndrome/other ab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 of &gt;3000 infants gave anonymous responses in a questionnaire;  2.2% of parents of 1 month olds and 3.7% of parents of 3 month olds reported having smothered, slapped, or shaken their baby at least once because of cr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ental support and education –acknowledge, reassure, offer tips on soothing, absolve guilt, recommend time-out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ole for diet changes in small percentage so may be worth a tr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methicone not shown to helpful; antispasmodics have adverse effects (apnea, seizures, coma) and contraindicated in infants &lt; 6 month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ranial osteopathy – no randomized controlled trials. One small study showed decreased crying and improved sleep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nnel seed oil –  one randomized controlled study showed benefit and no adverse effects BUT fennel oil can cause allergic reactions of skin and repieiratory tract and has been reported to cause seiz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bal blends – teas containing fennel, chamomile, vervain, licorice, and lemon balm have been studied and shown be effective but the volume the infants took concerning ( 5 oz. TID) b/c may affect milk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ripe water – mixture of herbs; warn that some varieties have been found to contain dangerous ingredients, including glass particles and alcohol. Also watch for sodium bicarbonate and essential oil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locynthis – found in Hyland’s colic tablets – not proven to effective but unlikely to cause har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othing techniques – overall 24 hour amounts of crying substantially reduced with more physical contact and increased responsivenes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hours at 1month, decreases to 14 hours by 1 year, 13 hours by age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ring first 3 months infants go from a pattern of short sleep-wake cycles about evenly distributed throughout the day and night to consolidating sleep into longer periods a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spend about 50% of sleep time in REM sleep, adults spend about 20% in REM sle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active/deep sleep cycles last about 50 minutes; adults about 90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leeping through the night”–most babies by 12 weeks; actually still awakening several times during the night but most infants learn to resettle. About 1/3 of babies don’t resettle and “signal” their par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% sleeping all night by 6 months and 90% by 12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east fed babies continue to need a feeding between midnight and 6 am for longer than bottle-fed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not need to feed during the night after 6 months (can go about 6-8 hou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tling babies while awake- sleep onset associations. “tired cues” before overt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time routine/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est evidence is that structured care leads to infants developing the ability to remain settle at night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d” parenting – start training at 6 weeks. 1. maximize diff. b/tw daytime and nighttime sleep environments. 2. settle baby while awake. 3. once baby at least 3 weeks old, healthy, gaining weight well, can begin to delay feeding when baby wakes at night – cuddle,, change diaper, etc.. Not leaving baby to c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-demand care – leads to lower amounts overall fussing and crying in the first 2 months but to waking and signaling at night that continues at and beyond 3 month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a problem if parents don’t think it’s a problem. No evidence that babies who wake and cry at 3 months will have long term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ts of different ideas on getting babies to sleep; individualize plan based on family’s needs and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parenting approach better overall, each is associated with different benefits and cos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enhagen parents’ care was as effective as proximal care in minimizing crying and as effective as London care in enabling infants to remain settled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DS pre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sleeping precau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have a normal crying curve during the first 3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aks at ~6 weeks and decreases by abou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s 2 hr/day at 2 weeks, 3 hrs at 6 weeks, and 1 hr/day a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ue across cultures and preemies show the same pattern, peaking at 6 weeks after their expected du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838080" y="205740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ental support and education are ke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achment behavior – assures nutrition, protection, maternal inter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p to a point, infants who cry more get more maternal atten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organization of brain systems occurring around 8-12 weeks, reflexive systems replaced by cortical control of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soothability related to a temporary deficit in responsivity, so have difficulty in stopping crying once it st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widely used definition is: &gt; 3 hours a day, &gt; 3 days a week, &gt;3 weeks in a row (i.e.. rule of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ing an otherwise healthy, well-fed inf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s range from 2 – 20% of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gnosis of ex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eories, often thought to be due to g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d on current evidence infants who have colic are at the high end of a normal spectrum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ign, self limited. 50% resolve by 2 months, 80% by 3 months, 90% by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, unpredictable on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episodic b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urnal – evening pea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cons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physical signs –clenched fists, red face, legs drawn up, distended abd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s beyond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ous irritability/lack of diurnal rhyth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 symptoms (FTT, vomiting, diarrhea, et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physical exam –  including eyes, long bones, neuro, CV, GI assess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family history of asthma, atopy, eczema, migr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ernal drug inges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food intolerance and other organic causes can cause prolonged crying, these factors absent in 90% of cas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st common organic causes suspected are GERD and food allergies, but the evidence is equivocal and a factor in only a small grou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rge study comparing BFing mothers on low allergen diet vs. those not, showed no difference in proportions of colicy infan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ctose intolerance – no good supportive evid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udies have shown parental counseling more effective than diet chang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ss-cultural studies comparing parenting and infant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amounts of body contact and responsive parenting associated with lower amounts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rying curve and frequency of crying is similar but the length of the bouts are reduced substanti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41:10Z</dcterms:created>
  <dc:creator>Raj Dasari</dc:creator>
  <dc:description/>
  <dc:language>en-US</dc:language>
  <cp:lastModifiedBy>HCMARTINEZ</cp:lastModifiedBy>
  <dcterms:modified xsi:type="dcterms:W3CDTF">2009-07-27T19:06:06Z</dcterms:modified>
  <cp:revision>63</cp:revision>
  <dc:subject/>
  <dc:title>Colic and Infant sleep problems</dc:title>
</cp:coreProperties>
</file>